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F1F-8B56-4F12-A267-CFE65647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242-0E29-4374-BEC5-82F5AEC0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74C-9D46-4A30-A8E5-A93C1F18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E79-BFEE-4246-ABD0-EFCF0CC0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5D3-DCA5-4B0E-95D4-581FC570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4FB-BABC-4CDF-BA79-CE8C3E0D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6D5-C835-45AA-8D93-69FF04F4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AAE-572F-4679-8BE8-1792BED2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15C-99F6-48AE-B22E-C29CA8B0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AEB-7422-467B-B83E-6F5FF113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202-ED58-49E0-8C47-B407E543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6B1-2B5E-4DEC-8C05-2A7F6CFE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987B-B6B8-4C8C-933F-9F2321E60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438-700x590.jpg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9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69240" cy="29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Три среды обит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12030102.png"/>
          <p:cNvPicPr/>
          <p:nvPr/>
        </p:nvPicPr>
        <p:blipFill>
          <a:blip r:embed="rId1"/>
          <a:srcRect l="21332" t="0" r="0" b="0"/>
          <a:stretch/>
        </p:blipFill>
        <p:spPr>
          <a:xfrm>
            <a:off x="2843280" y="1844640"/>
            <a:ext cx="4249800" cy="501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иосфера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это оболочка Земли, где существуют живые организм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реды обитан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6264360" y="54936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чвенна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39640" y="907920"/>
            <a:ext cx="19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дна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124000" y="3716280"/>
            <a:ext cx="50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земно-воздушная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5" descr="1363811154_7_chudes_podvodnogo_mira.jpg"/>
          <p:cNvPicPr/>
          <p:nvPr/>
        </p:nvPicPr>
        <p:blipFill>
          <a:blip r:embed="rId1"/>
          <a:stretch/>
        </p:blipFill>
        <p:spPr>
          <a:xfrm>
            <a:off x="468360" y="1484280"/>
            <a:ext cx="3706920" cy="2317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pic32.png"/>
          <p:cNvPicPr/>
          <p:nvPr/>
        </p:nvPicPr>
        <p:blipFill>
          <a:blip r:embed="rId2"/>
          <a:stretch/>
        </p:blipFill>
        <p:spPr>
          <a:xfrm>
            <a:off x="5124600" y="1341360"/>
            <a:ext cx="4019400" cy="2502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9e3b46a682a8345ae8cc31e5dcac5caa.jpg"/>
          <p:cNvPicPr/>
          <p:nvPr/>
        </p:nvPicPr>
        <p:blipFill>
          <a:blip r:embed="rId3"/>
          <a:stretch/>
        </p:blipFill>
        <p:spPr>
          <a:xfrm>
            <a:off x="2124000" y="4365720"/>
            <a:ext cx="4464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8000" y="0"/>
          <a:ext cx="8928000" cy="6648480"/>
        </p:xfrm>
        <a:graphic>
          <a:graphicData uri="http://schemas.openxmlformats.org/drawingml/2006/table">
            <a:tbl>
              <a:tblPr/>
              <a:tblGrid>
                <a:gridCol w="2303280"/>
                <a:gridCol w="2092320"/>
                <a:gridCol w="1905120"/>
                <a:gridCol w="2627280"/>
              </a:tblGrid>
              <a:tr h="188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-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ит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способлен-ность организмов к среде об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чв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емное - воздуш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5530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евой червь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иявка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епыш   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бочк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либр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Щука 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АЙМЕНЬ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ШМЕЛЬ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АКУ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ЛЕНЬ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ОТ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КРОЛ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5:35:51Z</dcterms:created>
  <dc:creator>1</dc:creator>
  <dc:description/>
  <dc:language>en-US</dc:language>
  <cp:lastModifiedBy>1</cp:lastModifiedBy>
  <dcterms:modified xsi:type="dcterms:W3CDTF">2016-03-01T16:05:11Z</dcterms:modified>
  <cp:revision>3</cp:revision>
  <dc:subject/>
  <dc:title>Тема урока: Три среды обитания</dc:title>
</cp:coreProperties>
</file>