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9E4-B1E3-4BB7-9FEB-F1E615F2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B97-8534-4CB7-A180-B41EDBD7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376-C45C-4B68-91BD-CA66A86E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F65-9662-495A-8D01-4AECC26E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983-62CF-45EC-AFE4-6501D8B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996-45B4-42A4-9CD5-C95276F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6DA-A866-430F-B74F-0A1467E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37F-2C91-4C58-9686-9460F08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6F8-4104-4A91-B13D-0302A9A6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87C-073F-4945-B61E-95B6312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FC3-CBCA-4FD7-8D39-9CD9CD67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E4F-28ED-42C0-A78F-43F59BB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75CA-6BB0-4952-A7C8-D78B9114B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438-700x590.jpg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29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Три среды обит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12030102.png"/>
          <p:cNvPicPr/>
          <p:nvPr/>
        </p:nvPicPr>
        <p:blipFill>
          <a:blip r:embed="rId1"/>
          <a:srcRect l="21332" t="0" r="0" b="0"/>
          <a:stretch/>
        </p:blipFill>
        <p:spPr>
          <a:xfrm>
            <a:off x="2843280" y="1844640"/>
            <a:ext cx="4249800" cy="501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иосфера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оболочка Земли, где существуют живые организм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еды обит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6264360" y="5493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чвенна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39640" y="90792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дна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124000" y="3716280"/>
            <a:ext cx="50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емно-воздушная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1363811154_7_chudes_podvodnogo_mira.jpg"/>
          <p:cNvPicPr/>
          <p:nvPr/>
        </p:nvPicPr>
        <p:blipFill>
          <a:blip r:embed="rId1"/>
          <a:stretch/>
        </p:blipFill>
        <p:spPr>
          <a:xfrm>
            <a:off x="468360" y="1484280"/>
            <a:ext cx="3706920" cy="2317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ic32.png"/>
          <p:cNvPicPr/>
          <p:nvPr/>
        </p:nvPicPr>
        <p:blipFill>
          <a:blip r:embed="rId2"/>
          <a:stretch/>
        </p:blipFill>
        <p:spPr>
          <a:xfrm>
            <a:off x="5124600" y="1341360"/>
            <a:ext cx="4019400" cy="2502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9e3b46a682a8345ae8cc31e5dcac5caa.jpg"/>
          <p:cNvPicPr/>
          <p:nvPr/>
        </p:nvPicPr>
        <p:blipFill>
          <a:blip r:embed="rId3"/>
          <a:stretch/>
        </p:blipFill>
        <p:spPr>
          <a:xfrm>
            <a:off x="2124000" y="4365720"/>
            <a:ext cx="4464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8000" y="0"/>
          <a:ext cx="8928000" cy="6648480"/>
        </p:xfrm>
        <a:graphic>
          <a:graphicData uri="http://schemas.openxmlformats.org/drawingml/2006/table">
            <a:tbl>
              <a:tblPr/>
              <a:tblGrid>
                <a:gridCol w="2303280"/>
                <a:gridCol w="2092320"/>
                <a:gridCol w="1905120"/>
                <a:gridCol w="2627280"/>
              </a:tblGrid>
              <a:tr h="188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-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т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пособлен-ность организмов к среде об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емное - воздуш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553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евой червь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иявка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епыш  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боч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либр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Щука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ЙМЕН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ШМЕЛ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А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ЛЕН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О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КРО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5:35:51Z</dcterms:created>
  <dc:creator>1</dc:creator>
  <dc:description/>
  <dc:language>en-US</dc:language>
  <cp:lastModifiedBy>1</cp:lastModifiedBy>
  <dcterms:modified xsi:type="dcterms:W3CDTF">2016-03-01T16:05:11Z</dcterms:modified>
  <cp:revision>3</cp:revision>
  <dc:subject/>
  <dc:title>Тема урока: Три среды обитания</dc:title>
</cp:coreProperties>
</file>