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8B4-C784-49A8-BDC7-E724A10F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440-6D89-4FC9-8735-E4537F83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C09-9A98-491D-8ED3-4BBF939C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93A-A87E-4054-8F9C-B661AFF7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AB6-19C2-4539-AA43-604E097E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FC5-81B8-4667-A967-F8DE2016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7CA-02E7-4A2C-9016-C1823037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CCC-9112-479A-B383-3494C8AD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58C-F6FB-476A-8862-EE3B4A87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F21-D091-401B-9FC8-DF7B55EF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813-A672-4371-9CC5-8D3A4568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E20-29CC-4016-9DBE-A6114CCF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A781-1646-4691-B4D0-D2AB98B86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2133360"/>
            <a:ext cx="331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9900"/>
                </a:solidFill>
                <a:latin typeface="Arial"/>
              </a:rPr>
              <a:t>С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88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681120" y="233280"/>
            <a:ext cx="7781760" cy="63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jack-o-lantern"/>
          <p:cNvPicPr/>
          <p:nvPr/>
        </p:nvPicPr>
        <p:blipFill>
          <a:blip r:embed="rId1"/>
          <a:stretch/>
        </p:blipFill>
        <p:spPr>
          <a:xfrm>
            <a:off x="395280" y="4869000"/>
            <a:ext cx="1844640" cy="163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"/>
          <p:cNvPicPr/>
          <p:nvPr/>
        </p:nvPicPr>
        <p:blipFill>
          <a:blip r:embed="rId2"/>
          <a:stretch/>
        </p:blipFill>
        <p:spPr>
          <a:xfrm>
            <a:off x="5796000" y="4878360"/>
            <a:ext cx="2770200" cy="155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480601369"/>
          <p:cNvPicPr/>
          <p:nvPr/>
        </p:nvPicPr>
        <p:blipFill>
          <a:blip r:embed="rId3"/>
          <a:stretch/>
        </p:blipFill>
        <p:spPr>
          <a:xfrm>
            <a:off x="2050920" y="2276640"/>
            <a:ext cx="1440000" cy="1182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adge_of_the_Sheriff_of_Los_Angeles_County"/>
          <p:cNvPicPr/>
          <p:nvPr/>
        </p:nvPicPr>
        <p:blipFill>
          <a:blip r:embed="rId4"/>
          <a:stretch/>
        </p:blipFill>
        <p:spPr>
          <a:xfrm>
            <a:off x="7524720" y="2924280"/>
            <a:ext cx="1162080" cy="1322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bizonsimage001"/>
          <p:cNvPicPr/>
          <p:nvPr/>
        </p:nvPicPr>
        <p:blipFill>
          <a:blip r:embed="rId5"/>
          <a:stretch/>
        </p:blipFill>
        <p:spPr>
          <a:xfrm>
            <a:off x="324000" y="333360"/>
            <a:ext cx="2065320" cy="137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Statuya-Svobody"/>
          <p:cNvPicPr/>
          <p:nvPr/>
        </p:nvPicPr>
        <p:blipFill>
          <a:blip r:embed="rId6"/>
          <a:stretch/>
        </p:blipFill>
        <p:spPr>
          <a:xfrm>
            <a:off x="7093080" y="333360"/>
            <a:ext cx="1574640" cy="23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2"/>
          <p:cNvPicPr/>
          <p:nvPr/>
        </p:nvPicPr>
        <p:blipFill>
          <a:blip r:embed="rId7"/>
          <a:stretch/>
        </p:blipFill>
        <p:spPr>
          <a:xfrm>
            <a:off x="2556000" y="333360"/>
            <a:ext cx="218412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15"/>
          <p:cNvPicPr/>
          <p:nvPr/>
        </p:nvPicPr>
        <p:blipFill>
          <a:blip r:embed="rId8"/>
          <a:stretch/>
        </p:blipFill>
        <p:spPr>
          <a:xfrm>
            <a:off x="324000" y="2205000"/>
            <a:ext cx="159696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9127"/>
          <p:cNvPicPr/>
          <p:nvPr/>
        </p:nvPicPr>
        <p:blipFill>
          <a:blip r:embed="rId9"/>
          <a:stretch/>
        </p:blipFill>
        <p:spPr>
          <a:xfrm>
            <a:off x="2771640" y="4869000"/>
            <a:ext cx="2700360" cy="1625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://demandware.edgesuite.net/aarb_prd/on/demandware.static/Sites-USM-Site/Sites-usm-master-catalog-us/default/v1413604850625/images/hi-res/coin-programs/Presidential-One-Dollar-Coin/p52_d.jpg"/>
          <p:cNvPicPr/>
          <p:nvPr/>
        </p:nvPicPr>
        <p:blipFill>
          <a:blip r:embed="rId10"/>
          <a:stretch/>
        </p:blipFill>
        <p:spPr>
          <a:xfrm>
            <a:off x="2340000" y="3716280"/>
            <a:ext cx="984240" cy="8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coca"/>
          <p:cNvPicPr/>
          <p:nvPr/>
        </p:nvPicPr>
        <p:blipFill>
          <a:blip r:embed="rId11"/>
          <a:stretch/>
        </p:blipFill>
        <p:spPr>
          <a:xfrm>
            <a:off x="6156360" y="3500280"/>
            <a:ext cx="1201680" cy="1202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eagle620x330opt"/>
          <p:cNvPicPr/>
          <p:nvPr/>
        </p:nvPicPr>
        <p:blipFill>
          <a:blip r:embed="rId12"/>
          <a:stretch/>
        </p:blipFill>
        <p:spPr>
          <a:xfrm>
            <a:off x="3708360" y="3500280"/>
            <a:ext cx="2232000" cy="118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6iy5ndeMT"/>
          <p:cNvPicPr/>
          <p:nvPr/>
        </p:nvPicPr>
        <p:blipFill>
          <a:blip r:embed="rId13"/>
          <a:stretch/>
        </p:blipFill>
        <p:spPr>
          <a:xfrm>
            <a:off x="4859280" y="981000"/>
            <a:ext cx="1871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тные США очень разнообразны, среди них встречается множество хищников. В Кордильерах водится бурый медведь гризли – крупнейший хищник, волки, рыси, барсуки и лисицы. Встречается пума, выходец из неотропической об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http://ecocollaps.ru/wp-content/uploads/2011/07/grizzly_enl.jpg"/>
          <p:cNvPicPr/>
          <p:nvPr/>
        </p:nvPicPr>
        <p:blipFill>
          <a:blip r:embed="rId1"/>
          <a:stretch/>
        </p:blipFill>
        <p:spPr>
          <a:xfrm>
            <a:off x="900000" y="2781360"/>
            <a:ext cx="2448000" cy="1838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ttp://www.nexplorer.ru/load/Image/0513/puma_13.jpg"/>
          <p:cNvPicPr/>
          <p:nvPr/>
        </p:nvPicPr>
        <p:blipFill>
          <a:blip r:embed="rId2"/>
          <a:stretch/>
        </p:blipFill>
        <p:spPr>
          <a:xfrm>
            <a:off x="6588000" y="2781360"/>
            <a:ext cx="2129040" cy="3195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053470_gallery-87924"/>
          <p:cNvPicPr/>
          <p:nvPr/>
        </p:nvPicPr>
        <p:blipFill>
          <a:blip r:embed="rId3"/>
          <a:stretch/>
        </p:blipFill>
        <p:spPr>
          <a:xfrm>
            <a:off x="3419640" y="2781360"/>
            <a:ext cx="28080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го-запад США богат пресмыкающимися – ящерицами, змеями, скорпионами, ядовитыми пауками тарантул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отропической области Центрально Америки встречаются ягуары и оцелоты. Множество обезьян, муравьедов, дикобр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://catstoday.ru/wp-content/uploads/2016/06/%D0%BE%D1%86%D0%B5%D0%BB%D0%BE%D1%823-1024x787.jpg"/>
          <p:cNvPicPr/>
          <p:nvPr/>
        </p:nvPicPr>
        <p:blipFill>
          <a:blip r:embed="rId1"/>
          <a:stretch/>
        </p:blipFill>
        <p:spPr>
          <a:xfrm>
            <a:off x="5651640" y="4259160"/>
            <a:ext cx="3078000" cy="23655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112"/>
          <p:cNvPicPr/>
          <p:nvPr/>
        </p:nvPicPr>
        <p:blipFill>
          <a:blip r:embed="rId2"/>
          <a:stretch/>
        </p:blipFill>
        <p:spPr>
          <a:xfrm>
            <a:off x="324000" y="3933720"/>
            <a:ext cx="3382920" cy="2009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http://neldekstop.ru/uploads/images/p/a/u/pauk_tarantul_foto_i_opisanie_2.jpg"/>
          <p:cNvPicPr/>
          <p:nvPr/>
        </p:nvPicPr>
        <p:blipFill>
          <a:blip r:embed="rId3"/>
          <a:stretch/>
        </p:blipFill>
        <p:spPr>
          <a:xfrm>
            <a:off x="3348000" y="5300640"/>
            <a:ext cx="215748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7979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ериканцы США — гетерогенная нация с разнородным расовым составом. Доминирующей во всех отношениях и регионах (кроме штата Гавайи) в настоящее время является европеоидная раса — выходцы из Соединённого Королевства, Германии, Ирландии и других европейских стран. Далее выделяются негроидная раса, монголоидная раса, американоидная раса и прочие, на которых приходится свыше трети насе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img12.nnm.me/8/9/2/9/e/8e96f3b4af5fb57940c6b66ffa5.jpg"/>
          <p:cNvPicPr/>
          <p:nvPr/>
        </p:nvPicPr>
        <p:blipFill>
          <a:blip r:embed="rId1"/>
          <a:stretch/>
        </p:blipFill>
        <p:spPr>
          <a:xfrm>
            <a:off x="4211640" y="3357720"/>
            <a:ext cx="44816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82 % американцев живут в городах или пригородах (городских агломерациях), половина из них проживают в городах с населением свыше пятидесяти тысяч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ША 273 города с населением более 100 тыс. человек, 9 городов с населением более миллиона жителей и 4 города, население которых превышает два миллиона человек (Нью-Йорк, Лос-Анджелес, Чикаго и Хьюсто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371520" y="642960"/>
            <a:ext cx="84009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hicago-00"/>
          <p:cNvPicPr/>
          <p:nvPr/>
        </p:nvPicPr>
        <p:blipFill>
          <a:blip r:embed="rId1"/>
          <a:stretch/>
        </p:blipFill>
        <p:spPr>
          <a:xfrm>
            <a:off x="755640" y="3429000"/>
            <a:ext cx="3745080" cy="248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1_Manhattan,_New_York_City"/>
          <p:cNvPicPr/>
          <p:nvPr/>
        </p:nvPicPr>
        <p:blipFill>
          <a:blip r:embed="rId2"/>
          <a:stretch/>
        </p:blipFill>
        <p:spPr>
          <a:xfrm>
            <a:off x="4572000" y="3429000"/>
            <a:ext cx="42577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img7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http://www.rusmet.ru/data/promnews/6/65062/Promyshlennost_v_SShA.jpg"/>
          <p:cNvPicPr/>
          <p:nvPr/>
        </p:nvPicPr>
        <p:blipFill>
          <a:blip r:embed="rId1"/>
          <a:stretch/>
        </p:blipFill>
        <p:spPr>
          <a:xfrm>
            <a:off x="3780000" y="3141720"/>
            <a:ext cx="4935240" cy="3292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://www.referat-web.ru/img/IMG5873772.jpeg"/>
          <p:cNvPicPr/>
          <p:nvPr/>
        </p:nvPicPr>
        <p:blipFill>
          <a:blip r:embed="rId2"/>
          <a:stretch/>
        </p:blipFill>
        <p:spPr>
          <a:xfrm>
            <a:off x="684360" y="260280"/>
            <a:ext cx="42861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68360" y="1342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размерам сельскохозяйственного производства США намного превосходят другие стра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ние тепла и влаги на обширной территории позволяет выращивать очень широкий ассортимент культур от пшеницы, кукурузы и клюквы до хлопчатника, цитрусовых и сахарного тростника, причем для каждой культуры можно найти районы с особо благоприятными условиями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http://www.novoye-vremya.com/photos/nv/2016-09-09-13-41-24808913.jpg"/>
          <p:cNvPicPr/>
          <p:nvPr/>
        </p:nvPicPr>
        <p:blipFill>
          <a:blip r:embed="rId1"/>
          <a:stretch/>
        </p:blipFill>
        <p:spPr>
          <a:xfrm>
            <a:off x="468360" y="3573360"/>
            <a:ext cx="4395600" cy="23018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7" descr="341"/>
          <p:cNvPicPr/>
          <p:nvPr/>
        </p:nvPicPr>
        <p:blipFill>
          <a:blip r:embed="rId2"/>
          <a:stretch/>
        </p:blipFill>
        <p:spPr>
          <a:xfrm>
            <a:off x="4932360" y="3573360"/>
            <a:ext cx="39607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95280" y="3337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 США — 9,5 млн км² (4-е место в мир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ение США — 325 млн человек (3-е место в мир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ША имеют федеративную форму устройства, административно делятся на 50 штатов и федеральный округ Колумбия; в их подчинении также находится ряд островных территор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ица США — город Вашингт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ей США называю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мерикан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к самим США применяется общее наз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мер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а_США1"/>
          <p:cNvPicPr/>
          <p:nvPr/>
        </p:nvPicPr>
        <p:blipFill>
          <a:blip r:embed="rId1"/>
          <a:stretch/>
        </p:blipFill>
        <p:spPr>
          <a:xfrm>
            <a:off x="468360" y="2997360"/>
            <a:ext cx="4319640" cy="296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6"/>
          <p:cNvPicPr/>
          <p:nvPr/>
        </p:nvPicPr>
        <p:blipFill>
          <a:blip r:embed="rId2"/>
          <a:stretch/>
        </p:blipFill>
        <p:spPr>
          <a:xfrm>
            <a:off x="4932360" y="3860640"/>
            <a:ext cx="36957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770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расположены в западном полуша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ённые Штаты граничат на севере с Канадой, на юге — с Мексикой, также имеют морскую границу с Россией. Омываются Тихим океаном с запада, Атлантическим океаном — с востока и Северным Ледовитым океаном — с сев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4"/>
          <p:cNvPicPr/>
          <p:nvPr/>
        </p:nvPicPr>
        <p:blipFill>
          <a:blip r:embed="rId1"/>
          <a:stretch/>
        </p:blipFill>
        <p:spPr>
          <a:xfrm>
            <a:off x="1258920" y="1916280"/>
            <a:ext cx="69850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834320" cy="20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ЛЬЕ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ной территории страны к западу от Приатлантической низменности протянулись Аппалачские горы, за которыми располагаются Центральные равнины (200—500 м над уровнем океана), плато Великие равнины (600—1500 м). Почти весь запад занят горной системой Кордиль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45"/>
          <p:cNvPicPr/>
          <p:nvPr/>
        </p:nvPicPr>
        <p:blipFill>
          <a:blip r:embed="rId1"/>
          <a:stretch/>
        </p:blipFill>
        <p:spPr>
          <a:xfrm>
            <a:off x="539640" y="2421000"/>
            <a:ext cx="4176720" cy="2601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900igr.net/datas/geografija/Severnaja-Amerika/0013-013-Severnaja-Amerika.jpg"/>
          <p:cNvPicPr/>
          <p:nvPr/>
        </p:nvPicPr>
        <p:blipFill>
          <a:blip r:embed="rId2"/>
          <a:stretch/>
        </p:blipFill>
        <p:spPr>
          <a:xfrm>
            <a:off x="4788000" y="3573360"/>
            <a:ext cx="3959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страна расположена на большой территории, в ней представлены практически все климатические зоны — от арктического климата на севере Аляски до тропического в штате Гавайи и на юге Флори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://image2.redbull.com/rbcom/010/2014-06-23/1331660697229_2/0010/1/1200/800/2/greatest-animal-migration-caribou.jpg"/>
          <p:cNvPicPr/>
          <p:nvPr/>
        </p:nvPicPr>
        <p:blipFill>
          <a:blip r:embed="rId1"/>
          <a:stretch/>
        </p:blipFill>
        <p:spPr>
          <a:xfrm>
            <a:off x="826920" y="2349360"/>
            <a:ext cx="2233800" cy="14907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0"/>
          <p:cNvSpPr/>
          <p:nvPr/>
        </p:nvSpPr>
        <p:spPr>
          <a:xfrm>
            <a:off x="-243000" y="233280"/>
            <a:ext cx="9630000" cy="63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568"/>
          <p:cNvPicPr/>
          <p:nvPr/>
        </p:nvPicPr>
        <p:blipFill>
          <a:blip r:embed="rId2"/>
          <a:stretch/>
        </p:blipFill>
        <p:spPr>
          <a:xfrm>
            <a:off x="5796000" y="4221000"/>
            <a:ext cx="2874960" cy="190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0_749e0_fecf3d1c_orig"/>
          <p:cNvPicPr/>
          <p:nvPr/>
        </p:nvPicPr>
        <p:blipFill>
          <a:blip r:embed="rId3"/>
          <a:stretch/>
        </p:blipFill>
        <p:spPr>
          <a:xfrm>
            <a:off x="755640" y="4508640"/>
            <a:ext cx="2130480" cy="142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i?id=9cc4f187ba0c63bcc36db77411ff50cc-l&amp;n=13"/>
          <p:cNvPicPr/>
          <p:nvPr/>
        </p:nvPicPr>
        <p:blipFill>
          <a:blip r:embed="rId4"/>
          <a:stretch/>
        </p:blipFill>
        <p:spPr>
          <a:xfrm>
            <a:off x="3276720" y="2349360"/>
            <a:ext cx="2284200" cy="1522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bukovye_lesa_severnoj_ameriki1_big"/>
          <p:cNvPicPr/>
          <p:nvPr/>
        </p:nvPicPr>
        <p:blipFill>
          <a:blip r:embed="rId5"/>
          <a:stretch/>
        </p:blipFill>
        <p:spPr>
          <a:xfrm>
            <a:off x="5796000" y="2349360"/>
            <a:ext cx="2817720" cy="1625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USA_Deserr_01"/>
          <p:cNvPicPr/>
          <p:nvPr/>
        </p:nvPicPr>
        <p:blipFill>
          <a:blip r:embed="rId6"/>
          <a:stretch/>
        </p:blipFill>
        <p:spPr>
          <a:xfrm>
            <a:off x="3132000" y="4365720"/>
            <a:ext cx="24591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3026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ЗНЫЕ ИСКОПАЕ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ра богаты запасами различных природных ископаемых, в том числе — каменный и бурый уголь, железная и марганцевая руда. Кордильеры, плато Колорадо, Великие равнины и Примексиканская низменность обладают месторождениями медных, цинковых, свинцовых, серебряных, хромитовых, ванадиевых, вольфрамовых, молибденовых, титановых, полиметаллических, урановых и ртутных руд, а также золота, серы, фосфатов и другого химического сыр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857160" y="642960"/>
            <a:ext cx="74296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77"/>
          <p:cNvPicPr/>
          <p:nvPr/>
        </p:nvPicPr>
        <p:blipFill>
          <a:blip r:embed="rId1"/>
          <a:stretch/>
        </p:blipFill>
        <p:spPr>
          <a:xfrm>
            <a:off x="755640" y="3213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i?id=ffccc3d2771f9d7e7dfb66a96489bff6-l&amp;n=13"/>
          <p:cNvPicPr/>
          <p:nvPr/>
        </p:nvPicPr>
        <p:blipFill>
          <a:blip r:embed="rId2"/>
          <a:stretch/>
        </p:blipFill>
        <p:spPr>
          <a:xfrm>
            <a:off x="4932360" y="4724280"/>
            <a:ext cx="374508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ки, образовавшие глубокие каньоны, относятся к бассейнам водных источников, впадающих в Тихий океан. Миссисипи (с притоком Миссури) — одна из самых длинных речных систем планеты — протянулась на 6420 км. На границе с Канадой находятся Великие озёра — Верхнее, Гурон, Мичиган, Эри, Онтари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река"/>
          <p:cNvPicPr/>
          <p:nvPr/>
        </p:nvPicPr>
        <p:blipFill>
          <a:blip r:embed="rId1"/>
          <a:stretch/>
        </p:blipFill>
        <p:spPr>
          <a:xfrm>
            <a:off x="826920" y="2708280"/>
            <a:ext cx="52041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 одна из стран умеренного пояса, кроме стран Восточной Азии, не имеет такого богатства и разнообразия флоры, как США. Склоны Кордильер покрыты густыми хвойными лесами, Аппалачей — лесами из широколиственных пород; прерий почти не осталось. На севере Аляски распространена тундровая раст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http://www.jacobimages.com/home/wp-content/uploads/2013/05/Cordilleras_7911_4866.jpg"/>
          <p:cNvPicPr/>
          <p:nvPr/>
        </p:nvPicPr>
        <p:blipFill>
          <a:blip r:embed="rId1"/>
          <a:stretch/>
        </p:blipFill>
        <p:spPr>
          <a:xfrm>
            <a:off x="900000" y="2133720"/>
            <a:ext cx="3540240" cy="23526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56"/>
          <p:cNvPicPr/>
          <p:nvPr/>
        </p:nvPicPr>
        <p:blipFill>
          <a:blip r:embed="rId2"/>
          <a:stretch/>
        </p:blipFill>
        <p:spPr>
          <a:xfrm>
            <a:off x="4859280" y="4221000"/>
            <a:ext cx="3780000" cy="23353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40"/>
          <p:cNvPicPr/>
          <p:nvPr/>
        </p:nvPicPr>
        <p:blipFill>
          <a:blip r:embed="rId3"/>
          <a:stretch/>
        </p:blipFill>
        <p:spPr>
          <a:xfrm>
            <a:off x="5219640" y="1989000"/>
            <a:ext cx="3168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паду леса прерываются уже в таких предмиссисипских штатах, как Иллинойс (прозванный «степным штатом»), и начинаются необозримые пространства луговых степей (прерий). Пустыни Северной Америки располагаются на широтах умеренного и субтропических поясов, и растянулись на 2500 км с севера на юг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ttp://samlib.ru/img/m/metelxskij_n_a/sokrytoewtenilista/prerija.jpg"/>
          <p:cNvPicPr/>
          <p:nvPr/>
        </p:nvPicPr>
        <p:blipFill>
          <a:blip r:embed="rId1"/>
          <a:stretch/>
        </p:blipFill>
        <p:spPr>
          <a:xfrm>
            <a:off x="684360" y="4221000"/>
            <a:ext cx="4059000" cy="207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ttp://ww.zapilili.ru/pic/1/6/7/3/supercoolpics_06_23112012165151.jpg"/>
          <p:cNvPicPr/>
          <p:nvPr/>
        </p:nvPicPr>
        <p:blipFill>
          <a:blip r:embed="rId2"/>
          <a:stretch/>
        </p:blipFill>
        <p:spPr>
          <a:xfrm>
            <a:off x="4788000" y="3860640"/>
            <a:ext cx="36432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8T16:57:27Z</dcterms:created>
  <dc:creator>bev</dc:creator>
  <dc:description/>
  <dc:language>en-US</dc:language>
  <cp:lastModifiedBy>Лариса</cp:lastModifiedBy>
  <dcterms:modified xsi:type="dcterms:W3CDTF">2017-05-18T08:19:08Z</dcterms:modified>
  <cp:revision>33</cp:revision>
  <dc:subject/>
  <dc:title>США</dc:title>
</cp:coreProperties>
</file>