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E3C-41D9-4D2B-BE7A-12DC39F9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0A2-8D09-42B2-973C-C847CCA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EEB-78B6-4237-B7C6-2A508B2D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CF9-D97C-4F02-A407-22605D9C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7A9-2799-480D-92E9-66A589A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ED8-32F5-4523-8532-96154F5B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DC32-CC2B-4AAB-B66C-8BF5AFAA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9A34-615F-42FE-99E3-D56238C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AA3-FB3A-4226-BC0B-482180C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75E-7F31-469C-A02A-CBE76A1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5FC0-0B43-4963-A254-379C34C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C24-B0E0-41AA-8931-7083E1C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CDBC-6FAC-49CF-8B70-F1594BC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FE92-58B7-418D-A62B-782883C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7D0-A2B4-4A3E-984B-FA83D5F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63D8-4F1F-47AC-8C0C-7FB64011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2C5-E148-4E0C-AF32-6B0E68F5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130B-B34A-41C8-B9FC-26C3496C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5805-085C-4286-8BE5-DB1EBFA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6E34-4E75-475B-81E5-338FB90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72B1-1ECE-4682-BDB4-6D71F14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0451-37CA-408A-A7B9-1CF7308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133-59AF-47AB-A8B0-F7CF989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E220-3C66-4310-A682-520356B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99B9-574A-460C-BD9D-E58566E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B71B-9072-4B95-9AC0-7CBDDB2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380B-C90E-4D3D-81BE-FF85AAE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D73E-92E9-48A3-90A3-2FB796C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9F36-87AD-4AEE-8402-B9422894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487D-7FAF-45D4-A348-BB25CA5B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BB10-94E6-47C2-B5A8-8879F34C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D0D0-5D5F-4DB3-89B1-15B0451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8665-BA28-4C44-842A-59D36B2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D9A-C017-44C4-BE5E-54E8C32B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FF29-BA95-44C1-ABE9-24CE518E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4FF1-AF84-4478-9276-CFC8101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57B8-19B5-4C16-90DD-83382CC0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84A4-2D67-442A-8BA5-97FDED1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036D-AD06-4C7C-A0BC-70A05FD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D3A0-7BCA-4195-89AE-52AE41E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B837-2AC4-45F4-8AC6-7707E95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D143-66DA-4721-867B-A14E287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5D0B-D5E2-4507-904C-667E0AA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20C4-E0C6-482F-8E5E-5408C4AF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788-0EF4-4F4F-A0A7-9DC86B2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CA67-4217-42DE-8840-39CFD28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450D-185D-4E5E-A3E1-F14663C7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104C-7F53-4992-B86B-D3470F1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36E1-EC38-4701-9CAB-2980E7FE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D79A-69FD-4E94-890F-9FEB7E5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7227-8090-4892-B132-0561A87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1297-1B35-4172-858A-F7792EE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2DD7B-1FD1-42CC-918D-A89C35D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C3E5-54CF-4489-AAB3-DC391D47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4F60-8564-4B0D-841D-9CF27498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281-EB7A-4F94-A231-5216C6E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BA7E-DEE7-436C-8794-BE26843B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B484-9782-4E82-8EA3-41ADB3D9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4D4D-AAC7-4A06-B2C4-C08AA30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4409-3098-40F9-A823-23DD4B42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3BF8-9F61-4971-9716-3B51572B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ECD4-BC78-4678-B7BA-C2FC3C3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C030-6EFA-4E33-96AD-3255AEF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2233E-B17A-4CF5-81F2-15DAD6E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A12E-8270-4AF7-8F7C-99F5173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E27F-DD70-49A6-AC11-5EE209C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10E-4FF6-4AFA-BF1D-0C92BC0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FEFF-F61A-4A9E-BBA6-9C0D360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1BF5-371B-49CA-B708-7037B579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B196-94B8-459B-8E6D-7BAE241A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C93-B116-4CFD-8159-D37D35F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42D-026C-49AA-A394-5520B6B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395-A326-4AFE-9EEC-3F11891478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D2F7-4005-470F-B844-BAEBEE97C2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C0E1-516D-4DAA-B557-C6922A5AA5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B40-7861-4E1F-A5E6-3F1115A22D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915B-86E0-4F4B-9A44-C4FBB45741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BB53-A4C7-49C4-955C-48DCF7ED83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ОЛОГИЯ ОЦЕНИВАНИЯ</a:t>
            </a:r>
            <a:br>
              <a:rPr sz="4800"/>
            </a:b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ЕБНЫХ ДОСТИЖЕНИЙ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1258920" y="0"/>
            <a:ext cx="770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лгоритм самооценк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вопросы, на которые отвечает ученик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008000" y="1268280"/>
            <a:ext cx="8136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ужно было сделать в этом задании (задаче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была цель, что нужно было получить в результат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511280" y="350028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получить результат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но решение, ответ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684360" y="98100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иная с 3-го класса, после введения правила уровней успешности  к этому алгоритму могут добавляться новые шаги для оценивания учеником своих успехов и определения своей отметки в баллах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1332000" y="3645000"/>
            <a:ext cx="763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был уровень задачи, задания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задачи мы решали уже много раз, понадобились только давно полученные знания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755640" y="9079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задаче мы столкнулись с необычной ситуацией (либо нам нужны прежние знания в новой ситуации, либо нам нужны новые только сейчас получаемые знания)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900000" y="364500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задачи мы никогда не учились решать или же использовались правила и факты, которые мы на уроках не изучали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1295280" y="112536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-й шаг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уровень успешности, на котором ты решил задачу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900000" y="296712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-й шаг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продемонстрированного уровня успешности, определи отметку, которую ты себе поставишь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496080" y="2276640"/>
            <a:ext cx="790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уроков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исьменные задания оценку 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учитель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491040" y="3933720"/>
            <a:ext cx="7512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имее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эту оценку 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у, если докажет (используя алгоритм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ивания), что она завышена ил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а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76500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ме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эту отметку, если докажет , что она завышена или  занижен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971640" y="40464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делать в 1-м классе, где ученик ещё психологически не готов к адекватной оценке своих результатов, в том числе к признанию своих ошибок?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Прямоугольник 2"/>
          <p:cNvSpPr/>
          <p:nvPr/>
        </p:nvSpPr>
        <p:spPr>
          <a:xfrm>
            <a:off x="539640" y="2565360"/>
            <a:ext cx="80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й шаг (на первых уроках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м своё настроени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ём возможность детям эмоционально оценить прошедший урок (день). Эта рефлексия станет основой для адекватной оценки своих учебных успехов. На полях тетради или в дневнике дети обозначают своё настроение, реакцию на урок («доволен», «было трудно» и т.п.) в виде понятных им символов. Например, смайлики или кружки с цветами светофор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539640" y="62064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й шаг (через 2–4 недели). Учимся сравнивать цель и 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м детям возможность оценить содержание своей письменной работы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в тетради с проверенными работами, учитель ведёт диалог с учениками, в котором главным являются такие вопросы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 вас было задание? Кто может сказать, что нужно было сделать дома? (Обучение 1-му шагу алгоритма самооценки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каждый на свою работу – согласны, что задание выполнено? (Коллективная самооценк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2-му шагу алгоритма самооценки.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468360" y="1052640"/>
            <a:ext cx="82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й шаг (примерно через месяц). Устанавливаем порядок оценки своей работы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же известным ученикам пунктам 1 и 2 алгоритма самооценки добавляем пункты 3 («правильно или ошибкой?») и 4 («сам или с чьей-то помощью?»). При этом оцениваются только успешные решения. В качестве «награды» за решение задачи учитель, например, может предложить ученику в тетради или в дневнике/еженедельнике нарисовать кружок и закрасить его любым цвето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684360" y="126828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й шаг. Учимся признавать свои ошибк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м ученику (психологически готовому) в классе оценить выполнение задания, в котором у него есть незначительные ошибки. В случае признания ошибки кружок в тетради или дневнике/еженедельнике («награда» за решение задачи) закрашивается не полностью, при этом доля закрашенного значения не имее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755640" y="333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-й шаг. Учимся признавать свою неудачу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омогает ученикам на уроках оценивать свои действия, признавая ошибки. Затем можно предложить кому-то из детей оценить себя в ситуации, когда он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с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равился с заданием. В дневнике или в тетради это может (с согласия ученика) обозначаться незакрашенным кружко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Прямоугольник 2"/>
          <p:cNvSpPr/>
          <p:nvPr/>
        </p:nvSpPr>
        <p:spPr>
          <a:xfrm>
            <a:off x="755640" y="393372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й шаг. Используем умение само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(почти все) ученики хотя бы раз оценили свою работу в классе, учитель перестаёт проговаривать все вопросы алгоритма самооценки и предлагает ученикам самим задавать себе эти вопросы и отвечать на них (с опорой на схему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253240" y="102384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 правило.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ОЦЕНИВАЕМ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1988280" y="2838600"/>
            <a:ext cx="474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 результаты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,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395280" y="981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е правило.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СТАВИТЬ ОТМЕТОК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826920" y="2411280"/>
            <a:ext cx="691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решённых задач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826920" y="3957480"/>
            <a:ext cx="7417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ую учебную задачу или группу заданий (задач), показывающую овладение конкретным действием (умением), определяется и ставится отдельная отметка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684360" y="105264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е прави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ДЕ НАКАПЛИВАТЬ ОЦЕНКИ И 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971640" y="296712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ах образовательных результатов (предметных, метапредметных, личностных) и в «Портфеле достижений»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684360" y="6922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размещаются в дневнике школьника и в рабочем журнале учителя 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выставляются отметки (баллы) в графу того действия (умения), которое было основным в ходе решения конкретной задач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684360" y="3284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 заносятся в таблицы результатов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язательно (минимум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апредметные и личностные неперсонифицированные диагностические работы (один раз в год – обязательно), за предметные контрольные работы (один раз в четверть – обязательно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971640" y="118728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ртфель достижений учени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борник работ и результатов, которые показывают усилия, прогресс и достижения ученика в разных областях (учёба, творчество, общение, здоровье, полезный людям труд и т.д.), а также самоанализ учеником своих текущих достижений и недостатков, позволяющих самому определять цели своего дальнейшего развития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326600" y="981000"/>
            <a:ext cx="69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-е правило.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ГДА СТАВИТЬ 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971640" y="2421000"/>
            <a:ext cx="734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е – по желанию,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атические проверочные работы – обязательно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755640" y="4079880"/>
            <a:ext cx="7764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адачи, решённые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новой темы,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тольк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желанию учен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он ещё овладевает умениями и знаниями темы и имеет право на ошибку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855720" y="765000"/>
            <a:ext cx="753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ую задач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очной (контрольной)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т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ученик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 пересда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бы один раз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855720" y="4076640"/>
            <a:ext cx="731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н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страивает полученная отмет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задание проверочной работы), он име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ересд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ющий материал до контрольного срока (например, до конца четверти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61128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е прави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КАКИМ КРИТЕРИЯМ ОЦЕНИВАТЬ?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138680" y="4282920"/>
            <a:ext cx="744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знакам трёх уровней успешности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539640" y="118584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й уров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типовой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обной тем, что решали уже много раз, где требовались отработанные действия и усвоенные знания. Это достаточно для продолжения образования, это возможно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чественные оценк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о, но не отлично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«нормально» (решение задачи с недочётами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755640" y="1166760"/>
            <a:ext cx="76327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граммный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нестандартной задач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отребовалось: либо действие в новой, непривычной ситуации, либо использование новых, усваиваемых в данный момент знаний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йствовать в нестандартной ситуации – это отличие от необходимого всем уровня. Качественные оценки: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»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«почти отлично» (решение задачи с недочётами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574560" y="907920"/>
            <a:ext cx="8101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язательны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не изучавшейся в классе «сверхзадач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ой потребовались либо самостоятельно добытые, не изучавшиеся знания, либо новые, самостоятельно усвоенные умения и действия, требуемые на следующих ступенях образования. Это демонстрирует исключительные успехи отдельных учеников по отдельным темам сверх школьных требований. Качественная оценка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восходно»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2"/>
          <p:cNvSpPr/>
          <p:nvPr/>
        </p:nvSpPr>
        <p:spPr>
          <a:xfrm>
            <a:off x="971640" y="105264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можн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 (особенно успешное): удачную мысль в диалоге, односложный ответ на репродуктивный вопрос и т.д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971640" y="3236760"/>
            <a:ext cx="74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ставится тольк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й учебной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ходе которой ученик осмысливал цель и условия задания, осуществлял действия по поиску решения (хотя бы одно умение по использованию знаний), получал и представлял результат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55640" y="907920"/>
            <a:ext cx="792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обые ситуации при использовании уровней успешност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611280" y="1859040"/>
            <a:ext cx="8064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ник проболел, изучил материал самостоятельно и верно выполнил задание необходимого уровня, рекомендуется оценить его как задан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г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611280" y="3978360"/>
            <a:ext cx="7921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ощрять учеников, стремящихся выполнять задания на максимальном уровне, поддерживать их авторитет, не допускать неоправданной критики в их адрес со стороны других учеников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1042920" y="333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е правило.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ОПРЕДЕЛЯТЬ ИТОГОВЫЕ ОЦЕНКИ/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755640" y="2133720"/>
            <a:ext cx="73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четвертные отметк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по таблицам предметных результатов (среднее арифметическое баллов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755640" y="407664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оценка за ступень начальной школы 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всех положительных результатов, накопленных учеником в своем портфеле, и на основе итоговой диагностики предметных и метапредметных результатов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582560" y="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АЛЬНЫЙ 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я системы оценки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1079640" y="1700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вводятся только два правила, которые составляют основу оценивания и без опоры на которые невозможно реализовать все прочие правила и элементы системы 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900000" y="393372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 правило (Различие оценки и отметки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 ученики привыкают различать словесную оценку любых действий и отметку − знак за решение учебной задачи (предметной или метапредметной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755640" y="61272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вместо балльных отметок допустимо использовать только положительную и не различаемую по уровням фиксацию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у себя в таблице результатов ставит «+»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у себя в дневнике или тетради также ставит «+» или закрашивает кружок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ующих классах при появлении балльных отметок правило используется целиком: отметка может быть поставлена только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решение ученик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задачи (выполнение задания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826920" y="6127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е правило (Самооценк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в диалоге с учителем обучаются самостоятельно оценивать свои результаты по «Алгоритму самооценки»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алгоритм состоит из четырёх вопросов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Прямоугольник 2"/>
          <p:cNvSpPr/>
          <p:nvPr/>
        </p:nvSpPr>
        <p:spPr>
          <a:xfrm>
            <a:off x="826920" y="3413160"/>
            <a:ext cx="749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ующих классах к алгоритму добавляются новые вопросы: «Как мы различаем отметки и оценки?», «Какую себе поставишь отметку?» и т.д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826920" y="1052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НДАРТНЫЙ уровень использования системы оценки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826920" y="22748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е правило (Одна задача – одна оценка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полностью. Учитель и ученики привыкают оценивать каждую решённую задачу в отдельности. Если требуется определить одну отметку за контрольную или за урок, это делается на основе отдельных отметок за решённые задачи (например, среднее арифметическое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826920" y="44928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е правило (Таблицы результатов и «Портфель достижений»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частично. Учитель начинает использовать таблицы результатов только после проведения итоговых контрольных работы по предметам (один раз в четверть) и диагностик метапредметных результатов (примерно один раз в год). В текущей работе при заполнении официального журнала учитель руководствуется привычными правилам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539640" y="612720"/>
            <a:ext cx="79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метки в таблицы результатов выставляются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-м классе в виде «+» (зачёт, решение задачи)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ах отметки ставятся по той шкале, которая принята в данном образовательном учреждении. Эти данные используются для отслеживания того, как конкретные ученики справляются с программными требованиями (насколько они успешны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эти данные учитель переносит в «Портфель достижений ученика». Остальные материалы портфеля достижений ученик пополняет самостоятельно (консультируясь с учителем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826920" y="9079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е правило (Уровни успешности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частично. Учитель фиксирует уровни успешности только при оценивании заданий предметных проверочных и контрольных работа, а также метапредметных диагностических, руководствуясь готовой шкалой в печатных изданиях (в тетрадях для проверочных и контрольных работ). При текущем оценивании учитель руководствуется привычными ему правилами контроля и оценивания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900000" y="134136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е правило (Итоговые оценки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частично. Учитель определяет итоговую оценку за ступень начальной школы в соответствии с требованиями новой системы оценки (на основе выходных диагностик и «Портфеля достижений»). При определении четвертных оценок по предметам учитель использует привычные традиционные правила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826920" y="981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гут ли быть исключения из этого правила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1187280" y="1773360"/>
            <a:ext cx="73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 конце урока предложить всему классу определить, какие гипотезы оказались наиболее точными, интересными, помогли найти решение общей проблемы. Авторы этих гипотез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м реше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поощряться: им даётся оценка и(или) ставится отметка «отлично» (решение задачи повышенного уровня) на то умение, по которому формулировалась проблема урока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1042920" y="134136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«Алгоритму самооценивания» потребует выделять около 5 минут учебного времени на большинстве уроков. Однако, когда этот алгоритм будет освоен всеми учениками (примерно через 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едели), его использование значительно повысит эффективность работы учеников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684360" y="175896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(умения) по использованию зн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зада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действия, прежде всего успешные, достой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овесной характеристики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шение полноценной задачи – оценки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нака фиксации в 5-балльной системе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755640" y="907920"/>
            <a:ext cx="7777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результатам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обучения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ая диагнос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в конце обучения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ная диагнос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ст результатов означает, что учителю  удалось создать образовательную среду, обеспечивающую развитие учеников.   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результат сравнения означает, что не удалось создать условия (образовательную среду) для успешного развития возможностей учеников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2347200" y="126828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е правило.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ТО ОЦЕНИВАЕТ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003320" y="2732040"/>
            <a:ext cx="77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 учени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ют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и отметку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1042920" y="907920"/>
            <a:ext cx="708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урок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к са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 свой результат выполнения задания по «Алгоритму самооценки» и, если требуется, определяет отметку, когда показывает выполненное задание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1042920" y="3500280"/>
            <a:ext cx="708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декватного оценивания ученик должен научиться отвечать на вопросы о целях и результатах своей работы, то есть освоить алгоритм само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1332000" y="112536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полностью верно 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900000" y="227664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лся полностью самостоятельно или с чьей - то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792000" y="3429000"/>
            <a:ext cx="835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 2-го класса, после обучения детей использованию таблицы требований к этому алгоритму может быт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авлен новый шаг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1079640" y="5445000"/>
            <a:ext cx="8064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мение отрабатывали при выполнении данного задания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4:19:23Z</dcterms:created>
  <dc:creator>User</dc:creator>
  <dc:description/>
  <dc:language>en-US</dc:language>
  <cp:lastModifiedBy>Администратор</cp:lastModifiedBy>
  <dcterms:modified xsi:type="dcterms:W3CDTF">2017-05-18T19:58:24Z</dcterms:modified>
  <cp:revision>39</cp:revision>
  <dc:subject/>
  <dc:title>Технология оценивания учебных достижений</dc:title>
</cp:coreProperties>
</file>