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69E0-C95D-4640-820B-BF440041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FE5B-3D2B-42C5-BEB3-807C6A1D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0DA7-BBC5-42AA-967E-924EB6BC7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C685-E753-4B2C-B4ED-1F2856C15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9D5D-4A3D-4436-B1C9-6AB42DCB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F48D-89DB-45E2-ADAC-1FAC35E7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E76D-A4AC-4BFE-A952-C4397283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BBC3-CB6D-4737-BDE1-F5436DCB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D4C9-AA77-4C2F-BA5C-48E25302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C6AB-1564-442A-8D47-8E6FCC60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8559-0F1A-44F8-A923-4D8E26CF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E8DF-3A3A-45E5-A5AB-4379D598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021D-0C45-4B9E-99F8-AEEDB913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0898-E8AA-4458-9F11-3BC352DF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B579-0368-4633-96FB-A80EAA7A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0A12-A575-454C-BE20-7AFDD5F12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751D-A635-4F5F-9AF2-555C9FD2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B4739-8CDE-421E-B676-20C35ED39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6E4FA-CDE9-4BF6-89ED-C1F6D566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B8C76-B4D3-4BDB-B86D-55551C70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64057-C372-478F-AB8A-4A1F0E00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649BB-5995-4F98-AB57-F5DAE337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3A81-729B-4FB1-9B1A-BF571DE3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4343C-2750-441E-AAD5-A342F311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2B343-574D-4A04-B224-70F09908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D3BB6-6B20-4C2D-BD1B-548CFA66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34E0D-F66E-4F1D-9C23-54CF9C81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6A84B-F894-4977-85A7-6A5EA4AE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62B96-3043-45B5-AD51-B1CF7E0F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FA5BF-BCE7-465B-9638-5C1192242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AD726-CB75-4865-BD2D-508EA5624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E290E-5710-418B-9078-6534A5D8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695ED-3D85-4DB4-836A-4C05F8AF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BC69-BED4-496B-A78B-E2BF1FA7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3121B-6BD5-4AB6-AD08-3DDD85E2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4CC9A-B546-4525-9D72-07255685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005B1-611C-4F12-BDED-493162FB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C29A3-0E43-4511-BEFE-A5230881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FA36B-980A-4119-AC8C-4B05D731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E6528-EC48-4D4B-AA82-E14F51DF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BC39F-7242-4B36-923B-413A2FBE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F00B6-5CD2-4EED-A2DF-F3CDAE446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15B18-BCBD-419E-823B-D9816D4B2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31BBA-A749-48D8-9499-679BA668A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CAF9-B41A-44B2-870C-6EB3AD3A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2552A-78DE-475F-915E-087FB9A7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70647-A0C7-4A51-8B20-8BA8E8C2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D99D1-BCDC-4685-8DFA-93BE3F4B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D8DB3-FFF8-4F4E-9C85-C3D4927C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12E22-C945-472C-B45C-AD038881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77617-A79C-4051-94B9-94564D4E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AA038-6EBF-441C-BE94-C3554956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F45A7-122B-4402-BBB2-2F78309F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A33DB-D15F-4A78-8975-5CD8B4AE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8B0D8-B95E-4B35-8056-C8F7F9F52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9C12-1E90-44F5-A316-947FF132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FC684-C029-4D51-BC29-BD864193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9FAD4-1B81-42EF-8F6E-091C4C8E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7F051-A2D9-42B4-86C2-3D1C3F6F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B1843-B9B7-4606-9D7B-E7B1DA3A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37A44-A8DC-4D96-BD15-71380F17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8BE03-D87B-44B8-B457-3B09F262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D90EE-EA54-4391-B386-ED6E47F4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8EBA2-24A0-424E-A626-3DA9CE32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F9C3F-E3CC-4EC0-AD3B-6012EAA4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F7945-F941-49D4-9E6D-E89CEC49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CC3D-3D58-48A2-BDFB-712563E2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4A923-7D5B-4382-98D6-85070B06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1D1E0-DE73-40E4-80A5-4E290E27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5BFD9-E8B0-44B8-85D1-3890A1340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DE04-BE49-42E1-9544-DD9882A1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E20D-B71B-41E1-B894-58DD272B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5D2D-BD19-4BD7-AF4D-69DC96B2A44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B866-B01C-4F3B-B799-D63FEB7436A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10D4-B41E-40EB-A6FB-170271501CE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CB68-97E7-4811-ABD3-BE365349EA2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9C38-5AB4-4AD5-9CCC-3DEF1ED44B8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6414-63C6-4F03-89D2-B2CAC062EFF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845820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ЕХНОЛОГИЯ ОЦЕНИВАНИЯ</a:t>
            </a:r>
            <a:br>
              <a:rPr sz="4800"/>
            </a:br>
            <a:r>
              <a:rPr b="1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ЧЕБНЫХ ДОСТИЖЕНИЙ</a:t>
            </a:r>
            <a:endParaRPr b="0" lang="en-US" sz="48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Прямоугольник 1"/>
          <p:cNvSpPr/>
          <p:nvPr/>
        </p:nvSpPr>
        <p:spPr>
          <a:xfrm>
            <a:off x="1258920" y="0"/>
            <a:ext cx="770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лгоритм самооценки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вопросы, на которые отвечает ученик)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TextBox 2"/>
          <p:cNvSpPr/>
          <p:nvPr/>
        </p:nvSpPr>
        <p:spPr>
          <a:xfrm>
            <a:off x="1008000" y="1268280"/>
            <a:ext cx="813600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-й шаг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нужно было сделать в этом задании (задаче)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была цель, что нужно было получить в результате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1" name="TextBox 3"/>
          <p:cNvSpPr/>
          <p:nvPr/>
        </p:nvSpPr>
        <p:spPr>
          <a:xfrm>
            <a:off x="1511280" y="3500280"/>
            <a:ext cx="7632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-й шаг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лось получить результат?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ено решение, ответ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1"/>
          <p:cNvSpPr/>
          <p:nvPr/>
        </p:nvSpPr>
        <p:spPr>
          <a:xfrm>
            <a:off x="684360" y="981000"/>
            <a:ext cx="7920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чиная с 3-го класса, после введения правила уровней успешности  к этому алгоритму могут добавляться новые шаги для оценивания учеником своих успехов и определения своей отметки в баллах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Прямоугольник 2"/>
          <p:cNvSpPr/>
          <p:nvPr/>
        </p:nvSpPr>
        <p:spPr>
          <a:xfrm>
            <a:off x="1332000" y="3645000"/>
            <a:ext cx="763272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-й шаг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 был уровень задачи, задания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задачи мы решали уже много раз, понадобились только давно полученные знания?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ый уровень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Прямоугольник 1"/>
          <p:cNvSpPr/>
          <p:nvPr/>
        </p:nvSpPr>
        <p:spPr>
          <a:xfrm>
            <a:off x="755640" y="907920"/>
            <a:ext cx="770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й задаче мы столкнулись с необычной ситуацией (либо нам нужны прежние знания в новой ситуации, либо нам нужны новые только сейчас получаемые знания)?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ный уровень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5" name="Прямоугольник 2"/>
          <p:cNvSpPr/>
          <p:nvPr/>
        </p:nvSpPr>
        <p:spPr>
          <a:xfrm>
            <a:off x="900000" y="3645000"/>
            <a:ext cx="73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задачи мы никогда не учились решать или же использовались правила и факты, которые мы на уроках не изучали?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ый уровень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Прямоугольник 1"/>
          <p:cNvSpPr/>
          <p:nvPr/>
        </p:nvSpPr>
        <p:spPr>
          <a:xfrm>
            <a:off x="1295280" y="1125360"/>
            <a:ext cx="78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-й шаг.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 уровень успешности, на котором ты решил задачу.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Прямоугольник 2"/>
          <p:cNvSpPr/>
          <p:nvPr/>
        </p:nvSpPr>
        <p:spPr>
          <a:xfrm>
            <a:off x="900000" y="2967120"/>
            <a:ext cx="7272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-й шаг.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я из продемонстрированного уровня успешности, определи отметку, которую ты себе поставишь.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Box 3"/>
          <p:cNvSpPr/>
          <p:nvPr/>
        </p:nvSpPr>
        <p:spPr>
          <a:xfrm>
            <a:off x="496080" y="2276640"/>
            <a:ext cx="7902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ле уроков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исьменные задания оценку и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ку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ет учитель.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9" name="TextBox 4"/>
          <p:cNvSpPr/>
          <p:nvPr/>
        </p:nvSpPr>
        <p:spPr>
          <a:xfrm>
            <a:off x="491040" y="3933720"/>
            <a:ext cx="75124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имеет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ить эту оценку и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ку, если докажет (используя алгоритм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ивания), что она завышена или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жена.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Прямоугольник 2"/>
          <p:cNvSpPr/>
          <p:nvPr/>
        </p:nvSpPr>
        <p:spPr>
          <a:xfrm>
            <a:off x="468360" y="765000"/>
            <a:ext cx="77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меет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ить эту отметку, если докажет , что она завышена или  занижена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Прямоугольник 1"/>
          <p:cNvSpPr/>
          <p:nvPr/>
        </p:nvSpPr>
        <p:spPr>
          <a:xfrm>
            <a:off x="971640" y="404640"/>
            <a:ext cx="7272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то делать в 1-м классе, где ученик ещё психологически не готов к адекватной оценке своих результатов, в том числе к признанию своих ошибок?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Прямоугольник 2"/>
          <p:cNvSpPr/>
          <p:nvPr/>
        </p:nvSpPr>
        <p:spPr>
          <a:xfrm>
            <a:off x="539640" y="2565360"/>
            <a:ext cx="8064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-й шаг (на первых уроках).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аем своё настроение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ём возможность детям эмоционально оценить прошедший урок (день). Эта рефлексия станет основой для адекватной оценки своих учебных успехов. На полях тетради или в дневнике дети обозначают своё настроение, реакцию на урок («доволен», «было трудно» и т.п.) в виде понятных им символов. Например, смайлики или кружки с цветами светофора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рямоугольник 1"/>
          <p:cNvSpPr/>
          <p:nvPr/>
        </p:nvSpPr>
        <p:spPr>
          <a:xfrm>
            <a:off x="539640" y="620640"/>
            <a:ext cx="8136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-й шаг (через 2–4 недели). Учимся сравнивать цель и результат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ём детям возможность оценить содержание своей письменной работы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ав тетради с проверенными работами, учитель ведёт диалог с учениками, в котором главным являются такие вопросы: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у вас было задание? Кто может сказать, что нужно было сделать дома? (Обучение 1-му шагу алгоритма самооценки.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 каждый на свою работу – согласны, что задание выполнено? (Коллективная самооценка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ение 2-му шагу алгоритма самооценки.)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Прямоугольник 1"/>
          <p:cNvSpPr/>
          <p:nvPr/>
        </p:nvSpPr>
        <p:spPr>
          <a:xfrm>
            <a:off x="468360" y="1052640"/>
            <a:ext cx="8207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-й шаг (примерно через месяц). Устанавливаем порядок оценки своей работы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уже известным ученикам пунктам 1 и 2 алгоритма самооценки добавляем пункты 3 («правильно или ошибкой?») и 4 («сам или с чьей-то помощью?»). При этом оцениваются только успешные решения. В качестве «награды» за решение задачи учитель, например, может предложить ученику в тетради или в дневнике/еженедельнике нарисовать кружок и закрасить его любым цветом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1"/>
          <p:cNvSpPr/>
          <p:nvPr/>
        </p:nvSpPr>
        <p:spPr>
          <a:xfrm>
            <a:off x="684360" y="1268280"/>
            <a:ext cx="7920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-й шаг. Учимся признавать свои ошибки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предлагаем ученику (психологически готовому) в классе оценить выполнение задания, в котором у него есть незначительные ошибки. В случае признания ошибки кружок в тетради или дневнике/еженедельнике («награда» за решение задачи) закрашивается не полностью, при этом доля закрашенного значения не имеет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1"/>
          <p:cNvSpPr/>
          <p:nvPr/>
        </p:nvSpPr>
        <p:spPr>
          <a:xfrm>
            <a:off x="755640" y="333360"/>
            <a:ext cx="784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-й шаг. Учимся признавать свою неудачу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помогает ученикам на уроках оценивать свои действия, признавая ошибки. Затем можно предложить кому-то из детей оценить себя в ситуации, когда он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все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справился с заданием. В дневнике или в тетради это может (с согласия ученика) обозначаться незакрашенным кружком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Прямоугольник 2"/>
          <p:cNvSpPr/>
          <p:nvPr/>
        </p:nvSpPr>
        <p:spPr>
          <a:xfrm>
            <a:off x="755640" y="3933720"/>
            <a:ext cx="80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-й шаг. Используем умение самооценки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се (почти все) ученики хотя бы раз оценили свою работу в классе, учитель перестаёт проговаривать все вопросы алгоритма самооценки и предлагает ученикам самим задавать себе эти вопросы и отвечать на них (с опорой на схему)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1"/>
          <p:cNvSpPr/>
          <p:nvPr/>
        </p:nvSpPr>
        <p:spPr>
          <a:xfrm>
            <a:off x="2253240" y="1023840"/>
            <a:ext cx="461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-е правило.   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ОЦЕНИВАЕМ?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1988280" y="2838600"/>
            <a:ext cx="4743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ем результаты: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,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предметные,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.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Прямоугольник 1"/>
          <p:cNvSpPr/>
          <p:nvPr/>
        </p:nvSpPr>
        <p:spPr>
          <a:xfrm>
            <a:off x="395280" y="98100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-е правило.  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КОЛЬКО СТАВИТЬ ОТМЕТОК?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Прямоугольник 2"/>
          <p:cNvSpPr/>
          <p:nvPr/>
        </p:nvSpPr>
        <p:spPr>
          <a:xfrm>
            <a:off x="826920" y="2411280"/>
            <a:ext cx="691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ислу решённых задач.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Прямоугольник 3"/>
          <p:cNvSpPr/>
          <p:nvPr/>
        </p:nvSpPr>
        <p:spPr>
          <a:xfrm>
            <a:off x="826920" y="3957480"/>
            <a:ext cx="74170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аждую учебную задачу или группу заданий (задач), показывающую овладение конкретным действием (умением), определяется и ставится отдельная отметка.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1"/>
          <p:cNvSpPr/>
          <p:nvPr/>
        </p:nvSpPr>
        <p:spPr>
          <a:xfrm>
            <a:off x="684360" y="1052640"/>
            <a:ext cx="755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-е правило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ДЕ НАКАПЛИВАТЬ ОЦЕНКИ И ОТМЕТКИ?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Прямоугольник 2"/>
          <p:cNvSpPr/>
          <p:nvPr/>
        </p:nvSpPr>
        <p:spPr>
          <a:xfrm>
            <a:off x="971640" y="2967120"/>
            <a:ext cx="7272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ах образовательных результатов (предметных, метапредметных, личностных) и в «Портфеле достижений».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1"/>
          <p:cNvSpPr/>
          <p:nvPr/>
        </p:nvSpPr>
        <p:spPr>
          <a:xfrm>
            <a:off x="684360" y="692280"/>
            <a:ext cx="777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размещаются в дневнике школьника и в рабочем журнале учителя 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их выставляются отметки (баллы) в графу того действия (умения), которое было основным в ходе решения конкретной задачи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4" name="Прямоугольник 2"/>
          <p:cNvSpPr/>
          <p:nvPr/>
        </p:nvSpPr>
        <p:spPr>
          <a:xfrm>
            <a:off x="684360" y="3284640"/>
            <a:ext cx="792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ки заносятся в таблицы результатов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язательно (минимум)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метапредметные и личностные неперсонифицированные диагностические работы (один раз в год – обязательно), за предметные контрольные работы (один раз в четверть – обязательно)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"/>
          <p:cNvSpPr/>
          <p:nvPr/>
        </p:nvSpPr>
        <p:spPr>
          <a:xfrm>
            <a:off x="971640" y="1187280"/>
            <a:ext cx="734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ртфель достижений ученика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борник работ и результатов, которые показывают усилия, прогресс и достижения ученика в разных областях (учёба, творчество, общение, здоровье, полезный людям труд и т.д.), а также самоанализ учеником своих текущих достижений и недостатков, позволяющих самому определять цели своего дальнейшего развития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1"/>
          <p:cNvSpPr/>
          <p:nvPr/>
        </p:nvSpPr>
        <p:spPr>
          <a:xfrm>
            <a:off x="1326600" y="981000"/>
            <a:ext cx="69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-е правило.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ГДА СТАВИТЬ ОТМЕТКИ?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Прямоугольник 2"/>
          <p:cNvSpPr/>
          <p:nvPr/>
        </p:nvSpPr>
        <p:spPr>
          <a:xfrm>
            <a:off x="971640" y="2421000"/>
            <a:ext cx="7345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ие – по желанию, 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ематические проверочные работы – обязательно.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8" name="Прямоугольник 3"/>
          <p:cNvSpPr/>
          <p:nvPr/>
        </p:nvSpPr>
        <p:spPr>
          <a:xfrm>
            <a:off x="755640" y="4079880"/>
            <a:ext cx="77644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задачи, решённые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изучении новой темы,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ка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ится только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желанию ученик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к как он ещё овладевает умениями и знаниями темы и имеет право на ошибку.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рямоугольник 1"/>
          <p:cNvSpPr/>
          <p:nvPr/>
        </p:nvSpPr>
        <p:spPr>
          <a:xfrm>
            <a:off x="855720" y="765000"/>
            <a:ext cx="7532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аждую задач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ерочной (контрольной) работ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тогам тем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метк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и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ученика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к как каждый должен показать, как он овладел умениями и знаниями по теме. Ученик не может отказаться от выставления этой отметки, но имее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о пересдат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я бы один раз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0" name="Прямоугольник 2"/>
          <p:cNvSpPr/>
          <p:nvPr/>
        </p:nvSpPr>
        <p:spPr>
          <a:xfrm>
            <a:off x="855720" y="4076640"/>
            <a:ext cx="7316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ученик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страивает полученная отмет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за задание проверочной работы), он имее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пересда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ответствующий материал до контрольного срока (например, до конца четверти)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Прямоугольник 1"/>
          <p:cNvSpPr/>
          <p:nvPr/>
        </p:nvSpPr>
        <p:spPr>
          <a:xfrm>
            <a:off x="611280" y="134136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-е правило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 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 КАКИМ КРИТЕРИЯМ ОЦЕНИВАТЬ?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Прямоугольник 2"/>
          <p:cNvSpPr/>
          <p:nvPr/>
        </p:nvSpPr>
        <p:spPr>
          <a:xfrm>
            <a:off x="1138680" y="4282920"/>
            <a:ext cx="7442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изнакам трёх уровней успешности.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Прямоугольник 1"/>
          <p:cNvSpPr/>
          <p:nvPr/>
        </p:nvSpPr>
        <p:spPr>
          <a:xfrm>
            <a:off x="539640" y="1185840"/>
            <a:ext cx="806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ый уровен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азовый)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ешение типовой задач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добной тем, что решали уже много раз, где требовались отработанные действия и усвоенные знания. Это достаточно для продолжения образования, это возможно 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все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чественные оценки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орошо, но не отлично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«нормально» (решение задачи с недочётами)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рямоугольник 1"/>
          <p:cNvSpPr/>
          <p:nvPr/>
        </p:nvSpPr>
        <p:spPr>
          <a:xfrm>
            <a:off x="755640" y="1166760"/>
            <a:ext cx="763272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ый уровень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граммный)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ешение нестандартной задач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потребовалось: либо действие в новой, непривычной ситуации, либо использование новых, усваиваемых в данный момент знаний.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действовать в нестандартной ситуации – это отличие от необходимого всем уровня. Качественные оценки: «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ично»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«почти отлично» (решение задачи с недочётами).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1"/>
          <p:cNvSpPr/>
          <p:nvPr/>
        </p:nvSpPr>
        <p:spPr>
          <a:xfrm>
            <a:off x="574560" y="907920"/>
            <a:ext cx="810108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ый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обязательный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не изучавшейся в классе «сверхзадачи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которой потребовались либо самостоятельно добытые, не изучавшиеся знания, либо новые, самостоятельно усвоенные умения и действия, требуемые на следующих ступенях образования. Это демонстрирует исключительные успехи отдельных учеников по отдельным темам сверх школьных требований. Качественная оценка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евосходно».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Прямоугольник 2"/>
          <p:cNvSpPr/>
          <p:nvPr/>
        </p:nvSpPr>
        <p:spPr>
          <a:xfrm>
            <a:off x="971640" y="1052640"/>
            <a:ext cx="734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ть можно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е действ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еника (особенно успешное): удачную мысль в диалоге, односложный ответ на репродуктивный вопрос и т.д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Прямоугольник 3"/>
          <p:cNvSpPr/>
          <p:nvPr/>
        </p:nvSpPr>
        <p:spPr>
          <a:xfrm>
            <a:off x="971640" y="3236760"/>
            <a:ext cx="748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ка ставится только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еш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ивной учебной задач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ходе которой ученик осмысливал цель и условия задания, осуществлял действия по поиску решения (хотя бы одно умение по использованию знаний), получал и представлял результат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оугольник 1"/>
          <p:cNvSpPr/>
          <p:nvPr/>
        </p:nvSpPr>
        <p:spPr>
          <a:xfrm>
            <a:off x="755640" y="907920"/>
            <a:ext cx="7920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собые ситуации при использовании уровней успешности.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7" name="Прямоугольник 3"/>
          <p:cNvSpPr/>
          <p:nvPr/>
        </p:nvSpPr>
        <p:spPr>
          <a:xfrm>
            <a:off x="611280" y="1859040"/>
            <a:ext cx="8064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ученик проболел, изучил материал самостоятельно и верно выполнил задание необходимого уровня, рекомендуется оценить его как задание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ного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ровня.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8" name="Прямоугольник 4"/>
          <p:cNvSpPr/>
          <p:nvPr/>
        </p:nvSpPr>
        <p:spPr>
          <a:xfrm>
            <a:off x="611280" y="3978360"/>
            <a:ext cx="79214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поощрять учеников, стремящихся выполнять задания на максимальном уровне, поддерживать их авторитет, не допускать неоправданной критики в их адрес со стороны других учеников.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Прямоугольник 1"/>
          <p:cNvSpPr/>
          <p:nvPr/>
        </p:nvSpPr>
        <p:spPr>
          <a:xfrm>
            <a:off x="1042920" y="33336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-е правило.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К ОПРЕДЕЛЯТЬ ИТОГОВЫЕ ОЦЕНКИ/ОТМЕТКИ?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Прямоугольник 2"/>
          <p:cNvSpPr/>
          <p:nvPr/>
        </p:nvSpPr>
        <p:spPr>
          <a:xfrm>
            <a:off x="755640" y="2133720"/>
            <a:ext cx="7345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четвертные отметки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ются по таблицам предметных результатов (среднее арифметическое баллов).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1" name="Прямоугольник 3"/>
          <p:cNvSpPr/>
          <p:nvPr/>
        </p:nvSpPr>
        <p:spPr>
          <a:xfrm>
            <a:off x="755640" y="4076640"/>
            <a:ext cx="7848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ая оценка за ступень начальной школы –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всех положительных результатов, накопленных учеником в своем портфеле, и на основе итоговой диагностики предметных и метапредметных результатов.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Прямоугольник 1"/>
          <p:cNvSpPr/>
          <p:nvPr/>
        </p:nvSpPr>
        <p:spPr>
          <a:xfrm>
            <a:off x="1582560" y="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ЧАЛЬНЫЙ уровень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спользования системы оценки.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Прямоугольник 2"/>
          <p:cNvSpPr/>
          <p:nvPr/>
        </p:nvSpPr>
        <p:spPr>
          <a:xfrm>
            <a:off x="1079640" y="1700280"/>
            <a:ext cx="80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ом этапе вводятся только два правила, которые составляют основу оценивания и без опоры на которые невозможно реализовать все прочие правила и элементы системы оценки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Прямоугольник 3"/>
          <p:cNvSpPr/>
          <p:nvPr/>
        </p:nvSpPr>
        <p:spPr>
          <a:xfrm>
            <a:off x="900000" y="3933720"/>
            <a:ext cx="7920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-е правило (Различие оценки и отметки)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 ученики привыкают различать словесную оценку любых действий и отметку − знак за решение учебной задачи (предметной или метапредметной)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Прямоугольник 1"/>
          <p:cNvSpPr/>
          <p:nvPr/>
        </p:nvSpPr>
        <p:spPr>
          <a:xfrm>
            <a:off x="755640" y="612720"/>
            <a:ext cx="7920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ом классе вместо балльных отметок допустимо использовать только положительную и не различаемую по уровням фиксацию: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―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у себя в таблице результатов ставит «+»,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―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у себя в дневнике или тетради также ставит «+» или закрашивает кружок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следующих классах при появлении балльных отметок правило используется целиком: отметка может быть поставлена только з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е решение ученик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й задачи (выполнение задания)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826920" y="612720"/>
            <a:ext cx="763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-е правило (Самооценк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и в диалоге с учителем обучаются самостоятельно оценивать свои результаты по «Алгоритму самооценки»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ом классе алгоритм состоит из четырёх вопросов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Прямоугольник 2"/>
          <p:cNvSpPr/>
          <p:nvPr/>
        </p:nvSpPr>
        <p:spPr>
          <a:xfrm>
            <a:off x="826920" y="3413160"/>
            <a:ext cx="7490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следующих классах к алгоритму добавляются новые вопросы: «Как мы различаем отметки и оценки?», «Какую себе поставишь отметку?» и т.д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рямоугольник 1"/>
          <p:cNvSpPr/>
          <p:nvPr/>
        </p:nvSpPr>
        <p:spPr>
          <a:xfrm>
            <a:off x="826920" y="105264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ТАНДАРТНЫЙ уровень использования системы оценки.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9" name="Прямоугольник 2"/>
          <p:cNvSpPr/>
          <p:nvPr/>
        </p:nvSpPr>
        <p:spPr>
          <a:xfrm>
            <a:off x="826920" y="2274840"/>
            <a:ext cx="7705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-е правило (Одна задача – одна оценка)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пользуется полностью. Учитель и ученики привыкают оценивать каждую решённую задачу в отдельности. Если требуется определить одну отметку за контрольную или за урок, это делается на основе отдельных отметок за решённые задачи (например, среднее арифметическое)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1"/>
          <p:cNvSpPr/>
          <p:nvPr/>
        </p:nvSpPr>
        <p:spPr>
          <a:xfrm>
            <a:off x="826920" y="449280"/>
            <a:ext cx="7705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-е правило (Таблицы результатов и «Портфель достижений»)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пользуется частично. Учитель начинает использовать таблицы результатов только после проведения итоговых контрольных работы по предметам (один раз в четверть) и диагностик метапредметных результатов (примерно один раз в год). В текущей работе при заполнении официального журнала учитель руководствуется привычными правилами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Прямоугольник 1"/>
          <p:cNvSpPr/>
          <p:nvPr/>
        </p:nvSpPr>
        <p:spPr>
          <a:xfrm>
            <a:off x="539640" y="612720"/>
            <a:ext cx="7920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метки в таблицы результатов выставляются: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―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-м классе в виде «+» (зачёт, решение задачи),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―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классах отметки ставятся по той шкале, которая принята в данном образовательном учреждении. Эти данные используются для отслеживания того, как конкретные ученики справляются с программными требованиями (насколько они успешны)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эти данные учитель переносит в «Портфель достижений ученика». Остальные материалы портфеля достижений ученик пополняет самостоятельно (консультируясь с учителем)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Прямоугольник 1"/>
          <p:cNvSpPr/>
          <p:nvPr/>
        </p:nvSpPr>
        <p:spPr>
          <a:xfrm>
            <a:off x="826920" y="907920"/>
            <a:ext cx="7848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-е правило (Уровни успешности)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пользуется частично. Учитель фиксирует уровни успешности только при оценивании заданий предметных проверочных и контрольных работа, а также метапредметных диагностических, руководствуясь готовой шкалой в печатных изданиях (в тетрадях для проверочных и контрольных работ). При текущем оценивании учитель руководствуется привычными ему правилами контроля и оценивания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Прямоугольник 1"/>
          <p:cNvSpPr/>
          <p:nvPr/>
        </p:nvSpPr>
        <p:spPr>
          <a:xfrm>
            <a:off x="900000" y="1341360"/>
            <a:ext cx="7488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-е правило (Итоговые оценки)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ся частично. Учитель определяет итоговую оценку за ступень начальной школы в соответствии с требованиями новой системы оценки (на основе выходных диагностик и «Портфеля достижений»). При определении четвертных оценок по предметам учитель использует привычные традиционные правила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Прямоугольник 1"/>
          <p:cNvSpPr/>
          <p:nvPr/>
        </p:nvSpPr>
        <p:spPr>
          <a:xfrm>
            <a:off x="826920" y="9810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огут ли быть исключения из этого правила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8" name="Прямоугольник 2"/>
          <p:cNvSpPr/>
          <p:nvPr/>
        </p:nvSpPr>
        <p:spPr>
          <a:xfrm>
            <a:off x="1187280" y="1773360"/>
            <a:ext cx="73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в конце урока предложить всему классу определить, какие гипотезы оказались наиболее точными, интересными, помогли найти решение общей проблемы. Авторы этих гипотез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ым решение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гут поощряться: им даётся оценка и(или) ставится отметка «отлично» (решение задачи повышенного уровня) на то умение, по которому формулировалась проблема урока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Прямоугольник 1"/>
          <p:cNvSpPr/>
          <p:nvPr/>
        </p:nvSpPr>
        <p:spPr>
          <a:xfrm>
            <a:off x="1042920" y="1341360"/>
            <a:ext cx="7201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«Алгоритму самооценивания» потребует выделять около 5 минут учебного времени на большинстве уроков. Однако, когда этот алгоритм будет освоен всеми учениками (примерно через 2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недели), его использование значительно повысит эффективность работы учеников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Прямоугольник 1"/>
          <p:cNvSpPr/>
          <p:nvPr/>
        </p:nvSpPr>
        <p:spPr>
          <a:xfrm>
            <a:off x="684360" y="1758960"/>
            <a:ext cx="784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еника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(умения) по использованию знан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ход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я задач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ьные действия, прежде всего успешные, достойны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словесной характеристики),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решение полноценной задачи – оценки 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знака фиксации в 5-балльной системе)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Прямоугольник 1"/>
          <p:cNvSpPr/>
          <p:nvPr/>
        </p:nvSpPr>
        <p:spPr>
          <a:xfrm>
            <a:off x="755640" y="907920"/>
            <a:ext cx="777708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я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ица между результатам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ов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обучения (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ная диагностик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в конце обучения (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одная диагностик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ст результатов означает, что учителю  удалось создать образовательную среду, обеспечивающую развитие учеников.    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ицательный результат сравнения означает, что не удалось создать условия (образовательную среду) для успешного развития возможностей учеников.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Box 1"/>
          <p:cNvSpPr/>
          <p:nvPr/>
        </p:nvSpPr>
        <p:spPr>
          <a:xfrm>
            <a:off x="2347200" y="1268280"/>
            <a:ext cx="460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-е правило.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ТО ОЦЕНИВАЕТ?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2" name="TextBox 2"/>
          <p:cNvSpPr/>
          <p:nvPr/>
        </p:nvSpPr>
        <p:spPr>
          <a:xfrm>
            <a:off x="1003320" y="2732040"/>
            <a:ext cx="772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 ученик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ест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яют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у и отметку.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ик 1"/>
          <p:cNvSpPr/>
          <p:nvPr/>
        </p:nvSpPr>
        <p:spPr>
          <a:xfrm>
            <a:off x="1042920" y="907920"/>
            <a:ext cx="7083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уроке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еник са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ет свой результат выполнения задания по «Алгоритму самооценки» и, если требуется, определяет отметку, когда показывает выполненное задание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4" name="Прямоугольник 2"/>
          <p:cNvSpPr/>
          <p:nvPr/>
        </p:nvSpPr>
        <p:spPr>
          <a:xfrm>
            <a:off x="1042920" y="3500280"/>
            <a:ext cx="7083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адекватного оценивания ученик должен научиться отвечать на вопросы о целях и результатах своей работы, то есть освоить алгоритм самооценки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Прямоугольник 1"/>
          <p:cNvSpPr/>
          <p:nvPr/>
        </p:nvSpPr>
        <p:spPr>
          <a:xfrm>
            <a:off x="1332000" y="1125360"/>
            <a:ext cx="7632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-й шаг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 полностью верно или с незначительной ошибкой (какой, в чем)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Прямоугольник 2"/>
          <p:cNvSpPr/>
          <p:nvPr/>
        </p:nvSpPr>
        <p:spPr>
          <a:xfrm>
            <a:off x="900000" y="2276640"/>
            <a:ext cx="7632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-й шаг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ился полностью самостоятельно или с чьей - то помощью (кто помогал, в чем)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7" name="Прямоугольник 3"/>
          <p:cNvSpPr/>
          <p:nvPr/>
        </p:nvSpPr>
        <p:spPr>
          <a:xfrm>
            <a:off x="792000" y="3429000"/>
            <a:ext cx="835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 2-го класса, после обучения детей использованию таблицы требований к этому алгоритму может быть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обавлен новый шаг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8" name="Прямоугольник 4"/>
          <p:cNvSpPr/>
          <p:nvPr/>
        </p:nvSpPr>
        <p:spPr>
          <a:xfrm>
            <a:off x="1079640" y="5445000"/>
            <a:ext cx="806436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-й шаг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умение отрабатывали при выполнении данного задания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14:19:23Z</dcterms:created>
  <dc:creator>User</dc:creator>
  <dc:description/>
  <dc:language>en-US</dc:language>
  <cp:lastModifiedBy>Администратор</cp:lastModifiedBy>
  <dcterms:modified xsi:type="dcterms:W3CDTF">2017-05-18T19:58:24Z</dcterms:modified>
  <cp:revision>39</cp:revision>
  <dc:subject/>
  <dc:title>Технология оценивания учебных достижений</dc:title>
</cp:coreProperties>
</file>