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B009-FA37-4A7A-BD4B-3D8E15C4BF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8A12-D6C5-46AF-8879-3E8B44B766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я текст в рамках любого предмета, мы строим работу с текстом в три этапа: до чтения, во время чтения и после чтения. У каждого этапа работы с текстом своя задача, соответственно разные действия читателя и использование разных видов ч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0AB-5B86-46BA-B0BA-FD79104D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9B5-A128-403C-A661-C855A476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0783B-1BF4-44BB-BFE2-F5C24FB2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18626-E228-41AF-800A-12E1441A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0F486-D5B9-4977-813D-136B6B5D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BF9F9-0035-4330-9CC8-5F556659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11562-2E02-42C4-8327-B15AD4B4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C1EB6-611B-4721-B85B-5D92C28A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54E7B-A4BE-4404-9F09-D59E2CFB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C1D59D-1475-4015-8A0D-A99F0357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B81BF-98A4-4903-B9B3-08D7AAAB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15B45-F458-4581-8CD5-E67930FA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3AAD-078B-42DB-8094-8FBD85F1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35CB0B-C7A7-4AF5-B678-AAFB1BDB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95C3EE-6D51-485D-9193-CD7FE525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6BF3B-093A-4DE0-9D37-6952C6B1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19BCA-B61A-43F2-B17D-6131A8C7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013A7-4DC1-42BA-8F70-9AEE829C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8DC51-C4D9-4F53-A952-43823284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C9C40-6415-4A5E-AD04-7ECA09D7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2CE85F-AD78-46CE-B39B-0EB17C8F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ECD76-AE34-480F-9E20-867F2770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ADF92-5B26-4880-B1B4-6B574BE7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EE8-DF62-435A-A115-589CBF83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8FB806-89FA-4EC7-8201-8C0ADE41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70F97-BE42-464E-9128-D56F61AB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1F554-6EC4-4110-8AEA-7673A779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38D42-3913-43AB-8015-5E411832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17878-A116-4C0C-8B20-892895B1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289D2-7903-464F-A5C6-3DCF4FC0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73591-FF3C-4179-A1B8-49093685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11C4A-7ED4-44D4-8A6F-E8878C65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4FB66-5AD3-4F18-A67F-B1D093D4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B9472-440B-4867-B405-6FF05AEB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98BA-EBB2-45CB-85A7-4ECCCC92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8F791-F60C-4459-A1D9-4A66643F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790E2-1FC2-4CAD-A1DE-17D6BB7D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80727-2BE4-4725-9CE2-8DAA46F0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3DC3B7-175D-4574-96A2-4EA5D0BC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9A9D05-9049-42CA-A79A-A4832C35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5FD83-E7F9-4F96-B0B3-66FA665E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28DFC-D95A-4E0E-9B8B-5C6E7CA9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AF8EA-4464-415E-9E6A-54C7243A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00385-4108-4FD3-B49A-7A9D1F9E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008CC-3D99-416E-B763-BD7C1E43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A302-AE06-4E3C-82D1-75D97A8B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78ABB-CB9B-473B-BE3B-4C670119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F7DBB-913C-4E6D-8D61-AD7F8644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1F88E-2E59-4B3D-9488-1592477D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359123-2262-4099-942A-36F2CAAF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7FB91E-D861-4CB3-B231-A07DC093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7FCC-CAF8-4922-94C6-9E6CE54F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C888-8EC2-44CF-A3C4-D2D45207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DEB9-C0F4-4006-B637-0969FFBD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50A7-D023-401F-9C49-25D7E2A0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29CB-571E-4F38-A349-F94C282B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84D-543E-40AE-A729-4B0C1123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D552-2D97-41EF-8ADB-EDF0ED12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D4DB-82F3-46EE-B146-7B59F521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AA92-073D-49D5-A439-56E1E9EB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149E-1B9F-4D3B-B999-2E615224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5A73-40BD-48FD-A6B5-A1E2B95A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968A3-AB2A-4140-BA3B-DB94EC73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0223A-B2DE-4E55-9FC6-608AA4EA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93A5E-D39C-4A8F-9297-A037DA94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A3C54-98AC-4957-B5E7-52107F03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857E9-BD21-4B31-8B26-9E7E924E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782-1A9A-4FC2-8BFD-83BD636C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4FD79-861D-489F-9199-1DAC7F6E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47B4B-1833-4731-8388-F85D4C74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4578F-62DD-4D00-B1BE-7D988831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2FDA7-37A3-492D-A5EA-BF28DCF3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16F86-72B9-44CC-B426-7E45A0FB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26ECD-8B0B-4F1A-84B5-FB1C9B37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D572E-5F1E-4745-BAEC-E4C717B7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5A186-BC79-4803-8EFE-5A27D3A3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93566-CE0E-47B5-AE9A-FBACF032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C9C3B-C509-4252-8D2D-15950459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CB9-F9D1-4E54-938E-EAC45D62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CFD6E-C8C3-4FEB-8CAC-BFB752AA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4BC34-0E7B-4C0F-9079-9EAFE568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AABED-246C-4DBC-9785-2E5CDB13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0F492-5A99-4509-AC1D-45FB2599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1D016-65BD-4304-8794-DC305077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99685-3A6A-43E8-8C71-E4B2AC0C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EEF1F-D4F6-4FBD-96FD-CA562D1A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635A7-395C-4094-B1E5-761E4724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C7599-53AC-4A8F-96B0-440F257A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759F6-B92E-45AF-9E00-7E5D73F2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DE7-ACB1-4D37-B6A1-9D5D562E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91D31-7C58-4304-BA2C-A9D27AB8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4A3F4-F7C4-4FD5-BE9A-EE12E302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5C818-0F2A-433F-9086-51718FA9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C98D5-4075-4A59-94F0-86BC012D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B5593-1FF8-4DDE-B530-E16A18A9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8B7D4-27F7-451F-9DD0-3CDF7169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F0D64-8889-4CA7-98EF-FFCC4C62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4A6CE-5BA6-4C57-9481-EF781752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E6B42-76F2-4E0E-80D1-D270694A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0227E-5C0D-4D53-8197-C61DE420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E971-B9C9-4627-8CD1-B53DE61C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74B3F-5F9C-4CE6-8ECA-D58CB1C1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12B71-7654-4B0C-9258-D53598E0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419EF-A0AF-4CE2-A45A-9799934A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D008D-C2B2-4A60-8F86-4D283A2B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A3E9C-6CF1-401F-8AE1-D8365EEF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F10DC-B56B-4D77-BDF3-BB4D1A89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42628-272E-4EF1-B61D-49E0B970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E96E3-79B9-4E35-9B0B-1B71682B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FDE31-F4F8-404B-B9A1-2D395673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D4F68-59F2-4CB4-A3E4-13B9A506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689-0489-4B9F-9358-E26EEF30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5849B-79FF-4262-AD0F-6EF58D3D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E2472-F8DA-4CF1-9F05-9D90315B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58B75-EA49-479E-9963-0A4F2F3B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4FFC4-CDD8-47CE-8A78-CF239C8B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A5A17-9F11-42A6-B08D-E3BFB284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D71B7-F585-4681-8D64-4ACAACB6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EFC79-A7A5-4732-B037-9E77376C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2A9AB-D730-40D7-B186-E9C4994D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DAEB9-BE4E-402F-A862-35067555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30C0F-160E-4D52-BB57-82BE84DD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C71-9AFA-4E76-8E6A-E3320F90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B5314-9A1E-46C2-9945-E6057BD5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B78E6-DA9C-4383-B4FD-5A47C0D3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9BF3C-2356-4C3E-9271-AE11CD33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CCAEC-44B4-45BE-9E69-79C14023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E5DF0-3AF7-4915-B4BD-A31AF127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7D84E-D19C-48AD-85E1-61A5DF41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BC31D-9A8A-44BC-A119-5749DE77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F68F1-D2BF-444B-9B68-64B9D274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069FE-92E3-4F2E-A894-D6EF2D51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6C2D3-FBED-459C-97C8-A73A8C99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584-7C97-4C3F-823A-E9EA2305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1FEB4-05EE-4D6D-9C44-008ED466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2CB79-E863-4F62-BFFC-433D993F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052A5-CBAB-40E7-9313-23BE1687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9C56E-1351-4BE7-9A85-C4639416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6AD99-4D51-472A-B56D-7E43A994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C0FE0-06CD-454F-9632-2B1B7914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87022-76EA-40EA-B680-381609B0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C5776A-B02C-446F-83C2-C4AED9A4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9D9C6-7E84-4382-A32B-332FC2AA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97960-19EE-421D-BF51-EED2076A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011C-884C-42E3-A934-3A4FD96404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DBA4-0AA1-4E90-A259-73ECF67FB4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F589-0498-4B96-A0A5-8852E5068B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ECF4-E4AD-49B2-A0E6-74BBDBDCA5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EF61-157F-4742-B37E-C9C623ED58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6F5A-4C9E-47A3-875F-9ACF6C84C7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1CF7-A334-4998-B1C2-264E9047F1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7754-9F59-42DC-A02D-5BC44DBB49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9339-1D13-4617-978C-BD5D516122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5DCC-B722-4928-8A0E-EE577F8E33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C086-31E4-49EA-B5CE-C8AC1607A5F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2CBE-65D6-4A05-98F4-CE2CDAEE30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3885840" y="4571640"/>
            <a:ext cx="5257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ТУДЕНТКА 45 ГРУППЫ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МАРКОВА ЕКАТЕРИН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16349"/>
                </a:solidFill>
                <a:latin typeface="Georgia"/>
              </a:rPr>
              <a:t>Технология продуктивного чтения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рческое задание предполагает самостоятельность ребенка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Номер слайда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8EF1-0ADB-4BF8-8EAC-FDE0B1A28FBF}" type="slidenum"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13840" y="1935000"/>
            <a:ext cx="864396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64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ставь план (самостоятельно, в парах, в группе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88920" indent="-64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« Проиллюстрируй…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88920" indent="-64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« Сочини…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88920" indent="-64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« Придумай…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88920" indent="-64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труктурная модель текста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a283e"/>
                </a:solidFill>
                <a:latin typeface="Arial"/>
              </a:rPr>
              <a:t>УУД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457200" y="1143000"/>
          <a:ext cx="8183520" cy="4465800"/>
        </p:xfrm>
        <a:graphic>
          <a:graphicData uri="http://schemas.openxmlformats.org/drawingml/2006/table">
            <a:tbl>
              <a:tblPr/>
              <a:tblGrid>
                <a:gridCol w="2727360"/>
                <a:gridCol w="2728800"/>
                <a:gridCol w="2727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 время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пределять и формировать цель деятельности на уроке с помощью учител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читься высказывать свое предположение на основе работы с иллюстрацией учебн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ходить ответы на вопросы в тексте, иллюстраци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формлять свои мысли в устной и письменной форм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лушать и понимать речь други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моционально «проживать» текст, выражать свои эмоц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нимать эмоции других людей, сочувствовать, сопережива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сказывать свое отношение к героям прочитанных произведений, к их поступ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риентироваться в учебник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ходить ответы на вопросы в тексте, иллюстраци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разительно читать и пересказывать текс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лать выводы в результате совместной работы класса и учите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нимать эмоции других людей, сочувствовать, сопережива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сказывать свое отношение к героям прочитанных произведений, к их поступ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лать выводы в результате совместной работы класса и учител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читься работать в паре, группе; выполнять различные ро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диалоге с учителем вырабатывать критерии оценки и определять степень успешности своей работы и работы других в соответствии с этими критериями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стоинства технологии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Номер слайда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043E-C768-4AFF-BB2C-4838B6AE02FE}" type="slidenum">
              <a:rPr b="1" lang="ru-RU" sz="26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56760" y="1571760"/>
            <a:ext cx="82868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ма самостоятельно вне урок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осообразна и доступн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а на развитие личности читател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умение прогнозировать результаты чтени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достижению понимания на уровне смысл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Рисунок 3" descr="iCAX1LDXG.jpg"/>
          <p:cNvPicPr/>
          <p:nvPr/>
        </p:nvPicPr>
        <p:blipFill>
          <a:blip r:embed="rId1"/>
          <a:stretch/>
        </p:blipFill>
        <p:spPr>
          <a:xfrm>
            <a:off x="3000240" y="4500720"/>
            <a:ext cx="313560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C:\Documents and Settings\Loner\Мои документы\Загрузки\61591160_014.gif"/>
          <p:cNvPicPr/>
          <p:nvPr/>
        </p:nvPicPr>
        <p:blipFill>
          <a:blip r:embed="rId1"/>
          <a:stretch/>
        </p:blipFill>
        <p:spPr>
          <a:xfrm>
            <a:off x="914400" y="1447920"/>
            <a:ext cx="7462800" cy="4622760"/>
          </a:xfrm>
          <a:prstGeom prst="rect">
            <a:avLst/>
          </a:prstGeom>
          <a:ln w="0">
            <a:noFill/>
          </a:ln>
        </p:spPr>
      </p:pic>
      <p:sp>
        <p:nvSpPr>
          <p:cNvPr id="664" name="TextBox 4"/>
          <p:cNvSpPr/>
          <p:nvPr/>
        </p:nvSpPr>
        <p:spPr>
          <a:xfrm>
            <a:off x="762120" y="6094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12d1c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712d1c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9f2539"/>
                </a:solidFill>
                <a:latin typeface="Georgia"/>
              </a:rPr>
              <a:t>Технология продуктивного чтения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Заголовок 1"/>
          <p:cNvSpPr/>
          <p:nvPr/>
        </p:nvSpPr>
        <p:spPr>
          <a:xfrm>
            <a:off x="3733920" y="1600200"/>
            <a:ext cx="50529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ть – это еще ничего не значит;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читать и как понимать – вот в чем главное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Рисунок 4" descr="iCAXA37W2.jpg"/>
          <p:cNvPicPr/>
          <p:nvPr/>
        </p:nvPicPr>
        <p:blipFill>
          <a:blip r:embed="rId1"/>
          <a:stretch/>
        </p:blipFill>
        <p:spPr>
          <a:xfrm>
            <a:off x="533520" y="2057400"/>
            <a:ext cx="3227400" cy="4181400"/>
          </a:xfrm>
          <a:prstGeom prst="rect">
            <a:avLst/>
          </a:prstGeom>
          <a:ln w="0">
            <a:noFill/>
          </a:ln>
        </p:spPr>
      </p:pic>
      <p:sp>
        <p:nvSpPr>
          <p:cNvPr id="619" name="Прямоугольник 4"/>
          <p:cNvSpPr/>
          <p:nvPr/>
        </p:nvSpPr>
        <p:spPr>
          <a:xfrm>
            <a:off x="4343400" y="533412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Д.Уш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D292-1A7A-4FF8-A51A-3F83F981DB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2"/>
          <p:cNvGrpSpPr/>
          <p:nvPr/>
        </p:nvGrpSpPr>
        <p:grpSpPr>
          <a:xfrm>
            <a:off x="3637080" y="3357720"/>
            <a:ext cx="3095280" cy="2592000"/>
            <a:chOff x="3637080" y="3357720"/>
            <a:chExt cx="3095280" cy="2592000"/>
          </a:xfrm>
        </p:grpSpPr>
        <p:pic>
          <p:nvPicPr>
            <p:cNvPr id="622" name="Picture 3" descr=""/>
            <p:cNvPicPr/>
            <p:nvPr/>
          </p:nvPicPr>
          <p:blipFill>
            <a:blip r:embed="rId1"/>
            <a:stretch/>
          </p:blipFill>
          <p:spPr>
            <a:xfrm>
              <a:off x="3637080" y="3402720"/>
              <a:ext cx="3060000" cy="246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Rectangle 4"/>
            <p:cNvSpPr/>
            <p:nvPr/>
          </p:nvSpPr>
          <p:spPr>
            <a:xfrm>
              <a:off x="5532480" y="3357720"/>
              <a:ext cx="1199880" cy="25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AutoShape 5"/>
          <p:cNvSpPr/>
          <p:nvPr/>
        </p:nvSpPr>
        <p:spPr>
          <a:xfrm>
            <a:off x="2340000" y="2205000"/>
            <a:ext cx="4645080" cy="4500720"/>
          </a:xfrm>
          <a:custGeom>
            <a:avLst/>
            <a:gdLst>
              <a:gd name="textAreaLeft" fmla="*/ 680040 w 4645080"/>
              <a:gd name="textAreaRight" fmla="*/ 3965040 w 4645080"/>
              <a:gd name="textAreaTop" fmla="*/ 658800 h 4500720"/>
              <a:gd name="textAreaBottom" fmla="*/ 3841920 h 450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09" y="10800"/>
                </a:moveTo>
                <a:cubicBezTo>
                  <a:pt x="1609" y="15876"/>
                  <a:pt x="5724" y="19991"/>
                  <a:pt x="10800" y="19991"/>
                </a:cubicBezTo>
                <a:cubicBezTo>
                  <a:pt x="15876" y="19991"/>
                  <a:pt x="19991" y="15876"/>
                  <a:pt x="19991" y="10800"/>
                </a:cubicBezTo>
                <a:cubicBezTo>
                  <a:pt x="19991" y="5724"/>
                  <a:pt x="15876" y="1609"/>
                  <a:pt x="10800" y="1609"/>
                </a:cubicBezTo>
                <a:cubicBezTo>
                  <a:pt x="5724" y="1609"/>
                  <a:pt x="1609" y="5724"/>
                  <a:pt x="1609" y="10800"/>
                </a:cubicBez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6"/>
          <p:cNvSpPr/>
          <p:nvPr/>
        </p:nvSpPr>
        <p:spPr>
          <a:xfrm>
            <a:off x="4932360" y="4221000"/>
            <a:ext cx="4032360" cy="2160720"/>
          </a:xfrm>
          <a:custGeom>
            <a:avLst/>
            <a:gdLst>
              <a:gd name="textAreaLeft" fmla="*/ 588240 w 4032360"/>
              <a:gd name="textAreaRight" fmla="*/ 3444120 w 4032360"/>
              <a:gd name="textAreaTop" fmla="*/ 0 h 2160720"/>
              <a:gd name="textAreaBottom" fmla="*/ 1890720 h 216072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e5f2ff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После чтения текст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рефлексивное чтение, концептуал. вопросы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ние авторского смысла, корректировка своей интерпре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7"/>
          <p:cNvSpPr/>
          <p:nvPr/>
        </p:nvSpPr>
        <p:spPr>
          <a:xfrm>
            <a:off x="179280" y="4149720"/>
            <a:ext cx="4176720" cy="2232000"/>
          </a:xfrm>
          <a:custGeom>
            <a:avLst/>
            <a:gdLst>
              <a:gd name="textAreaLeft" fmla="*/ 609480 w 4176720"/>
              <a:gd name="textAreaRight" fmla="*/ 3567240 w 4176720"/>
              <a:gd name="textAreaTop" fmla="*/ 0 h 2232000"/>
              <a:gd name="textAreaBottom" fmla="*/ 1953000 h 2232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dff9ec"/>
              </a:gs>
              <a:gs pos="100000">
                <a:srgbClr val="00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Во время чтения текс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ющее чтение (в т.ч. диалог с автором, вычитывание подтекста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ация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"/>
          <p:cNvSpPr/>
          <p:nvPr/>
        </p:nvSpPr>
        <p:spPr>
          <a:xfrm>
            <a:off x="2124000" y="1844640"/>
            <a:ext cx="5112000" cy="2016000"/>
          </a:xfrm>
          <a:custGeom>
            <a:avLst/>
            <a:gdLst>
              <a:gd name="textAreaLeft" fmla="*/ 745920 w 5112000"/>
              <a:gd name="textAreaRight" fmla="*/ 4366080 w 5112000"/>
              <a:gd name="textAreaTop" fmla="*/ 0 h 2016000"/>
              <a:gd name="textAreaBottom" fmla="*/ 1764000 h 2016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9ec"/>
              </a:gs>
              <a:gs pos="100000">
                <a:srgbClr val="ff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чтения текс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овое чт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восхищение чтения, создание мотива для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9"/>
          <p:cNvSpPr/>
          <p:nvPr/>
        </p:nvSpPr>
        <p:spPr>
          <a:xfrm>
            <a:off x="0" y="-100080"/>
            <a:ext cx="91440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формирования правильного типа читательской деятельности </a:t>
            </a:r>
            <a:br>
              <a:rPr sz="32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Цель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–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понимание текстов.</a:t>
            </a:r>
            <a:br>
              <a:rPr sz="20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ри этапа работы с любым тек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равнительная характеристика традиционного и продуктивного чтения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228600" y="1066680"/>
          <a:ext cx="8643960" cy="5334120"/>
        </p:xfrm>
        <a:graphic>
          <a:graphicData uri="http://schemas.openxmlformats.org/drawingml/2006/table">
            <a:tbl>
              <a:tblPr/>
              <a:tblGrid>
                <a:gridCol w="4321080"/>
                <a:gridCol w="432288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ое чт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ивное чт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3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ч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4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готовит к восприятию текста, например: «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йчас я расскажу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м о писателе» или «Сегодня узнаем о …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9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прогнозируют содержание текста: «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ложит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 чём этот текст, по его названию… А иллюстрация подтверждает это?» Возникает мотивация к чтен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9db"/>
                    </a:solidFill>
                  </a:tcPr>
                </a:tc>
              </a:tr>
              <a:tr h="305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время ч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4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сам читает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лух новый текст, дети слуша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9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ем и ведём диалог с авторо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задаём вопросы, прогнозируем ответы, проверяем себя по тексту». Возникает читательская интерпретац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9db"/>
                    </a:solidFill>
                  </a:tcPr>
                </a:tc>
              </a:tr>
              <a:tr h="305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ч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отвечают на вопросы учител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перечитывают текст по заданиям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9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уе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уточняем позицию авто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9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- работа с текстом до чтения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Номер слайда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73EF-4643-4846-B190-349940F16F6E}" type="slidenum">
              <a:rPr b="1" lang="ru-RU" sz="26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3047760"/>
            <a:ext cx="5124600" cy="25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44280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точнение по ключевым словам своих предположений о теме произведения, героях, развитии действ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480" indent="44280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ТИВИРОВАННОЕ ЧТ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Рисунок 3" descr="i.jpg"/>
          <p:cNvPicPr/>
          <p:nvPr/>
        </p:nvPicPr>
        <p:blipFill>
          <a:blip r:embed="rId1"/>
          <a:stretch/>
        </p:blipFill>
        <p:spPr>
          <a:xfrm>
            <a:off x="5286240" y="3000240"/>
            <a:ext cx="3583080" cy="2571840"/>
          </a:xfrm>
          <a:prstGeom prst="rect">
            <a:avLst/>
          </a:prstGeom>
          <a:ln w="0">
            <a:noFill/>
          </a:ln>
        </p:spPr>
      </p:pic>
      <p:sp>
        <p:nvSpPr>
          <p:cNvPr id="636" name="Прямоугольник 4"/>
          <p:cNvSpPr/>
          <p:nvPr/>
        </p:nvSpPr>
        <p:spPr>
          <a:xfrm>
            <a:off x="228600" y="152388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53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.Предположения о героях, теме, содержании по фамилии автора, заглавию, иллюстрац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Номер слайда 6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2EF6-7EFA-4F73-B03F-951DAA80E36C}" type="slidenum">
              <a:rPr b="1" lang="ru-RU" sz="26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0" y="304776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525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заглавливание часте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Заголовок 1"/>
          <p:cNvSpPr/>
          <p:nvPr/>
        </p:nvSpPr>
        <p:spPr>
          <a:xfrm>
            <a:off x="0" y="457200"/>
            <a:ext cx="9144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-работа с текстом во время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Рисунок 5" descr="2.jpg"/>
          <p:cNvPicPr/>
          <p:nvPr/>
        </p:nvPicPr>
        <p:blipFill>
          <a:blip r:embed="rId1"/>
          <a:stretch/>
        </p:blipFill>
        <p:spPr>
          <a:xfrm>
            <a:off x="5486400" y="3048120"/>
            <a:ext cx="3200400" cy="2954160"/>
          </a:xfrm>
          <a:prstGeom prst="rect">
            <a:avLst/>
          </a:prstGeom>
          <a:ln w="0">
            <a:noFill/>
          </a:ln>
        </p:spPr>
      </p:pic>
      <p:sp>
        <p:nvSpPr>
          <p:cNvPr id="641" name="Прямоугольник 6"/>
          <p:cNvSpPr/>
          <p:nvPr/>
        </p:nvSpPr>
        <p:spPr>
          <a:xfrm>
            <a:off x="428760" y="1214280"/>
            <a:ext cx="810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52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амостоятельное чтение с целью проверки своих предпо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7"/>
          <p:cNvSpPr/>
          <p:nvPr/>
        </p:nvSpPr>
        <p:spPr>
          <a:xfrm>
            <a:off x="380880" y="1905120"/>
            <a:ext cx="800100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52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Чтение вслух по предложениям или небольшим абзацам с комментариями. По ходу чтения учитель задает уточняющие вопросы на по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52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52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52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"/>
          <p:cNvSpPr/>
          <p:nvPr/>
        </p:nvSpPr>
        <p:spPr>
          <a:xfrm>
            <a:off x="609480" y="35812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еречитывание текста медленное, вдумчи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0"/>
          <p:cNvSpPr/>
          <p:nvPr/>
        </p:nvSpPr>
        <p:spPr>
          <a:xfrm>
            <a:off x="685800" y="44197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Обобщение прочитанного. Постановка к тексту обобщающих вопр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11"/>
          <p:cNvSpPr/>
          <p:nvPr/>
        </p:nvSpPr>
        <p:spPr>
          <a:xfrm>
            <a:off x="692280" y="5562720"/>
            <a:ext cx="40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иалог с ав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ТЕРПРЕТАЦИЯ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 с автором- это естественная беседа через текст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Номер слайда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25F2-64EE-4068-9D2E-49776DF87C28}" type="slidenum">
              <a:rPr b="1" lang="ru-RU" sz="26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213840" y="1935000"/>
            <a:ext cx="8472600" cy="37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44280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ем комментированного чтения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480" indent="44280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звучивают текст дети, а комментирует учител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480" indent="44280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ветствуются также и детские сужден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480" indent="44280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мментарий должен быть кратким и динамичны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480" indent="44280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омментарий не должен превращаться в бесед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480" indent="44280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омментируем в том месте, где это действительно нужн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480" indent="44280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4920" y="1752120"/>
            <a:ext cx="822960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диалог был содержательным и полноценным, читателю необходимо по ходу чтения совершать разнообразную работу: находить в тексте прямые и скрытые авторские вопросы, задавать свои вопросы, обдумывать предположения о дальнейшем содержании текста, проверять, совпадают ли они с замыслом автора включать воображени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Номер слайда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9514-A142-4D4D-86AA-10D1F1FC44AB}" type="slidenum">
              <a:rPr b="1" lang="ru-RU" sz="26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492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44280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облемный вопрос к тексту в целом. Ответы детей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88920" indent="44280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Беседа. Понимание авторского замысла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88920" indent="44280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ссказ о писателе (беседа о писателе углубит понимание прочитанного)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88920" indent="44280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вторное обращение к заглавию и иллюстрации. Беседа о смысле заглавия, о его связи с темой, мыслью автора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88920" indent="44280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олнение творческих заданий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88920" indent="442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88920" indent="442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рректировка собственной интерпретации объективным авторским смыслом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88920" indent="4428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Заголовок 1"/>
          <p:cNvSpPr/>
          <p:nvPr/>
        </p:nvSpPr>
        <p:spPr>
          <a:xfrm>
            <a:off x="0" y="533520"/>
            <a:ext cx="9144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I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-работа с текстом после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BEST</cp:lastModifiedBy>
  <dcterms:modified xsi:type="dcterms:W3CDTF">2017-05-18T17:08:47Z</dcterms:modified>
  <cp:revision>132</cp:revision>
  <dc:subject/>
  <dc:title>Слайд 1</dc:title>
</cp:coreProperties>
</file>