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753D-180D-48A6-B70D-F1115FF284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FBD4-A789-4857-B7D1-5D561EB182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я текст в рамках любого предмета, мы строим работу с текстом в три этапа: до чтения, во время чтения и после чтения. У каждого этапа работы с текстом своя задача, соответственно разные действия читателя и использование разных видов чт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CFD9-E1EA-44B8-9F51-64BEDA12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C291-61FD-4379-ABBA-5982E250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AD000B-E238-48D1-9DA8-6B4D0B69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262BB2-7336-4C43-B533-F4AC85C6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AF278F-48DB-4043-A4C8-6DE0D486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E57D34-9478-4D7C-9A3E-BF52D6DA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FF3DD8-A4AD-4993-A4A9-074D4F83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058AF6-B0F5-4E6F-A534-2C92832A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71FCBF-FB1E-4353-8BE4-CB72618D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21B2D7-D548-49DF-A962-8E70A3CB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93C520-16EC-423A-A049-5FC1A2EB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DC98DE-0205-41FA-866E-74DA710F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E3E9-A261-4300-BCE4-FB28790F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63E480-421C-4DD8-8CAB-368F0B68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7304A3-1C88-4779-8B31-B6C8A1A9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38D883-8B04-4409-A2A2-0024B60D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3D4C9A-2607-4415-B434-0AB3CABD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16352E-B3C5-4889-A851-1A9FEC3C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29F803-A5CC-41F2-9898-10692594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8BB402-B8B3-4705-9E66-0D33709E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5A0762-3354-4DDA-A63C-59D27A03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7E175C-46B7-41D8-96F4-F8017EB0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D5483C-C7E6-49A4-8252-032D3457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C964-769D-468D-AA31-E4C0D09C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F09B4C-D44E-4FE4-B686-74EDBBDD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F3947-5F10-4535-A417-5E422EDD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90459-4CFD-4EE5-9FC8-A1304D01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D47DE-866B-455F-AF46-A77A2A20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994AF-73D3-44D9-831A-597A5CAC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69831-7677-4851-A053-D3E41952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C0B21-CBC2-45F0-A382-C399BCC3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7946C-7AE4-4CE2-AB33-F329D486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2A6E7-62E6-416C-8AE2-89B6E179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6376B-35EE-4AD0-9B18-8122329E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9ABF-9CE5-499A-A9A4-17C386EB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217A5-1555-4E78-8EA7-535D08F7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878E7-4998-4D02-99E7-5E05647C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CDC28-A5F9-476C-B978-1EEE1D3B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0BE9FA-604C-4CBD-8B5E-27C1B397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CB1F6E-8C3A-442D-A0EB-DEA2FCED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DB1B58-5A01-4066-B29B-6FE50D82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2990E3-AA3E-4481-8D44-16FB392D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B63489-6FDF-416B-A722-3489DDC3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8AAD89-7A99-485F-ACB9-543A68CA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146807-673E-4A3D-95C0-5988E056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123D-9104-49C5-AD57-C6BEF668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92B8AA-550E-4589-8CF7-5A1A16CC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ECA39E-AFD9-46A7-BE84-21985049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150AD9-A6CD-4FFC-AA8D-BEA4425C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A22BB0-2B42-49A8-86A4-25777479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F13052-3FC9-41F9-8EBA-14FD6190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29B6-C113-47FD-9DCE-51E26528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EDAA-88EB-48A5-BC3D-CFB16DA2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EBE3-E59B-4255-8685-AA84CAD2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F419-F751-4CF2-96A5-FC2C86E2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1E4E-26A0-4320-98D6-A6E6846B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14ED-DE8B-4D94-95DC-290D0424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02B6-B6D2-4712-92B7-78CECFAF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FA9E-231B-49AD-A301-B3288255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E03F-7A37-45A4-A020-51652202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9A60-7AB0-402E-8ABF-91BAF219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5FC2-66BE-4333-B191-3EDF071A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F6167-8F28-417E-83DE-A125B79B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5F314-0E62-4563-AF6B-9222021F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1E6A3-BB26-40E7-A394-5D86C740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716D3-D0A6-4EEB-A55D-2BAFF8EB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3124E-1EE0-419D-BBF1-F2B58FF3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4407-1096-4036-8A24-ED0D0204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3C5A8-2797-44FD-81F1-A6011E16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6D3D6-4602-4326-9E7E-7454E15F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BAD94-82D8-46C6-8F9A-1DB72D2F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E6F0F-6036-4527-9487-3FB98D37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33E32-51F9-4F22-A47A-CCD54A80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B6B36-9FB0-4020-A01E-95D5DA45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8ECE3-F320-405C-BD6B-56B3953D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9D5D9-D0A8-4CAE-B633-07F4C0FA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EA1C4-F00C-47AE-9170-7538B40C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64551-9AAA-422B-973E-F10CD79E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8694-47A0-4370-8265-C7D7BE17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1D36D-D098-4816-9A42-E1A640E5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B0DD6-CBF5-4CFC-A1F1-65C9B374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DCA54-9618-4844-A5FB-5AC2B5C7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5AE56-16AD-427E-A1A3-4D72D082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E069A-4AA8-47E1-8077-8F610295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C67CC-C135-4783-BBA9-FE539E1D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ECE1D-EAE8-4432-BE06-F0B21905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DE7CD-140D-41D2-A529-2DD523B7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9E184-3ECA-4AD5-9B8F-F275B62A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81FCD-51E1-46E3-B286-3B9679A4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6B2E-F23B-42BC-A09E-5B8E8E6D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35980-EE75-4BBA-BB1F-03E58B0C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09D79-5BF6-48BD-99C7-A3DE95B8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AD0B1-D428-4328-9B53-FC739EAF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F0BE0-AE69-451E-A304-E0A2195B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C18D6-BBE7-47B0-B4C7-3E993902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4FEA9-7816-4DCD-B8C4-F547319E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F382A-612F-4326-A142-BD1F4D3A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01A80-2E80-4FE1-8D7B-6310C356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0453C-67A4-46FC-B5F7-71877811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19D5F-1335-4C3B-8744-6D2E37831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39D8-5561-467B-868F-E59D0087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FBE1A-1184-4BAA-914B-63EF2FB0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CD343-95C2-433B-8A41-2DD57616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4DB13-86C7-49DC-BE4F-E31EC358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19FEE-E1E0-4E12-85F8-A6F0339D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A4523-1DF3-4786-ADCB-6E2EFD6C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2EEA2-1FCC-4FC5-AABE-F9FD1BD7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97ECF-0A5A-4472-9407-76910530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C57D0-EBD2-43E0-BF59-DC0772DB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D8672-BE6F-4C9A-A854-C7245739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E5FC1-8898-4308-9744-0442CC6A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8BA6-FBF0-408C-87C0-DE1177E0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EFCB5-F866-4C83-A43E-9F161F4B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8583F-5357-4BBF-8F24-423AC2CA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23117-D63C-489B-B834-65104AC0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4AFE3-9F67-4114-A98C-5A93C9E1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EC81D-62C6-457D-8BED-E29EB80D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D126C-BA61-4D93-AEFB-45C2B3B6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C005D-37C3-479B-97F3-C9AF72C5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57DC9-C1F5-46A9-809E-BE65893C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6EE5E-4F0C-450C-AB07-D99AD754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9D2B8-10C9-49A0-9199-AD362EAB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E06B-BDEA-4B5A-A571-6B065FF8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D645E-5CF3-441F-9355-7F4D90AC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257C3-2BD1-4559-B607-235A58EF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432A5-7C2C-416A-A650-C2B07C80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85B1D-D1FF-44C3-A934-40F26C16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9ABF8-81A2-4C52-AC17-3EE671D1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06BA0-B763-4937-9B5A-25261A7A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3092A-1892-4EA7-A880-789A563A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E7C97-5D8D-45F7-A954-CE7411CF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2FCDB-92B1-4727-B284-75BF2ABB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9E016-16FF-4890-A10A-2E713468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8D90-D547-4F27-BF3B-34FC9220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0B7BB-3252-4EFB-856E-52551B20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F404B-27E2-48A7-887F-6137C919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3BCB0-114F-4286-B202-0FF70109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701B9-A226-485B-883F-3D9D1342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4D4F1-103E-40DD-9D78-D8209069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32407-3A79-48B7-84E8-CB37B5A9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6DCB4-B113-4D78-9B60-9FE2BAAE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B78627-644A-42D0-9D86-D2897F10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0B3E7-E774-4F2E-8083-002F1576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7266ED-1F8B-4113-9CA6-CF517661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72B5-C9C5-447C-A81F-38A73E0329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F3BD-4AE5-4D8C-B6DE-AF8204F2B5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0693-AC0C-4635-A59A-4910C74B21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155D-9335-4A7C-B749-7E44EE3315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8DB8-063F-4C23-8C0E-7700CFD31D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E0FB-78FB-4650-B26F-B8AC2AA841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39BE-AC72-48B4-9C39-575BAD6F7D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C007-3CE4-47FB-926A-DC261AD4E6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B78E-2C2B-4435-A627-6EA66D8D58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09A1-111E-4AE7-A31C-5FB768482C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2B59-833D-4447-90D4-1147CD75E93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E93A-690F-4709-A769-6A7752F44A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3885840" y="4571640"/>
            <a:ext cx="5257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ВЫПОЛНИЛА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ТУДЕНТКА 45 ГРУППЫ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МАРКОВА ЕКАТЕРИН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16349"/>
                </a:solidFill>
                <a:latin typeface="Georgia"/>
              </a:rPr>
              <a:t>Технология продуктивного чтения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ворческое задание предполагает самостоятельность ребенка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Номер слайда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747C-EA80-43A6-BCD4-21C0C0A1EDE6}" type="slidenum"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13840" y="1935000"/>
            <a:ext cx="8643960" cy="27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-64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ставь план (самостоятельно, в парах, в группе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88920" indent="-64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« Проиллюстрируй…»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88920" indent="-64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« Сочини…»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88920" indent="-64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« Придумай…»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88920" indent="-64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Структурная модель текста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a283e"/>
                </a:solidFill>
                <a:latin typeface="Arial"/>
              </a:rPr>
              <a:t>УУД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457200" y="1143000"/>
          <a:ext cx="8183520" cy="4465800"/>
        </p:xfrm>
        <a:graphic>
          <a:graphicData uri="http://schemas.openxmlformats.org/drawingml/2006/table">
            <a:tbl>
              <a:tblPr/>
              <a:tblGrid>
                <a:gridCol w="2727360"/>
                <a:gridCol w="2728800"/>
                <a:gridCol w="2727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ч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 время ч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ч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пределять и формировать цель деятельности на уроке с помощью учител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читься высказывать свое предположение на основе работы с иллюстрацией учебни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ходить ответы на вопросы в тексте, иллюстраци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формлять свои мысли в устной и письменной форм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лушать и понимать речь други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Эмоционально «проживать» текст, выражать свои эмоци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нимать эмоции других людей, сочувствовать, сопереживать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ысказывать свое отношение к героям прочитанных произведений, к их поступк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риентироваться в учебник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ходить ответы на вопросы в тексте, иллюстраци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ыразительно читать и пересказывать текс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елать выводы в результате совместной работы класса и учител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нимать эмоции других людей, сочувствовать, сопереживать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ысказывать свое отношение к героям прочитанных произведений, к их поступк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елать выводы в результате совместной работы класса и учител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читься работать в паре, группе; выполнять различные рол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диалоге с учителем вырабатывать критерии оценки и определять степень успешности своей работы и работы других в соответствии с этими критериями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0" y="704880"/>
            <a:ext cx="91440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стоинства технологии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Номер слайда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FAFD-3E7B-4EC9-AAFA-468EA00546C7}" type="slidenum">
              <a:rPr b="1" lang="ru-RU" sz="26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56760" y="1571760"/>
            <a:ext cx="82868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ма самостоятельно вне урока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осообразна и доступна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а на развитие личности читателя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 умение прогнозировать результаты чтения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достижению понимания на уровне смысл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2" name="Рисунок 3" descr="iCAX1LDXG.jpg"/>
          <p:cNvPicPr/>
          <p:nvPr/>
        </p:nvPicPr>
        <p:blipFill>
          <a:blip r:embed="rId1"/>
          <a:stretch/>
        </p:blipFill>
        <p:spPr>
          <a:xfrm>
            <a:off x="3000240" y="4500720"/>
            <a:ext cx="313560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C:\Documents and Settings\Loner\Мои документы\Загрузки\61591160_014.gif"/>
          <p:cNvPicPr/>
          <p:nvPr/>
        </p:nvPicPr>
        <p:blipFill>
          <a:blip r:embed="rId1"/>
          <a:stretch/>
        </p:blipFill>
        <p:spPr>
          <a:xfrm>
            <a:off x="914400" y="1447920"/>
            <a:ext cx="7462800" cy="4622760"/>
          </a:xfrm>
          <a:prstGeom prst="rect">
            <a:avLst/>
          </a:prstGeom>
          <a:ln w="0">
            <a:noFill/>
          </a:ln>
        </p:spPr>
      </p:pic>
      <p:sp>
        <p:nvSpPr>
          <p:cNvPr id="664" name="TextBox 4"/>
          <p:cNvSpPr/>
          <p:nvPr/>
        </p:nvSpPr>
        <p:spPr>
          <a:xfrm>
            <a:off x="762120" y="60948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12d1c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183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ru-RU" sz="3000" spc="-1" strike="noStrike">
                <a:solidFill>
                  <a:srgbClr val="712d1c"/>
                </a:solidFill>
                <a:latin typeface="Georgia"/>
              </a:rPr>
              <a:t> </a:t>
            </a:r>
            <a:r>
              <a:rPr b="0" lang="ru-RU" sz="3600" spc="-1" strike="noStrike">
                <a:solidFill>
                  <a:srgbClr val="9f2539"/>
                </a:solidFill>
                <a:latin typeface="Georgia"/>
              </a:rPr>
              <a:t>Технология продуктивного чтения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Заголовок 1"/>
          <p:cNvSpPr/>
          <p:nvPr/>
        </p:nvSpPr>
        <p:spPr>
          <a:xfrm>
            <a:off x="3733920" y="1600200"/>
            <a:ext cx="50529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тать – это еще ничего не значит;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читать и как понимать – вот в чем главное д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Рисунок 4" descr="iCAXA37W2.jpg"/>
          <p:cNvPicPr/>
          <p:nvPr/>
        </p:nvPicPr>
        <p:blipFill>
          <a:blip r:embed="rId1"/>
          <a:stretch/>
        </p:blipFill>
        <p:spPr>
          <a:xfrm>
            <a:off x="533520" y="2057400"/>
            <a:ext cx="3227400" cy="4181400"/>
          </a:xfrm>
          <a:prstGeom prst="rect">
            <a:avLst/>
          </a:prstGeom>
          <a:ln w="0">
            <a:noFill/>
          </a:ln>
        </p:spPr>
      </p:pic>
      <p:sp>
        <p:nvSpPr>
          <p:cNvPr id="619" name="Прямоугольник 4"/>
          <p:cNvSpPr/>
          <p:nvPr/>
        </p:nvSpPr>
        <p:spPr>
          <a:xfrm>
            <a:off x="4343400" y="5334120"/>
            <a:ext cx="33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Д.Уш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F8EE-F849-4B29-9C2F-E86BB0EC7A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Group 2"/>
          <p:cNvGrpSpPr/>
          <p:nvPr/>
        </p:nvGrpSpPr>
        <p:grpSpPr>
          <a:xfrm>
            <a:off x="3637080" y="3357720"/>
            <a:ext cx="3095280" cy="2592000"/>
            <a:chOff x="3637080" y="3357720"/>
            <a:chExt cx="3095280" cy="2592000"/>
          </a:xfrm>
        </p:grpSpPr>
        <p:pic>
          <p:nvPicPr>
            <p:cNvPr id="622" name="Picture 3" descr=""/>
            <p:cNvPicPr/>
            <p:nvPr/>
          </p:nvPicPr>
          <p:blipFill>
            <a:blip r:embed="rId1"/>
            <a:stretch/>
          </p:blipFill>
          <p:spPr>
            <a:xfrm>
              <a:off x="3637080" y="3402720"/>
              <a:ext cx="3060000" cy="246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Rectangle 4"/>
            <p:cNvSpPr/>
            <p:nvPr/>
          </p:nvSpPr>
          <p:spPr>
            <a:xfrm>
              <a:off x="5532480" y="3357720"/>
              <a:ext cx="1199880" cy="25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AutoShape 5"/>
          <p:cNvSpPr/>
          <p:nvPr/>
        </p:nvSpPr>
        <p:spPr>
          <a:xfrm>
            <a:off x="2340000" y="2205000"/>
            <a:ext cx="4645080" cy="4500720"/>
          </a:xfrm>
          <a:custGeom>
            <a:avLst/>
            <a:gdLst>
              <a:gd name="textAreaLeft" fmla="*/ 680040 w 4645080"/>
              <a:gd name="textAreaRight" fmla="*/ 3965040 w 4645080"/>
              <a:gd name="textAreaTop" fmla="*/ 658800 h 4500720"/>
              <a:gd name="textAreaBottom" fmla="*/ 3841920 h 450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609" y="10800"/>
                </a:moveTo>
                <a:cubicBezTo>
                  <a:pt x="1609" y="15876"/>
                  <a:pt x="5724" y="19991"/>
                  <a:pt x="10800" y="19991"/>
                </a:cubicBezTo>
                <a:cubicBezTo>
                  <a:pt x="15876" y="19991"/>
                  <a:pt x="19991" y="15876"/>
                  <a:pt x="19991" y="10800"/>
                </a:cubicBezTo>
                <a:cubicBezTo>
                  <a:pt x="19991" y="5724"/>
                  <a:pt x="15876" y="1609"/>
                  <a:pt x="10800" y="1609"/>
                </a:cubicBezTo>
                <a:cubicBezTo>
                  <a:pt x="5724" y="1609"/>
                  <a:pt x="1609" y="5724"/>
                  <a:pt x="1609" y="10800"/>
                </a:cubicBez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6"/>
          <p:cNvSpPr/>
          <p:nvPr/>
        </p:nvSpPr>
        <p:spPr>
          <a:xfrm>
            <a:off x="4932360" y="4221000"/>
            <a:ext cx="4032360" cy="2160720"/>
          </a:xfrm>
          <a:custGeom>
            <a:avLst/>
            <a:gdLst>
              <a:gd name="textAreaLeft" fmla="*/ 588240 w 4032360"/>
              <a:gd name="textAreaRight" fmla="*/ 3444120 w 4032360"/>
              <a:gd name="textAreaTop" fmla="*/ 0 h 2160720"/>
              <a:gd name="textAreaBottom" fmla="*/ 1890720 h 216072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e5f2ff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После чтения текст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рефлексивное чтение, концептуал. вопросы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имание авторского смысла, корректировка своей интерпре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7"/>
          <p:cNvSpPr/>
          <p:nvPr/>
        </p:nvSpPr>
        <p:spPr>
          <a:xfrm>
            <a:off x="179280" y="4149720"/>
            <a:ext cx="4176720" cy="2232000"/>
          </a:xfrm>
          <a:custGeom>
            <a:avLst/>
            <a:gdLst>
              <a:gd name="textAreaLeft" fmla="*/ 609480 w 4176720"/>
              <a:gd name="textAreaRight" fmla="*/ 3567240 w 4176720"/>
              <a:gd name="textAreaTop" fmla="*/ 0 h 2232000"/>
              <a:gd name="textAreaBottom" fmla="*/ 1953000 h 223200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00cc66"/>
              </a:gs>
              <a:gs pos="50000">
                <a:srgbClr val="dff9ec"/>
              </a:gs>
              <a:gs pos="100000">
                <a:srgbClr val="00cc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Во время чтения текст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ающее чтение (в т.ч. диалог с автором, вычитывание подтекста)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зульта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претация 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8"/>
          <p:cNvSpPr/>
          <p:nvPr/>
        </p:nvSpPr>
        <p:spPr>
          <a:xfrm>
            <a:off x="2124000" y="1844640"/>
            <a:ext cx="5112000" cy="2016000"/>
          </a:xfrm>
          <a:custGeom>
            <a:avLst/>
            <a:gdLst>
              <a:gd name="textAreaLeft" fmla="*/ 745920 w 5112000"/>
              <a:gd name="textAreaRight" fmla="*/ 4366080 w 5112000"/>
              <a:gd name="textAreaTop" fmla="*/ 0 h 2016000"/>
              <a:gd name="textAreaBottom" fmla="*/ 1764000 h 201600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9ec"/>
              </a:gs>
              <a:gs pos="100000">
                <a:srgbClr val="ffcc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чтения текст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мотровое чт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восхищение чтения, создание мотива для ч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9"/>
          <p:cNvSpPr/>
          <p:nvPr/>
        </p:nvSpPr>
        <p:spPr>
          <a:xfrm>
            <a:off x="0" y="-100080"/>
            <a:ext cx="9144000" cy="16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я формирования правильного типа читательской деятельности </a:t>
            </a:r>
            <a:br>
              <a:rPr sz="32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Цель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–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 понимание текстов.</a:t>
            </a:r>
            <a:br>
              <a:rPr sz="20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ри этапа работы с любым тек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равнительная характеристика традиционного и продуктивного чтения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228600" y="1066680"/>
          <a:ext cx="8643960" cy="5334120"/>
        </p:xfrm>
        <a:graphic>
          <a:graphicData uri="http://schemas.openxmlformats.org/drawingml/2006/table">
            <a:tbl>
              <a:tblPr/>
              <a:tblGrid>
                <a:gridCol w="4321080"/>
                <a:gridCol w="432288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диционное чт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ивное чт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532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ч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4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готовит к восприятию текста, например: «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йчас я расскажу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м о писателе» или «Сегодня узнаем о …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e9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и прогнозируют содержание текста: «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оложит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о чём этот текст, по его названию… А иллюстрация подтверждает это?» Возникает мотивация к чтен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e9db"/>
                    </a:solidFill>
                  </a:tcPr>
                </a:tc>
              </a:tr>
              <a:tr h="305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 время ч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4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сам читает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лух новый текст, дети слушаю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e9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ем и ведём диалог с авторо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задаём вопросы, прогнозируем ответы, проверяем себя по тексту». Возникает читательская интерпретац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e9db"/>
                    </a:solidFill>
                  </a:tcPr>
                </a:tc>
              </a:tr>
              <a:tr h="305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ч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и отвечают на вопросы учител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перечитывают текст по заданиям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e9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уе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 уточняем позицию автор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e9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91440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этап- работа с текстом до чтения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Номер слайда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E1FE-3CBA-403D-BFB2-85D3277233B2}" type="slidenum">
              <a:rPr b="1" lang="ru-RU" sz="26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3047760"/>
            <a:ext cx="5124600" cy="25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44280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точнение по ключевым словам своих предположений о теме произведения, героях, развитии действи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480" indent="44280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ТИВИРОВАННОЕ ЧТ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Рисунок 3" descr="i.jpg"/>
          <p:cNvPicPr/>
          <p:nvPr/>
        </p:nvPicPr>
        <p:blipFill>
          <a:blip r:embed="rId1"/>
          <a:stretch/>
        </p:blipFill>
        <p:spPr>
          <a:xfrm>
            <a:off x="5286240" y="3000240"/>
            <a:ext cx="3583080" cy="2571840"/>
          </a:xfrm>
          <a:prstGeom prst="rect">
            <a:avLst/>
          </a:prstGeom>
          <a:ln w="0">
            <a:noFill/>
          </a:ln>
        </p:spPr>
      </p:pic>
      <p:sp>
        <p:nvSpPr>
          <p:cNvPr id="636" name="Прямоугольник 4"/>
          <p:cNvSpPr/>
          <p:nvPr/>
        </p:nvSpPr>
        <p:spPr>
          <a:xfrm>
            <a:off x="228600" y="152388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553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.Предположения о героях, теме, содержании по фамилии автора, заглавию, иллюстрац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Номер слайда 6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4837-1DFB-40E0-8D03-3D8BFEBAD0DB}" type="slidenum">
              <a:rPr b="1" lang="ru-RU" sz="26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0" y="304776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525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заглавливание часте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Заголовок 1"/>
          <p:cNvSpPr/>
          <p:nvPr/>
        </p:nvSpPr>
        <p:spPr>
          <a:xfrm>
            <a:off x="0" y="457200"/>
            <a:ext cx="91440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этап-работа с текстом во время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Рисунок 5" descr="2.jpg"/>
          <p:cNvPicPr/>
          <p:nvPr/>
        </p:nvPicPr>
        <p:blipFill>
          <a:blip r:embed="rId1"/>
          <a:stretch/>
        </p:blipFill>
        <p:spPr>
          <a:xfrm>
            <a:off x="5486400" y="3048120"/>
            <a:ext cx="3200400" cy="2954160"/>
          </a:xfrm>
          <a:prstGeom prst="rect">
            <a:avLst/>
          </a:prstGeom>
          <a:ln w="0">
            <a:noFill/>
          </a:ln>
        </p:spPr>
      </p:pic>
      <p:sp>
        <p:nvSpPr>
          <p:cNvPr id="641" name="Прямоугольник 6"/>
          <p:cNvSpPr/>
          <p:nvPr/>
        </p:nvSpPr>
        <p:spPr>
          <a:xfrm>
            <a:off x="428760" y="1214280"/>
            <a:ext cx="810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52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амостоятельное чтение с целью проверки своих предпо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ик 7"/>
          <p:cNvSpPr/>
          <p:nvPr/>
        </p:nvSpPr>
        <p:spPr>
          <a:xfrm>
            <a:off x="380880" y="1905120"/>
            <a:ext cx="800100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52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Чтение вслух по предложениям или небольшим абзацам с комментариями. По ходу чтения учитель задает уточняющие вопросы на по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52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52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52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8"/>
          <p:cNvSpPr/>
          <p:nvPr/>
        </p:nvSpPr>
        <p:spPr>
          <a:xfrm>
            <a:off x="609480" y="358128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еречитывание текста медленное, вдумчив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10"/>
          <p:cNvSpPr/>
          <p:nvPr/>
        </p:nvSpPr>
        <p:spPr>
          <a:xfrm>
            <a:off x="685800" y="44197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Обобщение прочитанного. Постановка к тексту обобщающих вопро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11"/>
          <p:cNvSpPr/>
          <p:nvPr/>
        </p:nvSpPr>
        <p:spPr>
          <a:xfrm>
            <a:off x="692280" y="5562720"/>
            <a:ext cx="40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иалог с ав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ТЕРПРЕТАЦИЯ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 с автором- это естественная беседа через текст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Номер слайда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4239-492E-4660-B737-B4A279AA7FA9}" type="slidenum">
              <a:rPr b="1" lang="ru-RU" sz="26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213840" y="1935000"/>
            <a:ext cx="8472600" cy="37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44280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ем комментированного чтения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480" indent="44280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звучивают текст дети, а комментирует учитель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480" indent="44280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иветствуются также и детские суждени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480" indent="44280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омментарий должен быть кратким и динамичны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480" indent="44280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омментарий не должен превращаться в бесед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480" indent="44280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Комментируем в том месте, где это действительно нужн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480" indent="44280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04920" y="1752120"/>
            <a:ext cx="8229600" cy="59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диалог был содержательным и полноценным, читателю необходимо по ходу чтения совершать разнообразную работу: находить в тексте прямые и скрытые авторские вопросы, задавать свои вопросы, обдумывать предположения о дальнейшем содержании текста, проверять, совпадают ли они с замыслом автора включать воображени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Номер слайда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C3BC-1D9D-4FA5-847B-D4E85CCBF288}" type="slidenum">
              <a:rPr b="1" lang="ru-RU" sz="26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0492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44280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облемный вопрос к тексту в целом. Ответы детей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88920" indent="44280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Беседа. Понимание авторского замысла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88920" indent="44280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ассказ о писателе (беседа о писателе углубит понимание прочитанного)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88920" indent="44280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овторное обращение к заглавию и иллюстрации. Беседа о смысле заглавия, о его связи с темой, мыслью автора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88920" indent="44280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ыполнение творческих заданий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88920" indent="442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88920" indent="442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рректировка собственной интерпретации объективным авторским смыслом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88920" indent="4428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Заголовок 1"/>
          <p:cNvSpPr/>
          <p:nvPr/>
        </p:nvSpPr>
        <p:spPr>
          <a:xfrm>
            <a:off x="0" y="533520"/>
            <a:ext cx="91440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I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этап-работа с текстом после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BEST</cp:lastModifiedBy>
  <dcterms:modified xsi:type="dcterms:W3CDTF">2017-05-18T17:08:47Z</dcterms:modified>
  <cp:revision>132</cp:revision>
  <dc:subject/>
  <dc:title>Слайд 1</dc:title>
</cp:coreProperties>
</file>