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31.png" ContentType="image/png"/>
  <Override PartName="/ppt/media/image3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ECF1-6375-45F4-A2D8-BC2533B39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D036-8706-4639-9BF3-3D08F9DB8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DF2-E188-428B-96DA-3ACCF68E8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84CC-589A-4B5C-9033-C424D74EC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808B-4777-46A5-AC8B-5D40F5D7F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959-AE5D-4615-B3D3-9CF089C24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F58F-27B1-420E-90C7-DB4D09B32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CE53-712F-4E10-AC33-6EDEF3A73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412F-3B60-4592-91B4-8AD739E38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E1B8-BBC7-49D0-B605-64DB3713F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56C7-9BA4-4EBB-AC09-D7237B1A0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1E11-9877-4019-9867-72A02F9A5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F01-5C99-4441-A715-72D1AFBBF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111-B652-4D96-8736-AF5436B99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9F0F-7655-4DC3-A239-64ECE952A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3F87-1036-4870-80C2-F080A2BFE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5AF-23B6-4F78-ACAE-CA1DEFF99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C685-0841-4D2C-84E9-37501A034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3837-955E-4112-886A-521A20E12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1D9-8F8E-4EA6-AE08-67F40B068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0F9-B821-478E-ADCA-C1D51BE34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805-16EE-4B5F-9E7D-4AD774706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0106-4D58-47E0-948F-CF89EE152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157-16B6-44AC-9750-9A0B7AB81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7C98-00C6-414F-BF69-FA24E7DB9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002-7F97-4504-A5A7-15A683FD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6D5-E3E4-4594-B0F4-E57028F2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7B5-9B4B-43FA-9474-320A6751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18F-57F7-4B01-A6E1-F5508D66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632-C7CD-4879-9263-D16BAE72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E9B-5F12-41A4-8CB1-1BE605E7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0CD-440C-4ECD-8C0C-7FE6B3A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4FF-148A-434E-A6E1-BC5B8F11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585-EB22-444F-BC1B-7E0CB15F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886-9611-4103-97F2-895E789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650-4C2D-4E44-833C-566A426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30C-E78E-489D-8810-9B847A49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7A02-C378-42B4-9A54-57F97C2B0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Arial"/>
              </a:rPr>
              <a:t>УМК «Перспектив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описи «Мой алфавит» (в 2-х част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ют образцы печатной и письменной буквы, простейшие структурно-семантические модели слов, включают упражнения на написание слов, предложений и небольших текстов, формируют начальные орфографические нав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ttachment"/>
          <p:cNvPicPr/>
          <p:nvPr/>
        </p:nvPicPr>
        <p:blipFill>
          <a:blip r:embed="rId1"/>
          <a:stretch/>
        </p:blipFill>
        <p:spPr>
          <a:xfrm>
            <a:off x="5292720" y="2133720"/>
            <a:ext cx="2519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бочая тетрадь «Пиши краси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назначена для закрепления каллиграфических навыков, развития мелкой мускулатуры руки, овладения письменным шр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ttachment"/>
          <p:cNvPicPr/>
          <p:nvPr/>
        </p:nvPicPr>
        <p:blipFill>
          <a:blip r:embed="rId1"/>
          <a:stretch/>
        </p:blipFill>
        <p:spPr>
          <a:xfrm>
            <a:off x="5508720" y="2205000"/>
            <a:ext cx="243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7480" y="1268280"/>
            <a:ext cx="476388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лоч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тработки навыка ч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я знани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учебных ум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х учениками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е по учебнику «Азбу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гров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ыка чтения це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ми, обогащает слов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первокласснико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 их речь.</a:t>
            </a: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hitalochka"/>
          <p:cNvPicPr/>
          <p:nvPr/>
        </p:nvPicPr>
        <p:blipFill>
          <a:blip r:embed="rId1"/>
          <a:stretch/>
        </p:blipFill>
        <p:spPr>
          <a:xfrm>
            <a:off x="5292720" y="2205000"/>
            <a:ext cx="261000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Прямоугольник 1"/>
          <p:cNvSpPr/>
          <p:nvPr/>
        </p:nvSpPr>
        <p:spPr>
          <a:xfrm>
            <a:off x="1502280" y="563400"/>
            <a:ext cx="68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идактическое пособие «Читалоч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собенности  программы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Климановой Л.Ф. «Литературное чтение»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для 1 класса УМК«Перспектива»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и учебника «Литературное чтение»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Attachment"/>
          <p:cNvPicPr/>
          <p:nvPr/>
        </p:nvPicPr>
        <p:blipFill>
          <a:blip r:embed="rId1"/>
          <a:stretch/>
        </p:blipFill>
        <p:spPr>
          <a:xfrm>
            <a:off x="5508720" y="2492280"/>
            <a:ext cx="2295360" cy="309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Attachment"/>
          <p:cNvPicPr/>
          <p:nvPr/>
        </p:nvPicPr>
        <p:blipFill>
          <a:blip r:embed="rId2"/>
          <a:stretch/>
        </p:blipFill>
        <p:spPr>
          <a:xfrm>
            <a:off x="1116000" y="2565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Задачи курса «Литературное чт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начинающего читателя интерес к книге и потребность в систематическом чт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ых произведений, понимание того, что художественное произведение — это произведение словесного искус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ь воображение ребенка, чувство эстетического переживания прочита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навыка чтения, так как он является той основой, на которой развиваются все остальные коммуникативно-речев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учащихся нравственно-эстетического отношения к людям и окружающему ми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убрики «Самостоятельное чтение», «Идем в библиотеку», «Наш театр», «Читалочка - обучалочка», «Маленькие и большие секреты страны Литературии», «Мои любимые писатели» предлагают различные формы работы с литературным произведением, систематизируют знания и обогащают практический опыт ребенка, в них представлена система работы с книгой как в урочной так и во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ами учебника «Литературное чтение» для 1 класса, во все разделы введена рубрика «Семейное чтение», в которую помещены более объемные тексты, чем те, которые может осилить первоклассник. Предполагается, что подобные произведения будут читать и обсуждать с детьми родители. А это значит укрепятся семейные связи, возрастет роль родителей в воспитани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6-3-3-1"/>
          <p:cNvPicPr/>
          <p:nvPr/>
        </p:nvPicPr>
        <p:blipFill>
          <a:blip r:embed="rId1"/>
          <a:stretch/>
        </p:blipFill>
        <p:spPr>
          <a:xfrm>
            <a:off x="6227640" y="836640"/>
            <a:ext cx="2386080" cy="32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16-3-3"/>
          <p:cNvPicPr/>
          <p:nvPr/>
        </p:nvPicPr>
        <p:blipFill>
          <a:blip r:embed="rId2"/>
          <a:stretch/>
        </p:blipFill>
        <p:spPr>
          <a:xfrm>
            <a:off x="4788000" y="2637000"/>
            <a:ext cx="24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Климановой Л.Ф. «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»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и учебника «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обучения грамоте начинается раздельное изучение русского языка и литературного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СВЕДЕНИЯ О ЯЗЫКЕ И РЕЧИ, УСВОЕННЫЕ ДЕТЬМИ ПРИ РАБОТЕ «Азбукой», в курсе русского языка закрепляются, обобщаются и получают дальнейше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ttachment"/>
          <p:cNvPicPr/>
          <p:nvPr/>
        </p:nvPicPr>
        <p:blipFill>
          <a:blip r:embed="rId1"/>
          <a:stretch/>
        </p:blipFill>
        <p:spPr>
          <a:xfrm>
            <a:off x="1332000" y="335772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Attachment"/>
          <p:cNvPicPr/>
          <p:nvPr/>
        </p:nvPicPr>
        <p:blipFill>
          <a:blip r:embed="rId2"/>
          <a:stretch/>
        </p:blipFill>
        <p:spPr>
          <a:xfrm>
            <a:off x="5148360" y="3357720"/>
            <a:ext cx="2233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зучение систематического курса русского языка обеспеч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888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коммуникативно-речевых умений (писать и говорить, слушать и читат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бережного отношения к языку, его богатству, глубине и выраз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родному языку, его из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щение учащихся к духовно-нравственным ценностям русского языка и отечествен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здел «Развитие р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усматривает не только обогащение словаря, совершенствование грамматического строя речи (в устной и письменной форме), освоение различных видов работы с текстом, но и формирование представлений о речи в целом, о речевом общении, о средствах общения (вербальных и невербальны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начинается с обобщения первоначальных сведений о речевом общении и языке как средстве коммуникации, полученных в период обучения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сновная цель  УМК «Перспек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02800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Учебно-методический комплекс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«Математика «Учусь учиться»» автор Л. Г.Петерсон</a:t>
            </a: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Attachment"/>
          <p:cNvPicPr/>
          <p:nvPr/>
        </p:nvPicPr>
        <p:blipFill>
          <a:blip r:embed="rId1"/>
          <a:stretch/>
        </p:blipFill>
        <p:spPr>
          <a:xfrm>
            <a:off x="6084720" y="2349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Attachment"/>
          <p:cNvPicPr/>
          <p:nvPr/>
        </p:nvPicPr>
        <p:blipFill>
          <a:blip r:embed="rId2"/>
          <a:stretch/>
        </p:blipFill>
        <p:spPr>
          <a:xfrm>
            <a:off x="90000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Attachment"/>
          <p:cNvPicPr/>
          <p:nvPr/>
        </p:nvPicPr>
        <p:blipFill>
          <a:blip r:embed="rId3"/>
          <a:stretch/>
        </p:blipFill>
        <p:spPr>
          <a:xfrm>
            <a:off x="3492360" y="3068640"/>
            <a:ext cx="201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Основные цели курса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у учащихся основ умения учи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их мышления, качеств личности, интереса к математ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Учебно-методический комплекс «Окружающий мир» авторы А. А. Плешаков, М.Ю. Нов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ttachment"/>
          <p:cNvPicPr/>
          <p:nvPr/>
        </p:nvPicPr>
        <p:blipFill>
          <a:blip r:embed="rId1"/>
          <a:stretch/>
        </p:blipFill>
        <p:spPr>
          <a:xfrm>
            <a:off x="1116000" y="198900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ttachment"/>
          <p:cNvPicPr/>
          <p:nvPr/>
        </p:nvPicPr>
        <p:blipFill>
          <a:blip r:embed="rId2"/>
          <a:stretch/>
        </p:blipFill>
        <p:spPr>
          <a:xfrm>
            <a:off x="5435640" y="1989000"/>
            <a:ext cx="2592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Цели изучения предмета «Окружающий мир» в начальной школе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язык, литературное чтение, математика, окружающий мир, технология, музы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106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107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8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09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10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111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2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13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114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5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16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17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118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19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0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121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22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3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124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25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6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127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28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29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130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31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32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133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34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35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136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37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38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чебники музыка, ИЗО,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Attachment"/>
          <p:cNvPicPr/>
          <p:nvPr/>
        </p:nvPicPr>
        <p:blipFill>
          <a:blip r:embed="rId1"/>
          <a:stretch/>
        </p:blipFill>
        <p:spPr>
          <a:xfrm>
            <a:off x="755640" y="1916280"/>
            <a:ext cx="1655640" cy="246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Attachment"/>
          <p:cNvPicPr/>
          <p:nvPr/>
        </p:nvPicPr>
        <p:blipFill>
          <a:blip r:embed="rId2"/>
          <a:stretch/>
        </p:blipFill>
        <p:spPr>
          <a:xfrm>
            <a:off x="2916360" y="1989000"/>
            <a:ext cx="1562040" cy="237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ttachment"/>
          <p:cNvPicPr/>
          <p:nvPr/>
        </p:nvPicPr>
        <p:blipFill>
          <a:blip r:embed="rId3"/>
          <a:stretch/>
        </p:blipFill>
        <p:spPr>
          <a:xfrm>
            <a:off x="4788000" y="2060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ttachment"/>
          <p:cNvPicPr/>
          <p:nvPr/>
        </p:nvPicPr>
        <p:blipFill>
          <a:blip r:embed="rId4"/>
          <a:stretch/>
        </p:blipFill>
        <p:spPr>
          <a:xfrm>
            <a:off x="6732720" y="206064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8200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Я в мире и мир во мн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 здоровом теле здоровый дух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десь важно научить детей самим заботиться о здоровье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чебники УМК «Перспектива» формир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 учебники включен:</a:t>
            </a: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Преимущества УМК «Перспекти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604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собенности программы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«Обучение грамоте на коммуникативной основе» и учебника «Азбука» Л. Ф. Клима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788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 УМК «Перспекти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ивают интерес  к русскому язы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вают секреты его «оживления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ят в мир науки о язы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ют ощутить его, как  стройную и гармонич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бщают ребят к искусству сл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ют младшему школьнику  понять и почувствовать эстетическую ц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ttachment"/>
          <p:cNvPicPr/>
          <p:nvPr/>
        </p:nvPicPr>
        <p:blipFill>
          <a:blip r:embed="rId1"/>
          <a:stretch/>
        </p:blipFill>
        <p:spPr>
          <a:xfrm>
            <a:off x="5435640" y="2060640"/>
            <a:ext cx="2063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бочая тетрадь «Рисуй, думай, рассказыв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назначена для работы в подготовительный период обучения грам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я с ней, дети им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рисо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ашивать, штрих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 т. п., что помогает укреп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лкую мускулатуру пальце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ь координацию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и при письме и тем са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о подгот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 написанию букв рус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а,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 предложений.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Attachment"/>
          <p:cNvPicPr/>
          <p:nvPr/>
        </p:nvPicPr>
        <p:blipFill>
          <a:blip r:embed="rId1"/>
          <a:stretch/>
        </p:blipFill>
        <p:spPr>
          <a:xfrm>
            <a:off x="5292720" y="2205000"/>
            <a:ext cx="257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Администратор</cp:lastModifiedBy>
  <dcterms:modified xsi:type="dcterms:W3CDTF">2017-05-18T19:43:48Z</dcterms:modified>
  <cp:revision>13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