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9.png" ContentType="image/png"/>
  <Override PartName="/ppt/media/image31.png" ContentType="image/png"/>
  <Override PartName="/ppt/media/image32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3BC2-E6E8-4A5F-B95A-0BAB3A3AF3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A941-C0FC-479B-813C-E1BF74DD73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D5D2-7896-44ED-AA36-475B7C5F81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0A67-EB1F-4FDA-B385-BC77B4A81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DF36-2ED3-4459-9684-5AAA122556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BBCD-859E-4E11-9B9E-E2D1723F97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E044-4BF0-4637-A881-5B724DD379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A2BF-F447-4587-BE0C-6070C864ED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4030-EEBE-47D3-AED5-F28EC5BA70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EBD6-F6A7-4A15-80FD-0CD5436049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3B91-5340-4CD3-88DB-93B6BCD236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EC36-679A-475D-8FCE-775FB7FAEA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F5B4-2AB3-4961-A59B-6CD1440B07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B5E2-02CA-4C15-9AFE-1E5FE34E13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DE76-59F5-41A3-8BD3-D28749920B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9FF2-5CC6-45DA-86ED-F769BB4433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7DC6-D96C-4913-9BA5-33CC60ECB7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E059-EE71-43CE-90BF-F3954E98C6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A0C8-35D2-4621-9A7D-50B8CB9C82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EF02-D3B0-4058-AA4D-20894D6F84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D07A-941D-47BD-85DF-801EDCADDB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D778-AC7A-4F5A-BF13-1622A139BF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9A8F-A525-4742-8CB4-80302D8356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ECDA-F007-4B4D-8EBC-4F00CB6669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AF22-5EA1-4CCC-9BF6-DA65389ECD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3B6-A33A-4137-B0A3-05763361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2652-F6AA-4EF5-B54B-639D641C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390-18BD-4808-A1A3-9B2D743B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EF70-D74B-4484-96AB-009F3E02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DE0-A90B-4C20-AA65-C13584CF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E265-7034-4B0B-BF5B-14AF40EA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0D5-04AB-460D-A061-0DA556ED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D191-CE56-429F-A9D3-7E4751DC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9CA-0A60-4EA1-8370-A32E1DD2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858-F745-407E-B490-649FF113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9571-9950-4E92-AC9B-E1E83F51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916B-BF93-47E9-9405-97C2460A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CA2B-A353-489F-B48E-4D447EE6A2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Arial"/>
              </a:rPr>
              <a:t>УМК «Перспектив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рописи «Мой алфавит» (в 2-х частя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ют образцы печатной и письменной буквы, простейшие структурно-семантические модели слов, включают упражнения на написание слов, предложений и небольших текстов, формируют начальные орфографические навы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Attachment"/>
          <p:cNvPicPr/>
          <p:nvPr/>
        </p:nvPicPr>
        <p:blipFill>
          <a:blip r:embed="rId1"/>
          <a:stretch/>
        </p:blipFill>
        <p:spPr>
          <a:xfrm>
            <a:off x="5292720" y="2133720"/>
            <a:ext cx="25192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Рабочая тетрадь «Пиши краси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назначена для закрепления каллиграфических навыков, развития мелкой мускулатуры руки, овладения письменным шриф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Attachment"/>
          <p:cNvPicPr/>
          <p:nvPr/>
        </p:nvPicPr>
        <p:blipFill>
          <a:blip r:embed="rId1"/>
          <a:stretch/>
        </p:blipFill>
        <p:spPr>
          <a:xfrm>
            <a:off x="5508720" y="2205000"/>
            <a:ext cx="2431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7480" y="1268280"/>
            <a:ext cx="476388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дактиче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талочк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назнач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тработки навыка чт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ения знаний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учебных ум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ных учениками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е по учебнику «Азбу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игровых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тельных упраж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ует формир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выка чтения цел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ми, обогащает слова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ас первоклассников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ет их речь.</a:t>
            </a:r>
            <a:br>
              <a:rPr sz="24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hitalochka"/>
          <p:cNvPicPr/>
          <p:nvPr/>
        </p:nvPicPr>
        <p:blipFill>
          <a:blip r:embed="rId1"/>
          <a:stretch/>
        </p:blipFill>
        <p:spPr>
          <a:xfrm>
            <a:off x="5292720" y="2205000"/>
            <a:ext cx="261000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Прямоугольник 1"/>
          <p:cNvSpPr/>
          <p:nvPr/>
        </p:nvSpPr>
        <p:spPr>
          <a:xfrm>
            <a:off x="1502280" y="563400"/>
            <a:ext cx="68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Дидактическое пособие «Читалоч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Особенности  программы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Климановой Л.Ф. «Литературное чтение»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для 1 класса УМК«Перспектива»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и учебника «Литературное чтение» 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Attachment"/>
          <p:cNvPicPr/>
          <p:nvPr/>
        </p:nvPicPr>
        <p:blipFill>
          <a:blip r:embed="rId1"/>
          <a:stretch/>
        </p:blipFill>
        <p:spPr>
          <a:xfrm>
            <a:off x="5508720" y="2492280"/>
            <a:ext cx="2295360" cy="3097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Attachment"/>
          <p:cNvPicPr/>
          <p:nvPr/>
        </p:nvPicPr>
        <p:blipFill>
          <a:blip r:embed="rId2"/>
          <a:stretch/>
        </p:blipFill>
        <p:spPr>
          <a:xfrm>
            <a:off x="1116000" y="2565360"/>
            <a:ext cx="2232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Задачи курса «Литературное чте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формировать у начинающего читателя интерес к книге и потребность в систематическом чтен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ературных произведений, понимание того, что художественное произведение — это произведение словесного искус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ь воображение ребенка, чувство эстетического переживания прочитан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навыка чтения, так как он является той основой, на которой развиваются все остальные коммуникативно-речевые ум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у учащихся нравственно-эстетического отношения к людям и окружающему ми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Рубрики «Самостоятельное чтение», «Идем в библиотеку», «Наш театр», «Читалочка - обучалочка», «Маленькие и большие секреты страны Литературии», «Мои любимые писатели» предлагают различные формы работы с литературным произведением, систематизируют знания и обогащают практический опыт ребенка, в них представлена система работы с книгой как в урочной так и во внеурочной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рами учебника «Литературное чтение» для 1 класса, во все разделы введена рубрика «Семейное чтение», в которую помещены более объемные тексты, чем те, которые может осилить первоклассник. Предполагается, что подобные произведения будут читать и обсуждать с детьми родители. А это значит укрепятся семейные связи, возрастет роль родителей в воспитании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16-3-3-1"/>
          <p:cNvPicPr/>
          <p:nvPr/>
        </p:nvPicPr>
        <p:blipFill>
          <a:blip r:embed="rId1"/>
          <a:stretch/>
        </p:blipFill>
        <p:spPr>
          <a:xfrm>
            <a:off x="6227640" y="836640"/>
            <a:ext cx="2386080" cy="3262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16-3-3"/>
          <p:cNvPicPr/>
          <p:nvPr/>
        </p:nvPicPr>
        <p:blipFill>
          <a:blip r:embed="rId2"/>
          <a:stretch/>
        </p:blipFill>
        <p:spPr>
          <a:xfrm>
            <a:off x="4788000" y="2637000"/>
            <a:ext cx="2452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Особенности  программы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Климановой Л.Ф. «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усский язык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»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для 1 класса УМК«Перспектива»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и учебника «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усский язык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» 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 обучения грамоте начинается раздельное изучение русского языка и литературного чт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СВЕДЕНИЯ О ЯЗЫКЕ И РЕЧИ, УСВОЕННЫЕ ДЕТЬМИ ПРИ РАБОТЕ «Азбукой», в курсе русского языка закрепляются, обобщаются и получают дальнейше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Attachment"/>
          <p:cNvPicPr/>
          <p:nvPr/>
        </p:nvPicPr>
        <p:blipFill>
          <a:blip r:embed="rId1"/>
          <a:stretch/>
        </p:blipFill>
        <p:spPr>
          <a:xfrm>
            <a:off x="1332000" y="3357720"/>
            <a:ext cx="2158920" cy="280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Attachment"/>
          <p:cNvPicPr/>
          <p:nvPr/>
        </p:nvPicPr>
        <p:blipFill>
          <a:blip r:embed="rId2"/>
          <a:stretch/>
        </p:blipFill>
        <p:spPr>
          <a:xfrm>
            <a:off x="5148360" y="3357720"/>
            <a:ext cx="2233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Изучение систематического курса русского языка обеспечив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888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нательное овладение (на доступном детям уровне) родным языком как средством общения и познания для свободного пользования им в различных ситуациях общ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коммуникативно-речевых умений (писать и говорить, слушать и читать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бережного отношения к языку, его богатству, глубине и вырази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интереса к родному языку, его изуч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стиля речевого общения учащихся, основанного на уважении к собеседнику и его мн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общение учащихся к духовно-нравственным ценностям русского языка и отечественн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Раздел «Развитие реч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усматривает не только обогащение словаря, совершенствование грамматического строя речи (в устной и письменной форме), освоение различных видов работы с текстом, но и формирование представлений о речи в целом, о речевом общении, о средствах общения (вербальных и невербальных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ение систематического курса русского языка начинается с обобщения первоначальных сведений о речевом общении и языке как средстве коммуникации, полученных в период обучения грам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Основная цель  УМК «Перспекти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028000" cy="24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стороннее гармоничное развитие личности (духовно-нравственное, познавательное, эстетическое), реализуемое в процессе усвоения школьных предметных дисцип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Учебно-методический комплекс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 «Математика «Учусь учиться»» автор Л. Г.Петерсон</a:t>
            </a:r>
            <a:r>
              <a:rPr b="0" lang="ru-RU" sz="48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Attachment"/>
          <p:cNvPicPr/>
          <p:nvPr/>
        </p:nvPicPr>
        <p:blipFill>
          <a:blip r:embed="rId1"/>
          <a:stretch/>
        </p:blipFill>
        <p:spPr>
          <a:xfrm>
            <a:off x="6084720" y="2349360"/>
            <a:ext cx="2087640" cy="2735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Attachment"/>
          <p:cNvPicPr/>
          <p:nvPr/>
        </p:nvPicPr>
        <p:blipFill>
          <a:blip r:embed="rId2"/>
          <a:stretch/>
        </p:blipFill>
        <p:spPr>
          <a:xfrm>
            <a:off x="900000" y="2276640"/>
            <a:ext cx="2087640" cy="280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Attachment"/>
          <p:cNvPicPr/>
          <p:nvPr/>
        </p:nvPicPr>
        <p:blipFill>
          <a:blip r:embed="rId3"/>
          <a:stretch/>
        </p:blipFill>
        <p:spPr>
          <a:xfrm>
            <a:off x="3492360" y="3068640"/>
            <a:ext cx="20163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Основные цели курса</a:t>
            </a:r>
            <a:r>
              <a:rPr b="0" i="1" lang="ru-RU" sz="5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е у учащихся основ умения учить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их мышления, качеств личности, интереса к математик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ние возможностей для математической подготовки каждого ребёнка на высоком уров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Учебно-методический комплекс «Окружающий мир» авторы А. А. Плешаков, М.Ю. Новиц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Attachment"/>
          <p:cNvPicPr/>
          <p:nvPr/>
        </p:nvPicPr>
        <p:blipFill>
          <a:blip r:embed="rId1"/>
          <a:stretch/>
        </p:blipFill>
        <p:spPr>
          <a:xfrm>
            <a:off x="1116000" y="1989000"/>
            <a:ext cx="2376360" cy="3529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Attachment"/>
          <p:cNvPicPr/>
          <p:nvPr/>
        </p:nvPicPr>
        <p:blipFill>
          <a:blip r:embed="rId2"/>
          <a:stretch/>
        </p:blipFill>
        <p:spPr>
          <a:xfrm>
            <a:off x="5435640" y="1989000"/>
            <a:ext cx="2592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Цели изучения предмета «Окружающий мир» в начальной школе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целостной картины мира и осознание места в нём человека на основе единства рационально-научного познания и эмоционально-ценностного осмысления ребёнком личного опыта общения с людьми и природ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ховно-нравственное развитие и воспитание личности гражданина России в условиях культурного многообразия российского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0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Комплект для начальной школы «ПЕРСПЕКТИВА» 1 – 4 классы: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усский язык, литературное чтение, математика, окружающий мир, технология, музы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5"/>
          <p:cNvGrpSpPr/>
          <p:nvPr/>
        </p:nvGrpSpPr>
        <p:grpSpPr>
          <a:xfrm>
            <a:off x="611280" y="1989000"/>
            <a:ext cx="8086680" cy="4689360"/>
            <a:chOff x="611280" y="1989000"/>
            <a:chExt cx="8086680" cy="4689360"/>
          </a:xfrm>
        </p:grpSpPr>
        <p:grpSp>
          <p:nvGrpSpPr>
            <p:cNvPr id="106" name="Group 6"/>
            <p:cNvGrpSpPr/>
            <p:nvPr/>
          </p:nvGrpSpPr>
          <p:grpSpPr>
            <a:xfrm>
              <a:off x="611280" y="2060640"/>
              <a:ext cx="1071000" cy="1279080"/>
              <a:chOff x="611280" y="2060640"/>
              <a:chExt cx="1071000" cy="1279080"/>
            </a:xfrm>
          </p:grpSpPr>
          <p:pic>
            <p:nvPicPr>
              <p:cNvPr id="107" name="Picture 7" descr="7"/>
              <p:cNvPicPr/>
              <p:nvPr/>
            </p:nvPicPr>
            <p:blipFill>
              <a:blip r:embed="rId1"/>
              <a:stretch/>
            </p:blipFill>
            <p:spPr>
              <a:xfrm>
                <a:off x="752760" y="2060640"/>
                <a:ext cx="929520" cy="1160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8" name="Picture 8" descr="9"/>
              <p:cNvPicPr/>
              <p:nvPr/>
            </p:nvPicPr>
            <p:blipFill>
              <a:blip r:embed="rId2"/>
              <a:stretch/>
            </p:blipFill>
            <p:spPr>
              <a:xfrm>
                <a:off x="611280" y="2190600"/>
                <a:ext cx="918000" cy="1149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09" name="Picture 9" descr="12"/>
            <p:cNvPicPr/>
            <p:nvPr/>
          </p:nvPicPr>
          <p:blipFill>
            <a:blip r:embed="rId3"/>
            <a:stretch/>
          </p:blipFill>
          <p:spPr>
            <a:xfrm>
              <a:off x="1116000" y="3068640"/>
              <a:ext cx="914400" cy="1160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110" name="Group 10"/>
            <p:cNvGrpSpPr/>
            <p:nvPr/>
          </p:nvGrpSpPr>
          <p:grpSpPr>
            <a:xfrm>
              <a:off x="4033800" y="1989000"/>
              <a:ext cx="1074600" cy="1288800"/>
              <a:chOff x="4033800" y="1989000"/>
              <a:chExt cx="1074600" cy="1288800"/>
            </a:xfrm>
          </p:grpSpPr>
          <p:pic>
            <p:nvPicPr>
              <p:cNvPr id="111" name="Picture 11" descr="8"/>
              <p:cNvPicPr/>
              <p:nvPr/>
            </p:nvPicPr>
            <p:blipFill>
              <a:blip r:embed="rId4"/>
              <a:stretch/>
            </p:blipFill>
            <p:spPr>
              <a:xfrm>
                <a:off x="4175640" y="1989000"/>
                <a:ext cx="932760" cy="1159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12" name="Picture 12" descr="8"/>
              <p:cNvPicPr/>
              <p:nvPr/>
            </p:nvPicPr>
            <p:blipFill>
              <a:blip r:embed="rId5"/>
              <a:stretch/>
            </p:blipFill>
            <p:spPr>
              <a:xfrm>
                <a:off x="4033800" y="2118960"/>
                <a:ext cx="932760" cy="1158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13" name="Group 13"/>
            <p:cNvGrpSpPr/>
            <p:nvPr/>
          </p:nvGrpSpPr>
          <p:grpSpPr>
            <a:xfrm>
              <a:off x="5940360" y="1989000"/>
              <a:ext cx="1090440" cy="1290240"/>
              <a:chOff x="5940360" y="1989000"/>
              <a:chExt cx="1090440" cy="1290240"/>
            </a:xfrm>
          </p:grpSpPr>
          <p:pic>
            <p:nvPicPr>
              <p:cNvPr id="114" name="Picture 14" descr="okrmir"/>
              <p:cNvPicPr/>
              <p:nvPr/>
            </p:nvPicPr>
            <p:blipFill>
              <a:blip r:embed="rId6"/>
              <a:stretch/>
            </p:blipFill>
            <p:spPr>
              <a:xfrm>
                <a:off x="6107040" y="1989000"/>
                <a:ext cx="923760" cy="11206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15" name="Picture 15" descr="11&amp;14"/>
              <p:cNvPicPr/>
              <p:nvPr/>
            </p:nvPicPr>
            <p:blipFill>
              <a:blip r:embed="rId7"/>
              <a:stretch/>
            </p:blipFill>
            <p:spPr>
              <a:xfrm>
                <a:off x="5940360" y="2118960"/>
                <a:ext cx="917640" cy="1160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16" name="Picture 16" descr="технология_учебник_1класс"/>
            <p:cNvPicPr/>
            <p:nvPr/>
          </p:nvPicPr>
          <p:blipFill>
            <a:blip r:embed="rId8"/>
            <a:stretch/>
          </p:blipFill>
          <p:spPr>
            <a:xfrm>
              <a:off x="7812000" y="4508640"/>
              <a:ext cx="885960" cy="1152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117" name="Group 17"/>
            <p:cNvGrpSpPr/>
            <p:nvPr/>
          </p:nvGrpSpPr>
          <p:grpSpPr>
            <a:xfrm>
              <a:off x="1403280" y="4149720"/>
              <a:ext cx="1177920" cy="1519200"/>
              <a:chOff x="1403280" y="4149720"/>
              <a:chExt cx="1177920" cy="1519200"/>
            </a:xfrm>
          </p:grpSpPr>
          <p:pic>
            <p:nvPicPr>
              <p:cNvPr id="118" name="Pictur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3280" y="4149720"/>
                <a:ext cx="93528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19" name="Picture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4510080"/>
                <a:ext cx="88884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20" name="Group 20"/>
            <p:cNvGrpSpPr/>
            <p:nvPr/>
          </p:nvGrpSpPr>
          <p:grpSpPr>
            <a:xfrm>
              <a:off x="2268360" y="5157720"/>
              <a:ext cx="1173240" cy="1520640"/>
              <a:chOff x="2268360" y="5157720"/>
              <a:chExt cx="1173240" cy="1520640"/>
            </a:xfrm>
          </p:grpSpPr>
          <p:pic>
            <p:nvPicPr>
              <p:cNvPr id="121" name="Pictur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2268360" y="5157720"/>
                <a:ext cx="88920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22" name="Picture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52760" y="5518080"/>
                <a:ext cx="888840" cy="11602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23" name="Group 23"/>
            <p:cNvGrpSpPr/>
            <p:nvPr/>
          </p:nvGrpSpPr>
          <p:grpSpPr>
            <a:xfrm>
              <a:off x="2268360" y="2060640"/>
              <a:ext cx="1198440" cy="1512720"/>
              <a:chOff x="2268360" y="2060640"/>
              <a:chExt cx="1198440" cy="1512720"/>
            </a:xfrm>
          </p:grpSpPr>
          <p:pic>
            <p:nvPicPr>
              <p:cNvPr id="124" name="Picture 2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268360" y="2060640"/>
                <a:ext cx="888840" cy="115740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25" name="Picture 25" descr="литературное_чтение_учебник_1часть_1класс"/>
              <p:cNvPicPr/>
              <p:nvPr/>
            </p:nvPicPr>
            <p:blipFill>
              <a:blip r:embed="rId14"/>
              <a:stretch/>
            </p:blipFill>
            <p:spPr>
              <a:xfrm>
                <a:off x="2580840" y="2421000"/>
                <a:ext cx="885960" cy="11523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26" name="Group 26"/>
            <p:cNvGrpSpPr/>
            <p:nvPr/>
          </p:nvGrpSpPr>
          <p:grpSpPr>
            <a:xfrm>
              <a:off x="2916360" y="3429000"/>
              <a:ext cx="1317600" cy="1446120"/>
              <a:chOff x="2916360" y="3429000"/>
              <a:chExt cx="1317600" cy="1446120"/>
            </a:xfrm>
          </p:grpSpPr>
          <p:pic>
            <p:nvPicPr>
              <p:cNvPr id="127" name="Picture 27" descr=""/>
              <p:cNvPicPr/>
              <p:nvPr/>
            </p:nvPicPr>
            <p:blipFill>
              <a:blip r:embed="rId15"/>
              <a:stretch/>
            </p:blipFill>
            <p:spPr>
              <a:xfrm>
                <a:off x="3355920" y="3429000"/>
                <a:ext cx="87804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28" name="Picture 28" descr=""/>
              <p:cNvPicPr/>
              <p:nvPr/>
            </p:nvPicPr>
            <p:blipFill>
              <a:blip r:embed="rId16"/>
              <a:stretch/>
            </p:blipFill>
            <p:spPr>
              <a:xfrm>
                <a:off x="2916360" y="3716280"/>
                <a:ext cx="87768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29" name="Group 29"/>
            <p:cNvGrpSpPr/>
            <p:nvPr/>
          </p:nvGrpSpPr>
          <p:grpSpPr>
            <a:xfrm>
              <a:off x="4572000" y="3213000"/>
              <a:ext cx="1349280" cy="1576440"/>
              <a:chOff x="4572000" y="3213000"/>
              <a:chExt cx="1349280" cy="1576440"/>
            </a:xfrm>
          </p:grpSpPr>
          <p:pic>
            <p:nvPicPr>
              <p:cNvPr id="130" name="Picture 30" descr=""/>
              <p:cNvPicPr/>
              <p:nvPr/>
            </p:nvPicPr>
            <p:blipFill>
              <a:blip r:embed="rId17"/>
              <a:stretch/>
            </p:blipFill>
            <p:spPr>
              <a:xfrm>
                <a:off x="4572000" y="3213000"/>
                <a:ext cx="917640" cy="1216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31" name="Picture 3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03640" y="3573360"/>
                <a:ext cx="917640" cy="1216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32" name="Group 32"/>
            <p:cNvGrpSpPr/>
            <p:nvPr/>
          </p:nvGrpSpPr>
          <p:grpSpPr>
            <a:xfrm>
              <a:off x="5148360" y="4653000"/>
              <a:ext cx="1285920" cy="1504440"/>
              <a:chOff x="5148360" y="4653000"/>
              <a:chExt cx="1285920" cy="1504440"/>
            </a:xfrm>
          </p:grpSpPr>
          <p:pic>
            <p:nvPicPr>
              <p:cNvPr id="133" name="Picture 33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48360" y="4653000"/>
                <a:ext cx="92556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34" name="Picture 34" descr=""/>
              <p:cNvPicPr/>
              <p:nvPr/>
            </p:nvPicPr>
            <p:blipFill>
              <a:blip r:embed="rId20"/>
              <a:stretch/>
            </p:blipFill>
            <p:spPr>
              <a:xfrm>
                <a:off x="5508720" y="4941720"/>
                <a:ext cx="92556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35" name="Group 35"/>
            <p:cNvGrpSpPr/>
            <p:nvPr/>
          </p:nvGrpSpPr>
          <p:grpSpPr>
            <a:xfrm>
              <a:off x="6732720" y="2658960"/>
              <a:ext cx="1366560" cy="1539720"/>
              <a:chOff x="6732720" y="2658960"/>
              <a:chExt cx="1366560" cy="1539720"/>
            </a:xfrm>
          </p:grpSpPr>
          <p:pic>
            <p:nvPicPr>
              <p:cNvPr id="136" name="Pictur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6732720" y="2658960"/>
                <a:ext cx="934920" cy="1217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37" name="Pictur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7164360" y="2981160"/>
                <a:ext cx="934920" cy="1217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38" name="Picture 38" descr=""/>
            <p:cNvPicPr/>
            <p:nvPr/>
          </p:nvPicPr>
          <p:blipFill>
            <a:blip r:embed="rId23"/>
            <a:stretch/>
          </p:blipFill>
          <p:spPr>
            <a:xfrm>
              <a:off x="7093080" y="5084640"/>
              <a:ext cx="885600" cy="1160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Учебники музыка, ИЗО, 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Attachment"/>
          <p:cNvPicPr/>
          <p:nvPr/>
        </p:nvPicPr>
        <p:blipFill>
          <a:blip r:embed="rId1"/>
          <a:stretch/>
        </p:blipFill>
        <p:spPr>
          <a:xfrm>
            <a:off x="755640" y="1916280"/>
            <a:ext cx="1655640" cy="2460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Attachment"/>
          <p:cNvPicPr/>
          <p:nvPr/>
        </p:nvPicPr>
        <p:blipFill>
          <a:blip r:embed="rId2"/>
          <a:stretch/>
        </p:blipFill>
        <p:spPr>
          <a:xfrm>
            <a:off x="2916360" y="1989000"/>
            <a:ext cx="1562040" cy="2376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Attachment"/>
          <p:cNvPicPr/>
          <p:nvPr/>
        </p:nvPicPr>
        <p:blipFill>
          <a:blip r:embed="rId3"/>
          <a:stretch/>
        </p:blipFill>
        <p:spPr>
          <a:xfrm>
            <a:off x="4788000" y="2060640"/>
            <a:ext cx="1655640" cy="23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Attachment"/>
          <p:cNvPicPr/>
          <p:nvPr/>
        </p:nvPicPr>
        <p:blipFill>
          <a:blip r:embed="rId4"/>
          <a:stretch/>
        </p:blipFill>
        <p:spPr>
          <a:xfrm>
            <a:off x="6732720" y="2060640"/>
            <a:ext cx="18716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882000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Я в мире и мир во мне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важно, чтобы обучение способствовало построению образа «Я», которое включает в себя самопознание, саморазвитие и самооценку, формирование гражданской идентичности личности, принятие и осмысление нравственных и культурных ц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Хочу учиться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ребенок часто задает вопрос «почему?», ему интересно знать все и обо всем. Наша задача сохранить этот интерес и при этом научить ребенка самостоятельно находить ответы, планировать свою деятельность и доводить ее до конца, оценивать результат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Я общаюсь, значит, я учусь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процесс обучения невозможен без общения. То есть, во-первых, учить ребенка свободно вести конструктивный диалог, слушать и слышать собеседника, а во-вторых, формировать информационную культуру — находить необходимые источники знаний учить получать информацию из различных источников, анализиро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В здоровом теле здоровый дух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здесь важно научить детей самим заботиться о здоровье. Умение сопереживать, сочувствовать, заботиться о себе, о природе, об окружающих людях, беречь и чтить то, что ими созда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Учебники УМК «Перспектива» формирую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ес детей к истории своей семь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лой и большой Родин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дициям и обычаям народов России, культурному наслед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довой деятельности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280" y="188640"/>
            <a:ext cx="59151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В учебники включен:</a:t>
            </a: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етический материал, к которому предложены практические, исследовательские и творческие задания, которые позволяют активизировать деятельность ребен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воляют применять полученные знания в практическ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ют условия для реализации творческого потенциала учени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уют ценностное мировоззрение и нравственную позицию ли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ый учебник снабжен системой заданий, направленных на развитие как логического, так и образного мышления, воображения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9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Преимущества УМК «Перспекти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60436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чаясь по этой программе, ученик на каждом уроке приоткрывает для себя будущие темы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чение строится по диалектическому принципу, когда введение новых понятий и идей, первоначально представленных в наглядно-образной форме или в виде проблемной ситуации, предшествует их детальному изуч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Особенности программы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«Обучение грамоте на коммуникативной основе» и учебника «Азбука» Л. Ф. Климан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4788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ики УМК «Перспекти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вивают интерес  к русскому язы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крывают секреты его «оживления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ят в мир науки о язы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гают ощутить его, как  стройную и гармоничную систем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общают ребят к искусству сло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гают младшему школьнику  понять и почувствовать эстетическую ц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ского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Attachment"/>
          <p:cNvPicPr/>
          <p:nvPr/>
        </p:nvPicPr>
        <p:blipFill>
          <a:blip r:embed="rId1"/>
          <a:stretch/>
        </p:blipFill>
        <p:spPr>
          <a:xfrm>
            <a:off x="5435640" y="2060640"/>
            <a:ext cx="2063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Данный УМК отличает новый, нестандартный способ организации речевой творческой деятельности – обучения детей грамоте на коммуникативно-познавательной осн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рактически на каждом уроке создается коммуникативно-речевая ситуация, позволяющая вступать в сотрудничество со своими сверстниками и со взрослыми, что позволяет организовать постоянную речевую деятельность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Яркие занимательные иллюстрации вызывают у первоклассников горячее желание рассказать о своих любимых занятиях, выслушать выступления других реб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абочая тетрадь «Рисуй, думай, рассказыва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43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назначена для работы в подготовительный период обучения грамо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я с ней, дети име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ость рисов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крашивать, штрих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 т. п., что помогает укреп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лкую мускулатуру пальце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ь координацию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и при письме и тем сам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рошо подготов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 написанию букв рус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фавита,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 предложений.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Attachment"/>
          <p:cNvPicPr/>
          <p:nvPr/>
        </p:nvPicPr>
        <p:blipFill>
          <a:blip r:embed="rId1"/>
          <a:stretch/>
        </p:blipFill>
        <p:spPr>
          <a:xfrm>
            <a:off x="5292720" y="2205000"/>
            <a:ext cx="25765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3:00:40Z</dcterms:created>
  <dc:creator>привет</dc:creator>
  <dc:description/>
  <dc:language>en-US</dc:language>
  <cp:lastModifiedBy>Администратор</cp:lastModifiedBy>
  <dcterms:modified xsi:type="dcterms:W3CDTF">2017-05-18T19:43:48Z</dcterms:modified>
  <cp:revision>13</cp:revision>
  <dc:subject/>
  <dc:title>Комплект для начальной школы «ПЕРСПЕКТИВА» 1 – 4 классы: русский язык, литературное чтение, математика, окружающий мир, технология</dc:title>
</cp:coreProperties>
</file>