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4EA-467F-498A-B7D3-1445193F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345-743A-4C94-81F9-2CE6C1BA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55B-1093-48AB-B253-6A853441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8D9-9815-41BA-B366-404D9E1F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A74-46B6-4505-9D29-422B62F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DFE-85E1-4135-A00C-77C5F4BE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E9D-1C1F-439D-9F8E-5A25838F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53A-D6A1-4FF6-90AB-D16E87B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8AB-8B0A-4D57-A040-874256F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F2A-DB61-404F-8BB0-E717ED4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249-1801-4C58-B948-425B9D23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DB7-AA38-4BAE-9E97-A8CABDB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D14-B5F8-401F-B9D3-99DAFCE28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040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УМК «Перспективная начальная школ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8582040" cy="1339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324000" y="148428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274680"/>
            <a:ext cx="8582040" cy="1334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4000" y="148428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непрерывного общего развития каждого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целостности картины ми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учета индивидуальных возможностей и способностей 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прочности и нагляд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инцип охраны и укрепления психического и физического здоровь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8582040" cy="1339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50328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комплектнос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инструментальность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интерактив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85820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50920" y="1413000"/>
            <a:ext cx="8642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ежпредметные связи: 2 часть русского языка включает в себя ряд словарей для использования на всех предме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Занятия в форме заседания клу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Задания направлены на самостоятельную деятельность уче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50920" y="141300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Авторы: Азбука. Авторы: Агаркова Н.Г., Агарков Ю.А. Русский язык. Авторы: Чуракова Н.А., Каленчук М.Л., Малаховская О.В., Байкова Т.А. Литературное чтение. Автор: Чуракова Н.А. Математика. Автор: Чекин А.Л. Информатика (2-4 классы). Авторы: Бененсон Е.П., Паутова А.Г. Окружающий мир. Авторы: Федотова О.Н., Трафимова Г.В., Трафимов С.А., Царева Л. А. Музыка. Авторы: Челышева Т.В., Кузнецова В.В. Технология. Авторы: Рагозина Т.М., Гринева А.А., Голованова И.Л., Мылова И.Б. Английский язык (2-4 классы). Авторы: Тер-Минасова С.Г., Узунова Л.М., Обукаускайте Д.С., Сухина Е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Windows\System32\Desktop\Безымафянный.jpg"/>
          <p:cNvPicPr/>
          <p:nvPr/>
        </p:nvPicPr>
        <p:blipFill>
          <a:blip r:embed="rId1"/>
          <a:stretch/>
        </p:blipFill>
        <p:spPr>
          <a:xfrm>
            <a:off x="0" y="0"/>
            <a:ext cx="92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19:13:19Z</dcterms:created>
  <dc:creator>Администратор</dc:creator>
  <dc:description/>
  <dc:language>en-US</dc:language>
  <cp:lastModifiedBy>Администратор</cp:lastModifiedBy>
  <dcterms:modified xsi:type="dcterms:W3CDTF">2017-05-18T19:33:37Z</dcterms:modified>
  <cp:revision>2</cp:revision>
  <dc:subject/>
  <dc:title>УМК «Школа России»</dc:title>
</cp:coreProperties>
</file>