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B62-E7FB-49E1-9791-1BFEC5C7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C48-2C0E-4058-A522-AAE63147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E02-6B5C-4458-BF3A-B3B7DF72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3225-1069-4E47-855E-6F9D4D60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022-1BE3-442E-AF1D-FA4420A4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789-BC94-40C2-99F8-64AF0328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366-6795-4A37-87DD-581D6665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A86-9EEA-4883-969C-757F9813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B75-8623-4763-A808-91F174A4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B11-F35D-4929-B86A-2073B509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104-CE05-461B-AEDC-A6FA4F5E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301-D115-4DB8-A7A0-4740ECBE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DE3F-DF41-4E9C-8F98-6D2F5D8DE5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76440" y="1463760"/>
            <a:ext cx="7785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9522000" cy="51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582040" cy="13032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2" descr=""/>
          <p:cNvPicPr/>
          <p:nvPr/>
        </p:nvPicPr>
        <p:blipFill>
          <a:blip r:embed="rId2"/>
          <a:stretch/>
        </p:blipFill>
        <p:spPr>
          <a:xfrm>
            <a:off x="165240" y="1401840"/>
            <a:ext cx="895500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1" descr=""/>
          <p:cNvPicPr/>
          <p:nvPr/>
        </p:nvPicPr>
        <p:blipFill>
          <a:blip r:embed="rId1"/>
          <a:stretch/>
        </p:blipFill>
        <p:spPr>
          <a:xfrm>
            <a:off x="317520" y="596880"/>
            <a:ext cx="8582040" cy="7509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2" descr=""/>
          <p:cNvPicPr/>
          <p:nvPr/>
        </p:nvPicPr>
        <p:blipFill>
          <a:blip r:embed="rId2"/>
          <a:stretch/>
        </p:blipFill>
        <p:spPr>
          <a:xfrm>
            <a:off x="165240" y="1401840"/>
            <a:ext cx="89550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1" descr=""/>
          <p:cNvPicPr/>
          <p:nvPr/>
        </p:nvPicPr>
        <p:blipFill>
          <a:blip r:embed="rId1"/>
          <a:stretch/>
        </p:blipFill>
        <p:spPr>
          <a:xfrm>
            <a:off x="317520" y="596880"/>
            <a:ext cx="8582040" cy="7509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165240" y="1401840"/>
            <a:ext cx="895500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2" descr=""/>
          <p:cNvPicPr/>
          <p:nvPr/>
        </p:nvPicPr>
        <p:blipFill>
          <a:blip r:embed="rId1"/>
          <a:stretch/>
        </p:blipFill>
        <p:spPr>
          <a:xfrm>
            <a:off x="171360" y="219240"/>
            <a:ext cx="887580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Windows\System32\Desktop\Безымафянный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8T19:13:19Z</dcterms:created>
  <dc:creator>Администратор</dc:creator>
  <dc:description/>
  <dc:language>en-US</dc:language>
  <cp:lastModifiedBy>Администратор</cp:lastModifiedBy>
  <dcterms:modified xsi:type="dcterms:W3CDTF">2017-05-18T19:25:51Z</dcterms:modified>
  <cp:revision>1</cp:revision>
  <dc:subject/>
  <dc:title>УМК «Школа России»</dc:title>
</cp:coreProperties>
</file>