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873-D75E-49CD-A7CD-6CFFC52F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EE4-9713-48FC-A32E-9FA2F63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A9E-0943-411D-A381-B06689CF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1BE-7E95-444C-A654-E1A91B27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05D-1F77-405B-91E1-1BFA73C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4D4-F4F8-4E0B-A0E0-D87EE67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2A3-D226-49A5-8B86-642EF88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1A-01CE-4327-A3C5-2DC0A28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9C4-EFB8-42AA-A994-E5F1301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487-AA07-4E25-B16E-BCF1E9C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C4A-1010-417F-9856-463043E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CA0-7EE9-44A5-997C-8EC5EA8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B489-E63C-4BE0-9FE4-F39FDEE41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76440" y="1463760"/>
            <a:ext cx="7785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522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582040" cy="13032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596880"/>
            <a:ext cx="858204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596880"/>
            <a:ext cx="8582040" cy="750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01840"/>
            <a:ext cx="8955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171360" y="219240"/>
            <a:ext cx="887580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Windows\System32\Desktop\Безымафянный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19:13:19Z</dcterms:created>
  <dc:creator>Администратор</dc:creator>
  <dc:description/>
  <dc:language>en-US</dc:language>
  <cp:lastModifiedBy>Администратор</cp:lastModifiedBy>
  <dcterms:modified xsi:type="dcterms:W3CDTF">2017-05-18T19:25:51Z</dcterms:modified>
  <cp:revision>1</cp:revision>
  <dc:subject/>
  <dc:title>УМК «Школа России»</dc:title>
</cp:coreProperties>
</file>