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B118-416E-4547-A15E-85980B9E36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299F-30B1-4F05-9194-A36DD7AE78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B2D-EF47-4D23-A887-245A19E1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363-368A-48F6-A037-92C104A8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307-DA67-43C8-A777-BD683C46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5B1-FFC9-4892-8826-FEA73AB4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F9F-6543-479C-BF22-8E9435D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201-7439-4005-A010-36E19EE8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75B-B815-404E-8203-564BE105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4E8-C18A-43AB-BE2D-E4A5053E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A50-BEE0-4760-A05D-20C71807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2E6-54D3-4169-A51E-40027F3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E0D-F209-45F1-8C8D-B6803D7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A12-C963-4DD5-A8FB-15AF16AD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E9C-1FA3-4C67-A572-71FA76598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за тобой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5286240"/>
            <a:ext cx="8001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личество свечек зависит от теб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0 «А» класса Гроздева Анастас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ижний Новгород 2017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ennio_morricone_-_once_upon_a_time_in_americ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214200" y="55008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Саркома Капоши в полости рта, осложнённая кандидо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14200" y="213660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Жидкий стул, изжога, рв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ыступает много п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Слабость, вялые моз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И в глазах плывут кр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ы не думай, не га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 спокойно дожив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ы не станешь инвали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ы умрешь  - ты болен СП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96AE-D362-4619-90FA-9AC6B0C57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едохранить себя от заражения ВИЧ-инфекцие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презерватив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стерильного инструментария для инъе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Новое изображение18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219320" y="4648320"/>
            <a:ext cx="2865240" cy="191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Новое изображение10"/>
          <p:cNvPicPr/>
          <p:nvPr/>
        </p:nvPicPr>
        <p:blipFill>
          <a:blip r:embed="rId2"/>
          <a:stretch/>
        </p:blipFill>
        <p:spPr>
          <a:xfrm>
            <a:off x="4800600" y="4648320"/>
            <a:ext cx="301788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9287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ная лента - символ нашего сострадания, поддержки и надежды на будущее без СПИД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3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4"/>
          <p:cNvSpPr/>
          <p:nvPr/>
        </p:nvSpPr>
        <p:spPr>
          <a:xfrm>
            <a:off x="2571840" y="5929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a_LCDNova"/>
              </a:rPr>
              <a:t>Мы выбираем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1928880" y="64296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LCDNov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_LCDNova"/>
                <a:ea typeface="Times New Roman"/>
              </a:rPr>
              <a:t>"Спорт против наркотиков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428760" y="0"/>
            <a:ext cx="8715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_LCDNov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_LCDNova"/>
              </a:rPr>
              <a:t>«Через спорт к здоровью каждого и благосостоянию стран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526680" y="5643720"/>
            <a:ext cx="69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_LCDNova"/>
              </a:rPr>
              <a:t>ни дня без спор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214960" y="63961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_LCDNova"/>
              </a:rPr>
              <a:t>"Спорт - дело семейно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14288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Ч — вирус иммунодефицита человека, вызывающий заболевание — ВИЧ-инфекцию, последняя стадия которой известна как синдром приобретённого иммунодефицита (СПИД) — в отличие от врождённого иммунодефици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ути передачи ВИЧ инфек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4200" y="2928960"/>
            <a:ext cx="8715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Распространение ВИЧ-инфекции связано, главным образом, с незащищенными половыми контактами, использованием зараженных вирусом шприцев, игл и других медицинских и парамедицинских инструментов, передачей вируса от инфицированной матери ребенку во время родов или при грудном вскармливании. В развитых странах обязательная проверка донорской крови в значительной степени сократила возможность передачи вируса при её использ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2357280" y="5929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 управляет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0" y="356760"/>
            <a:ext cx="65721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жнения при СПИД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2320" y="627372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псис – общее заражение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142920"/>
            <a:ext cx="885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кома кожи - представляет собой множествен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качественные новообразования дермы (кож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3:12:52Z</dcterms:created>
  <dc:creator>AdmiN</dc:creator>
  <dc:description/>
  <dc:language>en-US</dc:language>
  <cp:lastModifiedBy>AdmiN</cp:lastModifiedBy>
  <dcterms:modified xsi:type="dcterms:W3CDTF">2017-05-20T13:22:26Z</dcterms:modified>
  <cp:revision>27</cp:revision>
  <dc:subject/>
  <dc:title>Выбор за тобой!</dc:title>
</cp:coreProperties>
</file>