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BC51-9D56-4FB6-A18E-C8A3725DFD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D2A5-361B-4E04-9967-5C9C260F27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489-2E0A-4230-92A7-ADA02A8C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4EF6-2A42-4D4C-92B2-97F56218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7A9-3936-4ADD-A0DA-7DBCC1CB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1DD-962D-4A2C-97E5-EE774EAC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3A4-1DAB-42BB-B408-456C028B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16D-0F78-445F-BA40-911BE2C0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88D-5061-4BD8-8449-9095F854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626-E0CA-4171-9076-29D01C17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CAF-E74F-49F3-9344-2DBFE79A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E6C-D4ED-4CBD-88E5-54344855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52F-ABBC-4759-AEA2-482B20A5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1F9-3E68-477B-B3F2-5CD65C7D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26E3-EFC8-4F54-85BC-FCF5BFF076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за тобой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56800" y="5286240"/>
            <a:ext cx="80010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оличество свечек зависит от теб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10 «А» класса Гроздева Анастас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Нижний Новгород 2017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ennio_morricone_-_once_upon_a_time_in_americ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214200" y="55008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Times New Roman"/>
                <a:ea typeface="Times New Roman"/>
              </a:rPr>
              <a:t>Саркома Капоши в полости рта, осложнённая кандидоз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214200" y="2136600"/>
            <a:ext cx="35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Жидкий стул, изжога, рво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ыступает много по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Слабость, вялые моз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И в глазах плывут кр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Ты не думай, не га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А спокойно дожив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Ты не станешь инвали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Ты умрешь  - ты болен СПИ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7CE3-A7B2-4BD8-B8E8-1D1569FA35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предохранить себя от заражения ВИЧ-инфекцие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презерватив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стерильного инструментария для инъек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Новое изображение18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219320" y="4648320"/>
            <a:ext cx="2865240" cy="1917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Новое изображение10"/>
          <p:cNvPicPr/>
          <p:nvPr/>
        </p:nvPicPr>
        <p:blipFill>
          <a:blip r:embed="rId2"/>
          <a:stretch/>
        </p:blipFill>
        <p:spPr>
          <a:xfrm>
            <a:off x="4800600" y="4648320"/>
            <a:ext cx="3017880" cy="1828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49287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асная лента - символ нашего сострадания, поддержки и надежды на будущее без СПИД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3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4"/>
          <p:cNvSpPr/>
          <p:nvPr/>
        </p:nvSpPr>
        <p:spPr>
          <a:xfrm>
            <a:off x="2571840" y="5929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a_LCDNova"/>
              </a:rPr>
              <a:t>Мы выбираем жиз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4"/>
          <p:cNvSpPr/>
          <p:nvPr/>
        </p:nvSpPr>
        <p:spPr>
          <a:xfrm>
            <a:off x="1928880" y="642960"/>
            <a:ext cx="55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LCDNov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_LCDNova"/>
                <a:ea typeface="Times New Roman"/>
              </a:rPr>
              <a:t>"Спорт против наркотиков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428760" y="0"/>
            <a:ext cx="8715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_LCDNov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_LCDNova"/>
              </a:rPr>
              <a:t>«Через спорт к здоровью каждого и благосостоянию страны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526680" y="5643720"/>
            <a:ext cx="693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_LCDNova"/>
              </a:rPr>
              <a:t>ни дня без спор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5214960" y="639612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_LCDNova"/>
              </a:rPr>
              <a:t>"Спорт - дело семейно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14288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Ч — вирус иммунодефицита человека, вызывающий заболевание — ВИЧ-инфекцию, последняя стадия которой известна как синдром приобретённого иммунодефицита (СПИД) — в отличие от врождённого иммунодефицит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Пути передачи ВИЧ инфекц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14200" y="2928960"/>
            <a:ext cx="8715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Распространение ВИЧ-инфекции связано, главным образом, с незащищенными половыми контактами, использованием зараженных вирусом шприцев, игл и других медицинских и парамедицинских инструментов, передачей вируса от инфицированной матери ребенку во время родов или при грудном вскармливании. В развитых странах обязательная проверка донорской крови в значительной степени сократила возможность передачи вируса при её использов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4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2357280" y="5929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 управляет тоб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6000" y="356760"/>
            <a:ext cx="65721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жнения при СПИД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22320" y="6273720"/>
            <a:ext cx="60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епсис – общее заражение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0" y="142920"/>
            <a:ext cx="885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кома кожи - представляет собой множествен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качественные новообразования дермы (кожи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4000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13:12:52Z</dcterms:created>
  <dc:creator>AdmiN</dc:creator>
  <dc:description/>
  <dc:language>en-US</dc:language>
  <cp:lastModifiedBy>AdmiN</cp:lastModifiedBy>
  <dcterms:modified xsi:type="dcterms:W3CDTF">2017-05-20T13:22:26Z</dcterms:modified>
  <cp:revision>27</cp:revision>
  <dc:subject/>
  <dc:title>Выбор за тобой!</dc:title>
</cp:coreProperties>
</file>