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9A16-7818-4E09-99F7-CCEC2F2C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D1B9-E47B-49CC-B351-601F607A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B341D-7BDA-4F95-9B97-AEAF0CC7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03516-6F36-4FB2-A053-CAFED940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1C485-0C45-4F13-8E03-D0254BA8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C98CB-4AC5-4934-8835-232A51F0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773D0-32E0-4267-8AD4-BABC8714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D9A5B-89C9-4312-8B31-B30DC2C6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0040F-2717-4FB3-BED3-7AA41D1F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4C75A-CC4E-4854-8E86-58C270A6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CA3EB-5EB8-40B5-925B-605D543B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82371-54AC-4CF1-AD81-FD3499E1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6A2E-AD2D-4278-A8BD-3B47FED4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28371-67A8-4E8A-92BB-91537A46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91D6B-846B-4ED4-BF44-6258A41B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5F7F4-8EC7-4E8D-A6F3-253B0A31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3FF23-7445-4C4C-9CF0-B8D62647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77E15-6B85-4DB7-A8E1-428ED27A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F210D-29C4-4B41-8C2A-D5116B05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711CD-B739-4F9D-9C53-AD8AFCC6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80E18-3476-4497-B5ED-BD12C72F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5F0DE-13F5-474C-B1B1-A2F6DA57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6D1E7-62CE-4028-A07F-450EA2A4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B2C5-34F8-4168-8C5B-FB2C12D7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A3C3E-DBDF-481D-A34C-AB0B84DA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4F820-F26A-4F51-8BF4-5BE2ECB2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20719-4AA6-4EE4-A8B2-F9F795A9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545BE-6DAD-45E9-8496-47C209B7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7AF43-46F2-48BD-9E28-1B5F47FD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B87A4-D657-4B41-ABF0-A76D3454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BBF47-F78A-4EBC-9EE5-DA7EF010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7A1AD-4872-463E-8BE2-BA2AB2B2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FA850-1FB9-4719-B32D-09810D9D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9CCB6-36AF-4570-A134-2503E53F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E72B-49E6-45BE-83C8-CAECDC34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13003-A2EE-440A-8546-D624B979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7EDFE-9041-4515-8FAA-4FA4EBBB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0CB05-5AB1-4BA9-BC8F-0DA976105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20B08-7DF9-4195-B463-AF9F13B6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94E9C-B905-4C59-AED2-A13084C8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E9A48-39C6-4B56-AAF0-2F3B9299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DDE75-EDDC-4A24-B121-B891FD33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BA422-FA66-40A5-8BBF-4EBBD83A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E1F69-60BA-44DF-969E-BCE72C02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B3243-9E39-444F-A9DD-E4598A6F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8B32-11C6-46BC-874F-FA0B2C61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4DE66-D532-4B6D-A36F-B75DD598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6AA39-211C-44D8-B497-77072CCC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365DB-25D6-412D-87D2-3E858356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C4258-0BDE-4151-BE27-413243F4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D4CAC-8172-4FCA-8728-A26F3B06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BEE7C4-7EDE-417E-BC69-374A2281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8EE438-644F-473E-B085-0A722506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6E3F6F-36BE-4D64-83F9-54F1A6FC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FE88F4-913F-45FD-BC92-8F99C8E9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0D0C01-3E39-4733-9882-5F386943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FDA7-ED56-4DE2-9A9C-3CD800B3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F131B6-1379-43F2-8572-72ACCF38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73BFBE-E478-4123-93A7-C53DB533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89BAA2-7E66-4DC2-87CD-40D9FF73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9DAD65-AEBB-461B-A8ED-B3A8270C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C2ECCA-20F2-4A88-A82E-BDEFBECC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4B249-582A-4591-814C-CC1F1DFB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968BE0-060A-4B85-B092-709E2108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9948F5-EF36-4443-90DD-8F202024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143586-F754-4FA4-8698-0B2B59B5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811329-C43E-48D6-A7E2-ED204F85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C26E-F1DC-43F4-89D8-54BF8059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8EF3B6-C750-42D2-A948-117EA4FF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8E7763-8885-4CAF-B09E-2D688C2C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DE47F5-8713-452C-9A37-290DE26E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C4DAC6-9E12-4A30-9AA4-12A57A07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96A66A-E62B-4196-8515-6B00049C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F71D41-2278-4EE7-8DF6-EBBCE9BB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D3D712-A64D-4401-8D59-D4AD715F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253C87-AFD2-4ED2-8749-EB153BDA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F137A9-5AA5-4A27-8169-EEE53F5B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9C9688-472A-4073-8C14-94A5E344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ABEA-799C-48CD-B418-53B628FC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5C2495-6984-4248-A5B4-47908B89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BA0B02-0C19-4213-8CA4-8A533D4A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E20D0B-C65E-45AE-831F-FB4ED0A4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D7E729-8F1E-4D5D-B3F8-F7ABB2E3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8A3795-04B4-4D1D-B851-24F8E59E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C21A8E-EA5A-4D06-8A2D-3956912B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D62C13-C042-4409-888C-480C8591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E0F20D-BA03-437E-88FF-8D43C03C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FB3C2D-098F-4DDD-9E1E-6C80C0CD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6AAD3E-AC1B-44B6-AD86-7E5A080F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776D-CB18-4432-827B-520720EF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E04AAC-143C-4318-B839-1DE43433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86857E-A345-482A-BCDF-619A9F2C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DADA69-9E08-44E0-936F-43085855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7324BA-E5D6-4F54-B1D1-CB8B4D1F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B26764-A794-4E38-B64F-699B3E52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70C67E-CB06-4316-868D-9F44D95B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59FD79-BBF9-4979-B85B-8F8DFD08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83323E-CA8B-4042-B2C9-D43AD04B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B13099-6781-433C-9D0B-8187DE67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1F83D2-EA12-4511-A003-9CEA3E4D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6D28-543A-41B8-9839-3BE774E3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17B125-0012-47FE-9B2B-36B7B309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BF18F3-3D21-4D22-B28E-20A90B9B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5AE2CB-6224-47BA-8D85-AF35CA9D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72108E-2F82-488C-96E4-D432407B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55D6E6-9AC4-4422-B623-749ED4A3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97E660-BE3F-41F8-859A-F539FA3D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E5CA69-927B-4238-A7A9-694695CD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D2573F-1CA9-45D2-85E2-4EC18C72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A04053-EA48-4490-810D-67FECCD1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CCE6E5-CCF2-4D9F-B19A-2BABF324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4F07-AFD0-4802-B75F-589A31CE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0566-6F22-4101-B946-259E7589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B8C1F9-AD3F-4C44-94A0-EBB6406F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2F8095-9568-438F-ACD3-AFB1EB6E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5C417F-F6A2-453C-96B1-0775B2B2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89C6BE-5542-4238-B933-9AC2B6C0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A816D6-9522-4B91-8C8E-2479065A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B5A6-F912-4D99-852B-13E054A9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BEBA-8A9B-4B61-9E44-2FC50979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2608-A2D6-4088-937F-AC718083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54B8-5530-4646-82F8-11ADF26C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02161-0B22-4EEC-B336-F3438BA4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F39F6-6200-4A19-86E8-4720D269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5B0A4-C879-4901-AA41-389C7C59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484CA-8F6D-47AE-A1AF-620E9932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81C8C-7AE1-4B56-827D-952D18C8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4756-9D01-4C50-88FD-378EF6D6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2593E-A891-4D8F-822E-005116F7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0B534-44F7-425A-9E5E-18D5DD38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29958-2A26-48F0-B311-902EF031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1E698-4FF3-4785-9553-81A42C75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73416-889C-4C7F-9CFD-6891546E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55C5E-8A53-4C04-8FA6-DB3E78EE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C1F66-DD4A-4114-9975-B25FA32E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C54DC-76EA-4052-B8D3-1A0C11E2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355ED-BB64-458E-82B9-AA26A338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3D81C-CB90-4EE9-882B-3D9CDFEA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47BC-75B5-4486-AB54-41ED98AE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90F06-6BFA-4265-9E42-CC669836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230A1-E725-4F60-8E31-5CA83DC3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B4DBA-F212-4824-BC21-116616C9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A3276-30AA-4C22-BDF2-A2E80EA1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062E1-5C94-49F5-9BB7-BD32729A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A120D-F47C-4978-AB03-2D357629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E298C-EF80-455D-B35C-84739DE6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AFADB-C9CF-4A63-816A-39736905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ED51F-462C-41AD-A45F-E934CEBA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30B68-5666-4867-902B-E04AC8CA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3B3F-A281-4E17-AEAB-6D88F1E5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6AEF8-1027-43B9-8F61-9534EEF3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F2B2E-0973-4471-8D58-DAD2AA50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C7DA9-8AA2-473D-961C-22A44E66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907FB-C659-416F-8126-4B9AA11D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D6137-F35C-450D-842F-A59E0FB9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CCE25-F41E-4CF0-BF25-C14A71DE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E0E91-4508-44FA-BF04-858DE725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E7E70-C5ED-42B1-8082-7BB6770F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F3C6F-674F-4804-9AE2-9CCFFF72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ADBA7-5AD2-4F78-9E52-23CF0ADAA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04F1-DD9A-4310-93CE-481420CC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26C38-27B8-4E67-9567-03B1CB40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BF3B5-B8AD-45D5-AC5E-FA02C6E6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01E34-DDCD-42CF-9351-D686B410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D8E7D-3A8D-4EBA-9935-37D2B5F4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FBE3F-5155-47AA-A93C-AC54C097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7299D-B4DA-4D71-BBE9-414E69A5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B326E-F11C-41BA-BBD9-F98C06DB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DDEB1-7239-4B59-99B9-1192E934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24C8B-3931-41EB-B56F-34D55696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7CB7B-FC81-4D5C-8024-35A9553D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E468-DBBF-4B8E-827A-70CAA2FB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A37C6-F8E4-4449-B3B3-7D7150E5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5D8FC-0EC3-4EDF-868E-7B36BCD3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33853-BD71-47ED-B464-C835BD51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EA6F2-B3A6-46E3-8291-C0ED7ADD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3212C-A5A7-48B5-B9F6-9AC03D8C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9E451-F199-45AC-BF33-4AC80660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DA11A-42A9-4F52-BD5D-E3541F96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1737A-21A6-43BD-93E2-12118003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ACD2E-7BE6-416B-AF0B-31838ECD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00FF0-6B47-4B2F-AF65-F361170F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5546-BB84-4BBE-8C99-90F501D6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1F73E-75AA-4D49-9353-46A07300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B5A68-6D0E-4949-8892-1B601CA6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AC261-7540-4027-BFD3-D0B8BE5F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B6033-41DD-4D41-BA53-2CB88E09F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23E67-7D19-4AC9-A778-AB0575C7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945DF-5C89-4DFF-86DD-1D758EC0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77434-2DC3-4892-A7B7-30F9606B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EC4D0-2C0B-4FC5-BBA6-87B4290A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27976-674A-43D1-8D66-962EABD5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42474-09C5-4850-99EF-E42472DE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8405-0A80-4976-9D29-35837D52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98774-CE73-47C7-A541-CAC260E7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88761-6A25-424F-A4E7-41FB6497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960E3-FC86-4AE1-B879-F7038938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B9251-8300-407B-9C0F-EC04F922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1D52E-B014-4CF7-B240-004A0C6D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7D5A1-2529-4F29-9CF5-627AE294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F4309-9AC5-4C55-B314-37B8B167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33A3B-DBB4-47C0-97A7-C0C557ED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DF9BF-FCF9-4352-AE7A-2F41C912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4D95B-E619-48BA-9AD6-5F59A692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EDCD-82DC-48C3-BDEF-C6ACFB833B1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3D10-16CA-4BC5-8A29-AB18F53C37A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11DF-5DFF-46AE-B62E-BFBB5B44A50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F042-5A24-4FE4-806D-6C3573B2427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E0AC-D6E1-4CAC-992A-224D825DB0B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B999-2563-4E6B-89C1-9849DFCE41E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4411-876D-4006-9891-968EF5DF974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BD08-B6FF-45B5-82E3-10386C0BE69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05CC-8604-4D59-B0C1-9C1AF062568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BEF1-6913-49AF-944B-326B6B72051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93F1-E0E7-438A-9998-19414B4883D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458B-74F5-4E5B-80AD-DC94648558F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40A8-9875-4FE9-AE9F-958671697B9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3327-3322-4A93-AD91-68FC70DF14D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0C68-6964-4651-A2DA-DE6F306BEF6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68F3-C8C0-4532-BD87-4FCC77CA349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7203-2649-454F-97C3-1A4BF04050E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048040" y="0"/>
            <a:ext cx="7640640" cy="8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178dbb"/>
                </a:solidFill>
                <a:latin typeface="Century Gothic"/>
              </a:rPr>
              <a:t>           </a:t>
            </a:r>
            <a:r>
              <a:rPr b="0" lang="ru-RU" sz="4000" spc="-1" strike="noStrike">
                <a:solidFill>
                  <a:srgbClr val="178dbb"/>
                </a:solidFill>
                <a:latin typeface="Century Gothic"/>
              </a:rPr>
              <a:t>Бабочки Моли</a:t>
            </a:r>
            <a:endParaRPr b="0" lang="en-US" sz="40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9688680" y="4665240"/>
            <a:ext cx="250344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entury Gothic"/>
              </a:rPr>
              <a:t>Сделал презентацию: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entury Gothic"/>
              </a:rPr>
              <a:t>Ученик 2 </a:t>
            </a: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A</a:t>
            </a:r>
            <a:r>
              <a:rPr b="0" lang="ru-RU" sz="2000" spc="-1" strike="noStrike">
                <a:solidFill>
                  <a:srgbClr val="595959"/>
                </a:solidFill>
                <a:latin typeface="Century Gothic"/>
              </a:rPr>
              <a:t> класса МОУ лицея №35 Берсенев Леонид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78" name="Рисунок 3" descr=""/>
          <p:cNvPicPr/>
          <p:nvPr/>
        </p:nvPicPr>
        <p:blipFill>
          <a:blip r:embed="rId1"/>
          <a:stretch/>
        </p:blipFill>
        <p:spPr>
          <a:xfrm>
            <a:off x="1546200" y="1052640"/>
            <a:ext cx="7585200" cy="555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623960" y="-36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              </a:t>
            </a: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Отряд чешуекрылых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390240" y="2092320"/>
            <a:ext cx="4397400" cy="34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Моли относятся к отряду чешуекрылых. Представители этого отряда отличаются наличием у взрослых особей густого покрова из хитиновых чешуек, расположенных на передних и задних крыльях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1" name="Рисунок 3" descr=""/>
          <p:cNvPicPr/>
          <p:nvPr/>
        </p:nvPicPr>
        <p:blipFill>
          <a:blip r:embed="rId1"/>
          <a:stretch/>
        </p:blipFill>
        <p:spPr>
          <a:xfrm>
            <a:off x="5397480" y="735120"/>
            <a:ext cx="6667560" cy="4181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650960" y="127080"/>
            <a:ext cx="10275840" cy="18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Отличительные особенности</a:t>
            </a:r>
            <a:br>
              <a:rPr sz="3600"/>
            </a:b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 бабочки моли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83" name="Прямоугольник 3"/>
          <p:cNvSpPr/>
          <p:nvPr/>
        </p:nvSpPr>
        <p:spPr>
          <a:xfrm>
            <a:off x="1138320" y="1398600"/>
            <a:ext cx="10198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се представители отряда чешуекрылых подразделяются на дневных и ночных бабочек. Те, которые ведут преимущественно сумеречный и ночной образ жизни, составляют семейство молей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Многие бабочки моли в квартире являются самым настоящим бедствием. В домах досаждают людям моли платяные, шубные, мебельные, зерновые, восковые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едставим вашему вниманию несколько видов моли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692360" y="-135000"/>
            <a:ext cx="891072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                    </a:t>
            </a: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Шубная моль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pic>
        <p:nvPicPr>
          <p:cNvPr id="1185" name="Рисунок 2" descr=""/>
          <p:cNvPicPr/>
          <p:nvPr/>
        </p:nvPicPr>
        <p:blipFill>
          <a:blip r:embed="rId1"/>
          <a:stretch/>
        </p:blipFill>
        <p:spPr>
          <a:xfrm>
            <a:off x="235080" y="747720"/>
            <a:ext cx="6399000" cy="5707080"/>
          </a:xfrm>
          <a:prstGeom prst="rect">
            <a:avLst/>
          </a:prstGeom>
          <a:ln w="0">
            <a:noFill/>
          </a:ln>
        </p:spPr>
      </p:pic>
      <p:sp>
        <p:nvSpPr>
          <p:cNvPr id="1186" name="Прямоугольник 3"/>
          <p:cNvSpPr/>
          <p:nvPr/>
        </p:nvSpPr>
        <p:spPr>
          <a:xfrm>
            <a:off x="6634080" y="747720"/>
            <a:ext cx="566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Это чешуекрылое окрашено в глиняно-желтый цвет с блеском. Размах крыльев составляет примерно пятнадцать-шестнадцать миллиметров. Это довольно красивая бабочка-моль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7" name="Прямоугольник 5"/>
          <p:cNvSpPr/>
          <p:nvPr/>
        </p:nvSpPr>
        <p:spPr>
          <a:xfrm>
            <a:off x="6634080" y="2955960"/>
            <a:ext cx="5110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итается личинка шубной моли  натуральным мехом, за что и получила своё название. Проползая по шкурке, она подгрызает все попадающиеся на пути шерстинки. Так что, повесив в шкаф новенькую пушистую шубку, можно спустя время достать абсолютно лысую вещицу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911240" y="100080"/>
            <a:ext cx="891072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               </a:t>
            </a: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Платяная моль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89" name="Прямоугольник 3"/>
          <p:cNvSpPr/>
          <p:nvPr/>
        </p:nvSpPr>
        <p:spPr>
          <a:xfrm>
            <a:off x="5257800" y="954000"/>
            <a:ext cx="6669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Длина тела у взрослого насекомого этого вида составляет от 5 до 8 мм, а размах крыльев достигает 1,6 см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Тельце моли бежевого цвета с золотистыми шерстинками. На голове растут красновато-золотистые волоски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Живут они в натуральных тканях, объедая те места материи, которые не видны снаружи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амки платяной моли плохо летают. Поэтому они передвигаются прыжками, стараясь спрятаться в складках одежды. Заметив в жилище летающую платяную моль, можно быть уверенным, что это – самец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0" name="Рисунок 4" descr=""/>
          <p:cNvPicPr/>
          <p:nvPr/>
        </p:nvPicPr>
        <p:blipFill>
          <a:blip r:embed="rId1"/>
          <a:stretch/>
        </p:blipFill>
        <p:spPr>
          <a:xfrm>
            <a:off x="162000" y="1052640"/>
            <a:ext cx="5257800" cy="5435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839960" y="-36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             </a:t>
            </a: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Мебельная моль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2" name="Прямоугольник 3"/>
          <p:cNvSpPr/>
          <p:nvPr/>
        </p:nvSpPr>
        <p:spPr>
          <a:xfrm>
            <a:off x="6915240" y="1089000"/>
            <a:ext cx="5276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зрослое насекомое этого вида имеет характерный блеск. У крылышек мебельной моли светло-желтый оттенок. Головка насекомого ржаво-желтая, буроватая ближе к началу крыльев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асекомое обычно употребляет только набивку мебели. Развивается личинка круглогодично. За год самка способна отложить яйца до четырёх раз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3" name="Рисунок 5" descr=""/>
          <p:cNvPicPr/>
          <p:nvPr/>
        </p:nvPicPr>
        <p:blipFill>
          <a:blip r:embed="rId1"/>
          <a:stretch/>
        </p:blipFill>
        <p:spPr>
          <a:xfrm>
            <a:off x="241200" y="1089000"/>
            <a:ext cx="6375600" cy="5407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557360" y="530280"/>
            <a:ext cx="891216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                </a:t>
            </a: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Спасибо за внимание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2T06:14:09Z</dcterms:created>
  <dc:creator>ALBersenev@outlook.com</dc:creator>
  <dc:description/>
  <dc:language>en-US</dc:language>
  <cp:lastModifiedBy>ALBersenev@outlook.com</cp:lastModifiedBy>
  <dcterms:modified xsi:type="dcterms:W3CDTF">2017-04-23T06:25:59Z</dcterms:modified>
  <cp:revision>20</cp:revision>
  <dc:subject/>
  <dc:title>Божья коровка</dc:title>
</cp:coreProperties>
</file>