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94C-615E-48F3-896A-590ADCC3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54B-B5B2-4458-94AD-DD4CA04A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B9533-DBCC-4312-82CE-D86AC182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D0D4D-E5F0-49A2-B8AA-5FDACC7E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0A90B-2464-4ED1-8753-E9650C6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B16AE-4644-40BF-AB76-3B8E2F33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5C627-255E-4D54-BB77-BF3B62C7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EEC8E-9913-4EC4-9472-7FA0D79A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352D4-CA9D-429B-B078-82B2BA67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2D2BE-7E39-4275-8C69-048794D7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F4C10-B23C-43F9-966D-8BA0B80D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EF8F5-1F2B-4B97-AC58-9FEF1158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058-FAAC-44C4-BDA4-0C05949B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C3F1F-1F30-49EE-B943-F0CFDF7C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DD328-61D9-4332-AC8A-F71131B7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2D0E5-B4E2-465D-A1B2-B4F3D8A5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88A1F-FC46-4D5B-8C82-50F5E7A6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5027C-EEA3-40E9-8584-97088FAD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61D47-ECD0-45AC-8AC3-3ADEA73C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2A3B8-2239-4011-8982-757177A8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47A08-53EE-412D-BDC4-61BDB24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1C05A-347B-475C-BDB3-C08F2E61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C6FA7-5BD8-4A44-9DB1-101550E5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5E2-4177-460B-ADE6-6F56BF36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DB806-8B9D-47E3-A52F-262A3C3A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EF518-98FC-4F29-9351-84873D3C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CCB9C-C114-44C2-A380-4C53E80A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82DB5-A273-45C9-A23D-84F4F0D9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7DED9-72BA-426A-AEAE-39E0737C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56255-38E0-4B63-9039-B5D203F0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5B6AA-044D-4167-BABC-11A603CE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54CDB-623B-496E-A236-E80BD426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7B620-0416-42C6-A3C9-C226F379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EF69E-1877-4A2D-A883-0AEAF8E7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802E-5397-4840-8BE5-136427CF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439E4-BD46-4107-9D2B-4BD10DB7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257B7-34CE-42F2-A7DA-778A7341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C7379-6DD8-45F5-A933-30A55311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3882C-B068-4F88-84BF-9603D963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C7256-62F0-4FED-A449-B41BFD9D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20032-4484-447C-8165-EDBFA0F9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7EE09-F4F4-40C0-87FE-9C0FFB6F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CB08A-8819-4F86-A993-440C3F4C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6534D-01CB-46A7-BE84-1EFEB570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36F8B-7868-4B53-A286-31C812E5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A9E9-840B-4E87-B515-8C7FF9AA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CABD0-ADB6-4B9D-90A0-AF08786E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24D05-D86F-471C-9CAA-95927B71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9E3AB-37DE-4722-BE3B-496A2469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1C694-593E-4A72-A4A4-4C424A92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216C1-8B0F-4D03-B728-088076FE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25834-073F-4C1E-9D7D-D58A934C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EA555-1B36-4D18-B0DF-9C9B3AA9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4B35D-4548-41CE-936F-4A51FEE3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06C93-3004-490D-B795-6046BD67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BAC14-F526-4D31-8FA9-3FDE5756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89D9-129C-4CCE-92B7-F9A3F608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4AA41-B00F-43EA-AEA4-250C32B4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F23F5-5571-4E01-8506-F32A59EB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7CCC6-9249-4A90-AD78-03968064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8F094-380A-4926-A44A-1874A509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A7122-45AF-4168-B33D-811A269D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410A0-ECAE-4359-8C77-0BCCD703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4F5FB-8C47-40D5-BB32-CEFCB315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E55E7-3DFF-4639-B438-88817795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257D1-C831-4855-B8A1-17B221D3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CA197-B636-4049-A58C-1DEE9B69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DCC7-AA7E-4CD6-8FD2-5DBAA276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9DF46-15F6-4CBA-AE07-5F8D6E4C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17D81-7C31-4A0C-9208-04F0812D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96ADC-D4FF-44C7-84CE-6F44C3CB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408A7-7E08-4D15-8DF5-76FFDFDE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72783-5051-43FE-831A-E839241E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C5E300-E011-4423-9AE5-5B7D8859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8D7E7-92A8-4676-A05E-8F557DE9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68E5A-7E33-40F0-85AE-C7D698E5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5B943-F86E-41BD-BC72-5F5402F2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BC607-76AE-411B-9A88-99D82C4F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4776-F82C-4DF2-B599-B4C39E4A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4AB38-6527-47B2-91BF-7D8A0066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7BC95-777D-4D17-A124-65828662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8B9A8A-0398-468B-9DA6-1757287B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FBF00-D181-448E-BC60-5E94C3D3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5279D-E33A-40ED-9867-431E1864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F3EE3-5770-44A4-8CB5-C22E21C4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08913-A35E-4568-9172-1A625A5D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E5908-25F8-45D6-96F0-3F0A26B5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2291F-2137-48C1-B230-75238A47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231C6-2067-47A4-9834-6B64A4DC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6D44-30DA-46A6-86C2-BC5DE097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BA5918-66F3-4D1E-B5CF-7C85F991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7DB0D-E4BA-4310-8649-FA0B2C11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DCBA2-17B6-4119-9917-F480C291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18F1C7-4BE2-4BB6-A65B-2343B5C3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A1216-FC3D-40A3-812F-587A609D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8BCED-D6D3-4D9D-94FB-19B4D46B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408BD4-BF65-47F6-B7AD-16489DD8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B3B3E-D73B-4EA7-A1E0-A80A57A3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9F4369-0696-4CCA-90F1-452D043E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6EB62-1274-483B-B66E-89DBD6FD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2277-70B1-45F4-B64D-732197EC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2C7C7-A0E4-4459-8512-C1B814D5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06BEF6-FF48-4C15-A475-38E534BD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37310-6F51-40EC-8153-FA297DE6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152BD-56C2-4034-83A0-F496CC28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D1AB04-9902-4A38-AC3E-11CB693F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47991D-0353-4678-9442-A2BDBD25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72884-0E16-48A6-8D08-7BAB236B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216AB-A7B9-4330-8CD0-24ABE13A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44E2BF-EF71-4389-8896-A829D2A2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2C082-BAA0-4181-8620-DCED856E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6E5-7270-4907-B075-16CCA019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AF01-196C-4053-877A-0565C200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49F996-63FA-412A-B342-BE990EEA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058B4-F273-4371-AC8C-1F4727EF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8CB94-FB2E-406F-9E74-04D8FCF3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3BA3F-12AF-4DAB-985E-EEDCCA40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0F156F-886C-4E27-AA65-97E81174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194F-7402-4892-9BD0-045BCE59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EC74-D3ED-4C45-8D06-00BB00CD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0A70-BE2C-4FF5-BAF4-93509567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C8C1-7100-4185-953B-F17D3A31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47C8-1BAD-4384-9D4D-150CA8EC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7C360-4318-4000-B948-2D1EDDAB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1B0E-BCBC-494A-BE26-D2DFB79B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2E86B-C55F-4444-97D0-EB03E51F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7634-36D3-43DC-B52B-40521CCB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C6C-418F-4875-A042-E1DBB95B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CDC0-EB09-478E-979B-68C7D32D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3715-E7F0-42EB-BAC6-418C2256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6BC8C-49F4-48CF-BDDA-04BDD2A8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9D8F-5447-4F36-B8DE-1967F0D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4F6F-BC53-4367-9E7C-4C68A2CB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2181-FA1F-43DE-B9E6-669FE495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8A30-3364-4496-ABC8-C3A04745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D92C-057B-4210-96B6-019640DB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806F-D30F-4328-AF80-95CD6A6C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4810B-449E-4DE2-8D06-CF3F740B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45F-AD43-4F00-9B54-46DF7FF7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3C2C2-7E3F-4BDA-9ED0-3595CDCA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6FC64-D04D-4799-91BB-92917074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31CF-E1D8-4D5E-9E78-88B94425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C976-78A3-4D9E-848F-D3AE7698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564D-8AFB-412F-A65F-DD55D644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4D20D-277D-4B2F-9988-C7749ECD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74FD1-96DD-4719-9AEC-DC35A6E6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922E5-BC3B-43A0-8FD7-5E429A0F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0E77-8313-428B-B71C-752F2ED3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A987D-1637-4688-BF58-7EC317B2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732-8455-4955-948E-17842032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3B53F-B20F-42B1-B488-E5221596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37056-461B-4CFC-8D3F-8218627B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01139-2786-4B34-B070-0DA15B7F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E255A-E587-46D2-A770-3A91ACC8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836C4-FA84-43D9-9C28-9F2263E2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8F860-AEA8-4D57-AA0B-67522244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4C1ED-C7BF-4D7C-A06B-C8C4FF1F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FF0EF-CF17-4EBA-9796-9C3D675E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43EA5-568E-4C2C-BA20-AA0B51ED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F4098-0675-4449-9522-7B337E78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78B-7761-43B6-AE58-D9B344FE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C97FC-217B-408B-9060-B3A46E87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84AA-A51A-495D-B412-82316BAC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154A5-BFA5-49AF-8296-C56F8634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64B8-E609-49D1-B069-5A0D95D8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C6539-372F-4F2A-9547-5A47FEB6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08437-CFBE-4E37-9198-BC8DCD94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986C3-5146-49DE-82DA-F85F27CB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7C172-5730-4FC6-985D-C3FEAD6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5FCEE-94A6-4FFF-820B-B0531776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82EC9-1666-410F-8B75-3DB29132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8EE-1DE0-442C-8272-05C476A9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E80FA-422B-46F8-AE22-5FC7F220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DBA2A-2FC3-406D-ACFC-F693B037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75BDA-F4CA-4828-85C5-C92D7741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C2543-66B9-4A71-B13F-A6D6D875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2484F-CBEE-4ABF-A827-50312582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DFB6B-0E78-48EB-9663-33BAAAC3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0FA23-A705-4CFE-A824-116B70E1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DB793-2184-4B79-962A-1A3DECF1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FD69-0E9F-4792-8AC7-B0F97A95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FEA46-3FF5-4A33-8F8D-DCEBF96D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E81-3D93-4DB1-83A2-34F5A34F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7B886-795E-4E20-A9F4-DCF33A94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C6EEB-4EF6-4087-A957-ABA114AB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02270-4E54-4E1A-908C-90A49BEE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BB5B0-3C0B-4610-8332-E3AB5020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E9127-A710-4CD8-8F7E-E6A31AC2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0A5D8-EC9B-4C2C-B3B5-814332A8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43551-519D-40CA-9810-10673D02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C0EF0-0866-4A56-8D01-556B95E5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CDD42-8D2C-4F02-B76A-D9AC5193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E84B4-63F1-427E-B638-7A71C1CE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D90-C99B-4928-B38D-6EAACDF7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4E2A4-B657-47DF-87A4-298A6310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AC5B8-D122-4C5C-AED3-788AB6B8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7E199-6354-4D68-9BF5-32E4AD67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36728-58D8-456C-B8D8-4A4607FA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55DDB-C85E-4B70-9B9F-5923B296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7E04E-C4BB-4D4D-8A49-F811A922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A3B6A-50A3-425B-A313-4B783702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E795B-D5B2-4976-82DC-371E03E7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EEDB8-C4F9-4E7B-A0DD-4C8AA4C1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C0035-F60D-4B59-89AD-89055B35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B66C-BB35-41FE-BE60-66EE441BF0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1FBD-6525-4C38-BF13-F186A6032E6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CB33-8C9D-43A3-A657-9E0E053B3FA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BEC9-3463-457C-82A7-8037A21FCE1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4796-7679-448C-9A92-FF63421EB6C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21A9-792D-4474-BCF2-919A7E6927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6992-EC7C-4CD7-9460-CE136B7856C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E429-2B79-4AF5-9706-5983E32228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D9DD-A44F-4A6C-85CF-58CFD928C77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8C82-EB71-473D-A951-4AB2A0F54A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8A1D-9F41-4C24-AB6E-1CE9395E7EF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2F5A-5A6A-48DF-B76B-E335E2221EA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08A9-2512-40EE-A23F-810B5B0360C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2823-429F-4058-AF90-EAAE7026D5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23F7-9074-48C6-9650-D901F8124C8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5DE1-13DB-4959-BA6C-B5B9388BE1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2815-F40C-454E-8929-BB9BE1CA1FF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048040" y="0"/>
            <a:ext cx="764064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8dbb"/>
                </a:solidFill>
                <a:latin typeface="Century Gothic"/>
              </a:rPr>
              <a:t>           </a:t>
            </a:r>
            <a:r>
              <a:rPr b="0" lang="ru-RU" sz="4000" spc="-1" strike="noStrike">
                <a:solidFill>
                  <a:srgbClr val="178dbb"/>
                </a:solidFill>
                <a:latin typeface="Century Gothic"/>
              </a:rPr>
              <a:t>Бабочки Моли</a:t>
            </a:r>
            <a:endParaRPr b="0" lang="en-US" sz="40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688680" y="4665240"/>
            <a:ext cx="25034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Сделал презентацию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Ученик 2 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A</a:t>
            </a: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 класса МОУ лицея №35 Берсенев Леонид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Рисунок 3" descr=""/>
          <p:cNvPicPr/>
          <p:nvPr/>
        </p:nvPicPr>
        <p:blipFill>
          <a:blip r:embed="rId1"/>
          <a:stretch/>
        </p:blipFill>
        <p:spPr>
          <a:xfrm>
            <a:off x="1546200" y="1052640"/>
            <a:ext cx="7585200" cy="555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623960" y="-36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              </a:t>
            </a: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Отряд чешуекрылых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90240" y="2092320"/>
            <a:ext cx="4397400" cy="34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оли относятся к отряду чешуекрылых. Представители этого отряда отличаются наличием у взрослых особей густого покрова из хитиновых чешуек, расположенных на передних и задних крыльях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1" name="Рисунок 3" descr=""/>
          <p:cNvPicPr/>
          <p:nvPr/>
        </p:nvPicPr>
        <p:blipFill>
          <a:blip r:embed="rId1"/>
          <a:stretch/>
        </p:blipFill>
        <p:spPr>
          <a:xfrm>
            <a:off x="5397480" y="735120"/>
            <a:ext cx="6667560" cy="418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650960" y="127080"/>
            <a:ext cx="10275840" cy="18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Отличительные особенности</a:t>
            </a:r>
            <a:br>
              <a:rPr sz="3600"/>
            </a:b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 бабочки мол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3" name="Прямоугольник 3"/>
          <p:cNvSpPr/>
          <p:nvPr/>
        </p:nvSpPr>
        <p:spPr>
          <a:xfrm>
            <a:off x="1138320" y="1398600"/>
            <a:ext cx="1019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се представители отряда чешуекрылых подразделяются на дневных и ночных бабочек. Те, которые ведут преимущественно сумеречный и ночной образ жизни, составляют семейство молей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Многие бабочки моли в квартире являются самым настоящим бедствием. В домах досаждают людям моли платяные, шубные, мебельные, зерновые, восковые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едставим вашему вниманию несколько видов мол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692360" y="-135000"/>
            <a:ext cx="891072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                    </a:t>
            </a: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Шубная моль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85" name="Рисунок 2" descr=""/>
          <p:cNvPicPr/>
          <p:nvPr/>
        </p:nvPicPr>
        <p:blipFill>
          <a:blip r:embed="rId1"/>
          <a:stretch/>
        </p:blipFill>
        <p:spPr>
          <a:xfrm>
            <a:off x="235080" y="747720"/>
            <a:ext cx="6399000" cy="5707080"/>
          </a:xfrm>
          <a:prstGeom prst="rect">
            <a:avLst/>
          </a:prstGeom>
          <a:ln w="0">
            <a:noFill/>
          </a:ln>
        </p:spPr>
      </p:pic>
      <p:sp>
        <p:nvSpPr>
          <p:cNvPr id="1186" name="Прямоугольник 3"/>
          <p:cNvSpPr/>
          <p:nvPr/>
        </p:nvSpPr>
        <p:spPr>
          <a:xfrm>
            <a:off x="6634080" y="747720"/>
            <a:ext cx="566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то чешуекрылое окрашено в глиняно-желтый цвет с блеском. Размах крыльев составляет примерно пятнадцать-шестнадцать миллиметров. Это довольно красивая бабочка-моль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7" name="Прямоугольник 5"/>
          <p:cNvSpPr/>
          <p:nvPr/>
        </p:nvSpPr>
        <p:spPr>
          <a:xfrm>
            <a:off x="6634080" y="2955960"/>
            <a:ext cx="5110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итается личинка шубной моли  натуральным мехом, за что и получила своё название. Проползая по шкурке, она подгрызает все попадающиеся на пути шерстинки. Так что, повесив в шкаф новенькую пушистую шубку, можно спустя время достать абсолютно лысую вещиц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911240" y="100080"/>
            <a:ext cx="891072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               </a:t>
            </a: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Платяная моль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9" name="Прямоугольник 3"/>
          <p:cNvSpPr/>
          <p:nvPr/>
        </p:nvSpPr>
        <p:spPr>
          <a:xfrm>
            <a:off x="5257800" y="954000"/>
            <a:ext cx="666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ина тела у взрослого насекомого этого вида составляет от 5 до 8 мм, а размах крыльев достигает 1,6 см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ельце моли бежевого цвета с золотистыми шерстинками. На голове растут красновато-золотистые волоск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Живут они в натуральных тканях, объедая те места материи, которые не видны снаружи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амки платяной моли плохо летают. Поэтому они передвигаются прыжками, стараясь спрятаться в складках одежды. Заметив в жилище летающую платяную моль, можно быть уверенным, что это – самец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0" name="Рисунок 4" descr=""/>
          <p:cNvPicPr/>
          <p:nvPr/>
        </p:nvPicPr>
        <p:blipFill>
          <a:blip r:embed="rId1"/>
          <a:stretch/>
        </p:blipFill>
        <p:spPr>
          <a:xfrm>
            <a:off x="162000" y="1052640"/>
            <a:ext cx="5257800" cy="543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839960" y="-36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             </a:t>
            </a: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Мебельная моль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2" name="Прямоугольник 3"/>
          <p:cNvSpPr/>
          <p:nvPr/>
        </p:nvSpPr>
        <p:spPr>
          <a:xfrm>
            <a:off x="6915240" y="1089000"/>
            <a:ext cx="5276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зрослое насекомое этого вида имеет характерный блеск. У крылышек мебельной моли светло-желтый оттенок. Головка насекомого ржаво-желтая, буроватая ближе к началу крыльев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секомое обычно употребляет только набивку мебели. Развивается личинка круглогодично. За год самка способна отложить яйца до четырёх раз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3" name="Рисунок 5" descr=""/>
          <p:cNvPicPr/>
          <p:nvPr/>
        </p:nvPicPr>
        <p:blipFill>
          <a:blip r:embed="rId1"/>
          <a:stretch/>
        </p:blipFill>
        <p:spPr>
          <a:xfrm>
            <a:off x="241200" y="1089000"/>
            <a:ext cx="6375600" cy="540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557360" y="530280"/>
            <a:ext cx="89121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                </a:t>
            </a: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пасибо за вним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2T06:14:09Z</dcterms:created>
  <dc:creator>ALBersenev@outlook.com</dc:creator>
  <dc:description/>
  <dc:language>en-US</dc:language>
  <cp:lastModifiedBy>ALBersenev@outlook.com</cp:lastModifiedBy>
  <dcterms:modified xsi:type="dcterms:W3CDTF">2017-04-23T06:25:59Z</dcterms:modified>
  <cp:revision>20</cp:revision>
  <dc:subject/>
  <dc:title>Божья коровка</dc:title>
</cp:coreProperties>
</file>