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F52-C212-49C4-BB6B-35F59F45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FE3-F14E-476B-BBC3-A6B482FC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9D4-D799-45AC-8FFC-B60F8430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293-5727-4C7A-9D18-45287643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6DD-5C03-43B6-8A6E-D13ED001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D76-50E4-4560-B475-8E9798C3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FEE-AF5F-4618-8C07-83BEE6BC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A85-33C3-4111-A354-F1F75176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BD3-56EB-4803-8257-7246390B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1AA-39DE-4AF2-80EF-163BB08F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1BC-3BE6-4F1A-BC04-9790986D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3AD-D598-45ED-B1D4-89F27344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2AE3-A156-4F80-A6EF-180FB215D0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05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«дисграфия»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000" y="257328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опедическая помощь учащимся с нарушением пись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708360" y="4508640"/>
            <a:ext cx="4816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ыступление на родительском собрании во  2 класс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019400" y="5468760"/>
            <a:ext cx="481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-логопед Комарова Н.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700360" y="1268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жнение «Шифров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если не может запомнить правил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Каждой букве соответствует какое-то изображение: квадрат, треугольник, пляшущий человечек и т. п.то записывается в тетради. Надо написать записку другу так, чтобы хотя бы в одном слове присутствовало правило, которое мы отрабатыва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Например, чередование бер-бир. Весь текст записки шифруется, кроме БЕР или БИР. Друг должен понять, о чём ему написали, и ответить таким же образ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Картинки по запросу родители могут помочь в диктанте"/>
          <p:cNvPicPr/>
          <p:nvPr/>
        </p:nvPicPr>
        <p:blipFill>
          <a:blip r:embed="rId1"/>
          <a:stretch/>
        </p:blipFill>
        <p:spPr>
          <a:xfrm>
            <a:off x="-9360" y="4149720"/>
            <a:ext cx="2709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2920" y="1268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жнение «Зоопар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если не может применять правил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Играет несколько человек. Каждый выбирает себе животное и условный знак: например, рысь (руками изображает уши с кисточками), воробей (машет локтямикрыльями)... Все демонстрируют свои движения, остальные пытаются запомни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Тот, кто начинает игру, делает своё движение, затем движение кого-то из участников. Каждый должен это уловить, повторить своё движение и опять сделать движение кого-то из участников. Темп постепенно убыстряется. Тот, кто ошибается, отрабатывает фан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ублично поет, танцует, читает стихи и т. п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Картинки по запросу зоопарк картинки раскраска"/>
          <p:cNvPicPr/>
          <p:nvPr/>
        </p:nvPicPr>
        <p:blipFill>
          <a:blip r:embed="rId1"/>
          <a:srcRect l="0" t="0" r="54336" b="0"/>
          <a:stretch/>
        </p:blipFill>
        <p:spPr>
          <a:xfrm>
            <a:off x="0" y="4121280"/>
            <a:ext cx="2771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484360" y="836640"/>
            <a:ext cx="61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оощряйте игры и забавы детей, особенно ролевые игры. Дети учатся произвольно регулировать свои действия и поведение. Регуляция - основа грамот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Очень полезны прогулки на свежем воздухе. Свежий кислород улучшает работоспособ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нимайтесь спортом, танцами. Это развивает моторику, внимание и скорость реакции. А глубокое дыхание во время тренировок насыщает мозг кислород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олезны занятия музыкой (игра на инструментах) Развивается моторика рук и налаживается взаимодействие обоих полушарий мозг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осле школы почаще массируйте ребёнку шейную и затылочную область и давайте время отдохну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Чтение детской литературы способствует грамотному пись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Поздравляем с международным Днем Семьи!"/>
          <p:cNvPicPr/>
          <p:nvPr/>
        </p:nvPicPr>
        <p:blipFill>
          <a:blip r:embed="rId1"/>
          <a:srcRect l="12307" t="0" r="46686" b="13939"/>
          <a:stretch/>
        </p:blipFill>
        <p:spPr>
          <a:xfrm>
            <a:off x="108000" y="3932280"/>
            <a:ext cx="2627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923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Ваши совместные занятия обязательно благоприятно отразятся на грамотности ребенка и на общей успеваем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научить ребёнка писать без ошибок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0 % школьников делает те или иные ошибки на пись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"дисграфия» и «дисорфография» ,по некоторым данным, среди младших школьников в России составляет 30%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Картинки по запросу как научить писать без ошибок"/>
          <p:cNvPicPr/>
          <p:nvPr/>
        </p:nvPicPr>
        <p:blipFill>
          <a:blip r:embed="rId1"/>
          <a:stretch/>
        </p:blipFill>
        <p:spPr>
          <a:xfrm>
            <a:off x="179280" y="4221000"/>
            <a:ext cx="3565800" cy="25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Картинки по запросу как научить писать без ошибок"/>
          <p:cNvPicPr/>
          <p:nvPr/>
        </p:nvPicPr>
        <p:blipFill>
          <a:blip r:embed="rId2"/>
          <a:srcRect l="11812" t="50398" r="39757" b="0"/>
          <a:stretch/>
        </p:blipFill>
        <p:spPr>
          <a:xfrm>
            <a:off x="5435640" y="4221000"/>
            <a:ext cx="33130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7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Дисграф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тойкие специфические ошибки на письме</a:t>
            </a:r>
            <a:br>
              <a:rPr sz="2800"/>
            </a:b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Дисорфограф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пецифическое нарушение орфографического навыка письма у детей с сохранным интеллектом и устной реч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11280" y="4076640"/>
            <a:ext cx="4608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 знает правила русского языка, а применить их не мож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 просто не знает правил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Картинки по запросу как научить писать без ошибок"/>
          <p:cNvPicPr/>
          <p:nvPr/>
        </p:nvPicPr>
        <p:blipFill>
          <a:blip r:embed="rId1"/>
          <a:stretch/>
        </p:blipFill>
        <p:spPr>
          <a:xfrm>
            <a:off x="-246240" y="4221000"/>
            <a:ext cx="3961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ипы дисграфических ошиб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63280" y="105264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шибки в ударных слогах ("рОдость" вместо "рАдость"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пуск бук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описывание слов и букв ("стака..." вместо "стакаН"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становка слогов ("ябколо" вместо "яблоко"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торение одной и той же буквы ("магазиМ" вместо "магазин"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квы "б", "в", "э", "з", цифры "4", "3", "5" перевернуты в другую сторону (зеркальное письмо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бывание и пропуск редко встречающихся букв ("ъ" и "э"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не замечает" поля и продолжает писать до самого края тетрад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Съезжает" со строчек к концу предлож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носит слова неправильн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асто не делает пробелов между слов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замечает конца предложения, не ставит точки, продолжает писать следующее с маленькой букв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Картинки по запросу типы дисграфических ошибок"/>
          <p:cNvPicPr/>
          <p:nvPr/>
        </p:nvPicPr>
        <p:blipFill>
          <a:blip r:embed="rId1"/>
          <a:stretch/>
        </p:blipFill>
        <p:spPr>
          <a:xfrm>
            <a:off x="2627280" y="1700280"/>
            <a:ext cx="619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19640" y="1557360"/>
            <a:ext cx="540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жнение «Волшебный диктант» (если ученик пропускает букв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зрослый читает предложение или его часть (3-4 слова). Ребенок простукивает слоги (ма-ма, мы-ла, ра-му), чтобы уловить ритм предложения. Затем записывает предложение графически, где слова в виде линий. Следующий этап — нужно записать каждое слово в виде точек (по количеству букв в слове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Картинки по запросу волшебный диктант"/>
          <p:cNvPicPr/>
          <p:nvPr/>
        </p:nvPicPr>
        <p:blipFill>
          <a:blip r:embed="rId1"/>
          <a:stretch/>
        </p:blipFill>
        <p:spPr>
          <a:xfrm>
            <a:off x="-28440" y="3789360"/>
            <a:ext cx="33829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95280" y="1268280"/>
            <a:ext cx="5437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жнение «Образ сл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если не дописывает оконча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зрослый говорит слово и просит ребенка назвать слово, которое начинается на предпоследнюю букву. Или на третью от конца. Или на ту букву, которую надо запомнить в словарном слове: например, в слове кОрабль — на вторую букву. Слова можно подбирать на одну тему (например, животные, растения) — это будет хорошей тренировкой в классификации. 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Похожее изображение"/>
          <p:cNvPicPr/>
          <p:nvPr/>
        </p:nvPicPr>
        <p:blipFill>
          <a:blip r:embed="rId1"/>
          <a:srcRect l="57751" t="45186" r="7620" b="18273"/>
          <a:stretch/>
        </p:blipFill>
        <p:spPr>
          <a:xfrm>
            <a:off x="0" y="4149720"/>
            <a:ext cx="3059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00000" y="1052640"/>
            <a:ext cx="62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жнение «Мультфиль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если ошибки в словарных слова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Ребёнку нужно мысленно сочинить очень смешной мультфильм, в котором по порядку будут появляться предметы, которые вы назовёте. Ребёнок закрывает глаза, а вы начинаете диктовать словарные слова, очень чётко проговаривая все безударные гласные, непроизносимые согласные и другие сложные случаи: кOрабль, кOрOва, лесТница, кОрзина... Он их увязывает в голове в какой-то смешной сюжет, потом открывает глаза и рассказывает свой мультфиль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осле этого ребенок, вспоминая придуманный им сюжет, должен написать все эти слова. Затем — самопроверка: даёте ребенку образец, по которому диктовали, и предлагаете проверить, верно ли он написал. Можно нарисовать «трудные слов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4221000"/>
            <a:ext cx="2575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одители могут помо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31640" y="184464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жнение «Слова на букв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если не дописывает оконча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зрослый говорит слово и просит ребенка назвать слово, которое начинается на предпоследнюю букву. Или на третью от конца. Или на ту букву, которую надо запомнить в словарном слове: например, в слове кОрабль — на вторую букву. Слова можно подбирать на одну тему (например, животные, растения) — это будет хорошей тренировкой в классификации. 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Картинки по запросу советы родителям"/>
          <p:cNvPicPr/>
          <p:nvPr/>
        </p:nvPicPr>
        <p:blipFill>
          <a:blip r:embed="rId1"/>
          <a:stretch/>
        </p:blipFill>
        <p:spPr>
          <a:xfrm>
            <a:off x="0" y="4019400"/>
            <a:ext cx="2857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/>
  <dc:description/>
  <dc:language>en-US</dc:language>
  <cp:lastModifiedBy>user</cp:lastModifiedBy>
  <cp:lastPrinted>2017-05-17T07:01:50Z</cp:lastPrinted>
  <dcterms:modified xsi:type="dcterms:W3CDTF">2017-05-19T14:05:58Z</dcterms:modified>
  <cp:revision>35</cp:revision>
  <dc:subject/>
  <dc:title>Что такое «дисграфия»?</dc:title>
</cp:coreProperties>
</file>