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0.png" ContentType="image/png"/>
  <Override PartName="/ppt/media/image2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048-83D7-475A-850A-1C492412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1C6-8F08-45CE-BFB7-29E508F6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A29-73CB-447D-A33F-595A0088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FB8-C83F-4CF2-9D00-3551095C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B5D-0BD0-4849-BC27-6C52F5DD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26D-F12C-4729-8E37-90335FF0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FA9-E014-4CBA-B9D1-2F2EC2D7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37C-0E0C-4608-84A7-E65AE9B1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FDB-D194-4042-A034-5225AB6A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3AE-C9C5-4A5D-A03C-02FF57A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35C-51A9-4FEF-8D75-75EB007D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B37-6CD9-40E1-85B1-36C624D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3591-5C75-4417-8F8A-B497EDEAD62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8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1"/>
          <p:cNvPicPr/>
          <p:nvPr/>
        </p:nvPicPr>
        <p:blipFill>
          <a:blip r:embed="rId2"/>
          <a:stretch/>
        </p:blipFill>
        <p:spPr>
          <a:xfrm>
            <a:off x="2124000" y="836640"/>
            <a:ext cx="4753080" cy="4968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195640" y="1341360"/>
            <a:ext cx="3311280" cy="647640"/>
          </a:xfrm>
          <a:prstGeom prst="rect">
            <a:avLst/>
          </a:prstGeom>
          <a:solidFill>
            <a:srgbClr val="99cc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Calibri"/>
              </a:rPr>
              <a:t>День знаний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979640" y="2205000"/>
            <a:ext cx="48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Monotype Corsiva"/>
              </a:rPr>
              <a:t>Мы снова вместе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7" descr="1"/>
          <p:cNvPicPr/>
          <p:nvPr/>
        </p:nvPicPr>
        <p:blipFill>
          <a:blip r:embed="rId3"/>
          <a:stretch/>
        </p:blipFill>
        <p:spPr>
          <a:xfrm>
            <a:off x="3132000" y="3152880"/>
            <a:ext cx="2629080" cy="21859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1266840"/>
            <a:ext cx="1018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ИКРЁТЯП АН ЯСЬТИЧУ УЧОХ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Хочу учиться на пятёрки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4" descr="http://www.alfapotolok.ru/content/images/gallery2/source/img5940_1326520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16"/>
          <p:cNvPicPr/>
          <p:nvPr/>
        </p:nvPicPr>
        <p:blipFill>
          <a:blip r:embed="rId2"/>
          <a:srcRect l="0" t="0" r="0" b="9369"/>
          <a:stretch/>
        </p:blipFill>
        <p:spPr>
          <a:xfrm>
            <a:off x="684360" y="692280"/>
            <a:ext cx="7704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http://stat20.privet.ru/lr/0b2b743ed2f2376d79b3f33729a21dca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druzya.wmv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5765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http://stat20.privet.ru/lr/0b2b743ed2f2376d79b3f33729a21dca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938160" y="1006560"/>
            <a:ext cx="7016760" cy="5199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http://new.gymn470.ru/wp-content/uploads/2011/03/zvonok13.png"/>
          <p:cNvPicPr/>
          <p:nvPr/>
        </p:nvPicPr>
        <p:blipFill>
          <a:blip r:embed="rId3"/>
          <a:stretch/>
        </p:blipFill>
        <p:spPr>
          <a:xfrm>
            <a:off x="5283360" y="0"/>
            <a:ext cx="386064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57240">
            <a:solidFill>
              <a:srgbClr val="33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Лесен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3"/>
          <p:cNvPicPr/>
          <p:nvPr/>
        </p:nvPicPr>
        <p:blipFill>
          <a:blip r:embed="rId1"/>
          <a:stretch/>
        </p:blipFill>
        <p:spPr>
          <a:xfrm>
            <a:off x="2627280" y="1628640"/>
            <a:ext cx="3888000" cy="50403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s55.radikal.ru/i147/1304/a8/3901541361b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http://www.alfapotolok.ru/content/images/gallery2/source/img5940_132652034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4" descr=""/>
          <p:cNvPicPr/>
          <p:nvPr/>
        </p:nvPicPr>
        <p:blipFill>
          <a:blip r:embed="rId3"/>
          <a:stretch/>
        </p:blipFill>
        <p:spPr>
          <a:xfrm>
            <a:off x="536400" y="189000"/>
            <a:ext cx="87901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4" descr="http://www.alfapotolok.ru/content/images/gallery2/source/img5940_1326520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99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Calibri"/>
              </a:rPr>
              <a:t>От улыбки станет всем свет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6" descr="http://img0.liveinternet.ru/images/attach/c/7/98/97/98097560_large_0a278f4f01c3ce52c4ee53e874a7e8b4.jpg"/>
          <p:cNvPicPr/>
          <p:nvPr/>
        </p:nvPicPr>
        <p:blipFill>
          <a:blip r:embed="rId2"/>
          <a:stretch/>
        </p:blipFill>
        <p:spPr>
          <a:xfrm>
            <a:off x="3851280" y="1089000"/>
            <a:ext cx="5292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http://stat20.privet.ru/lr/0b2b743ed2f2376d79b3f33729a21dca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-1474920" y="-1036800"/>
            <a:ext cx="5175360" cy="48704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1957320" y="3524400"/>
            <a:ext cx="39798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611280" y="4724280"/>
            <a:ext cx="189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реп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1187280" y="530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любознатель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4859280" y="479736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ктив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6622920" y="5877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частлив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472000" y="5300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амостоятель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2484360" y="5877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ртистич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Прямая соединительная линия 13"/>
          <p:cNvSpPr/>
          <p:nvPr/>
        </p:nvSpPr>
        <p:spPr>
          <a:xfrm>
            <a:off x="2411280" y="4797360"/>
            <a:ext cx="7207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Прямая соединительная линия 14"/>
          <p:cNvSpPr/>
          <p:nvPr/>
        </p:nvSpPr>
        <p:spPr>
          <a:xfrm>
            <a:off x="2916360" y="4797360"/>
            <a:ext cx="7189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ая соединительная линия 15"/>
          <p:cNvSpPr/>
          <p:nvPr/>
        </p:nvSpPr>
        <p:spPr>
          <a:xfrm>
            <a:off x="3492360" y="4797360"/>
            <a:ext cx="71928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ая соединительная линия 16"/>
          <p:cNvSpPr/>
          <p:nvPr/>
        </p:nvSpPr>
        <p:spPr>
          <a:xfrm>
            <a:off x="3924360" y="4797360"/>
            <a:ext cx="7189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ая соединительная линия 17"/>
          <p:cNvSpPr/>
          <p:nvPr/>
        </p:nvSpPr>
        <p:spPr>
          <a:xfrm>
            <a:off x="4356000" y="4797360"/>
            <a:ext cx="7207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17" descr="F:\0ix0ay_BX2o.jpg"/>
          <p:cNvPicPr/>
          <p:nvPr/>
        </p:nvPicPr>
        <p:blipFill>
          <a:blip r:embed="rId4"/>
          <a:stretch/>
        </p:blipFill>
        <p:spPr>
          <a:xfrm>
            <a:off x="2340000" y="-387360"/>
            <a:ext cx="6804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http://img-fotki.yandex.ru/get/5410/29942221.4e/0_5d1c6_50d0ca8_XL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НАСТОЯЩИЙ ДРУ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612840" y="4797360"/>
            <a:ext cx="2043000" cy="642600"/>
          </a:xfrm>
          <a:prstGeom prst="rect">
            <a:avLst/>
          </a:prstGeom>
          <a:solidFill>
            <a:srgbClr val="ffff00"/>
          </a:solidFill>
          <a:ln w="57240">
            <a:solidFill>
              <a:srgbClr val="2b7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ерн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227640" y="1844640"/>
            <a:ext cx="2751120" cy="1191240"/>
          </a:xfrm>
          <a:prstGeom prst="rect">
            <a:avLst/>
          </a:prstGeom>
          <a:solidFill>
            <a:srgbClr val="99ffcc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зывчив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1960" y="4724280"/>
            <a:ext cx="2155680" cy="642600"/>
          </a:xfrm>
          <a:prstGeom prst="rect">
            <a:avLst/>
          </a:prstGeom>
          <a:solidFill>
            <a:srgbClr val="4f81bd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честн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79280" y="1773360"/>
            <a:ext cx="3259080" cy="1191240"/>
          </a:xfrm>
          <a:prstGeom prst="rect">
            <a:avLst/>
          </a:prstGeom>
          <a:solidFill>
            <a:srgbClr val="ff99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нимательн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269800" y="5950080"/>
            <a:ext cx="4687200" cy="642600"/>
          </a:xfrm>
          <a:prstGeom prst="rect">
            <a:avLst/>
          </a:prstGeom>
          <a:solidFill>
            <a:srgbClr val="ff99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оброжелательн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658240" y="2708280"/>
            <a:ext cx="3518280" cy="64260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внодушн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17880" y="1700280"/>
            <a:ext cx="1732320" cy="642600"/>
          </a:xfrm>
          <a:prstGeom prst="rect">
            <a:avLst/>
          </a:prstGeom>
          <a:solidFill>
            <a:srgbClr val="99ff66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гоис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300720" y="3213000"/>
            <a:ext cx="2660760" cy="1191240"/>
          </a:xfrm>
          <a:prstGeom prst="rect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хвастлив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94480" y="3141720"/>
            <a:ext cx="2103840" cy="642600"/>
          </a:xfrm>
          <a:prstGeom prst="rect">
            <a:avLst/>
          </a:prstGeom>
          <a:solidFill>
            <a:srgbClr val="00cc99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жадн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286800" y="3860640"/>
            <a:ext cx="225936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енив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904840" y="4941720"/>
            <a:ext cx="3245400" cy="6426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авистливы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16" descr="20"/>
          <p:cNvPicPr/>
          <p:nvPr/>
        </p:nvPicPr>
        <p:blipFill>
          <a:blip r:embed="rId2"/>
          <a:stretch/>
        </p:blipFill>
        <p:spPr>
          <a:xfrm>
            <a:off x="2627280" y="2708280"/>
            <a:ext cx="3737160" cy="2952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87" name="Picture 24" descr="http://new.gymn470.ru/wp-content/uploads/2011/03/zvonok13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2746200">
            <a:off x="7299000" y="5300280"/>
            <a:ext cx="155736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4" descr="http://www.alfapotolok.ru/content/images/gallery2/source/img5940_1326520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Monotype Corsiva"/>
              </a:rPr>
              <a:t>Законы дружб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4920" y="1341000"/>
            <a:ext cx="8497800" cy="5070600"/>
          </a:xfrm>
          <a:prstGeom prst="rect">
            <a:avLst/>
          </a:prstGeom>
          <a:solidFill>
            <a:srgbClr val="dbeef4"/>
          </a:solidFill>
          <a:ln w="3240">
            <a:solidFill>
              <a:srgbClr val="215968"/>
            </a:solidFill>
            <a:miter/>
          </a:ln>
        </p:spPr>
        <p:txBody>
          <a:bodyPr anchor="t">
            <a:normAutofit/>
          </a:bodyPr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омогай другу в бе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мей с другом разделить рад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е смейся над недостатками дру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станови друга, если он делает что-то плох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мей принять помощь, сов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е обманывай дру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е предавай дру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тносись к другу как к себ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63480" y="635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0040" y="476280"/>
            <a:ext cx="58150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имей сто рублей, а им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588000" y="1484280"/>
            <a:ext cx="2322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о друз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02320" y="1484280"/>
            <a:ext cx="3294360" cy="581400"/>
          </a:xfrm>
          <a:prstGeom prst="rect">
            <a:avLst/>
          </a:prstGeom>
          <a:solidFill>
            <a:srgbClr val="4f81bd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г познает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386120" y="5445000"/>
            <a:ext cx="15202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бед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2160" y="2349360"/>
            <a:ext cx="6924600" cy="581400"/>
          </a:xfrm>
          <a:prstGeom prst="rect">
            <a:avLst/>
          </a:prstGeom>
          <a:solidFill>
            <a:srgbClr val="ff99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вых друзей наживай, а стары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927840" y="4221000"/>
            <a:ext cx="19972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теря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0560" y="3284640"/>
            <a:ext cx="608616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друга - ищи, а найдешь –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7291080" y="2349360"/>
            <a:ext cx="16786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рег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79280" y="4221000"/>
            <a:ext cx="6624720" cy="1068840"/>
          </a:xfrm>
          <a:prstGeom prst="rect">
            <a:avLst/>
          </a:prstGeom>
          <a:solidFill>
            <a:srgbClr val="00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жба, как стекло, разобьешь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372360" y="476280"/>
            <a:ext cx="25034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ложиш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7160" y="5445000"/>
            <a:ext cx="6668280" cy="581400"/>
          </a:xfrm>
          <a:prstGeom prst="rect">
            <a:avLst/>
          </a:prstGeom>
          <a:solidFill>
            <a:srgbClr val="ffcccc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без друзей, что дерев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468120" y="3284640"/>
            <a:ext cx="24818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корн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5434E-006 L -0.0816 -0.14058 E">
                                      <p:cBhvr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L 8.33333E-007 0.14682 E">
                                      <p:cBhvr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64162E-006 L -0.41441 -0.58104 E">
                                      <p:cBhvr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51445E-007 L 0.02864 0.74035 E">
                                      <p:cBhvr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62428E-007 L 0.0033 -0.26659 E">
                                      <p:cBhvr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62 0.04185 L -0.02222 0.2726 E">
                                      <p:cBhvr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67052E-007 L -0.12135 0.13202 E">
                                      <p:cBhvr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29 0.0252 L 0.02379 0.13642 E">
                                      <p:cBhvr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44 L 0.03316 0.54544 E">
                                      <p:cBhvr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27746E-006 L -0.00452 0.32093 E">
                                      <p:cBhvr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5:11:23Z</dcterms:created>
  <dc:creator>мама</dc:creator>
  <dc:description/>
  <dc:language>en-US</dc:language>
  <cp:lastModifiedBy>Вера Ф. Лысова</cp:lastModifiedBy>
  <dcterms:modified xsi:type="dcterms:W3CDTF">2016-09-01T05:07:35Z</dcterms:modified>
  <cp:revision>86</cp:revision>
  <dc:subject/>
  <dc:title>День знаний</dc:title>
</cp:coreProperties>
</file>