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6.png" ContentType="image/png"/>
  <Override PartName="/ppt/media/image23.jpeg" ContentType="image/jpe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14.jpeg" ContentType="image/jpeg"/>
  <Override PartName="/ppt/media/image5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5.png" ContentType="image/png"/>
  <Override PartName="/ppt/media/image3.jpeg" ContentType="image/jpeg"/>
  <Override PartName="/ppt/media/image25.jpeg" ContentType="image/jpeg"/>
  <Override PartName="/ppt/media/image2.png" ContentType="image/png"/>
  <Override PartName="/ppt/media/image27.png" ContentType="image/png"/>
  <Override PartName="/ppt/media/image4.png" ContentType="image/png"/>
  <Override PartName="/ppt/media/image12.jpeg" ContentType="image/jpeg"/>
  <Override PartName="/ppt/media/image6.png" ContentType="image/png"/>
  <Override PartName="/ppt/media/image11.png" ContentType="image/png"/>
  <Override PartName="/ppt/media/image48.png" ContentType="image/png"/>
  <Override PartName="/ppt/media/image43.png" ContentType="image/png"/>
  <Override PartName="/ppt/media/image57.jpeg" ContentType="image/jpeg"/>
  <Override PartName="/ppt/media/image47.png" ContentType="image/png"/>
  <Override PartName="/ppt/media/image49.jpeg" ContentType="image/jpeg"/>
  <Override PartName="/ppt/media/image50.png" ContentType="image/png"/>
  <Override PartName="/ppt/media/image13.png" ContentType="image/png"/>
  <Override PartName="/ppt/media/image45.png" ContentType="image/png"/>
  <Override PartName="/ppt/media/image46.jpeg" ContentType="image/jpeg"/>
  <Override PartName="/ppt/media/image51.jpeg" ContentType="image/jpeg"/>
  <Override PartName="/ppt/media/image42.jpeg" ContentType="image/jpeg"/>
  <Override PartName="/ppt/media/image52.png" ContentType="image/png"/>
  <Override PartName="/ppt/media/image30.jpeg" ContentType="image/jpeg"/>
  <Override PartName="/ppt/media/image53.png" ContentType="image/png"/>
  <Override PartName="/ppt/media/image55.jpeg" ContentType="image/jpeg"/>
  <Override PartName="/ppt/media/image56.png" ContentType="image/png"/>
  <Override PartName="/ppt/media/image41.png" ContentType="image/png"/>
  <Override PartName="/ppt/media/image44.png" ContentType="image/png"/>
  <Override PartName="/ppt/media/image40.jpeg" ContentType="image/jpeg"/>
  <Override PartName="/ppt/media/image39.png" ContentType="image/png"/>
  <Override PartName="/ppt/media/image9.png" ContentType="image/png"/>
  <Override PartName="/ppt/media/image33.png" ContentType="image/png"/>
  <Override PartName="/ppt/media/image10.jpeg" ContentType="image/jpeg"/>
  <Override PartName="/ppt/media/image8.jpeg" ContentType="image/jpeg"/>
  <Override PartName="/ppt/media/image38.jpeg" ContentType="image/jpeg"/>
  <Override PartName="/ppt/media/image28.png" ContentType="image/png"/>
  <Override PartName="/ppt/media/image5.png" ContentType="image/png"/>
  <Override PartName="/ppt/media/image35.png" ContentType="image/png"/>
  <Override PartName="/ppt/media/image7.png" ContentType="image/png"/>
  <Override PartName="/ppt/media/image37.png" ContentType="image/png"/>
  <Override PartName="/ppt/media/image3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5F92-7B5E-4A1F-9908-E202A446B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2D49-B8CD-488A-BABF-257C79144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877B-DB75-4296-A986-B10153DF1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756D-9E28-4B32-9CEF-DE9CB8E31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3C070-EAEC-49B9-824F-BEEC4A552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4C1B8-F6BC-4EE9-8E28-7F126A995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67EEB-E6E1-4012-91F1-DF3506498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0BF52-1546-4CF9-86D8-D2D5C9DB9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19665-8CDA-4BB8-9125-6CAF6E5C5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E143F-3279-446F-985E-E7C46E0AD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B3544-1136-40E9-94A9-EFAD91020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CEEC-03F1-4B50-BC88-08E9056C6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1C2F2-4D46-4F85-A7EE-B2B42027C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E5D7E-52E1-48A6-8C84-2EB6C6B56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54838-A2F9-4AF2-A4D4-260DE5B4D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4B616-1154-4224-BAAC-FEEC745F8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B42C7-8F18-47E0-907A-B43DDD086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768AD6-DB76-4A81-ABF9-9EF756C13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0F591E-81A4-4C67-9BDE-6EEF9781E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688DDB-7A57-46F3-A9ED-09DEC9F37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2510D3-4526-4BA1-A0C3-157DDB3A6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173F19-C236-47DF-9235-BE18B2603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A0C8-6F91-4BAF-921B-DAF5A7EEA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E190D3-A0B8-4FC6-8056-C761B94BB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EC0CDC-2F78-4C94-8E67-20C8CFA18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63799F-AD0C-490B-AD5A-08CCD5BEE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E30EDD-6936-40EB-A7AB-C550C1583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876D17-93E2-496E-825E-37D07E60B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562CA6-1229-41D1-8F20-27A3673E4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179C2F-4F2D-4950-9AFC-6989636CD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93E28-59E2-4BFC-A912-C6B449778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004E8-3E4F-4FF8-910C-2CA9431D1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82D17-50F3-469A-9D8E-0E97D756F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F790-542D-4738-A9AE-197778605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6F6DA-CF81-4F34-8C0A-E7877296A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105DC-5763-4E2F-88A6-DF951AB20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4BE848-F94D-4CA1-8C08-35D7480C8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67485-2396-4F46-BF00-25D26DB9C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32B1F-BDF0-4CCB-9272-E423AEDA5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1F39B-45BE-470C-BDB1-F67C7CE3C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65B8B-F838-4617-BFD2-794AE594D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84121-797B-4590-AF05-4E7E77606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2F847-1D6E-4813-ABBB-D22FC0E8F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039E65-B13D-4308-B01C-53B774606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8A37-840B-465B-8C38-0DA12AC2E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5831A1-AEA9-41D7-94E6-423F615F6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C7A4CE-345A-472C-BD26-B3D050857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AC634B-808D-4856-82BD-82728F410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C75473-AF5F-4432-85D5-3FE946A05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AA813E-42CD-41B4-AA4C-C8A798186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F87254-5BA6-4C43-9935-88303B798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B6313F-0FD1-4A71-B320-4E73DC7C1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BD7D27-62CF-45D2-A4EC-6387CDE0B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F0FC06-FCE2-4BCD-87CC-7CEEC42AD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048F09-1D96-4629-B74A-3F4DDA66F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3864-56FB-4F59-8227-586B95118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E18DDD-E42A-4031-8F75-719FF439B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631D9D-E17B-44E6-AE98-4C40B6E21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03A23E-E32E-4424-BC8F-434D1815B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DA558B-1FF6-4426-B8EA-58BCE1F5E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7817E1-4E40-4DE2-A8FA-106AF9E96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2D7B2A-C1C9-4B46-AB6D-F6FE467B7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7D81E4-4C98-4CD4-BD6B-34BF963E3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C7C323-26C2-41C1-BA78-72114E8BB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1B2C30-1078-445F-BA61-82EBF1B4C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E60E6C-DF4F-4D04-A763-6E9C5E518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2199-2367-447D-9814-EF339A479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F676E4-7447-4BFB-8AFC-851DFD6B1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40A6F4-14A2-42D6-B611-59EF9BC84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FEDAE8-0DBD-4477-8D31-84E100402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B54788-C00F-4963-90FF-40838A53A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248081-B0E2-44D8-9DA4-786AB480A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DAD30F-147E-44B9-917F-8503CB1AB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E5C81F-8F18-4585-9787-FED96B0CC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432580-E3FC-4E9B-83F8-11B062FAA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E9202A-A438-4807-B41B-DB8CBB50B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E4439B-8234-4479-BFA9-48870BCD9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3A64-F9A3-404D-B41C-3243D6E6F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0C509B-C5E8-4B8A-AA3C-690DCF08F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13AFFD-510A-40A9-B3CD-494E0EC22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817DE2-E243-4FE9-ABDB-92B59C577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569A44-CFEB-433A-A448-5F09C3D31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5C6BFE-08EC-442D-A256-95406CD5C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0053-7F60-473E-A19C-9C9B636F1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58E66-9A97-434F-A16D-07588356B46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B447E-0499-4CB0-9F3C-4B0D6C744D3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87FA7-06D3-473D-91E8-0A863E85B2C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9BC7D-15D5-402D-9A50-8E5B92B0C6C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A6C06-895F-4AC4-A2C4-BCB342F134A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C6A9D-1511-486E-99F3-DE79EDC8AE6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97D6C-9DFD-4A99-BAD0-772486F39D0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png"/><Relationship Id="rId3" Type="http://schemas.openxmlformats.org/officeDocument/2006/relationships/hyperlink" Target="http://future4you.ru/" TargetMode="External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hyperlink" Target="http://mathkang.ru/" TargetMode="External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2.png"/><Relationship Id="rId3" Type="http://schemas.openxmlformats.org/officeDocument/2006/relationships/hyperlink" Target="http://inokon.ru/" TargetMode="External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4.png"/><Relationship Id="rId3" Type="http://schemas.openxmlformats.org/officeDocument/2006/relationships/hyperlink" Target="http://konkursidei.ru/vserossijskij_blic-turnir_erudit-2017/" TargetMode="External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6.png"/><Relationship Id="rId3" Type="http://schemas.openxmlformats.org/officeDocument/2006/relationships/hyperlink" Target="http://runodog.ru/" TargetMode="External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hyperlink" Target="http://iq-champion.ru/rus/" TargetMode="External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1.png"/><Relationship Id="rId3" Type="http://schemas.openxmlformats.org/officeDocument/2006/relationships/hyperlink" Target="http://cerm.ru/EMU-specialist/" TargetMode="External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3.png"/><Relationship Id="rId3" Type="http://schemas.openxmlformats.org/officeDocument/2006/relationships/hyperlink" Target="https://urfodu.ru/ru/ru/" TargetMode="External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5.png"/><Relationship Id="rId3" Type="http://schemas.openxmlformats.org/officeDocument/2006/relationships/hyperlink" Target="http://dovuz.sfu-kras.ru/" TargetMode="External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7.pn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5.pn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0.png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4.png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6.png"/><Relationship Id="rId3" Type="http://schemas.openxmlformats.org/officeDocument/2006/relationships/image" Target="../media/image57.jpeg"/><Relationship Id="rId4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emu.cerm.ru/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hyperlink" Target="http://russian-kenguru.ru/konkursy/kit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hyperlink" Target="http://www.rm.kirov.ru/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hyperlink" Target="http://konkurs-lisenok.ru/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hyperlink" Target="http://runodog.ru/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png"/><Relationship Id="rId3" Type="http://schemas.openxmlformats.org/officeDocument/2006/relationships/hyperlink" Target="https://nic-snail.ru/calendar/konkurs-igra-po-fizicheskoy-kulture-orlnok_2017" TargetMode="External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png"/><Relationship Id="rId3" Type="http://schemas.openxmlformats.org/officeDocument/2006/relationships/hyperlink" Target="https://www.covenok.ru/sov/" TargetMode="External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71640" y="1052640"/>
            <a:ext cx="712944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Georgia"/>
              </a:rPr>
              <a:t>ОЛИМПИАДЫ ДЛЯ УЧАЩИХСЯ НАЧАЛЬНОЙ ШКОЛЫ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3" name="Заголовок 1"/>
          <p:cNvGrpSpPr/>
          <p:nvPr/>
        </p:nvGrpSpPr>
        <p:grpSpPr>
          <a:xfrm>
            <a:off x="285840" y="146160"/>
            <a:ext cx="8480160" cy="1274760"/>
            <a:chOff x="285840" y="146160"/>
            <a:chExt cx="8480160" cy="1274760"/>
          </a:xfrm>
        </p:grpSpPr>
        <p:pic>
          <p:nvPicPr>
            <p:cNvPr id="404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285840" y="146160"/>
              <a:ext cx="8480160" cy="12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"/>
            <p:cNvSpPr/>
            <p:nvPr/>
          </p:nvSpPr>
          <p:spPr>
            <a:xfrm>
              <a:off x="468360" y="18900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Georgia"/>
                </a:rPr>
                <a:t>ИНТЕЛЛЕКТУАЛЬНО ТВОРЧЕСКИЙ ПОТЕНЦИАЛ РОССИ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" name="Прямоугольник 2"/>
          <p:cNvGrpSpPr/>
          <p:nvPr/>
        </p:nvGrpSpPr>
        <p:grpSpPr>
          <a:xfrm>
            <a:off x="401760" y="6156360"/>
            <a:ext cx="8413560" cy="635040"/>
            <a:chOff x="401760" y="6156360"/>
            <a:chExt cx="8413560" cy="635040"/>
          </a:xfrm>
        </p:grpSpPr>
        <p:pic>
          <p:nvPicPr>
            <p:cNvPr id="407" name="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01760" y="6156360"/>
              <a:ext cx="8413560" cy="6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468360" y="6237360"/>
              <a:ext cx="8280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d2611c"/>
                  </a:solidFill>
                  <a:uFillTx/>
                  <a:latin typeface="Georgia"/>
                  <a:hlinkClick r:id="rId3"/>
                </a:rPr>
                <a:t>http://future4you.ru</a:t>
              </a:r>
              <a:r>
                <a:rPr b="0" lang="ru-RU" sz="2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9" name="Picture 2" descr="C:\Users\Omega Electronics\Desktop\длрд.JPG"/>
          <p:cNvPicPr/>
          <p:nvPr/>
        </p:nvPicPr>
        <p:blipFill>
          <a:blip r:embed="rId4"/>
          <a:stretch/>
        </p:blipFill>
        <p:spPr>
          <a:xfrm>
            <a:off x="3267000" y="1841400"/>
            <a:ext cx="3322800" cy="321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Заголовок 1"/>
          <p:cNvGrpSpPr/>
          <p:nvPr/>
        </p:nvGrpSpPr>
        <p:grpSpPr>
          <a:xfrm>
            <a:off x="500040" y="-42840"/>
            <a:ext cx="8478720" cy="1281240"/>
            <a:chOff x="500040" y="-42840"/>
            <a:chExt cx="8478720" cy="1281240"/>
          </a:xfrm>
        </p:grpSpPr>
        <p:pic>
          <p:nvPicPr>
            <p:cNvPr id="411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500040" y="-42840"/>
              <a:ext cx="8478720" cy="128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"/>
            <p:cNvSpPr/>
            <p:nvPr/>
          </p:nvSpPr>
          <p:spPr>
            <a:xfrm>
              <a:off x="684360" y="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Georgia"/>
                </a:rPr>
                <a:t>МЕЖДУНАРОДНЫЙ КОНКУРС ПО МАТЕМАТИКЕ </a:t>
              </a:r>
              <a:r>
                <a:rPr b="1" lang="ru-RU" sz="2800" spc="-1" strike="noStrike">
                  <a:solidFill>
                    <a:srgbClr val="000000"/>
                  </a:solidFill>
                  <a:latin typeface="Georgia"/>
                </a:rPr>
                <a:t>«КЕНГУРУ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Прямоугольник 2"/>
          <p:cNvGrpSpPr/>
          <p:nvPr/>
        </p:nvGrpSpPr>
        <p:grpSpPr>
          <a:xfrm>
            <a:off x="476280" y="4498920"/>
            <a:ext cx="8412120" cy="633600"/>
            <a:chOff x="476280" y="4498920"/>
            <a:chExt cx="8412120" cy="633600"/>
          </a:xfrm>
        </p:grpSpPr>
        <p:pic>
          <p:nvPicPr>
            <p:cNvPr id="414" name="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76280" y="4498920"/>
              <a:ext cx="8412120" cy="63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539640" y="4581360"/>
              <a:ext cx="8280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d2611c"/>
                  </a:solidFill>
                  <a:uFillTx/>
                  <a:latin typeface="Georgia"/>
                  <a:hlinkClick r:id="rId3"/>
                </a:rPr>
                <a:t>http://mathkang.ru/</a:t>
              </a:r>
              <a:r>
                <a:rPr b="0" lang="ru-RU" sz="2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6" name="Picture 2" descr="C:\Users\Omega Electronics\Desktop\кенгуру.JPG"/>
          <p:cNvPicPr/>
          <p:nvPr/>
        </p:nvPicPr>
        <p:blipFill>
          <a:blip r:embed="rId4"/>
          <a:stretch/>
        </p:blipFill>
        <p:spPr>
          <a:xfrm>
            <a:off x="1979640" y="2421000"/>
            <a:ext cx="4611600" cy="1490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" name="Заголовок 1"/>
          <p:cNvGrpSpPr/>
          <p:nvPr/>
        </p:nvGrpSpPr>
        <p:grpSpPr>
          <a:xfrm>
            <a:off x="285840" y="146160"/>
            <a:ext cx="8480160" cy="1274760"/>
            <a:chOff x="285840" y="146160"/>
            <a:chExt cx="8480160" cy="1274760"/>
          </a:xfrm>
        </p:grpSpPr>
        <p:pic>
          <p:nvPicPr>
            <p:cNvPr id="418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285840" y="146160"/>
              <a:ext cx="8480160" cy="12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468360" y="18900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Georgia"/>
                </a:rPr>
                <a:t>МЕЖДУНАРОДНЫЙ ОБРАЗОВАТЕЛЬНЫЙ ПРОЕКТ</a:t>
              </a:r>
              <a:br>
                <a:rPr sz="2800"/>
              </a:br>
              <a:r>
                <a:rPr b="1" lang="ru-RU" sz="2800" spc="-1" strike="noStrike">
                  <a:solidFill>
                    <a:srgbClr val="000000"/>
                  </a:solidFill>
                  <a:latin typeface="Georgia"/>
                </a:rPr>
                <a:t>«ИНОСТРАННЫЕ КОНКУРСЫ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Прямоугольник 2"/>
          <p:cNvGrpSpPr/>
          <p:nvPr/>
        </p:nvGrpSpPr>
        <p:grpSpPr>
          <a:xfrm>
            <a:off x="401760" y="6156360"/>
            <a:ext cx="8413560" cy="635040"/>
            <a:chOff x="401760" y="6156360"/>
            <a:chExt cx="8413560" cy="635040"/>
          </a:xfrm>
        </p:grpSpPr>
        <p:pic>
          <p:nvPicPr>
            <p:cNvPr id="421" name="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01760" y="6156360"/>
              <a:ext cx="8413560" cy="6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2" name=""/>
            <p:cNvSpPr/>
            <p:nvPr/>
          </p:nvSpPr>
          <p:spPr>
            <a:xfrm>
              <a:off x="468360" y="6237360"/>
              <a:ext cx="8280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d2611c"/>
                  </a:solidFill>
                  <a:uFillTx/>
                  <a:latin typeface="Georgia"/>
                  <a:hlinkClick r:id="rId3"/>
                </a:rPr>
                <a:t>http://inokon.ru</a:t>
              </a:r>
              <a:r>
                <a:rPr b="0" lang="ru-RU" sz="2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3" name="Picture 2" descr="C:\Users\Omega Electronics\Desktop\20.JPG"/>
          <p:cNvPicPr/>
          <p:nvPr/>
        </p:nvPicPr>
        <p:blipFill>
          <a:blip r:embed="rId4"/>
          <a:stretch/>
        </p:blipFill>
        <p:spPr>
          <a:xfrm>
            <a:off x="2340000" y="2205000"/>
            <a:ext cx="4560840" cy="2952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Заголовок 1"/>
          <p:cNvGrpSpPr/>
          <p:nvPr/>
        </p:nvGrpSpPr>
        <p:grpSpPr>
          <a:xfrm>
            <a:off x="285840" y="146160"/>
            <a:ext cx="8480160" cy="1274760"/>
            <a:chOff x="285840" y="146160"/>
            <a:chExt cx="8480160" cy="1274760"/>
          </a:xfrm>
        </p:grpSpPr>
        <p:pic>
          <p:nvPicPr>
            <p:cNvPr id="425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285840" y="146160"/>
              <a:ext cx="8480160" cy="12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"/>
            <p:cNvSpPr/>
            <p:nvPr/>
          </p:nvSpPr>
          <p:spPr>
            <a:xfrm>
              <a:off x="468360" y="18900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Georgia"/>
                </a:rPr>
                <a:t>ВСЕРОССИЙСКИЙ БЛИЦ-ТУРНИР </a:t>
              </a:r>
              <a:br>
                <a:rPr sz="2800"/>
              </a:br>
              <a:r>
                <a:rPr b="1" lang="ru-RU" sz="2800" spc="-1" strike="noStrike">
                  <a:solidFill>
                    <a:srgbClr val="000000"/>
                  </a:solidFill>
                  <a:latin typeface="Georgia"/>
                </a:rPr>
                <a:t>«ЭРУДИТ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Прямоугольник 2"/>
          <p:cNvGrpSpPr/>
          <p:nvPr/>
        </p:nvGrpSpPr>
        <p:grpSpPr>
          <a:xfrm>
            <a:off x="401760" y="6162840"/>
            <a:ext cx="8413560" cy="609480"/>
            <a:chOff x="401760" y="6162840"/>
            <a:chExt cx="8413560" cy="609480"/>
          </a:xfrm>
        </p:grpSpPr>
        <p:pic>
          <p:nvPicPr>
            <p:cNvPr id="428" name="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01760" y="6162840"/>
              <a:ext cx="841356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"/>
            <p:cNvSpPr/>
            <p:nvPr/>
          </p:nvSpPr>
          <p:spPr>
            <a:xfrm>
              <a:off x="468360" y="6237360"/>
              <a:ext cx="8280360" cy="49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 u="sng">
                  <a:solidFill>
                    <a:srgbClr val="d2611c"/>
                  </a:solidFill>
                  <a:uFillTx/>
                  <a:latin typeface="Georgia"/>
                  <a:hlinkClick r:id="rId3"/>
                </a:rPr>
                <a:t>http://konkursidei.ru/vserossijskij_blic-turnir_erudit-2017/</a:t>
              </a:r>
              <a:r>
                <a:rPr b="0" lang="ru-RU" sz="23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0" name="Picture 2" descr="C:\Users\Omega Electronics\Desktop\оарм.JPG"/>
          <p:cNvPicPr/>
          <p:nvPr/>
        </p:nvPicPr>
        <p:blipFill>
          <a:blip r:embed="rId4"/>
          <a:stretch/>
        </p:blipFill>
        <p:spPr>
          <a:xfrm>
            <a:off x="2411280" y="2060640"/>
            <a:ext cx="4587840" cy="3216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1" name="Заголовок 1"/>
          <p:cNvGrpSpPr/>
          <p:nvPr/>
        </p:nvGrpSpPr>
        <p:grpSpPr>
          <a:xfrm>
            <a:off x="212760" y="146160"/>
            <a:ext cx="8480520" cy="1274760"/>
            <a:chOff x="212760" y="146160"/>
            <a:chExt cx="8480520" cy="1274760"/>
          </a:xfrm>
        </p:grpSpPr>
        <p:pic>
          <p:nvPicPr>
            <p:cNvPr id="432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212760" y="146160"/>
              <a:ext cx="8480520" cy="12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"/>
            <p:cNvSpPr/>
            <p:nvPr/>
          </p:nvSpPr>
          <p:spPr>
            <a:xfrm>
              <a:off x="395280" y="18900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Georgia"/>
                </a:rPr>
                <a:t>МЕЖДУНАРОДНЫЙ ИГРОВОЙ КОНКУРС ПО ИСТОРИИ МИРОВОЙ КУЛЬТУРЫ </a:t>
              </a:r>
              <a:r>
                <a:rPr b="1" lang="ru-RU" sz="2800" spc="-1" strike="noStrike">
                  <a:solidFill>
                    <a:srgbClr val="000000"/>
                  </a:solidFill>
                  <a:latin typeface="Georgia"/>
                </a:rPr>
                <a:t>«ЗОЛОТОЕ РУНО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Прямоугольник 2"/>
          <p:cNvGrpSpPr/>
          <p:nvPr/>
        </p:nvGrpSpPr>
        <p:grpSpPr>
          <a:xfrm>
            <a:off x="401760" y="5578560"/>
            <a:ext cx="8413560" cy="633240"/>
            <a:chOff x="401760" y="5578560"/>
            <a:chExt cx="8413560" cy="633240"/>
          </a:xfrm>
        </p:grpSpPr>
        <p:pic>
          <p:nvPicPr>
            <p:cNvPr id="435" name="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01760" y="5578560"/>
              <a:ext cx="841356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468360" y="5661000"/>
              <a:ext cx="8280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d2611c"/>
                  </a:solidFill>
                  <a:uFillTx/>
                  <a:latin typeface="Georgia"/>
                  <a:hlinkClick r:id="rId3"/>
                </a:rPr>
                <a:t>http://runodog.ru</a:t>
              </a:r>
              <a:r>
                <a:rPr b="0" lang="ru-RU" sz="2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7" name="Picture 2" descr=""/>
          <p:cNvPicPr/>
          <p:nvPr/>
        </p:nvPicPr>
        <p:blipFill>
          <a:blip r:embed="rId4"/>
          <a:stretch/>
        </p:blipFill>
        <p:spPr>
          <a:xfrm>
            <a:off x="2627280" y="1916280"/>
            <a:ext cx="4214880" cy="3558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8" name="Заголовок 1"/>
          <p:cNvGrpSpPr/>
          <p:nvPr/>
        </p:nvGrpSpPr>
        <p:grpSpPr>
          <a:xfrm>
            <a:off x="285840" y="146160"/>
            <a:ext cx="8480160" cy="1274760"/>
            <a:chOff x="285840" y="146160"/>
            <a:chExt cx="8480160" cy="1274760"/>
          </a:xfrm>
        </p:grpSpPr>
        <p:pic>
          <p:nvPicPr>
            <p:cNvPr id="439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285840" y="146160"/>
              <a:ext cx="8480160" cy="12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" name=""/>
            <p:cNvSpPr/>
            <p:nvPr/>
          </p:nvSpPr>
          <p:spPr>
            <a:xfrm>
              <a:off x="468360" y="18900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Georgia"/>
                </a:rPr>
                <a:t>ВСЕРОССИЙСКАЯ ОНЛАЙН ПЛОЩАДКА</a:t>
              </a:r>
              <a:br>
                <a:rPr sz="2800"/>
              </a:br>
              <a:r>
                <a:rPr b="1" lang="ru-RU" sz="2800" spc="-1" strike="noStrike">
                  <a:solidFill>
                    <a:srgbClr val="000000"/>
                  </a:solidFill>
                  <a:latin typeface="Georgia"/>
                </a:rPr>
                <a:t>«IQ-CHAMPION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Прямоугольник 2"/>
          <p:cNvGrpSpPr/>
          <p:nvPr/>
        </p:nvGrpSpPr>
        <p:grpSpPr>
          <a:xfrm>
            <a:off x="401760" y="6156360"/>
            <a:ext cx="8413560" cy="635040"/>
            <a:chOff x="401760" y="6156360"/>
            <a:chExt cx="8413560" cy="635040"/>
          </a:xfrm>
        </p:grpSpPr>
        <p:pic>
          <p:nvPicPr>
            <p:cNvPr id="442" name="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01760" y="6156360"/>
              <a:ext cx="8413560" cy="6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"/>
            <p:cNvSpPr/>
            <p:nvPr/>
          </p:nvSpPr>
          <p:spPr>
            <a:xfrm>
              <a:off x="468360" y="6237360"/>
              <a:ext cx="8280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d2611c"/>
                  </a:solidFill>
                  <a:uFillTx/>
                  <a:latin typeface="Georgia"/>
                  <a:hlinkClick r:id="rId3"/>
                </a:rPr>
                <a:t>http://iq-champion.ru/rus/</a:t>
              </a:r>
              <a:r>
                <a:rPr b="0" lang="ru-RU" sz="2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4" name="Picture 2" descr="C:\Users\Omega Electronics\Desktop\ай.JPG"/>
          <p:cNvPicPr/>
          <p:nvPr/>
        </p:nvPicPr>
        <p:blipFill>
          <a:blip r:embed="rId4"/>
          <a:stretch/>
        </p:blipFill>
        <p:spPr>
          <a:xfrm>
            <a:off x="2627280" y="1989000"/>
            <a:ext cx="3994200" cy="3672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" name="Заголовок 1"/>
          <p:cNvGrpSpPr/>
          <p:nvPr/>
        </p:nvGrpSpPr>
        <p:grpSpPr>
          <a:xfrm>
            <a:off x="285840" y="146160"/>
            <a:ext cx="8480160" cy="1274760"/>
            <a:chOff x="285840" y="146160"/>
            <a:chExt cx="8480160" cy="1274760"/>
          </a:xfrm>
        </p:grpSpPr>
        <p:pic>
          <p:nvPicPr>
            <p:cNvPr id="446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285840" y="146160"/>
              <a:ext cx="8480160" cy="12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"/>
            <p:cNvSpPr/>
            <p:nvPr/>
          </p:nvSpPr>
          <p:spPr>
            <a:xfrm>
              <a:off x="468360" y="18900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Georgia"/>
                </a:rPr>
                <a:t>МЕЖДУНАРОДНЫЙ ДИСТАНЦИОННЫЙ КОНКУРС ДЛЯ </a:t>
              </a:r>
              <a:r>
                <a:rPr b="1" lang="ru-RU" sz="2800" spc="-1" strike="noStrike">
                  <a:solidFill>
                    <a:srgbClr val="000000"/>
                  </a:solidFill>
                  <a:latin typeface="Georgia"/>
                </a:rPr>
                <a:t>«ЭМУ СПЕЦИАЛИСТ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Прямоугольник 2"/>
          <p:cNvGrpSpPr/>
          <p:nvPr/>
        </p:nvGrpSpPr>
        <p:grpSpPr>
          <a:xfrm>
            <a:off x="401760" y="6156360"/>
            <a:ext cx="8413560" cy="635040"/>
            <a:chOff x="401760" y="6156360"/>
            <a:chExt cx="8413560" cy="635040"/>
          </a:xfrm>
        </p:grpSpPr>
        <p:pic>
          <p:nvPicPr>
            <p:cNvPr id="449" name="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01760" y="6156360"/>
              <a:ext cx="8413560" cy="6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"/>
            <p:cNvSpPr/>
            <p:nvPr/>
          </p:nvSpPr>
          <p:spPr>
            <a:xfrm>
              <a:off x="468360" y="6237360"/>
              <a:ext cx="8280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d2611c"/>
                  </a:solidFill>
                  <a:uFillTx/>
                  <a:latin typeface="Georgia"/>
                  <a:hlinkClick r:id="rId3"/>
                </a:rPr>
                <a:t>http://cerm.ru/EMU-specialist/</a:t>
              </a:r>
              <a:r>
                <a:rPr b="0" lang="ru-RU" sz="2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1" name="Picture 2" descr="C:\Users\Omega Electronics\Desktop\специалист.JPG"/>
          <p:cNvPicPr/>
          <p:nvPr/>
        </p:nvPicPr>
        <p:blipFill>
          <a:blip r:embed="rId4"/>
          <a:stretch/>
        </p:blipFill>
        <p:spPr>
          <a:xfrm>
            <a:off x="2556000" y="2492280"/>
            <a:ext cx="4187880" cy="2494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2" name="Заголовок 1"/>
          <p:cNvGrpSpPr/>
          <p:nvPr/>
        </p:nvGrpSpPr>
        <p:grpSpPr>
          <a:xfrm>
            <a:off x="285840" y="146160"/>
            <a:ext cx="8480160" cy="1274760"/>
            <a:chOff x="285840" y="146160"/>
            <a:chExt cx="8480160" cy="1274760"/>
          </a:xfrm>
        </p:grpSpPr>
        <p:pic>
          <p:nvPicPr>
            <p:cNvPr id="453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285840" y="146160"/>
              <a:ext cx="8480160" cy="12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/>
            <p:nvPr/>
          </p:nvSpPr>
          <p:spPr>
            <a:xfrm>
              <a:off x="468360" y="18900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Georgia"/>
                </a:rPr>
                <a:t>МЕЖДУНАРОДНАЯ ОЛИМПИАДА ПО ОСНОВАМ НАУК</a:t>
              </a:r>
              <a:br>
                <a:rPr sz="2800"/>
              </a:br>
              <a:r>
                <a:rPr b="1" lang="ru-RU" sz="2800" spc="-1" strike="noStrike">
                  <a:solidFill>
                    <a:srgbClr val="000000"/>
                  </a:solidFill>
                  <a:latin typeface="Georgia"/>
                </a:rPr>
                <a:t>«УРФО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Прямоугольник 2"/>
          <p:cNvGrpSpPr/>
          <p:nvPr/>
        </p:nvGrpSpPr>
        <p:grpSpPr>
          <a:xfrm>
            <a:off x="401760" y="6156360"/>
            <a:ext cx="8413560" cy="635040"/>
            <a:chOff x="401760" y="6156360"/>
            <a:chExt cx="8413560" cy="635040"/>
          </a:xfrm>
        </p:grpSpPr>
        <p:pic>
          <p:nvPicPr>
            <p:cNvPr id="456" name="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01760" y="6156360"/>
              <a:ext cx="8413560" cy="6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"/>
            <p:cNvSpPr/>
            <p:nvPr/>
          </p:nvSpPr>
          <p:spPr>
            <a:xfrm>
              <a:off x="468360" y="6237360"/>
              <a:ext cx="8280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d2611c"/>
                  </a:solidFill>
                  <a:uFillTx/>
                  <a:latin typeface="Georgia"/>
                  <a:hlinkClick r:id="rId3"/>
                </a:rPr>
                <a:t>https://urfodu.ru/ru/ru/</a:t>
              </a:r>
              <a:r>
                <a:rPr b="0" lang="ru-RU" sz="2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8" name="Picture 2" descr="http://sch-inter2.ucoz.ru/_si/0/34475874.jpg"/>
          <p:cNvPicPr/>
          <p:nvPr/>
        </p:nvPicPr>
        <p:blipFill>
          <a:blip r:embed="rId4"/>
          <a:stretch/>
        </p:blipFill>
        <p:spPr>
          <a:xfrm>
            <a:off x="1673280" y="1844640"/>
            <a:ext cx="5869080" cy="3911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Заголовок 1"/>
          <p:cNvGrpSpPr/>
          <p:nvPr/>
        </p:nvGrpSpPr>
        <p:grpSpPr>
          <a:xfrm>
            <a:off x="285840" y="146160"/>
            <a:ext cx="8480160" cy="1274760"/>
            <a:chOff x="285840" y="146160"/>
            <a:chExt cx="8480160" cy="1274760"/>
          </a:xfrm>
        </p:grpSpPr>
        <p:pic>
          <p:nvPicPr>
            <p:cNvPr id="460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285840" y="146160"/>
              <a:ext cx="8480160" cy="12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"/>
            <p:cNvSpPr/>
            <p:nvPr/>
          </p:nvSpPr>
          <p:spPr>
            <a:xfrm>
              <a:off x="468360" y="18900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Georgia"/>
                </a:rPr>
                <a:t>МЕЖДУНАРОДНАЯ ОЛИМПИАДА</a:t>
              </a:r>
              <a:br>
                <a:rPr sz="2800"/>
              </a:br>
              <a:r>
                <a:rPr b="1" lang="ru-RU" sz="2800" spc="-1" strike="noStrike">
                  <a:solidFill>
                    <a:srgbClr val="000000"/>
                  </a:solidFill>
                  <a:latin typeface="Georgia"/>
                </a:rPr>
                <a:t>«БЕЛЬЧОНОК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" name="Прямоугольник 2"/>
          <p:cNvGrpSpPr/>
          <p:nvPr/>
        </p:nvGrpSpPr>
        <p:grpSpPr>
          <a:xfrm>
            <a:off x="401760" y="5218200"/>
            <a:ext cx="8413560" cy="633240"/>
            <a:chOff x="401760" y="5218200"/>
            <a:chExt cx="8413560" cy="633240"/>
          </a:xfrm>
        </p:grpSpPr>
        <p:pic>
          <p:nvPicPr>
            <p:cNvPr id="463" name="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01760" y="5218200"/>
              <a:ext cx="841356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"/>
            <p:cNvSpPr/>
            <p:nvPr/>
          </p:nvSpPr>
          <p:spPr>
            <a:xfrm>
              <a:off x="468360" y="5300640"/>
              <a:ext cx="8280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d2611c"/>
                  </a:solidFill>
                  <a:uFillTx/>
                  <a:latin typeface="Georgia"/>
                  <a:hlinkClick r:id="rId3"/>
                </a:rPr>
                <a:t>http://dovuz.sfu-kras.ru</a:t>
              </a:r>
              <a:r>
                <a:rPr b="0" lang="ru-RU" sz="2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5" name="Picture 2" descr="C:\Users\Omega Electronics\Desktop\Снимок.JPG"/>
          <p:cNvPicPr/>
          <p:nvPr/>
        </p:nvPicPr>
        <p:blipFill>
          <a:blip r:embed="rId4"/>
          <a:stretch/>
        </p:blipFill>
        <p:spPr>
          <a:xfrm>
            <a:off x="971640" y="2781360"/>
            <a:ext cx="7056360" cy="934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6" name="Заголовок 1"/>
          <p:cNvGrpSpPr/>
          <p:nvPr/>
        </p:nvGrpSpPr>
        <p:grpSpPr>
          <a:xfrm>
            <a:off x="285840" y="146160"/>
            <a:ext cx="8480160" cy="1274760"/>
            <a:chOff x="285840" y="146160"/>
            <a:chExt cx="8480160" cy="1274760"/>
          </a:xfrm>
        </p:grpSpPr>
        <p:pic>
          <p:nvPicPr>
            <p:cNvPr id="467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285840" y="146160"/>
              <a:ext cx="8480160" cy="12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"/>
            <p:cNvSpPr/>
            <p:nvPr/>
          </p:nvSpPr>
          <p:spPr>
            <a:xfrm>
              <a:off x="468360" y="18900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Georgia"/>
                </a:rPr>
                <a:t>ВСЕРОССИЙСКИЕ ДИСТАНЦИОННЫЕ МЕРОПРИЯТИЯ </a:t>
              </a:r>
              <a:r>
                <a:rPr b="1" lang="ru-RU" sz="2800" spc="-1" strike="noStrike">
                  <a:solidFill>
                    <a:srgbClr val="000000"/>
                  </a:solidFill>
                  <a:latin typeface="Georgia"/>
                </a:rPr>
                <a:t>«СУНДУЧОК ЗНАНИЙ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Прямоугольник 2"/>
          <p:cNvGrpSpPr/>
          <p:nvPr/>
        </p:nvGrpSpPr>
        <p:grpSpPr>
          <a:xfrm>
            <a:off x="401760" y="6156360"/>
            <a:ext cx="8413560" cy="635040"/>
            <a:chOff x="401760" y="6156360"/>
            <a:chExt cx="8413560" cy="635040"/>
          </a:xfrm>
        </p:grpSpPr>
        <p:pic>
          <p:nvPicPr>
            <p:cNvPr id="470" name="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01760" y="6156360"/>
              <a:ext cx="8413560" cy="6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1" name=""/>
            <p:cNvSpPr/>
            <p:nvPr/>
          </p:nvSpPr>
          <p:spPr>
            <a:xfrm>
              <a:off x="468360" y="6237360"/>
              <a:ext cx="828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https://syndychok-znaniy.ru</a:t>
              </a:r>
              <a:r>
                <a:rPr b="0" lang="ru-RU" sz="2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2" name="Picture 2" descr="C:\Users\Omega Electronics\Desktop\проал.JPG"/>
          <p:cNvPicPr/>
          <p:nvPr/>
        </p:nvPicPr>
        <p:blipFill>
          <a:blip r:embed="rId3"/>
          <a:stretch/>
        </p:blipFill>
        <p:spPr>
          <a:xfrm>
            <a:off x="826920" y="2408400"/>
            <a:ext cx="7490160" cy="1812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Прямоугольник 1"/>
          <p:cNvSpPr/>
          <p:nvPr/>
        </p:nvSpPr>
        <p:spPr>
          <a:xfrm>
            <a:off x="324000" y="333360"/>
            <a:ext cx="8496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Олимпиады занимают важное место в развитии детей. Именно на первой ступени обучения происходят первые открытия ребё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Проведение предметных олимпиад среди младших школьников имеет большое воспитательное и обучающее значение. Участие в олимпиадах даёт ребёнк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олучение жизненного опы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расширение кругозора, интеллектуальный рост;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более успешное обучение школьным предмета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творческий рост, развитие личностных компетенц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умение оценивать себя и радоваться успех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3" name="Заголовок 1"/>
          <p:cNvGrpSpPr/>
          <p:nvPr/>
        </p:nvGrpSpPr>
        <p:grpSpPr>
          <a:xfrm>
            <a:off x="285840" y="146160"/>
            <a:ext cx="8480160" cy="1274760"/>
            <a:chOff x="285840" y="146160"/>
            <a:chExt cx="8480160" cy="1274760"/>
          </a:xfrm>
        </p:grpSpPr>
        <p:pic>
          <p:nvPicPr>
            <p:cNvPr id="474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285840" y="146160"/>
              <a:ext cx="8480160" cy="12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5" name=""/>
            <p:cNvSpPr/>
            <p:nvPr/>
          </p:nvSpPr>
          <p:spPr>
            <a:xfrm>
              <a:off x="468360" y="18900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Georgia"/>
                </a:rPr>
                <a:t>ОЛИМПИАДА ДЛЯ НАЧАЛЬНОЙ ШКОЛЫ ОТ ЦРТ «МЕГА-ТАЛАНТ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Прямоугольник 2"/>
          <p:cNvGrpSpPr/>
          <p:nvPr/>
        </p:nvGrpSpPr>
        <p:grpSpPr>
          <a:xfrm>
            <a:off x="401760" y="6156360"/>
            <a:ext cx="8413560" cy="635040"/>
            <a:chOff x="401760" y="6156360"/>
            <a:chExt cx="8413560" cy="635040"/>
          </a:xfrm>
        </p:grpSpPr>
        <p:pic>
          <p:nvPicPr>
            <p:cNvPr id="477" name="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01760" y="6156360"/>
              <a:ext cx="8413560" cy="6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8" name=""/>
            <p:cNvSpPr/>
            <p:nvPr/>
          </p:nvSpPr>
          <p:spPr>
            <a:xfrm>
              <a:off x="468360" y="6237360"/>
              <a:ext cx="828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https://mega-talant.com/olimpiada-nachalnaya-shkola</a:t>
              </a:r>
              <a:r>
                <a:rPr b="0" lang="ru-RU" sz="24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9" name="Picture 2" descr="https://pp.userapi.com/c639427/v639427500/1eb5b/0chAVMi9Ig8.jpg"/>
          <p:cNvPicPr/>
          <p:nvPr/>
        </p:nvPicPr>
        <p:blipFill>
          <a:blip r:embed="rId3"/>
          <a:stretch/>
        </p:blipFill>
        <p:spPr>
          <a:xfrm>
            <a:off x="1619280" y="2421000"/>
            <a:ext cx="6340320" cy="2482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Заголовок 1"/>
          <p:cNvGrpSpPr/>
          <p:nvPr/>
        </p:nvGrpSpPr>
        <p:grpSpPr>
          <a:xfrm>
            <a:off x="285840" y="146160"/>
            <a:ext cx="8480160" cy="1274760"/>
            <a:chOff x="285840" y="146160"/>
            <a:chExt cx="8480160" cy="1274760"/>
          </a:xfrm>
        </p:grpSpPr>
        <p:pic>
          <p:nvPicPr>
            <p:cNvPr id="481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285840" y="146160"/>
              <a:ext cx="8480160" cy="12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"/>
            <p:cNvSpPr/>
            <p:nvPr/>
          </p:nvSpPr>
          <p:spPr>
            <a:xfrm>
              <a:off x="468360" y="18900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Georgia"/>
                </a:rPr>
                <a:t>ИНТЕРНЕТ - ОЛИМПИАДА ПО МАТЕМАТИКЕ </a:t>
              </a:r>
              <a:br>
                <a:rPr sz="2800"/>
              </a:br>
              <a:r>
                <a:rPr b="1" lang="ru-RU" sz="2800" spc="-1" strike="noStrike">
                  <a:solidFill>
                    <a:srgbClr val="000000"/>
                  </a:solidFill>
                  <a:latin typeface="Georgia"/>
                </a:rPr>
                <a:t>«2Х2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" name="Прямоугольник 2"/>
          <p:cNvGrpSpPr/>
          <p:nvPr/>
        </p:nvGrpSpPr>
        <p:grpSpPr>
          <a:xfrm>
            <a:off x="401760" y="6156360"/>
            <a:ext cx="8413560" cy="635040"/>
            <a:chOff x="401760" y="6156360"/>
            <a:chExt cx="8413560" cy="635040"/>
          </a:xfrm>
        </p:grpSpPr>
        <p:pic>
          <p:nvPicPr>
            <p:cNvPr id="484" name="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01760" y="6156360"/>
              <a:ext cx="8413560" cy="6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5" name=""/>
            <p:cNvSpPr/>
            <p:nvPr/>
          </p:nvSpPr>
          <p:spPr>
            <a:xfrm>
              <a:off x="468360" y="6237360"/>
              <a:ext cx="828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http://olimpiada2x2.ru</a:t>
              </a:r>
              <a:r>
                <a:rPr b="0" lang="ru-RU" sz="2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6" name="Picture 2" descr="C:\Users\Omega Electronics\Desktop\опклы.JPG"/>
          <p:cNvPicPr/>
          <p:nvPr/>
        </p:nvPicPr>
        <p:blipFill>
          <a:blip r:embed="rId3"/>
          <a:stretch/>
        </p:blipFill>
        <p:spPr>
          <a:xfrm>
            <a:off x="826920" y="2417760"/>
            <a:ext cx="7467840" cy="1658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7" name="Заголовок 1"/>
          <p:cNvGrpSpPr/>
          <p:nvPr/>
        </p:nvGrpSpPr>
        <p:grpSpPr>
          <a:xfrm>
            <a:off x="285840" y="146160"/>
            <a:ext cx="8480160" cy="1274760"/>
            <a:chOff x="285840" y="146160"/>
            <a:chExt cx="8480160" cy="1274760"/>
          </a:xfrm>
        </p:grpSpPr>
        <p:pic>
          <p:nvPicPr>
            <p:cNvPr id="488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285840" y="146160"/>
              <a:ext cx="8480160" cy="12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" name=""/>
            <p:cNvSpPr/>
            <p:nvPr/>
          </p:nvSpPr>
          <p:spPr>
            <a:xfrm>
              <a:off x="468360" y="18900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Georgia"/>
                </a:rPr>
                <a:t>МЕЖДУНАРОДНЫЕ И ОТКРЫТЫЕ РОССИЙСКИЕ ИНТЕРНЕТ-ОЛИМПИАДЫ</a:t>
              </a:r>
              <a:r>
                <a:rPr b="1" lang="ru-RU" sz="2800" spc="-1" strike="noStrike">
                  <a:solidFill>
                    <a:srgbClr val="000000"/>
                  </a:solidFill>
                  <a:latin typeface="Georgia"/>
                </a:rPr>
                <a:t> «МЕТАШКОЛА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" name="Прямоугольник 2"/>
          <p:cNvGrpSpPr/>
          <p:nvPr/>
        </p:nvGrpSpPr>
        <p:grpSpPr>
          <a:xfrm>
            <a:off x="401760" y="6156360"/>
            <a:ext cx="8413560" cy="635040"/>
            <a:chOff x="401760" y="6156360"/>
            <a:chExt cx="8413560" cy="635040"/>
          </a:xfrm>
        </p:grpSpPr>
        <p:pic>
          <p:nvPicPr>
            <p:cNvPr id="491" name="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01760" y="6156360"/>
              <a:ext cx="8413560" cy="6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2" name=""/>
            <p:cNvSpPr/>
            <p:nvPr/>
          </p:nvSpPr>
          <p:spPr>
            <a:xfrm>
              <a:off x="468360" y="6237360"/>
              <a:ext cx="828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https://metaschool.ru/</a:t>
              </a:r>
              <a:r>
                <a:rPr b="0" lang="ru-RU" sz="24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3" name="Picture 2" descr=""/>
          <p:cNvPicPr/>
          <p:nvPr/>
        </p:nvPicPr>
        <p:blipFill>
          <a:blip r:embed="rId3"/>
          <a:stretch/>
        </p:blipFill>
        <p:spPr>
          <a:xfrm>
            <a:off x="987480" y="2492280"/>
            <a:ext cx="7184880" cy="1873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4" name="Заголовок 1"/>
          <p:cNvGrpSpPr/>
          <p:nvPr/>
        </p:nvGrpSpPr>
        <p:grpSpPr>
          <a:xfrm>
            <a:off x="285840" y="146160"/>
            <a:ext cx="8480160" cy="1274760"/>
            <a:chOff x="285840" y="146160"/>
            <a:chExt cx="8480160" cy="1274760"/>
          </a:xfrm>
        </p:grpSpPr>
        <p:pic>
          <p:nvPicPr>
            <p:cNvPr id="495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285840" y="146160"/>
              <a:ext cx="8480160" cy="12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6" name=""/>
            <p:cNvSpPr/>
            <p:nvPr/>
          </p:nvSpPr>
          <p:spPr>
            <a:xfrm>
              <a:off x="468360" y="18900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Georgia"/>
                </a:rPr>
                <a:t>ВСЕРОССИЙСКИЕ ОЛИМПИАДЫ ПО РАЗНЫМ ПРЕДМЕТА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Прямоугольник 2"/>
          <p:cNvGrpSpPr/>
          <p:nvPr/>
        </p:nvGrpSpPr>
        <p:grpSpPr>
          <a:xfrm>
            <a:off x="401760" y="6156360"/>
            <a:ext cx="8413560" cy="635040"/>
            <a:chOff x="401760" y="6156360"/>
            <a:chExt cx="8413560" cy="635040"/>
          </a:xfrm>
        </p:grpSpPr>
        <p:pic>
          <p:nvPicPr>
            <p:cNvPr id="498" name="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01760" y="6156360"/>
              <a:ext cx="8413560" cy="6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9" name=""/>
            <p:cNvSpPr/>
            <p:nvPr/>
          </p:nvSpPr>
          <p:spPr>
            <a:xfrm>
              <a:off x="468360" y="6237360"/>
              <a:ext cx="828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http://cleve.ru</a:t>
              </a:r>
              <a:r>
                <a:rPr b="0" lang="ru-RU" sz="2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0" name="Picture 2" descr="C:\Users\Omega Electronics\Desktop\клевер.JPG"/>
          <p:cNvPicPr/>
          <p:nvPr/>
        </p:nvPicPr>
        <p:blipFill>
          <a:blip r:embed="rId3"/>
          <a:stretch/>
        </p:blipFill>
        <p:spPr>
          <a:xfrm>
            <a:off x="1547640" y="2205000"/>
            <a:ext cx="6516720" cy="2019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1" name="Заголовок 1"/>
          <p:cNvGrpSpPr/>
          <p:nvPr/>
        </p:nvGrpSpPr>
        <p:grpSpPr>
          <a:xfrm>
            <a:off x="285840" y="146160"/>
            <a:ext cx="8523360" cy="1274760"/>
            <a:chOff x="285840" y="146160"/>
            <a:chExt cx="8523360" cy="1274760"/>
          </a:xfrm>
        </p:grpSpPr>
        <p:pic>
          <p:nvPicPr>
            <p:cNvPr id="502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285840" y="146160"/>
              <a:ext cx="8523360" cy="12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3" name=""/>
            <p:cNvSpPr/>
            <p:nvPr/>
          </p:nvSpPr>
          <p:spPr>
            <a:xfrm>
              <a:off x="468360" y="18900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Georgia"/>
                </a:rPr>
                <a:t>МЕЖДУНАРОДНЫЕ И ВСЕРОССИЙСКИЕ ОЛИМПИАДЫ ОТ ОБРАЗОВАТЕЛЬНОГО ПОРТАЛА </a:t>
              </a:r>
              <a:r>
                <a:rPr b="1" lang="ru-RU" sz="2800" spc="-1" strike="noStrike">
                  <a:solidFill>
                    <a:srgbClr val="000000"/>
                  </a:solidFill>
                  <a:latin typeface="Georgia"/>
                </a:rPr>
                <a:t>«ПРОДЛЕНКА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" name="Прямоугольник 2"/>
          <p:cNvGrpSpPr/>
          <p:nvPr/>
        </p:nvGrpSpPr>
        <p:grpSpPr>
          <a:xfrm>
            <a:off x="401760" y="6156360"/>
            <a:ext cx="8413560" cy="635040"/>
            <a:chOff x="401760" y="6156360"/>
            <a:chExt cx="8413560" cy="635040"/>
          </a:xfrm>
        </p:grpSpPr>
        <p:pic>
          <p:nvPicPr>
            <p:cNvPr id="505" name="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01760" y="6156360"/>
              <a:ext cx="8413560" cy="6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"/>
            <p:cNvSpPr/>
            <p:nvPr/>
          </p:nvSpPr>
          <p:spPr>
            <a:xfrm>
              <a:off x="468360" y="6237360"/>
              <a:ext cx="828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http://www.prodlenka.org</a:t>
              </a:r>
              <a:r>
                <a:rPr b="0" lang="ru-RU" sz="2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7" name="Picture 2" descr="C:\Users\Omega Electronics\Desktop\орл.JPG"/>
          <p:cNvPicPr/>
          <p:nvPr/>
        </p:nvPicPr>
        <p:blipFill>
          <a:blip r:embed="rId3"/>
          <a:stretch/>
        </p:blipFill>
        <p:spPr>
          <a:xfrm>
            <a:off x="1835280" y="2421000"/>
            <a:ext cx="5518080" cy="2592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8" name="Заголовок 1"/>
          <p:cNvGrpSpPr/>
          <p:nvPr/>
        </p:nvGrpSpPr>
        <p:grpSpPr>
          <a:xfrm>
            <a:off x="285840" y="146160"/>
            <a:ext cx="8480160" cy="1274760"/>
            <a:chOff x="285840" y="146160"/>
            <a:chExt cx="8480160" cy="1274760"/>
          </a:xfrm>
        </p:grpSpPr>
        <p:pic>
          <p:nvPicPr>
            <p:cNvPr id="509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285840" y="146160"/>
              <a:ext cx="8480160" cy="12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0" name=""/>
            <p:cNvSpPr/>
            <p:nvPr/>
          </p:nvSpPr>
          <p:spPr>
            <a:xfrm>
              <a:off x="468360" y="18900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Georgia"/>
                </a:rPr>
                <a:t>МЕЖДУНАРОДНЫЕ ОЛИМПИАДЫ </a:t>
              </a:r>
              <a:br>
                <a:rPr sz="2800"/>
              </a:br>
              <a:r>
                <a:rPr b="1" lang="ru-RU" sz="2800" spc="-1" strike="noStrike">
                  <a:solidFill>
                    <a:srgbClr val="000000"/>
                  </a:solidFill>
                  <a:latin typeface="Georgia"/>
                </a:rPr>
                <a:t>«ЭРУДИТ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1" name="Прямоугольник 2"/>
          <p:cNvGrpSpPr/>
          <p:nvPr/>
        </p:nvGrpSpPr>
        <p:grpSpPr>
          <a:xfrm>
            <a:off x="401760" y="6156360"/>
            <a:ext cx="8413560" cy="635040"/>
            <a:chOff x="401760" y="6156360"/>
            <a:chExt cx="8413560" cy="635040"/>
          </a:xfrm>
        </p:grpSpPr>
        <p:pic>
          <p:nvPicPr>
            <p:cNvPr id="512" name="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01760" y="6156360"/>
              <a:ext cx="8413560" cy="6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3" name=""/>
            <p:cNvSpPr/>
            <p:nvPr/>
          </p:nvSpPr>
          <p:spPr>
            <a:xfrm>
              <a:off x="468360" y="6237360"/>
              <a:ext cx="828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http://erudyt.ru</a:t>
              </a:r>
              <a:r>
                <a:rPr b="0" lang="ru-RU" sz="2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4" name="Picture 2" descr="C:\Users\Omega Electronics\Desktop\роп.JPG"/>
          <p:cNvPicPr/>
          <p:nvPr/>
        </p:nvPicPr>
        <p:blipFill>
          <a:blip r:embed="rId3"/>
          <a:stretch/>
        </p:blipFill>
        <p:spPr>
          <a:xfrm>
            <a:off x="2843280" y="1989000"/>
            <a:ext cx="3984480" cy="3629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5" name="Заголовок 1"/>
          <p:cNvGrpSpPr/>
          <p:nvPr/>
        </p:nvGrpSpPr>
        <p:grpSpPr>
          <a:xfrm>
            <a:off x="285840" y="146160"/>
            <a:ext cx="8480160" cy="1274760"/>
            <a:chOff x="285840" y="146160"/>
            <a:chExt cx="8480160" cy="1274760"/>
          </a:xfrm>
        </p:grpSpPr>
        <p:pic>
          <p:nvPicPr>
            <p:cNvPr id="516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285840" y="146160"/>
              <a:ext cx="8480160" cy="12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7" name=""/>
            <p:cNvSpPr/>
            <p:nvPr/>
          </p:nvSpPr>
          <p:spPr>
            <a:xfrm>
              <a:off x="468360" y="18900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Georgia"/>
                </a:rPr>
                <a:t>ДИСТАНЦИОННЫЕ ОЛИМПИАДЫ И КОНКУРСЫ</a:t>
              </a:r>
              <a:br>
                <a:rPr sz="2800"/>
              </a:br>
              <a:r>
                <a:rPr b="1" lang="ru-RU" sz="2800" spc="-1" strike="noStrike">
                  <a:solidFill>
                    <a:srgbClr val="000000"/>
                  </a:solidFill>
                  <a:latin typeface="Georgia"/>
                </a:rPr>
                <a:t>«ФГОСТЕСТ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8" name="Прямоугольник 2"/>
          <p:cNvGrpSpPr/>
          <p:nvPr/>
        </p:nvGrpSpPr>
        <p:grpSpPr>
          <a:xfrm>
            <a:off x="401760" y="6156360"/>
            <a:ext cx="8413560" cy="635040"/>
            <a:chOff x="401760" y="6156360"/>
            <a:chExt cx="8413560" cy="635040"/>
          </a:xfrm>
        </p:grpSpPr>
        <p:pic>
          <p:nvPicPr>
            <p:cNvPr id="519" name="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01760" y="6156360"/>
              <a:ext cx="8413560" cy="6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0" name=""/>
            <p:cNvSpPr/>
            <p:nvPr/>
          </p:nvSpPr>
          <p:spPr>
            <a:xfrm>
              <a:off x="468360" y="6237360"/>
              <a:ext cx="828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http://www.fgostest.ru</a:t>
              </a:r>
              <a:r>
                <a:rPr b="0" lang="ru-RU" sz="2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1" name="Picture 2" descr=""/>
          <p:cNvPicPr/>
          <p:nvPr/>
        </p:nvPicPr>
        <p:blipFill>
          <a:blip r:embed="rId3"/>
          <a:stretch/>
        </p:blipFill>
        <p:spPr>
          <a:xfrm>
            <a:off x="2627280" y="2205000"/>
            <a:ext cx="3657600" cy="3110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Заголовок 1"/>
          <p:cNvGrpSpPr/>
          <p:nvPr/>
        </p:nvGrpSpPr>
        <p:grpSpPr>
          <a:xfrm>
            <a:off x="285840" y="146160"/>
            <a:ext cx="8480160" cy="1274760"/>
            <a:chOff x="285840" y="146160"/>
            <a:chExt cx="8480160" cy="1274760"/>
          </a:xfrm>
        </p:grpSpPr>
        <p:pic>
          <p:nvPicPr>
            <p:cNvPr id="523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285840" y="146160"/>
              <a:ext cx="8480160" cy="12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"/>
            <p:cNvSpPr/>
            <p:nvPr/>
          </p:nvSpPr>
          <p:spPr>
            <a:xfrm>
              <a:off x="468360" y="18900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Georgia"/>
                </a:rPr>
                <a:t>ВСЕРОССИЙСКИЕ ОЛИМПИАДЫ И КОНКУРС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" name="Прямоугольник 2"/>
          <p:cNvGrpSpPr/>
          <p:nvPr/>
        </p:nvGrpSpPr>
        <p:grpSpPr>
          <a:xfrm>
            <a:off x="401760" y="6156360"/>
            <a:ext cx="8413560" cy="635040"/>
            <a:chOff x="401760" y="6156360"/>
            <a:chExt cx="8413560" cy="635040"/>
          </a:xfrm>
        </p:grpSpPr>
        <p:pic>
          <p:nvPicPr>
            <p:cNvPr id="526" name="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01760" y="6156360"/>
              <a:ext cx="8413560" cy="6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7" name=""/>
            <p:cNvSpPr/>
            <p:nvPr/>
          </p:nvSpPr>
          <p:spPr>
            <a:xfrm>
              <a:off x="468360" y="6237360"/>
              <a:ext cx="828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https://mir-olimpiad.ru</a:t>
              </a:r>
              <a:r>
                <a:rPr b="0" lang="ru-RU" sz="2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8" name="Picture 2" descr="C:\Users\Omega Electronics\Desktop\ап.JPG"/>
          <p:cNvPicPr/>
          <p:nvPr/>
        </p:nvPicPr>
        <p:blipFill>
          <a:blip r:embed="rId3"/>
          <a:stretch/>
        </p:blipFill>
        <p:spPr>
          <a:xfrm>
            <a:off x="909720" y="2852640"/>
            <a:ext cx="7397640" cy="1563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9" name="Заголовок 1"/>
          <p:cNvGrpSpPr/>
          <p:nvPr/>
        </p:nvGrpSpPr>
        <p:grpSpPr>
          <a:xfrm>
            <a:off x="285840" y="146160"/>
            <a:ext cx="8480160" cy="1274760"/>
            <a:chOff x="285840" y="146160"/>
            <a:chExt cx="8480160" cy="1274760"/>
          </a:xfrm>
        </p:grpSpPr>
        <p:pic>
          <p:nvPicPr>
            <p:cNvPr id="530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285840" y="146160"/>
              <a:ext cx="8480160" cy="12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1" name=""/>
            <p:cNvSpPr/>
            <p:nvPr/>
          </p:nvSpPr>
          <p:spPr>
            <a:xfrm>
              <a:off x="468360" y="18900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Georgia"/>
                </a:rPr>
                <a:t>ИНТЕЛЛЕКТУАЛЬНАЯ ОЛИМПИАДА ДЛЯ МЛАДШИХ ШКОЛЬНИКОВ </a:t>
              </a:r>
              <a:r>
                <a:rPr b="1" lang="ru-RU" sz="2800" spc="-1" strike="noStrike">
                  <a:solidFill>
                    <a:srgbClr val="000000"/>
                  </a:solidFill>
                  <a:latin typeface="Georgia"/>
                </a:rPr>
                <a:t>«ШАГ В БУДУЩЕЕ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" name="Прямоугольник 2"/>
          <p:cNvGrpSpPr/>
          <p:nvPr/>
        </p:nvGrpSpPr>
        <p:grpSpPr>
          <a:xfrm>
            <a:off x="401760" y="6156360"/>
            <a:ext cx="8413560" cy="635040"/>
            <a:chOff x="401760" y="6156360"/>
            <a:chExt cx="8413560" cy="635040"/>
          </a:xfrm>
        </p:grpSpPr>
        <p:pic>
          <p:nvPicPr>
            <p:cNvPr id="533" name="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01760" y="6156360"/>
              <a:ext cx="8413560" cy="6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" name=""/>
            <p:cNvSpPr/>
            <p:nvPr/>
          </p:nvSpPr>
          <p:spPr>
            <a:xfrm>
              <a:off x="468360" y="6237360"/>
              <a:ext cx="828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http://www.step-into-the-future.ru</a:t>
              </a:r>
              <a:r>
                <a:rPr b="0" lang="ru-RU" sz="2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5" name="Picture 2" descr="C:\Users\Omega Electronics\Desktop\аолрл.JPG"/>
          <p:cNvPicPr/>
          <p:nvPr/>
        </p:nvPicPr>
        <p:blipFill>
          <a:blip r:embed="rId3"/>
          <a:stretch/>
        </p:blipFill>
        <p:spPr>
          <a:xfrm>
            <a:off x="965160" y="2637000"/>
            <a:ext cx="7284960" cy="2038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Заголовок 1"/>
          <p:cNvGrpSpPr/>
          <p:nvPr/>
        </p:nvGrpSpPr>
        <p:grpSpPr>
          <a:xfrm>
            <a:off x="311040" y="19080"/>
            <a:ext cx="8454960" cy="1401840"/>
            <a:chOff x="311040" y="19080"/>
            <a:chExt cx="8454960" cy="1401840"/>
          </a:xfrm>
        </p:grpSpPr>
        <p:pic>
          <p:nvPicPr>
            <p:cNvPr id="354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311040" y="19080"/>
              <a:ext cx="845496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"/>
            <p:cNvSpPr/>
            <p:nvPr/>
          </p:nvSpPr>
          <p:spPr>
            <a:xfrm>
              <a:off x="468360" y="18900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000000"/>
                  </a:solidFill>
                  <a:latin typeface="Georgia"/>
                </a:rPr>
                <a:t>МЕЖДУНАРОДНЫЙ ДИСТАНЦИОННЫЙ МОНИТОРИНГОВЫЙ ПРОЕКТ  </a:t>
              </a:r>
              <a:r>
                <a:rPr b="1" lang="ru-RU" sz="2500" spc="-1" strike="noStrike">
                  <a:solidFill>
                    <a:srgbClr val="000000"/>
                  </a:solidFill>
                  <a:latin typeface="Georgia"/>
                </a:rPr>
                <a:t>«ЭРУДИТ – МАРАФОН УЧАЩИХСЯ» (ЭМУ)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Прямоугольник 2"/>
          <p:cNvGrpSpPr/>
          <p:nvPr/>
        </p:nvGrpSpPr>
        <p:grpSpPr>
          <a:xfrm>
            <a:off x="401760" y="6156360"/>
            <a:ext cx="8413560" cy="635040"/>
            <a:chOff x="401760" y="6156360"/>
            <a:chExt cx="8413560" cy="635040"/>
          </a:xfrm>
        </p:grpSpPr>
        <p:pic>
          <p:nvPicPr>
            <p:cNvPr id="357" name="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01760" y="6156360"/>
              <a:ext cx="8413560" cy="6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>
              <a:off x="468360" y="6237360"/>
              <a:ext cx="8280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d2611c"/>
                  </a:solidFill>
                  <a:uFillTx/>
                  <a:latin typeface="Georgia"/>
                  <a:hlinkClick r:id="rId3"/>
                </a:rPr>
                <a:t>http://emu.cerm.ru</a:t>
              </a:r>
              <a:r>
                <a:rPr b="0" lang="ru-RU" sz="2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9" name="Picture 2" descr="http://damaclub.ru/yevevuymo/1492"/>
          <p:cNvPicPr/>
          <p:nvPr/>
        </p:nvPicPr>
        <p:blipFill>
          <a:blip r:embed="rId4"/>
          <a:stretch/>
        </p:blipFill>
        <p:spPr>
          <a:xfrm>
            <a:off x="2700360" y="2133720"/>
            <a:ext cx="3614760" cy="3222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Заголовок 1"/>
          <p:cNvGrpSpPr/>
          <p:nvPr/>
        </p:nvGrpSpPr>
        <p:grpSpPr>
          <a:xfrm>
            <a:off x="285840" y="146160"/>
            <a:ext cx="8480160" cy="1274760"/>
            <a:chOff x="285840" y="146160"/>
            <a:chExt cx="8480160" cy="1274760"/>
          </a:xfrm>
        </p:grpSpPr>
        <p:pic>
          <p:nvPicPr>
            <p:cNvPr id="361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285840" y="146160"/>
              <a:ext cx="8480160" cy="12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468360" y="18900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Georgia"/>
                </a:rPr>
                <a:t>МЕЖДУНАРОДНЫЙ КОНКУРС ПО ИНФОРМАТИКЕ </a:t>
              </a:r>
              <a:r>
                <a:rPr b="1" lang="ru-RU" sz="2800" spc="-1" strike="noStrike">
                  <a:solidFill>
                    <a:srgbClr val="000000"/>
                  </a:solidFill>
                  <a:latin typeface="Georgia"/>
                </a:rPr>
                <a:t>«КИТ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Прямоугольник 2"/>
          <p:cNvGrpSpPr/>
          <p:nvPr/>
        </p:nvGrpSpPr>
        <p:grpSpPr>
          <a:xfrm>
            <a:off x="401760" y="5724360"/>
            <a:ext cx="8413560" cy="633600"/>
            <a:chOff x="401760" y="5724360"/>
            <a:chExt cx="8413560" cy="633600"/>
          </a:xfrm>
        </p:grpSpPr>
        <p:pic>
          <p:nvPicPr>
            <p:cNvPr id="364" name="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01760" y="5724360"/>
              <a:ext cx="8413560" cy="63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"/>
            <p:cNvSpPr/>
            <p:nvPr/>
          </p:nvSpPr>
          <p:spPr>
            <a:xfrm>
              <a:off x="468360" y="5805360"/>
              <a:ext cx="8280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 u="sng">
                  <a:solidFill>
                    <a:srgbClr val="d2611c"/>
                  </a:solidFill>
                  <a:uFillTx/>
                  <a:latin typeface="Georgia"/>
                  <a:hlinkClick r:id="rId3"/>
                </a:rPr>
                <a:t>http://russian-kenguru.ru/konkursy/kit</a:t>
              </a:r>
              <a:r>
                <a:rPr b="0" lang="ru-RU" sz="24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6" name="Picture 2" descr="http://nachalka.gimn6tih1.edusite.ru/images/kit.png"/>
          <p:cNvPicPr/>
          <p:nvPr/>
        </p:nvPicPr>
        <p:blipFill>
          <a:blip r:embed="rId4"/>
          <a:stretch/>
        </p:blipFill>
        <p:spPr>
          <a:xfrm>
            <a:off x="2050920" y="1916280"/>
            <a:ext cx="5232600" cy="3209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7" name="Заголовок 1"/>
          <p:cNvGrpSpPr/>
          <p:nvPr/>
        </p:nvGrpSpPr>
        <p:grpSpPr>
          <a:xfrm>
            <a:off x="285840" y="146160"/>
            <a:ext cx="8480160" cy="1274760"/>
            <a:chOff x="285840" y="146160"/>
            <a:chExt cx="8480160" cy="1274760"/>
          </a:xfrm>
        </p:grpSpPr>
        <p:pic>
          <p:nvPicPr>
            <p:cNvPr id="368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285840" y="146160"/>
              <a:ext cx="8480160" cy="12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468360" y="18900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Georgia"/>
                </a:rPr>
                <a:t>ВСЕРОССИЙСКИЙ КОНКУРС ПО РУССКОМУ ЯЗЫКУ </a:t>
              </a:r>
              <a:r>
                <a:rPr b="1" lang="ru-RU" sz="2800" spc="-1" strike="noStrike">
                  <a:solidFill>
                    <a:srgbClr val="000000"/>
                  </a:solidFill>
                  <a:latin typeface="Georgia"/>
                </a:rPr>
                <a:t>«РУССКИЙ МЕДВЕЖОНОК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Прямоугольник 2"/>
          <p:cNvGrpSpPr/>
          <p:nvPr/>
        </p:nvGrpSpPr>
        <p:grpSpPr>
          <a:xfrm>
            <a:off x="401760" y="5937120"/>
            <a:ext cx="8413560" cy="635040"/>
            <a:chOff x="401760" y="5937120"/>
            <a:chExt cx="8413560" cy="635040"/>
          </a:xfrm>
        </p:grpSpPr>
        <p:pic>
          <p:nvPicPr>
            <p:cNvPr id="371" name="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01760" y="5937120"/>
              <a:ext cx="8413560" cy="6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468360" y="6021360"/>
              <a:ext cx="8280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d2611c"/>
                  </a:solidFill>
                  <a:uFillTx/>
                  <a:latin typeface="Georgia"/>
                  <a:hlinkClick r:id="rId3"/>
                </a:rPr>
                <a:t>http://www.rm.kirov.ru</a:t>
              </a:r>
              <a:r>
                <a:rPr b="0" lang="ru-RU" sz="2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3" name="Picture 2" descr="C:\Users\Omega Electronics\Desktop\сайт\русский медвежонок.jpg"/>
          <p:cNvPicPr/>
          <p:nvPr/>
        </p:nvPicPr>
        <p:blipFill>
          <a:blip r:embed="rId4"/>
          <a:stretch/>
        </p:blipFill>
        <p:spPr>
          <a:xfrm>
            <a:off x="3059280" y="1484280"/>
            <a:ext cx="2992320" cy="4284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" name="Заголовок 1"/>
          <p:cNvGrpSpPr/>
          <p:nvPr/>
        </p:nvGrpSpPr>
        <p:grpSpPr>
          <a:xfrm>
            <a:off x="285840" y="146160"/>
            <a:ext cx="8480160" cy="1274760"/>
            <a:chOff x="285840" y="146160"/>
            <a:chExt cx="8480160" cy="1274760"/>
          </a:xfrm>
        </p:grpSpPr>
        <p:pic>
          <p:nvPicPr>
            <p:cNvPr id="375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285840" y="146160"/>
              <a:ext cx="8480160" cy="12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"/>
            <p:cNvSpPr/>
            <p:nvPr/>
          </p:nvSpPr>
          <p:spPr>
            <a:xfrm>
              <a:off x="468360" y="18900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Georgia"/>
                </a:rPr>
                <a:t>МЕЖДУНАРОДНЫЙ КОНКУРС </a:t>
              </a:r>
              <a:r>
                <a:rPr b="1" lang="ru-RU" sz="2800" spc="-1" strike="noStrike">
                  <a:solidFill>
                    <a:srgbClr val="000000"/>
                  </a:solidFill>
                  <a:latin typeface="Georgia"/>
                </a:rPr>
                <a:t>«ЛИСЁНОК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Прямоугольник 2"/>
          <p:cNvGrpSpPr/>
          <p:nvPr/>
        </p:nvGrpSpPr>
        <p:grpSpPr>
          <a:xfrm>
            <a:off x="401760" y="6156360"/>
            <a:ext cx="8413560" cy="635040"/>
            <a:chOff x="401760" y="6156360"/>
            <a:chExt cx="8413560" cy="635040"/>
          </a:xfrm>
        </p:grpSpPr>
        <p:pic>
          <p:nvPicPr>
            <p:cNvPr id="378" name="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01760" y="6156360"/>
              <a:ext cx="8413560" cy="6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"/>
            <p:cNvSpPr/>
            <p:nvPr/>
          </p:nvSpPr>
          <p:spPr>
            <a:xfrm>
              <a:off x="468360" y="6237360"/>
              <a:ext cx="8280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d2611c"/>
                  </a:solidFill>
                  <a:uFillTx/>
                  <a:latin typeface="Georgia"/>
                  <a:hlinkClick r:id="rId3"/>
                </a:rPr>
                <a:t>http://konkurs-lisenok.ru</a:t>
              </a:r>
              <a:r>
                <a:rPr b="0" lang="ru-RU" sz="2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0" name="Picture 2" descr="C:\Users\Omega Electronics\Desktop\олрда.JPG"/>
          <p:cNvPicPr/>
          <p:nvPr/>
        </p:nvPicPr>
        <p:blipFill>
          <a:blip r:embed="rId4"/>
          <a:stretch/>
        </p:blipFill>
        <p:spPr>
          <a:xfrm>
            <a:off x="1476360" y="2492280"/>
            <a:ext cx="6167520" cy="2320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Заголовок 1"/>
          <p:cNvGrpSpPr/>
          <p:nvPr/>
        </p:nvGrpSpPr>
        <p:grpSpPr>
          <a:xfrm>
            <a:off x="285840" y="146160"/>
            <a:ext cx="8480160" cy="1274760"/>
            <a:chOff x="285840" y="146160"/>
            <a:chExt cx="8480160" cy="1274760"/>
          </a:xfrm>
        </p:grpSpPr>
        <p:pic>
          <p:nvPicPr>
            <p:cNvPr id="382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285840" y="146160"/>
              <a:ext cx="8480160" cy="12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"/>
            <p:cNvSpPr/>
            <p:nvPr/>
          </p:nvSpPr>
          <p:spPr>
            <a:xfrm>
              <a:off x="468360" y="18900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Georgia"/>
                </a:rPr>
                <a:t>ВСЕРОССИЙСКИЙ КОНКУРС ПО АНГЛИЙСКОМУ ЯЗЫКУ </a:t>
              </a:r>
              <a:r>
                <a:rPr b="1" lang="ru-RU" sz="2800" spc="-1" strike="noStrike">
                  <a:solidFill>
                    <a:srgbClr val="000000"/>
                  </a:solidFill>
                  <a:latin typeface="Georgia"/>
                </a:rPr>
                <a:t>«BRITISH BULLDOG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Прямоугольник 2"/>
          <p:cNvGrpSpPr/>
          <p:nvPr/>
        </p:nvGrpSpPr>
        <p:grpSpPr>
          <a:xfrm>
            <a:off x="401760" y="6156360"/>
            <a:ext cx="8413560" cy="635040"/>
            <a:chOff x="401760" y="6156360"/>
            <a:chExt cx="8413560" cy="635040"/>
          </a:xfrm>
        </p:grpSpPr>
        <p:pic>
          <p:nvPicPr>
            <p:cNvPr id="385" name="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01760" y="6156360"/>
              <a:ext cx="8413560" cy="6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468360" y="6237360"/>
              <a:ext cx="8280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d2611c"/>
                  </a:solidFill>
                  <a:uFillTx/>
                  <a:latin typeface="Georgia"/>
                  <a:hlinkClick r:id="rId3"/>
                </a:rPr>
                <a:t>http://runodog.ru</a:t>
              </a:r>
              <a:r>
                <a:rPr b="0" lang="ru-RU" sz="2400" spc="-1" strike="noStrike" u="sng">
                  <a:solidFill>
                    <a:srgbClr val="000000"/>
                  </a:solidFill>
                  <a:uFillTx/>
                  <a:latin typeface="Georgi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7" name="Picture 2" descr="http://sehriyo.uz/wp-content/uploads/2016/12/01.jpg"/>
          <p:cNvPicPr/>
          <p:nvPr/>
        </p:nvPicPr>
        <p:blipFill>
          <a:blip r:embed="rId4"/>
          <a:stretch/>
        </p:blipFill>
        <p:spPr>
          <a:xfrm>
            <a:off x="2124000" y="2205000"/>
            <a:ext cx="4862520" cy="3646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88" name="Прямая соединительная линия 4"/>
          <p:cNvSpPr/>
          <p:nvPr/>
        </p:nvSpPr>
        <p:spPr>
          <a:xfrm>
            <a:off x="4427640" y="3068640"/>
            <a:ext cx="914400" cy="91440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Заголовок 1"/>
          <p:cNvGrpSpPr/>
          <p:nvPr/>
        </p:nvGrpSpPr>
        <p:grpSpPr>
          <a:xfrm>
            <a:off x="285840" y="146160"/>
            <a:ext cx="8480160" cy="1274760"/>
            <a:chOff x="285840" y="146160"/>
            <a:chExt cx="8480160" cy="1274760"/>
          </a:xfrm>
        </p:grpSpPr>
        <p:pic>
          <p:nvPicPr>
            <p:cNvPr id="390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285840" y="146160"/>
              <a:ext cx="8480160" cy="12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"/>
            <p:cNvSpPr/>
            <p:nvPr/>
          </p:nvSpPr>
          <p:spPr>
            <a:xfrm>
              <a:off x="468360" y="18900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Georgia"/>
                </a:rPr>
                <a:t>МЕЖДУНАРОДНЫЙ КОНКУРС-ИГРА ПО ФИЗИЧЕСКОЙ КУЛЬТУРЕ </a:t>
              </a:r>
              <a:r>
                <a:rPr b="1" lang="ru-RU" sz="2800" spc="-1" strike="noStrike">
                  <a:solidFill>
                    <a:srgbClr val="000000"/>
                  </a:solidFill>
                  <a:latin typeface="Georgia"/>
                </a:rPr>
                <a:t>«ОРЛЁНОК»</a:t>
              </a:r>
              <a:r>
                <a:rPr b="1" lang="ru-RU" sz="2800" spc="-1" strike="noStrike">
                  <a:solidFill>
                    <a:srgbClr val="000000"/>
                  </a:solidFill>
                  <a:latin typeface="Century Schoolbook"/>
                </a:rPr>
                <a:t>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Прямоугольник 2"/>
          <p:cNvGrpSpPr/>
          <p:nvPr/>
        </p:nvGrpSpPr>
        <p:grpSpPr>
          <a:xfrm>
            <a:off x="401760" y="6022800"/>
            <a:ext cx="8413560" cy="871560"/>
            <a:chOff x="401760" y="6022800"/>
            <a:chExt cx="8413560" cy="871560"/>
          </a:xfrm>
        </p:grpSpPr>
        <p:pic>
          <p:nvPicPr>
            <p:cNvPr id="393" name="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01760" y="6022800"/>
              <a:ext cx="841356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"/>
            <p:cNvSpPr/>
            <p:nvPr/>
          </p:nvSpPr>
          <p:spPr>
            <a:xfrm>
              <a:off x="468360" y="6093000"/>
              <a:ext cx="8280360" cy="7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d2611c"/>
                  </a:solidFill>
                  <a:uFillTx/>
                  <a:latin typeface="Georgia"/>
                  <a:hlinkClick r:id="rId3"/>
                </a:rPr>
                <a:t>https://nic-snail.ru/calendar/konkurs-igra-po-fizicheskoy-kulture-orlnok_2017</a:t>
              </a:r>
              <a:r>
                <a:rPr b="0" lang="ru-RU" sz="20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5" name="Picture 2" descr="C:\Users\Omega Electronics\Desktop\ропо.JPG"/>
          <p:cNvPicPr/>
          <p:nvPr/>
        </p:nvPicPr>
        <p:blipFill>
          <a:blip r:embed="rId4"/>
          <a:stretch/>
        </p:blipFill>
        <p:spPr>
          <a:xfrm>
            <a:off x="3348000" y="1844640"/>
            <a:ext cx="2995560" cy="3195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Заголовок 1"/>
          <p:cNvGrpSpPr/>
          <p:nvPr/>
        </p:nvGrpSpPr>
        <p:grpSpPr>
          <a:xfrm>
            <a:off x="285840" y="146160"/>
            <a:ext cx="8480160" cy="1274760"/>
            <a:chOff x="285840" y="146160"/>
            <a:chExt cx="8480160" cy="1274760"/>
          </a:xfrm>
        </p:grpSpPr>
        <p:pic>
          <p:nvPicPr>
            <p:cNvPr id="397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285840" y="146160"/>
              <a:ext cx="8480160" cy="12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"/>
            <p:cNvSpPr/>
            <p:nvPr/>
          </p:nvSpPr>
          <p:spPr>
            <a:xfrm>
              <a:off x="468360" y="18900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Georgia"/>
                </a:rPr>
                <a:t>МЕЖДУНАРОДНАЯ ЭВРИСТИЧЕСКАЯ ОЛИМПИАДА </a:t>
              </a:r>
              <a:br>
                <a:rPr sz="2800"/>
              </a:br>
              <a:r>
                <a:rPr b="1" lang="ru-RU" sz="2800" spc="-1" strike="noStrike">
                  <a:solidFill>
                    <a:srgbClr val="000000"/>
                  </a:solidFill>
                  <a:latin typeface="Georgia"/>
                </a:rPr>
                <a:t>«СОВЁНОК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Прямоугольник 2"/>
          <p:cNvGrpSpPr/>
          <p:nvPr/>
        </p:nvGrpSpPr>
        <p:grpSpPr>
          <a:xfrm>
            <a:off x="401760" y="6156360"/>
            <a:ext cx="8413560" cy="635040"/>
            <a:chOff x="401760" y="6156360"/>
            <a:chExt cx="8413560" cy="635040"/>
          </a:xfrm>
        </p:grpSpPr>
        <p:pic>
          <p:nvPicPr>
            <p:cNvPr id="400" name="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01760" y="6156360"/>
              <a:ext cx="8413560" cy="6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468360" y="6237360"/>
              <a:ext cx="8280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d2611c"/>
                  </a:solidFill>
                  <a:uFillTx/>
                  <a:latin typeface="Georgia"/>
                  <a:hlinkClick r:id="rId3"/>
                </a:rPr>
                <a:t>https://www.covenok.ru/sov/</a:t>
              </a:r>
              <a:r>
                <a:rPr b="0" lang="ru-RU" sz="2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2" name="Picture 2" descr="C:\Users\Omega Electronics\Desktop\Снимок.JPG"/>
          <p:cNvPicPr/>
          <p:nvPr/>
        </p:nvPicPr>
        <p:blipFill>
          <a:blip r:embed="rId4"/>
          <a:stretch/>
        </p:blipFill>
        <p:spPr>
          <a:xfrm>
            <a:off x="2987640" y="1773360"/>
            <a:ext cx="3463920" cy="3965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22T12:55:12Z</dcterms:created>
  <dc:creator>Omega Electronics</dc:creator>
  <dc:description/>
  <dc:language>en-US</dc:language>
  <cp:lastModifiedBy>user</cp:lastModifiedBy>
  <dcterms:modified xsi:type="dcterms:W3CDTF">2017-05-19T18:51:01Z</dcterms:modified>
  <cp:revision>26</cp:revision>
  <dc:subject/>
  <dc:title>Международный игровой конкурс по истории мировой культуры «Золотое руно»</dc:title>
</cp:coreProperties>
</file>