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6.png" ContentType="image/png"/>
  <Override PartName="/ppt/media/image23.jpeg" ContentType="image/jpe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4.jpeg" ContentType="image/jpeg"/>
  <Override PartName="/ppt/media/image5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5.png" ContentType="image/png"/>
  <Override PartName="/ppt/media/image3.jpeg" ContentType="image/jpeg"/>
  <Override PartName="/ppt/media/image25.jpeg" ContentType="image/jpeg"/>
  <Override PartName="/ppt/media/image2.png" ContentType="image/png"/>
  <Override PartName="/ppt/media/image27.png" ContentType="image/png"/>
  <Override PartName="/ppt/media/image4.png" ContentType="image/png"/>
  <Override PartName="/ppt/media/image12.jpeg" ContentType="image/jpeg"/>
  <Override PartName="/ppt/media/image6.png" ContentType="image/png"/>
  <Override PartName="/ppt/media/image11.png" ContentType="image/png"/>
  <Override PartName="/ppt/media/image48.png" ContentType="image/png"/>
  <Override PartName="/ppt/media/image43.png" ContentType="image/png"/>
  <Override PartName="/ppt/media/image57.jpeg" ContentType="image/jpeg"/>
  <Override PartName="/ppt/media/image47.png" ContentType="image/png"/>
  <Override PartName="/ppt/media/image49.jpeg" ContentType="image/jpeg"/>
  <Override PartName="/ppt/media/image50.png" ContentType="image/png"/>
  <Override PartName="/ppt/media/image13.png" ContentType="image/png"/>
  <Override PartName="/ppt/media/image45.png" ContentType="image/png"/>
  <Override PartName="/ppt/media/image46.jpeg" ContentType="image/jpeg"/>
  <Override PartName="/ppt/media/image51.jpeg" ContentType="image/jpeg"/>
  <Override PartName="/ppt/media/image42.jpeg" ContentType="image/jpeg"/>
  <Override PartName="/ppt/media/image52.png" ContentType="image/png"/>
  <Override PartName="/ppt/media/image30.jpeg" ContentType="image/jpeg"/>
  <Override PartName="/ppt/media/image53.png" ContentType="image/png"/>
  <Override PartName="/ppt/media/image55.jpeg" ContentType="image/jpeg"/>
  <Override PartName="/ppt/media/image56.png" ContentType="image/png"/>
  <Override PartName="/ppt/media/image41.png" ContentType="image/png"/>
  <Override PartName="/ppt/media/image44.png" ContentType="image/png"/>
  <Override PartName="/ppt/media/image40.jpeg" ContentType="image/jpeg"/>
  <Override PartName="/ppt/media/image39.png" ContentType="image/png"/>
  <Override PartName="/ppt/media/image9.png" ContentType="image/png"/>
  <Override PartName="/ppt/media/image33.png" ContentType="image/png"/>
  <Override PartName="/ppt/media/image10.jpeg" ContentType="image/jpeg"/>
  <Override PartName="/ppt/media/image8.jpeg" ContentType="image/jpeg"/>
  <Override PartName="/ppt/media/image38.jpeg" ContentType="image/jpeg"/>
  <Override PartName="/ppt/media/image28.png" ContentType="image/png"/>
  <Override PartName="/ppt/media/image5.png" ContentType="image/png"/>
  <Override PartName="/ppt/media/image35.png" ContentType="image/png"/>
  <Override PartName="/ppt/media/image7.png" ContentType="image/png"/>
  <Override PartName="/ppt/media/image37.png" ContentType="image/png"/>
  <Override PartName="/ppt/media/image3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5053-6A19-4167-BA5B-A7824C9E9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F671-97A5-4215-9D7E-F3B15FD7B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8EBC-A384-405A-A839-843538AAD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00D6-A8C2-4FE1-A3B0-C54A47352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8F718-7277-45DE-B901-1956CFF77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3681A-4E9C-4F70-A722-3C0BAA387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E38DE-1B2C-4247-9926-50E08AE4E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4AD25-46AF-44E5-9842-AF4028772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F7E74-2A5C-430A-93ED-C0567D4D9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19BA3-036F-46B5-B16C-73647C261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32A1F-D73F-4A68-8FEC-1C2E390A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5A23-7A89-44D0-AB73-A3FD7CEC0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E2B66-ADE2-4A95-8570-992EB4FE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87F73-D89B-492B-96F6-0F63B6C1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1ABDF-539D-406A-B940-AF9F61A09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4CF89-C828-47A7-AD37-E49444780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EF08F-B661-4925-9C31-C9C850C49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BB2869-B25A-4F8C-B32A-1B2833C22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1CCFC3-5921-4B27-85D5-C98F8BF78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D69A92-B6C3-4EAD-9E4C-2E3E932CF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64BAFA-48DF-4724-9075-83B68DC85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9C553F-CB9A-4E6F-8BA1-BCAE6FD49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9BAD-DFCE-470F-A04C-5F115F765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6445F0-6233-45EE-AB9F-E7CC41202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EAB059-0332-4DEC-A61A-A9773695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0FB773-133F-4365-A08F-93724141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C0440E-85D7-4501-AF99-EDA3873C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EFB221-94C5-4F51-9D5E-8D360B949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7F1650-1B59-4BD9-8756-2C2A25A62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4D67AC-0612-4926-BB41-04207A788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AD891-3177-4F34-9A00-8D413F417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167B0-694A-4BFD-8CF4-0B3BF00D5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CD37C-860F-4748-A320-32225B579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A540-E711-4C52-BCAB-34BF31309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142B9-7C0C-48F5-B0E8-F913BC3BF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DD9DC-8C95-4733-B939-1CDE2EED3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2FF22-8F77-46A9-9DDD-E43CB7E4D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5E8FC-E234-41DB-9F5C-F467D821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F5ADA-2B9C-4DA9-A88F-53863C1C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7413B-28C7-40D2-B863-65764BC3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622A8-5777-49C5-A886-0A0108B68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AF496-5FBE-49CA-A7F1-35B590193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8C4E6-4258-49F5-B8CE-1A33632BE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4AE9F6-DD6A-4463-BB9B-0383CDF0D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32DD-7CC4-4B37-819D-6AB7789CF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634282-09BC-44BC-8E1F-AEE555E76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C53CC4-6445-470B-9ADA-38457AB2A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4D1DEB-9CD4-4FC9-8DBC-EC6310D31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D9D34C-21DA-43D3-8C0F-59026C5FD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ECF7AC-2AA8-4DEA-A1C5-948E4400B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A61890-7FEA-4A9A-8D9E-C4BDC598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0EF93C-9DAA-4F52-B3C2-F93807BC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58451A-5686-4CB5-B85D-442BE7C2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64B872-83F3-4F5B-B219-453BFBA69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26D8ED-6C02-4BA5-B5A9-F99CCDC9C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DD7A-80E0-4E95-80E4-E01ABC102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611BBB-E8AC-4A25-B6B1-203632178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51ADC8-FFE4-48C6-8C86-9C63D511B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F29B80-A0C8-40E8-95DA-981C5DCA0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91BFA5-3C0A-4372-8404-DF0CE67DB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5FAB0E-DEA8-4594-A282-46C976135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BEF129-EA10-40E7-9139-EE7F525C9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B0219A-BC6D-43E8-AC1A-1D1B09DE6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DFAE2F-E90E-436F-BF48-3638E6C2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49B315-195B-4433-BDAD-EE045479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F04EF2-1905-4E36-95C0-DEB4E5D9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5ED9-2CB0-454D-B6FE-5DFC17A0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378107-BBC2-4897-BF10-2F5E8A1BF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AD3C51-5B4A-471A-B2DB-31E735D39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F4FD6E-E2B3-46E3-BB7E-A98518F8A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E3641D-DD60-4EA9-B109-E74AA2B47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06DE85-EB5E-4399-B154-2C4BA6BFA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30C980-200C-4953-A210-71F46C7EC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5E742C-920F-431F-B834-F54A84BA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5818B9-1518-4515-92E9-D45F04645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B8B488-1EFD-423B-AD50-5E9E07A0A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DB0A1D-8F9E-44BB-9D4F-DFA42C61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55B0-B4CF-43A0-83F2-05C46900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65F9E7-0685-4A77-B8F5-B04C2483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8A8B24-4C10-43BD-9EA9-7BB9260B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A6684D-81F9-4AE8-9D77-097DEB69D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ECF63E-7493-49BC-A809-89B391123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5BC291-7E84-4723-9179-4F5CD0C61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CD05-1771-467D-AD3A-DA0842E1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8D3F6-1F82-4A8B-A828-E0FBDEFAAB3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F3170-CD36-4BFA-AB04-04CF0DBA33F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C66D9-793E-4F69-A7ED-9C0DDD1E041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2392E-A85A-494A-8129-5949D52C9F9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6A4DA-64A2-4A10-BB9C-0F13651473A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D52B-F93A-4987-B9F1-D8F8AE27A79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FAD46-C8FB-436A-9203-EFAC1BAA9E9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png"/><Relationship Id="rId3" Type="http://schemas.openxmlformats.org/officeDocument/2006/relationships/hyperlink" Target="http://future4you.ru/" TargetMode="External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hyperlink" Target="http://mathkang.ru/" TargetMode="External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2.png"/><Relationship Id="rId3" Type="http://schemas.openxmlformats.org/officeDocument/2006/relationships/hyperlink" Target="http://inokon.ru/" TargetMode="External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4.png"/><Relationship Id="rId3" Type="http://schemas.openxmlformats.org/officeDocument/2006/relationships/hyperlink" Target="http://konkursidei.ru/vserossijskij_blic-turnir_erudit-2017/" TargetMode="External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6.png"/><Relationship Id="rId3" Type="http://schemas.openxmlformats.org/officeDocument/2006/relationships/hyperlink" Target="http://runodog.ru/" TargetMode="External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hyperlink" Target="http://iq-champion.ru/rus/" TargetMode="External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1.png"/><Relationship Id="rId3" Type="http://schemas.openxmlformats.org/officeDocument/2006/relationships/hyperlink" Target="http://cerm.ru/EMU-specialist/" TargetMode="External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3.png"/><Relationship Id="rId3" Type="http://schemas.openxmlformats.org/officeDocument/2006/relationships/hyperlink" Target="https://urfodu.ru/ru/ru/" TargetMode="External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5.png"/><Relationship Id="rId3" Type="http://schemas.openxmlformats.org/officeDocument/2006/relationships/hyperlink" Target="http://dovuz.sfu-kras.ru/" TargetMode="External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7.pn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5.pn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0.pn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4.pn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6.pn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emu.cerm.ru/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http://russian-kenguru.ru/konkursy/kit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hyperlink" Target="http://www.rm.kirov.ru/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hyperlink" Target="http://konkurs-lisenok.ru/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hyperlink" Target="http://runodog.ru/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hyperlink" Target="https://nic-snail.ru/calendar/konkurs-igra-po-fizicheskoy-kulture-orlnok_2017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png"/><Relationship Id="rId3" Type="http://schemas.openxmlformats.org/officeDocument/2006/relationships/hyperlink" Target="https://www.covenok.ru/sov/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71640" y="1052640"/>
            <a:ext cx="712944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Georgia"/>
              </a:rPr>
              <a:t>ОЛИМПИАДЫ ДЛЯ УЧАЩИХСЯ НАЧАЛЬНОЙ ШКОЛ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Заголовок 1"/>
          <p:cNvGrpSpPr/>
          <p:nvPr/>
        </p:nvGrpSpPr>
        <p:grpSpPr>
          <a:xfrm>
            <a:off x="285840" y="146160"/>
            <a:ext cx="8480160" cy="1274760"/>
            <a:chOff x="285840" y="146160"/>
            <a:chExt cx="8480160" cy="1274760"/>
          </a:xfrm>
        </p:grpSpPr>
        <p:pic>
          <p:nvPicPr>
            <p:cNvPr id="404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85840" y="146160"/>
              <a:ext cx="848016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>
              <a:off x="468360" y="18900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Georgia"/>
                </a:rPr>
                <a:t>ИНТЕЛЛЕКТУАЛЬНО ТВОРЧЕСКИЙ ПОТЕНЦИАЛ РОССИ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Прямоугольник 2"/>
          <p:cNvGrpSpPr/>
          <p:nvPr/>
        </p:nvGrpSpPr>
        <p:grpSpPr>
          <a:xfrm>
            <a:off x="401760" y="6156360"/>
            <a:ext cx="8413560" cy="635040"/>
            <a:chOff x="401760" y="6156360"/>
            <a:chExt cx="8413560" cy="635040"/>
          </a:xfrm>
        </p:grpSpPr>
        <p:pic>
          <p:nvPicPr>
            <p:cNvPr id="407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01760" y="6156360"/>
              <a:ext cx="841356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468360" y="6237360"/>
              <a:ext cx="8280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d2611c"/>
                  </a:solidFill>
                  <a:uFillTx/>
                  <a:latin typeface="Georgia"/>
                  <a:hlinkClick r:id="rId3"/>
                </a:rPr>
                <a:t>http://future4you.ru</a:t>
              </a:r>
              <a:r>
                <a:rPr b="0" lang="ru-RU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9" name="Picture 2" descr="C:\Users\Omega Electronics\Desktop\длрд.JPG"/>
          <p:cNvPicPr/>
          <p:nvPr/>
        </p:nvPicPr>
        <p:blipFill>
          <a:blip r:embed="rId4"/>
          <a:stretch/>
        </p:blipFill>
        <p:spPr>
          <a:xfrm>
            <a:off x="3267000" y="1841400"/>
            <a:ext cx="3322800" cy="321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Заголовок 1"/>
          <p:cNvGrpSpPr/>
          <p:nvPr/>
        </p:nvGrpSpPr>
        <p:grpSpPr>
          <a:xfrm>
            <a:off x="500040" y="-42840"/>
            <a:ext cx="8478720" cy="1281240"/>
            <a:chOff x="500040" y="-42840"/>
            <a:chExt cx="8478720" cy="1281240"/>
          </a:xfrm>
        </p:grpSpPr>
        <p:pic>
          <p:nvPicPr>
            <p:cNvPr id="411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500040" y="-42840"/>
              <a:ext cx="8478720" cy="12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684360" y="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Georgia"/>
                </a:rPr>
                <a:t>МЕЖДУНАРОДНЫЙ КОНКУРС ПО МАТЕМАТИКЕ </a:t>
              </a:r>
              <a:r>
                <a:rPr b="1" lang="ru-RU" sz="2800" spc="-1" strike="noStrike">
                  <a:solidFill>
                    <a:srgbClr val="000000"/>
                  </a:solidFill>
                  <a:latin typeface="Georgia"/>
                </a:rPr>
                <a:t>«КЕНГУРУ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Прямоугольник 2"/>
          <p:cNvGrpSpPr/>
          <p:nvPr/>
        </p:nvGrpSpPr>
        <p:grpSpPr>
          <a:xfrm>
            <a:off x="476280" y="4498920"/>
            <a:ext cx="8412120" cy="633600"/>
            <a:chOff x="476280" y="4498920"/>
            <a:chExt cx="8412120" cy="633600"/>
          </a:xfrm>
        </p:grpSpPr>
        <p:pic>
          <p:nvPicPr>
            <p:cNvPr id="414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76280" y="4498920"/>
              <a:ext cx="8412120" cy="6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539640" y="4581360"/>
              <a:ext cx="8280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d2611c"/>
                  </a:solidFill>
                  <a:uFillTx/>
                  <a:latin typeface="Georgia"/>
                  <a:hlinkClick r:id="rId3"/>
                </a:rPr>
                <a:t>http://mathkang.ru/</a:t>
              </a:r>
              <a:r>
                <a:rPr b="0" lang="ru-RU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6" name="Picture 2" descr="C:\Users\Omega Electronics\Desktop\кенгуру.JPG"/>
          <p:cNvPicPr/>
          <p:nvPr/>
        </p:nvPicPr>
        <p:blipFill>
          <a:blip r:embed="rId4"/>
          <a:stretch/>
        </p:blipFill>
        <p:spPr>
          <a:xfrm>
            <a:off x="1979640" y="2421000"/>
            <a:ext cx="4611600" cy="149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Заголовок 1"/>
          <p:cNvGrpSpPr/>
          <p:nvPr/>
        </p:nvGrpSpPr>
        <p:grpSpPr>
          <a:xfrm>
            <a:off x="285840" y="146160"/>
            <a:ext cx="8480160" cy="1274760"/>
            <a:chOff x="285840" y="146160"/>
            <a:chExt cx="8480160" cy="1274760"/>
          </a:xfrm>
        </p:grpSpPr>
        <p:pic>
          <p:nvPicPr>
            <p:cNvPr id="418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85840" y="146160"/>
              <a:ext cx="848016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468360" y="18900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Georgia"/>
                </a:rPr>
                <a:t>МЕЖДУНАРОДНЫЙ ОБРАЗОВАТЕЛЬНЫЙ ПРОЕКТ</a:t>
              </a:r>
              <a:br>
                <a:rPr sz="2800"/>
              </a:br>
              <a:r>
                <a:rPr b="1" lang="ru-RU" sz="2800" spc="-1" strike="noStrike">
                  <a:solidFill>
                    <a:srgbClr val="000000"/>
                  </a:solidFill>
                  <a:latin typeface="Georgia"/>
                </a:rPr>
                <a:t>«ИНОСТРАННЫЕ КОНКУРСЫ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Прямоугольник 2"/>
          <p:cNvGrpSpPr/>
          <p:nvPr/>
        </p:nvGrpSpPr>
        <p:grpSpPr>
          <a:xfrm>
            <a:off x="401760" y="6156360"/>
            <a:ext cx="8413560" cy="635040"/>
            <a:chOff x="401760" y="6156360"/>
            <a:chExt cx="8413560" cy="635040"/>
          </a:xfrm>
        </p:grpSpPr>
        <p:pic>
          <p:nvPicPr>
            <p:cNvPr id="421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01760" y="6156360"/>
              <a:ext cx="841356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"/>
            <p:cNvSpPr/>
            <p:nvPr/>
          </p:nvSpPr>
          <p:spPr>
            <a:xfrm>
              <a:off x="468360" y="6237360"/>
              <a:ext cx="8280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d2611c"/>
                  </a:solidFill>
                  <a:uFillTx/>
                  <a:latin typeface="Georgia"/>
                  <a:hlinkClick r:id="rId3"/>
                </a:rPr>
                <a:t>http://inokon.ru</a:t>
              </a:r>
              <a:r>
                <a:rPr b="0" lang="ru-RU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3" name="Picture 2" descr="C:\Users\Omega Electronics\Desktop\20.JPG"/>
          <p:cNvPicPr/>
          <p:nvPr/>
        </p:nvPicPr>
        <p:blipFill>
          <a:blip r:embed="rId4"/>
          <a:stretch/>
        </p:blipFill>
        <p:spPr>
          <a:xfrm>
            <a:off x="2340000" y="2205000"/>
            <a:ext cx="4560840" cy="2952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Заголовок 1"/>
          <p:cNvGrpSpPr/>
          <p:nvPr/>
        </p:nvGrpSpPr>
        <p:grpSpPr>
          <a:xfrm>
            <a:off x="285840" y="146160"/>
            <a:ext cx="8480160" cy="1274760"/>
            <a:chOff x="285840" y="146160"/>
            <a:chExt cx="8480160" cy="1274760"/>
          </a:xfrm>
        </p:grpSpPr>
        <p:pic>
          <p:nvPicPr>
            <p:cNvPr id="425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85840" y="146160"/>
              <a:ext cx="848016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468360" y="18900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Georgia"/>
                </a:rPr>
                <a:t>ВСЕРОССИЙСКИЙ БЛИЦ-ТУРНИР </a:t>
              </a:r>
              <a:br>
                <a:rPr sz="2800"/>
              </a:br>
              <a:r>
                <a:rPr b="1" lang="ru-RU" sz="2800" spc="-1" strike="noStrike">
                  <a:solidFill>
                    <a:srgbClr val="000000"/>
                  </a:solidFill>
                  <a:latin typeface="Georgia"/>
                </a:rPr>
                <a:t>«ЭРУДИТ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Прямоугольник 2"/>
          <p:cNvGrpSpPr/>
          <p:nvPr/>
        </p:nvGrpSpPr>
        <p:grpSpPr>
          <a:xfrm>
            <a:off x="401760" y="6162840"/>
            <a:ext cx="8413560" cy="609480"/>
            <a:chOff x="401760" y="6162840"/>
            <a:chExt cx="8413560" cy="609480"/>
          </a:xfrm>
        </p:grpSpPr>
        <p:pic>
          <p:nvPicPr>
            <p:cNvPr id="428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01760" y="6162840"/>
              <a:ext cx="841356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"/>
            <p:cNvSpPr/>
            <p:nvPr/>
          </p:nvSpPr>
          <p:spPr>
            <a:xfrm>
              <a:off x="468360" y="6237360"/>
              <a:ext cx="8280360" cy="49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 u="sng">
                  <a:solidFill>
                    <a:srgbClr val="d2611c"/>
                  </a:solidFill>
                  <a:uFillTx/>
                  <a:latin typeface="Georgia"/>
                  <a:hlinkClick r:id="rId3"/>
                </a:rPr>
                <a:t>http://konkursidei.ru/vserossijskij_blic-turnir_erudit-2017/</a:t>
              </a:r>
              <a:r>
                <a:rPr b="0" lang="ru-RU" sz="23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0" name="Picture 2" descr="C:\Users\Omega Electronics\Desktop\оарм.JPG"/>
          <p:cNvPicPr/>
          <p:nvPr/>
        </p:nvPicPr>
        <p:blipFill>
          <a:blip r:embed="rId4"/>
          <a:stretch/>
        </p:blipFill>
        <p:spPr>
          <a:xfrm>
            <a:off x="2411280" y="2060640"/>
            <a:ext cx="4587840" cy="3216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1" name="Заголовок 1"/>
          <p:cNvGrpSpPr/>
          <p:nvPr/>
        </p:nvGrpSpPr>
        <p:grpSpPr>
          <a:xfrm>
            <a:off x="212760" y="146160"/>
            <a:ext cx="8480520" cy="1274760"/>
            <a:chOff x="212760" y="146160"/>
            <a:chExt cx="8480520" cy="1274760"/>
          </a:xfrm>
        </p:grpSpPr>
        <p:pic>
          <p:nvPicPr>
            <p:cNvPr id="432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12760" y="146160"/>
              <a:ext cx="848052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395280" y="18900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Georgia"/>
                </a:rPr>
                <a:t>МЕЖДУНАРОДНЫЙ ИГРОВОЙ КОНКУРС ПО ИСТОРИИ МИРОВОЙ КУЛЬТУРЫ </a:t>
              </a:r>
              <a:r>
                <a:rPr b="1" lang="ru-RU" sz="2800" spc="-1" strike="noStrike">
                  <a:solidFill>
                    <a:srgbClr val="000000"/>
                  </a:solidFill>
                  <a:latin typeface="Georgia"/>
                </a:rPr>
                <a:t>«ЗОЛОТОЕ РУНО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Прямоугольник 2"/>
          <p:cNvGrpSpPr/>
          <p:nvPr/>
        </p:nvGrpSpPr>
        <p:grpSpPr>
          <a:xfrm>
            <a:off x="401760" y="5578560"/>
            <a:ext cx="8413560" cy="633240"/>
            <a:chOff x="401760" y="5578560"/>
            <a:chExt cx="8413560" cy="633240"/>
          </a:xfrm>
        </p:grpSpPr>
        <p:pic>
          <p:nvPicPr>
            <p:cNvPr id="435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01760" y="5578560"/>
              <a:ext cx="841356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468360" y="5661000"/>
              <a:ext cx="8280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d2611c"/>
                  </a:solidFill>
                  <a:uFillTx/>
                  <a:latin typeface="Georgia"/>
                  <a:hlinkClick r:id="rId3"/>
                </a:rPr>
                <a:t>http://runodog.ru</a:t>
              </a:r>
              <a:r>
                <a:rPr b="0" lang="ru-RU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7" name="Picture 2" descr=""/>
          <p:cNvPicPr/>
          <p:nvPr/>
        </p:nvPicPr>
        <p:blipFill>
          <a:blip r:embed="rId4"/>
          <a:stretch/>
        </p:blipFill>
        <p:spPr>
          <a:xfrm>
            <a:off x="2627280" y="1916280"/>
            <a:ext cx="4214880" cy="3558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Заголовок 1"/>
          <p:cNvGrpSpPr/>
          <p:nvPr/>
        </p:nvGrpSpPr>
        <p:grpSpPr>
          <a:xfrm>
            <a:off x="285840" y="146160"/>
            <a:ext cx="8480160" cy="1274760"/>
            <a:chOff x="285840" y="146160"/>
            <a:chExt cx="8480160" cy="1274760"/>
          </a:xfrm>
        </p:grpSpPr>
        <p:pic>
          <p:nvPicPr>
            <p:cNvPr id="439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85840" y="146160"/>
              <a:ext cx="848016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468360" y="18900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Georgia"/>
                </a:rPr>
                <a:t>ВСЕРОССИЙСКАЯ ОНЛАЙН ПЛОЩАДКА</a:t>
              </a:r>
              <a:br>
                <a:rPr sz="2800"/>
              </a:br>
              <a:r>
                <a:rPr b="1" lang="ru-RU" sz="2800" spc="-1" strike="noStrike">
                  <a:solidFill>
                    <a:srgbClr val="000000"/>
                  </a:solidFill>
                  <a:latin typeface="Georgia"/>
                </a:rPr>
                <a:t>«IQ-CHAMPION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Прямоугольник 2"/>
          <p:cNvGrpSpPr/>
          <p:nvPr/>
        </p:nvGrpSpPr>
        <p:grpSpPr>
          <a:xfrm>
            <a:off x="401760" y="6156360"/>
            <a:ext cx="8413560" cy="635040"/>
            <a:chOff x="401760" y="6156360"/>
            <a:chExt cx="8413560" cy="635040"/>
          </a:xfrm>
        </p:grpSpPr>
        <p:pic>
          <p:nvPicPr>
            <p:cNvPr id="442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01760" y="6156360"/>
              <a:ext cx="841356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468360" y="6237360"/>
              <a:ext cx="8280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d2611c"/>
                  </a:solidFill>
                  <a:uFillTx/>
                  <a:latin typeface="Georgia"/>
                  <a:hlinkClick r:id="rId3"/>
                </a:rPr>
                <a:t>http://iq-champion.ru/rus/</a:t>
              </a:r>
              <a:r>
                <a:rPr b="0" lang="ru-RU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4" name="Picture 2" descr="C:\Users\Omega Electronics\Desktop\ай.JPG"/>
          <p:cNvPicPr/>
          <p:nvPr/>
        </p:nvPicPr>
        <p:blipFill>
          <a:blip r:embed="rId4"/>
          <a:stretch/>
        </p:blipFill>
        <p:spPr>
          <a:xfrm>
            <a:off x="2627280" y="1989000"/>
            <a:ext cx="3994200" cy="3672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Заголовок 1"/>
          <p:cNvGrpSpPr/>
          <p:nvPr/>
        </p:nvGrpSpPr>
        <p:grpSpPr>
          <a:xfrm>
            <a:off x="285840" y="146160"/>
            <a:ext cx="8480160" cy="1274760"/>
            <a:chOff x="285840" y="146160"/>
            <a:chExt cx="8480160" cy="1274760"/>
          </a:xfrm>
        </p:grpSpPr>
        <p:pic>
          <p:nvPicPr>
            <p:cNvPr id="446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85840" y="146160"/>
              <a:ext cx="848016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/>
            <p:cNvSpPr/>
            <p:nvPr/>
          </p:nvSpPr>
          <p:spPr>
            <a:xfrm>
              <a:off x="468360" y="18900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Georgia"/>
                </a:rPr>
                <a:t>МЕЖДУНАРОДНЫЙ ДИСТАНЦИОННЫЙ КОНКУРС ДЛЯ </a:t>
              </a:r>
              <a:r>
                <a:rPr b="1" lang="ru-RU" sz="2800" spc="-1" strike="noStrike">
                  <a:solidFill>
                    <a:srgbClr val="000000"/>
                  </a:solidFill>
                  <a:latin typeface="Georgia"/>
                </a:rPr>
                <a:t>«ЭМУ СПЕЦИАЛИСТ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Прямоугольник 2"/>
          <p:cNvGrpSpPr/>
          <p:nvPr/>
        </p:nvGrpSpPr>
        <p:grpSpPr>
          <a:xfrm>
            <a:off x="401760" y="6156360"/>
            <a:ext cx="8413560" cy="635040"/>
            <a:chOff x="401760" y="6156360"/>
            <a:chExt cx="8413560" cy="635040"/>
          </a:xfrm>
        </p:grpSpPr>
        <p:pic>
          <p:nvPicPr>
            <p:cNvPr id="449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01760" y="6156360"/>
              <a:ext cx="841356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"/>
            <p:cNvSpPr/>
            <p:nvPr/>
          </p:nvSpPr>
          <p:spPr>
            <a:xfrm>
              <a:off x="468360" y="6237360"/>
              <a:ext cx="8280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d2611c"/>
                  </a:solidFill>
                  <a:uFillTx/>
                  <a:latin typeface="Georgia"/>
                  <a:hlinkClick r:id="rId3"/>
                </a:rPr>
                <a:t>http://cerm.ru/EMU-specialist/</a:t>
              </a:r>
              <a:r>
                <a:rPr b="0" lang="ru-RU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1" name="Picture 2" descr="C:\Users\Omega Electronics\Desktop\специалист.JPG"/>
          <p:cNvPicPr/>
          <p:nvPr/>
        </p:nvPicPr>
        <p:blipFill>
          <a:blip r:embed="rId4"/>
          <a:stretch/>
        </p:blipFill>
        <p:spPr>
          <a:xfrm>
            <a:off x="2556000" y="2492280"/>
            <a:ext cx="4187880" cy="2494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Заголовок 1"/>
          <p:cNvGrpSpPr/>
          <p:nvPr/>
        </p:nvGrpSpPr>
        <p:grpSpPr>
          <a:xfrm>
            <a:off x="285840" y="146160"/>
            <a:ext cx="8480160" cy="1274760"/>
            <a:chOff x="285840" y="146160"/>
            <a:chExt cx="8480160" cy="1274760"/>
          </a:xfrm>
        </p:grpSpPr>
        <p:pic>
          <p:nvPicPr>
            <p:cNvPr id="453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85840" y="146160"/>
              <a:ext cx="848016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468360" y="18900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Georgia"/>
                </a:rPr>
                <a:t>МЕЖДУНАРОДНАЯ ОЛИМПИАДА ПО ОСНОВАМ НАУК</a:t>
              </a:r>
              <a:br>
                <a:rPr sz="2800"/>
              </a:br>
              <a:r>
                <a:rPr b="1" lang="ru-RU" sz="2800" spc="-1" strike="noStrike">
                  <a:solidFill>
                    <a:srgbClr val="000000"/>
                  </a:solidFill>
                  <a:latin typeface="Georgia"/>
                </a:rPr>
                <a:t>«УРФО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Прямоугольник 2"/>
          <p:cNvGrpSpPr/>
          <p:nvPr/>
        </p:nvGrpSpPr>
        <p:grpSpPr>
          <a:xfrm>
            <a:off x="401760" y="6156360"/>
            <a:ext cx="8413560" cy="635040"/>
            <a:chOff x="401760" y="6156360"/>
            <a:chExt cx="8413560" cy="635040"/>
          </a:xfrm>
        </p:grpSpPr>
        <p:pic>
          <p:nvPicPr>
            <p:cNvPr id="456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01760" y="6156360"/>
              <a:ext cx="841356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468360" y="6237360"/>
              <a:ext cx="8280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d2611c"/>
                  </a:solidFill>
                  <a:uFillTx/>
                  <a:latin typeface="Georgia"/>
                  <a:hlinkClick r:id="rId3"/>
                </a:rPr>
                <a:t>https://urfodu.ru/ru/ru/</a:t>
              </a:r>
              <a:r>
                <a:rPr b="0" lang="ru-RU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8" name="Picture 2" descr="http://sch-inter2.ucoz.ru/_si/0/34475874.jpg"/>
          <p:cNvPicPr/>
          <p:nvPr/>
        </p:nvPicPr>
        <p:blipFill>
          <a:blip r:embed="rId4"/>
          <a:stretch/>
        </p:blipFill>
        <p:spPr>
          <a:xfrm>
            <a:off x="1673280" y="1844640"/>
            <a:ext cx="5869080" cy="3911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Заголовок 1"/>
          <p:cNvGrpSpPr/>
          <p:nvPr/>
        </p:nvGrpSpPr>
        <p:grpSpPr>
          <a:xfrm>
            <a:off x="285840" y="146160"/>
            <a:ext cx="8480160" cy="1274760"/>
            <a:chOff x="285840" y="146160"/>
            <a:chExt cx="8480160" cy="1274760"/>
          </a:xfrm>
        </p:grpSpPr>
        <p:pic>
          <p:nvPicPr>
            <p:cNvPr id="460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85840" y="146160"/>
              <a:ext cx="848016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468360" y="18900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Georgia"/>
                </a:rPr>
                <a:t>МЕЖДУНАРОДНАЯ ОЛИМПИАДА</a:t>
              </a:r>
              <a:br>
                <a:rPr sz="2800"/>
              </a:br>
              <a:r>
                <a:rPr b="1" lang="ru-RU" sz="2800" spc="-1" strike="noStrike">
                  <a:solidFill>
                    <a:srgbClr val="000000"/>
                  </a:solidFill>
                  <a:latin typeface="Georgia"/>
                </a:rPr>
                <a:t>«БЕЛЬЧОНОК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Прямоугольник 2"/>
          <p:cNvGrpSpPr/>
          <p:nvPr/>
        </p:nvGrpSpPr>
        <p:grpSpPr>
          <a:xfrm>
            <a:off x="401760" y="5218200"/>
            <a:ext cx="8413560" cy="633240"/>
            <a:chOff x="401760" y="5218200"/>
            <a:chExt cx="8413560" cy="633240"/>
          </a:xfrm>
        </p:grpSpPr>
        <p:pic>
          <p:nvPicPr>
            <p:cNvPr id="463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01760" y="5218200"/>
              <a:ext cx="841356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/>
            <p:cNvSpPr/>
            <p:nvPr/>
          </p:nvSpPr>
          <p:spPr>
            <a:xfrm>
              <a:off x="468360" y="5300640"/>
              <a:ext cx="8280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d2611c"/>
                  </a:solidFill>
                  <a:uFillTx/>
                  <a:latin typeface="Georgia"/>
                  <a:hlinkClick r:id="rId3"/>
                </a:rPr>
                <a:t>http://dovuz.sfu-kras.ru</a:t>
              </a:r>
              <a:r>
                <a:rPr b="0" lang="ru-RU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5" name="Picture 2" descr="C:\Users\Omega Electronics\Desktop\Снимок.JPG"/>
          <p:cNvPicPr/>
          <p:nvPr/>
        </p:nvPicPr>
        <p:blipFill>
          <a:blip r:embed="rId4"/>
          <a:stretch/>
        </p:blipFill>
        <p:spPr>
          <a:xfrm>
            <a:off x="971640" y="2781360"/>
            <a:ext cx="7056360" cy="934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6" name="Заголовок 1"/>
          <p:cNvGrpSpPr/>
          <p:nvPr/>
        </p:nvGrpSpPr>
        <p:grpSpPr>
          <a:xfrm>
            <a:off x="285840" y="146160"/>
            <a:ext cx="8480160" cy="1274760"/>
            <a:chOff x="285840" y="146160"/>
            <a:chExt cx="8480160" cy="1274760"/>
          </a:xfrm>
        </p:grpSpPr>
        <p:pic>
          <p:nvPicPr>
            <p:cNvPr id="467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85840" y="146160"/>
              <a:ext cx="848016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468360" y="18900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Georgia"/>
                </a:rPr>
                <a:t>ВСЕРОССИЙСКИЕ ДИСТАНЦИОННЫЕ МЕРОПРИЯТИЯ </a:t>
              </a:r>
              <a:r>
                <a:rPr b="1" lang="ru-RU" sz="2800" spc="-1" strike="noStrike">
                  <a:solidFill>
                    <a:srgbClr val="000000"/>
                  </a:solidFill>
                  <a:latin typeface="Georgia"/>
                </a:rPr>
                <a:t>«СУНДУЧОК ЗНАНИЙ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Прямоугольник 2"/>
          <p:cNvGrpSpPr/>
          <p:nvPr/>
        </p:nvGrpSpPr>
        <p:grpSpPr>
          <a:xfrm>
            <a:off x="401760" y="6156360"/>
            <a:ext cx="8413560" cy="635040"/>
            <a:chOff x="401760" y="6156360"/>
            <a:chExt cx="8413560" cy="635040"/>
          </a:xfrm>
        </p:grpSpPr>
        <p:pic>
          <p:nvPicPr>
            <p:cNvPr id="470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01760" y="6156360"/>
              <a:ext cx="841356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"/>
            <p:cNvSpPr/>
            <p:nvPr/>
          </p:nvSpPr>
          <p:spPr>
            <a:xfrm>
              <a:off x="468360" y="6237360"/>
              <a:ext cx="828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https://syndychok-znaniy.ru</a:t>
              </a:r>
              <a:r>
                <a:rPr b="0" lang="ru-RU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2" name="Picture 2" descr="C:\Users\Omega Electronics\Desktop\проал.JPG"/>
          <p:cNvPicPr/>
          <p:nvPr/>
        </p:nvPicPr>
        <p:blipFill>
          <a:blip r:embed="rId3"/>
          <a:stretch/>
        </p:blipFill>
        <p:spPr>
          <a:xfrm>
            <a:off x="826920" y="2408400"/>
            <a:ext cx="7490160" cy="1812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Прямоугольник 1"/>
          <p:cNvSpPr/>
          <p:nvPr/>
        </p:nvSpPr>
        <p:spPr>
          <a:xfrm>
            <a:off x="324000" y="333360"/>
            <a:ext cx="849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Олимпиады занимают важное место в развитии детей. Именно на первой ступени обучения происходят первые открытия ребё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Проведение предметных олимпиад среди младших школьников имеет большое воспитательное и обучающее значение. Участие в олимпиадах даёт ребёнк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олучение жизненного опы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расширение кругозора, интеллектуальный рост;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более успешное обучение школьным предмета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творческий рост, развитие личностных компетенц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умение оценивать себя и радоваться успех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3" name="Заголовок 1"/>
          <p:cNvGrpSpPr/>
          <p:nvPr/>
        </p:nvGrpSpPr>
        <p:grpSpPr>
          <a:xfrm>
            <a:off x="285840" y="146160"/>
            <a:ext cx="8480160" cy="1274760"/>
            <a:chOff x="285840" y="146160"/>
            <a:chExt cx="8480160" cy="1274760"/>
          </a:xfrm>
        </p:grpSpPr>
        <p:pic>
          <p:nvPicPr>
            <p:cNvPr id="474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85840" y="146160"/>
              <a:ext cx="848016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5" name=""/>
            <p:cNvSpPr/>
            <p:nvPr/>
          </p:nvSpPr>
          <p:spPr>
            <a:xfrm>
              <a:off x="468360" y="18900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Georgia"/>
                </a:rPr>
                <a:t>ОЛИМПИАДА ДЛЯ НАЧАЛЬНОЙ ШКОЛЫ ОТ ЦРТ «МЕГА-ТАЛАНТ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Прямоугольник 2"/>
          <p:cNvGrpSpPr/>
          <p:nvPr/>
        </p:nvGrpSpPr>
        <p:grpSpPr>
          <a:xfrm>
            <a:off x="401760" y="6156360"/>
            <a:ext cx="8413560" cy="635040"/>
            <a:chOff x="401760" y="6156360"/>
            <a:chExt cx="8413560" cy="635040"/>
          </a:xfrm>
        </p:grpSpPr>
        <p:pic>
          <p:nvPicPr>
            <p:cNvPr id="477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01760" y="6156360"/>
              <a:ext cx="841356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468360" y="6237360"/>
              <a:ext cx="828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https://mega-talant.com/olimpiada-nachalnaya-shkola</a:t>
              </a:r>
              <a:r>
                <a:rPr b="0" lang="ru-RU" sz="24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9" name="Picture 2" descr="https://pp.userapi.com/c639427/v639427500/1eb5b/0chAVMi9Ig8.jpg"/>
          <p:cNvPicPr/>
          <p:nvPr/>
        </p:nvPicPr>
        <p:blipFill>
          <a:blip r:embed="rId3"/>
          <a:stretch/>
        </p:blipFill>
        <p:spPr>
          <a:xfrm>
            <a:off x="1619280" y="2421000"/>
            <a:ext cx="6340320" cy="2482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Заголовок 1"/>
          <p:cNvGrpSpPr/>
          <p:nvPr/>
        </p:nvGrpSpPr>
        <p:grpSpPr>
          <a:xfrm>
            <a:off x="285840" y="146160"/>
            <a:ext cx="8480160" cy="1274760"/>
            <a:chOff x="285840" y="146160"/>
            <a:chExt cx="8480160" cy="1274760"/>
          </a:xfrm>
        </p:grpSpPr>
        <p:pic>
          <p:nvPicPr>
            <p:cNvPr id="481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85840" y="146160"/>
              <a:ext cx="848016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468360" y="18900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Georgia"/>
                </a:rPr>
                <a:t>ИНТЕРНЕТ - ОЛИМПИАДА ПО МАТЕМАТИКЕ </a:t>
              </a:r>
              <a:br>
                <a:rPr sz="2800"/>
              </a:br>
              <a:r>
                <a:rPr b="1" lang="ru-RU" sz="2800" spc="-1" strike="noStrike">
                  <a:solidFill>
                    <a:srgbClr val="000000"/>
                  </a:solidFill>
                  <a:latin typeface="Georgia"/>
                </a:rPr>
                <a:t>«2Х2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Прямоугольник 2"/>
          <p:cNvGrpSpPr/>
          <p:nvPr/>
        </p:nvGrpSpPr>
        <p:grpSpPr>
          <a:xfrm>
            <a:off x="401760" y="6156360"/>
            <a:ext cx="8413560" cy="635040"/>
            <a:chOff x="401760" y="6156360"/>
            <a:chExt cx="8413560" cy="635040"/>
          </a:xfrm>
        </p:grpSpPr>
        <p:pic>
          <p:nvPicPr>
            <p:cNvPr id="484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01760" y="6156360"/>
              <a:ext cx="841356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5" name=""/>
            <p:cNvSpPr/>
            <p:nvPr/>
          </p:nvSpPr>
          <p:spPr>
            <a:xfrm>
              <a:off x="468360" y="6237360"/>
              <a:ext cx="828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http://olimpiada2x2.ru</a:t>
              </a:r>
              <a:r>
                <a:rPr b="0" lang="ru-RU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6" name="Picture 2" descr="C:\Users\Omega Electronics\Desktop\опклы.JPG"/>
          <p:cNvPicPr/>
          <p:nvPr/>
        </p:nvPicPr>
        <p:blipFill>
          <a:blip r:embed="rId3"/>
          <a:stretch/>
        </p:blipFill>
        <p:spPr>
          <a:xfrm>
            <a:off x="826920" y="2417760"/>
            <a:ext cx="7467840" cy="1658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Заголовок 1"/>
          <p:cNvGrpSpPr/>
          <p:nvPr/>
        </p:nvGrpSpPr>
        <p:grpSpPr>
          <a:xfrm>
            <a:off x="285840" y="146160"/>
            <a:ext cx="8480160" cy="1274760"/>
            <a:chOff x="285840" y="146160"/>
            <a:chExt cx="8480160" cy="1274760"/>
          </a:xfrm>
        </p:grpSpPr>
        <p:pic>
          <p:nvPicPr>
            <p:cNvPr id="488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85840" y="146160"/>
              <a:ext cx="848016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"/>
            <p:cNvSpPr/>
            <p:nvPr/>
          </p:nvSpPr>
          <p:spPr>
            <a:xfrm>
              <a:off x="468360" y="18900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Georgia"/>
                </a:rPr>
                <a:t>МЕЖДУНАРОДНЫЕ И ОТКРЫТЫЕ РОССИЙСКИЕ ИНТЕРНЕТ-ОЛИМПИАДЫ</a:t>
              </a:r>
              <a:r>
                <a:rPr b="1" lang="ru-RU" sz="2800" spc="-1" strike="noStrike">
                  <a:solidFill>
                    <a:srgbClr val="000000"/>
                  </a:solidFill>
                  <a:latin typeface="Georgia"/>
                </a:rPr>
                <a:t> «МЕТАШКОЛА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Прямоугольник 2"/>
          <p:cNvGrpSpPr/>
          <p:nvPr/>
        </p:nvGrpSpPr>
        <p:grpSpPr>
          <a:xfrm>
            <a:off x="401760" y="6156360"/>
            <a:ext cx="8413560" cy="635040"/>
            <a:chOff x="401760" y="6156360"/>
            <a:chExt cx="8413560" cy="635040"/>
          </a:xfrm>
        </p:grpSpPr>
        <p:pic>
          <p:nvPicPr>
            <p:cNvPr id="491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01760" y="6156360"/>
              <a:ext cx="841356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"/>
            <p:cNvSpPr/>
            <p:nvPr/>
          </p:nvSpPr>
          <p:spPr>
            <a:xfrm>
              <a:off x="468360" y="6237360"/>
              <a:ext cx="828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https://metaschool.ru/</a:t>
              </a:r>
              <a:r>
                <a:rPr b="0" lang="ru-RU" sz="24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3" name="Picture 2" descr=""/>
          <p:cNvPicPr/>
          <p:nvPr/>
        </p:nvPicPr>
        <p:blipFill>
          <a:blip r:embed="rId3"/>
          <a:stretch/>
        </p:blipFill>
        <p:spPr>
          <a:xfrm>
            <a:off x="987480" y="2492280"/>
            <a:ext cx="7184880" cy="1873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Заголовок 1"/>
          <p:cNvGrpSpPr/>
          <p:nvPr/>
        </p:nvGrpSpPr>
        <p:grpSpPr>
          <a:xfrm>
            <a:off x="285840" y="146160"/>
            <a:ext cx="8480160" cy="1274760"/>
            <a:chOff x="285840" y="146160"/>
            <a:chExt cx="8480160" cy="1274760"/>
          </a:xfrm>
        </p:grpSpPr>
        <p:pic>
          <p:nvPicPr>
            <p:cNvPr id="495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85840" y="146160"/>
              <a:ext cx="848016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"/>
            <p:cNvSpPr/>
            <p:nvPr/>
          </p:nvSpPr>
          <p:spPr>
            <a:xfrm>
              <a:off x="468360" y="18900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Georgia"/>
                </a:rPr>
                <a:t>ВСЕРОССИЙСКИЕ ОЛИМПИАДЫ ПО РАЗНЫМ ПРЕДМЕТА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Прямоугольник 2"/>
          <p:cNvGrpSpPr/>
          <p:nvPr/>
        </p:nvGrpSpPr>
        <p:grpSpPr>
          <a:xfrm>
            <a:off x="401760" y="6156360"/>
            <a:ext cx="8413560" cy="635040"/>
            <a:chOff x="401760" y="6156360"/>
            <a:chExt cx="8413560" cy="635040"/>
          </a:xfrm>
        </p:grpSpPr>
        <p:pic>
          <p:nvPicPr>
            <p:cNvPr id="498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01760" y="6156360"/>
              <a:ext cx="841356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"/>
            <p:cNvSpPr/>
            <p:nvPr/>
          </p:nvSpPr>
          <p:spPr>
            <a:xfrm>
              <a:off x="468360" y="6237360"/>
              <a:ext cx="828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http://cleve.ru</a:t>
              </a:r>
              <a:r>
                <a:rPr b="0" lang="ru-RU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0" name="Picture 2" descr="C:\Users\Omega Electronics\Desktop\клевер.JPG"/>
          <p:cNvPicPr/>
          <p:nvPr/>
        </p:nvPicPr>
        <p:blipFill>
          <a:blip r:embed="rId3"/>
          <a:stretch/>
        </p:blipFill>
        <p:spPr>
          <a:xfrm>
            <a:off x="1547640" y="2205000"/>
            <a:ext cx="6516720" cy="2019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1" name="Заголовок 1"/>
          <p:cNvGrpSpPr/>
          <p:nvPr/>
        </p:nvGrpSpPr>
        <p:grpSpPr>
          <a:xfrm>
            <a:off x="285840" y="146160"/>
            <a:ext cx="8523360" cy="1274760"/>
            <a:chOff x="285840" y="146160"/>
            <a:chExt cx="8523360" cy="1274760"/>
          </a:xfrm>
        </p:grpSpPr>
        <p:pic>
          <p:nvPicPr>
            <p:cNvPr id="502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85840" y="146160"/>
              <a:ext cx="852336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"/>
            <p:cNvSpPr/>
            <p:nvPr/>
          </p:nvSpPr>
          <p:spPr>
            <a:xfrm>
              <a:off x="468360" y="18900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Georgia"/>
                </a:rPr>
                <a:t>МЕЖДУНАРОДНЫЕ И ВСЕРОССИЙСКИЕ ОЛИМПИАДЫ ОТ ОБРАЗОВАТЕЛЬНОГО ПОРТАЛА </a:t>
              </a:r>
              <a:r>
                <a:rPr b="1" lang="ru-RU" sz="2800" spc="-1" strike="noStrike">
                  <a:solidFill>
                    <a:srgbClr val="000000"/>
                  </a:solidFill>
                  <a:latin typeface="Georgia"/>
                </a:rPr>
                <a:t>«ПРОДЛЕНКА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Прямоугольник 2"/>
          <p:cNvGrpSpPr/>
          <p:nvPr/>
        </p:nvGrpSpPr>
        <p:grpSpPr>
          <a:xfrm>
            <a:off x="401760" y="6156360"/>
            <a:ext cx="8413560" cy="635040"/>
            <a:chOff x="401760" y="6156360"/>
            <a:chExt cx="8413560" cy="635040"/>
          </a:xfrm>
        </p:grpSpPr>
        <p:pic>
          <p:nvPicPr>
            <p:cNvPr id="505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01760" y="6156360"/>
              <a:ext cx="841356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"/>
            <p:cNvSpPr/>
            <p:nvPr/>
          </p:nvSpPr>
          <p:spPr>
            <a:xfrm>
              <a:off x="468360" y="6237360"/>
              <a:ext cx="828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http://www.prodlenka.org</a:t>
              </a:r>
              <a:r>
                <a:rPr b="0" lang="ru-RU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7" name="Picture 2" descr="C:\Users\Omega Electronics\Desktop\орл.JPG"/>
          <p:cNvPicPr/>
          <p:nvPr/>
        </p:nvPicPr>
        <p:blipFill>
          <a:blip r:embed="rId3"/>
          <a:stretch/>
        </p:blipFill>
        <p:spPr>
          <a:xfrm>
            <a:off x="1835280" y="2421000"/>
            <a:ext cx="5518080" cy="2592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8" name="Заголовок 1"/>
          <p:cNvGrpSpPr/>
          <p:nvPr/>
        </p:nvGrpSpPr>
        <p:grpSpPr>
          <a:xfrm>
            <a:off x="285840" y="146160"/>
            <a:ext cx="8480160" cy="1274760"/>
            <a:chOff x="285840" y="146160"/>
            <a:chExt cx="8480160" cy="1274760"/>
          </a:xfrm>
        </p:grpSpPr>
        <p:pic>
          <p:nvPicPr>
            <p:cNvPr id="509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85840" y="146160"/>
              <a:ext cx="848016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" name=""/>
            <p:cNvSpPr/>
            <p:nvPr/>
          </p:nvSpPr>
          <p:spPr>
            <a:xfrm>
              <a:off x="468360" y="18900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Georgia"/>
                </a:rPr>
                <a:t>МЕЖДУНАРОДНЫЕ ОЛИМПИАДЫ </a:t>
              </a:r>
              <a:br>
                <a:rPr sz="2800"/>
              </a:br>
              <a:r>
                <a:rPr b="1" lang="ru-RU" sz="2800" spc="-1" strike="noStrike">
                  <a:solidFill>
                    <a:srgbClr val="000000"/>
                  </a:solidFill>
                  <a:latin typeface="Georgia"/>
                </a:rPr>
                <a:t>«ЭРУДИТ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" name="Прямоугольник 2"/>
          <p:cNvGrpSpPr/>
          <p:nvPr/>
        </p:nvGrpSpPr>
        <p:grpSpPr>
          <a:xfrm>
            <a:off x="401760" y="6156360"/>
            <a:ext cx="8413560" cy="635040"/>
            <a:chOff x="401760" y="6156360"/>
            <a:chExt cx="8413560" cy="635040"/>
          </a:xfrm>
        </p:grpSpPr>
        <p:pic>
          <p:nvPicPr>
            <p:cNvPr id="512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01760" y="6156360"/>
              <a:ext cx="841356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"/>
            <p:cNvSpPr/>
            <p:nvPr/>
          </p:nvSpPr>
          <p:spPr>
            <a:xfrm>
              <a:off x="468360" y="6237360"/>
              <a:ext cx="828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http://erudyt.ru</a:t>
              </a:r>
              <a:r>
                <a:rPr b="0" lang="ru-RU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4" name="Picture 2" descr="C:\Users\Omega Electronics\Desktop\роп.JPG"/>
          <p:cNvPicPr/>
          <p:nvPr/>
        </p:nvPicPr>
        <p:blipFill>
          <a:blip r:embed="rId3"/>
          <a:stretch/>
        </p:blipFill>
        <p:spPr>
          <a:xfrm>
            <a:off x="2843280" y="1989000"/>
            <a:ext cx="3984480" cy="3629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5" name="Заголовок 1"/>
          <p:cNvGrpSpPr/>
          <p:nvPr/>
        </p:nvGrpSpPr>
        <p:grpSpPr>
          <a:xfrm>
            <a:off x="285840" y="146160"/>
            <a:ext cx="8480160" cy="1274760"/>
            <a:chOff x="285840" y="146160"/>
            <a:chExt cx="8480160" cy="1274760"/>
          </a:xfrm>
        </p:grpSpPr>
        <p:pic>
          <p:nvPicPr>
            <p:cNvPr id="516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85840" y="146160"/>
              <a:ext cx="848016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"/>
            <p:cNvSpPr/>
            <p:nvPr/>
          </p:nvSpPr>
          <p:spPr>
            <a:xfrm>
              <a:off x="468360" y="18900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Georgia"/>
                </a:rPr>
                <a:t>ДИСТАНЦИОННЫЕ ОЛИМПИАДЫ И КОНКУРСЫ</a:t>
              </a:r>
              <a:br>
                <a:rPr sz="2800"/>
              </a:br>
              <a:r>
                <a:rPr b="1" lang="ru-RU" sz="2800" spc="-1" strike="noStrike">
                  <a:solidFill>
                    <a:srgbClr val="000000"/>
                  </a:solidFill>
                  <a:latin typeface="Georgia"/>
                </a:rPr>
                <a:t>«ФГОСТЕСТ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" name="Прямоугольник 2"/>
          <p:cNvGrpSpPr/>
          <p:nvPr/>
        </p:nvGrpSpPr>
        <p:grpSpPr>
          <a:xfrm>
            <a:off x="401760" y="6156360"/>
            <a:ext cx="8413560" cy="635040"/>
            <a:chOff x="401760" y="6156360"/>
            <a:chExt cx="8413560" cy="635040"/>
          </a:xfrm>
        </p:grpSpPr>
        <p:pic>
          <p:nvPicPr>
            <p:cNvPr id="519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01760" y="6156360"/>
              <a:ext cx="841356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"/>
            <p:cNvSpPr/>
            <p:nvPr/>
          </p:nvSpPr>
          <p:spPr>
            <a:xfrm>
              <a:off x="468360" y="6237360"/>
              <a:ext cx="828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http://www.fgostest.ru</a:t>
              </a:r>
              <a:r>
                <a:rPr b="0" lang="ru-RU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1" name="Picture 2" descr=""/>
          <p:cNvPicPr/>
          <p:nvPr/>
        </p:nvPicPr>
        <p:blipFill>
          <a:blip r:embed="rId3"/>
          <a:stretch/>
        </p:blipFill>
        <p:spPr>
          <a:xfrm>
            <a:off x="2627280" y="2205000"/>
            <a:ext cx="3657600" cy="3110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Заголовок 1"/>
          <p:cNvGrpSpPr/>
          <p:nvPr/>
        </p:nvGrpSpPr>
        <p:grpSpPr>
          <a:xfrm>
            <a:off x="285840" y="146160"/>
            <a:ext cx="8480160" cy="1274760"/>
            <a:chOff x="285840" y="146160"/>
            <a:chExt cx="8480160" cy="1274760"/>
          </a:xfrm>
        </p:grpSpPr>
        <p:pic>
          <p:nvPicPr>
            <p:cNvPr id="523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85840" y="146160"/>
              <a:ext cx="848016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"/>
            <p:cNvSpPr/>
            <p:nvPr/>
          </p:nvSpPr>
          <p:spPr>
            <a:xfrm>
              <a:off x="468360" y="18900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Georgia"/>
                </a:rPr>
                <a:t>ВСЕРОССИЙСКИЕ ОЛИМПИАДЫ И КОНКУРС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Прямоугольник 2"/>
          <p:cNvGrpSpPr/>
          <p:nvPr/>
        </p:nvGrpSpPr>
        <p:grpSpPr>
          <a:xfrm>
            <a:off x="401760" y="6156360"/>
            <a:ext cx="8413560" cy="635040"/>
            <a:chOff x="401760" y="6156360"/>
            <a:chExt cx="8413560" cy="635040"/>
          </a:xfrm>
        </p:grpSpPr>
        <p:pic>
          <p:nvPicPr>
            <p:cNvPr id="526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01760" y="6156360"/>
              <a:ext cx="841356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"/>
            <p:cNvSpPr/>
            <p:nvPr/>
          </p:nvSpPr>
          <p:spPr>
            <a:xfrm>
              <a:off x="468360" y="6237360"/>
              <a:ext cx="828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https://mir-olimpiad.ru</a:t>
              </a:r>
              <a:r>
                <a:rPr b="0" lang="ru-RU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8" name="Picture 2" descr="C:\Users\Omega Electronics\Desktop\ап.JPG"/>
          <p:cNvPicPr/>
          <p:nvPr/>
        </p:nvPicPr>
        <p:blipFill>
          <a:blip r:embed="rId3"/>
          <a:stretch/>
        </p:blipFill>
        <p:spPr>
          <a:xfrm>
            <a:off x="909720" y="2852640"/>
            <a:ext cx="7397640" cy="1563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9" name="Заголовок 1"/>
          <p:cNvGrpSpPr/>
          <p:nvPr/>
        </p:nvGrpSpPr>
        <p:grpSpPr>
          <a:xfrm>
            <a:off x="285840" y="146160"/>
            <a:ext cx="8480160" cy="1274760"/>
            <a:chOff x="285840" y="146160"/>
            <a:chExt cx="8480160" cy="1274760"/>
          </a:xfrm>
        </p:grpSpPr>
        <p:pic>
          <p:nvPicPr>
            <p:cNvPr id="530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85840" y="146160"/>
              <a:ext cx="848016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1" name=""/>
            <p:cNvSpPr/>
            <p:nvPr/>
          </p:nvSpPr>
          <p:spPr>
            <a:xfrm>
              <a:off x="468360" y="18900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Georgia"/>
                </a:rPr>
                <a:t>ИНТЕЛЛЕКТУАЛЬНАЯ ОЛИМПИАДА ДЛЯ МЛАДШИХ ШКОЛЬНИКОВ </a:t>
              </a:r>
              <a:r>
                <a:rPr b="1" lang="ru-RU" sz="2800" spc="-1" strike="noStrike">
                  <a:solidFill>
                    <a:srgbClr val="000000"/>
                  </a:solidFill>
                  <a:latin typeface="Georgia"/>
                </a:rPr>
                <a:t>«ШАГ В БУДУЩЕЕ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Прямоугольник 2"/>
          <p:cNvGrpSpPr/>
          <p:nvPr/>
        </p:nvGrpSpPr>
        <p:grpSpPr>
          <a:xfrm>
            <a:off x="401760" y="6156360"/>
            <a:ext cx="8413560" cy="635040"/>
            <a:chOff x="401760" y="6156360"/>
            <a:chExt cx="8413560" cy="635040"/>
          </a:xfrm>
        </p:grpSpPr>
        <p:pic>
          <p:nvPicPr>
            <p:cNvPr id="533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01760" y="6156360"/>
              <a:ext cx="841356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"/>
            <p:cNvSpPr/>
            <p:nvPr/>
          </p:nvSpPr>
          <p:spPr>
            <a:xfrm>
              <a:off x="468360" y="6237360"/>
              <a:ext cx="828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http://www.step-into-the-future.ru</a:t>
              </a:r>
              <a:r>
                <a:rPr b="0" lang="ru-RU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5" name="Picture 2" descr="C:\Users\Omega Electronics\Desktop\аолрл.JPG"/>
          <p:cNvPicPr/>
          <p:nvPr/>
        </p:nvPicPr>
        <p:blipFill>
          <a:blip r:embed="rId3"/>
          <a:stretch/>
        </p:blipFill>
        <p:spPr>
          <a:xfrm>
            <a:off x="965160" y="2637000"/>
            <a:ext cx="7284960" cy="2038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Заголовок 1"/>
          <p:cNvGrpSpPr/>
          <p:nvPr/>
        </p:nvGrpSpPr>
        <p:grpSpPr>
          <a:xfrm>
            <a:off x="311040" y="19080"/>
            <a:ext cx="8454960" cy="1401840"/>
            <a:chOff x="311040" y="19080"/>
            <a:chExt cx="8454960" cy="1401840"/>
          </a:xfrm>
        </p:grpSpPr>
        <p:pic>
          <p:nvPicPr>
            <p:cNvPr id="354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311040" y="19080"/>
              <a:ext cx="845496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468360" y="18900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000000"/>
                  </a:solidFill>
                  <a:latin typeface="Georgia"/>
                </a:rPr>
                <a:t>МЕЖДУНАРОДНЫЙ ДИСТАНЦИОННЫЙ МОНИТОРИНГОВЫЙ ПРОЕКТ  </a:t>
              </a:r>
              <a:r>
                <a:rPr b="1" lang="ru-RU" sz="2500" spc="-1" strike="noStrike">
                  <a:solidFill>
                    <a:srgbClr val="000000"/>
                  </a:solidFill>
                  <a:latin typeface="Georgia"/>
                </a:rPr>
                <a:t>«ЭРУДИТ – МАРАФОН УЧАЩИХСЯ» (ЭМУ)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Прямоугольник 2"/>
          <p:cNvGrpSpPr/>
          <p:nvPr/>
        </p:nvGrpSpPr>
        <p:grpSpPr>
          <a:xfrm>
            <a:off x="401760" y="6156360"/>
            <a:ext cx="8413560" cy="635040"/>
            <a:chOff x="401760" y="6156360"/>
            <a:chExt cx="8413560" cy="635040"/>
          </a:xfrm>
        </p:grpSpPr>
        <p:pic>
          <p:nvPicPr>
            <p:cNvPr id="357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01760" y="6156360"/>
              <a:ext cx="841356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468360" y="6237360"/>
              <a:ext cx="8280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d2611c"/>
                  </a:solidFill>
                  <a:uFillTx/>
                  <a:latin typeface="Georgia"/>
                  <a:hlinkClick r:id="rId3"/>
                </a:rPr>
                <a:t>http://emu.cerm.ru</a:t>
              </a:r>
              <a:r>
                <a:rPr b="0" lang="ru-RU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9" name="Picture 2" descr="http://damaclub.ru/yevevuymo/1492"/>
          <p:cNvPicPr/>
          <p:nvPr/>
        </p:nvPicPr>
        <p:blipFill>
          <a:blip r:embed="rId4"/>
          <a:stretch/>
        </p:blipFill>
        <p:spPr>
          <a:xfrm>
            <a:off x="2700360" y="2133720"/>
            <a:ext cx="3614760" cy="3222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Заголовок 1"/>
          <p:cNvGrpSpPr/>
          <p:nvPr/>
        </p:nvGrpSpPr>
        <p:grpSpPr>
          <a:xfrm>
            <a:off x="285840" y="146160"/>
            <a:ext cx="8480160" cy="1274760"/>
            <a:chOff x="285840" y="146160"/>
            <a:chExt cx="8480160" cy="1274760"/>
          </a:xfrm>
        </p:grpSpPr>
        <p:pic>
          <p:nvPicPr>
            <p:cNvPr id="361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85840" y="146160"/>
              <a:ext cx="848016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468360" y="18900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Georgia"/>
                </a:rPr>
                <a:t>МЕЖДУНАРОДНЫЙ КОНКУРС ПО ИНФОРМАТИКЕ </a:t>
              </a:r>
              <a:r>
                <a:rPr b="1" lang="ru-RU" sz="2800" spc="-1" strike="noStrike">
                  <a:solidFill>
                    <a:srgbClr val="000000"/>
                  </a:solidFill>
                  <a:latin typeface="Georgia"/>
                </a:rPr>
                <a:t>«КИТ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Прямоугольник 2"/>
          <p:cNvGrpSpPr/>
          <p:nvPr/>
        </p:nvGrpSpPr>
        <p:grpSpPr>
          <a:xfrm>
            <a:off x="401760" y="5724360"/>
            <a:ext cx="8413560" cy="633600"/>
            <a:chOff x="401760" y="5724360"/>
            <a:chExt cx="8413560" cy="633600"/>
          </a:xfrm>
        </p:grpSpPr>
        <p:pic>
          <p:nvPicPr>
            <p:cNvPr id="364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01760" y="5724360"/>
              <a:ext cx="8413560" cy="6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>
              <a:off x="468360" y="5805360"/>
              <a:ext cx="8280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u="sng">
                  <a:solidFill>
                    <a:srgbClr val="d2611c"/>
                  </a:solidFill>
                  <a:uFillTx/>
                  <a:latin typeface="Georgia"/>
                  <a:hlinkClick r:id="rId3"/>
                </a:rPr>
                <a:t>http://russian-kenguru.ru/konkursy/kit</a:t>
              </a:r>
              <a:r>
                <a:rPr b="0" lang="ru-RU" sz="24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6" name="Picture 2" descr="http://nachalka.gimn6tih1.edusite.ru/images/kit.png"/>
          <p:cNvPicPr/>
          <p:nvPr/>
        </p:nvPicPr>
        <p:blipFill>
          <a:blip r:embed="rId4"/>
          <a:stretch/>
        </p:blipFill>
        <p:spPr>
          <a:xfrm>
            <a:off x="2050920" y="1916280"/>
            <a:ext cx="5232600" cy="3209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Заголовок 1"/>
          <p:cNvGrpSpPr/>
          <p:nvPr/>
        </p:nvGrpSpPr>
        <p:grpSpPr>
          <a:xfrm>
            <a:off x="285840" y="146160"/>
            <a:ext cx="8480160" cy="1274760"/>
            <a:chOff x="285840" y="146160"/>
            <a:chExt cx="8480160" cy="1274760"/>
          </a:xfrm>
        </p:grpSpPr>
        <p:pic>
          <p:nvPicPr>
            <p:cNvPr id="368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85840" y="146160"/>
              <a:ext cx="848016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468360" y="18900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Georgia"/>
                </a:rPr>
                <a:t>ВСЕРОССИЙСКИЙ КОНКУРС ПО РУССКОМУ ЯЗЫКУ </a:t>
              </a:r>
              <a:r>
                <a:rPr b="1" lang="ru-RU" sz="2800" spc="-1" strike="noStrike">
                  <a:solidFill>
                    <a:srgbClr val="000000"/>
                  </a:solidFill>
                  <a:latin typeface="Georgia"/>
                </a:rPr>
                <a:t>«РУССКИЙ МЕДВЕЖОНОК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Прямоугольник 2"/>
          <p:cNvGrpSpPr/>
          <p:nvPr/>
        </p:nvGrpSpPr>
        <p:grpSpPr>
          <a:xfrm>
            <a:off x="401760" y="5937120"/>
            <a:ext cx="8413560" cy="635040"/>
            <a:chOff x="401760" y="5937120"/>
            <a:chExt cx="8413560" cy="635040"/>
          </a:xfrm>
        </p:grpSpPr>
        <p:pic>
          <p:nvPicPr>
            <p:cNvPr id="371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01760" y="5937120"/>
              <a:ext cx="841356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468360" y="6021360"/>
              <a:ext cx="8280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d2611c"/>
                  </a:solidFill>
                  <a:uFillTx/>
                  <a:latin typeface="Georgia"/>
                  <a:hlinkClick r:id="rId3"/>
                </a:rPr>
                <a:t>http://www.rm.kirov.ru</a:t>
              </a:r>
              <a:r>
                <a:rPr b="0" lang="ru-RU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3" name="Picture 2" descr="C:\Users\Omega Electronics\Desktop\сайт\русский медвежонок.jpg"/>
          <p:cNvPicPr/>
          <p:nvPr/>
        </p:nvPicPr>
        <p:blipFill>
          <a:blip r:embed="rId4"/>
          <a:stretch/>
        </p:blipFill>
        <p:spPr>
          <a:xfrm>
            <a:off x="3059280" y="1484280"/>
            <a:ext cx="2992320" cy="4284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Заголовок 1"/>
          <p:cNvGrpSpPr/>
          <p:nvPr/>
        </p:nvGrpSpPr>
        <p:grpSpPr>
          <a:xfrm>
            <a:off x="285840" y="146160"/>
            <a:ext cx="8480160" cy="1274760"/>
            <a:chOff x="285840" y="146160"/>
            <a:chExt cx="8480160" cy="1274760"/>
          </a:xfrm>
        </p:grpSpPr>
        <p:pic>
          <p:nvPicPr>
            <p:cNvPr id="375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85840" y="146160"/>
              <a:ext cx="848016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468360" y="18900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Georgia"/>
                </a:rPr>
                <a:t>МЕЖДУНАРОДНЫЙ КОНКУРС </a:t>
              </a:r>
              <a:r>
                <a:rPr b="1" lang="ru-RU" sz="2800" spc="-1" strike="noStrike">
                  <a:solidFill>
                    <a:srgbClr val="000000"/>
                  </a:solidFill>
                  <a:latin typeface="Georgia"/>
                </a:rPr>
                <a:t>«ЛИСЁНОК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Прямоугольник 2"/>
          <p:cNvGrpSpPr/>
          <p:nvPr/>
        </p:nvGrpSpPr>
        <p:grpSpPr>
          <a:xfrm>
            <a:off x="401760" y="6156360"/>
            <a:ext cx="8413560" cy="635040"/>
            <a:chOff x="401760" y="6156360"/>
            <a:chExt cx="8413560" cy="635040"/>
          </a:xfrm>
        </p:grpSpPr>
        <p:pic>
          <p:nvPicPr>
            <p:cNvPr id="378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01760" y="6156360"/>
              <a:ext cx="841356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468360" y="6237360"/>
              <a:ext cx="8280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d2611c"/>
                  </a:solidFill>
                  <a:uFillTx/>
                  <a:latin typeface="Georgia"/>
                  <a:hlinkClick r:id="rId3"/>
                </a:rPr>
                <a:t>http://konkurs-lisenok.ru</a:t>
              </a:r>
              <a:r>
                <a:rPr b="0" lang="ru-RU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0" name="Picture 2" descr="C:\Users\Omega Electronics\Desktop\олрда.JPG"/>
          <p:cNvPicPr/>
          <p:nvPr/>
        </p:nvPicPr>
        <p:blipFill>
          <a:blip r:embed="rId4"/>
          <a:stretch/>
        </p:blipFill>
        <p:spPr>
          <a:xfrm>
            <a:off x="1476360" y="2492280"/>
            <a:ext cx="6167520" cy="2320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Заголовок 1"/>
          <p:cNvGrpSpPr/>
          <p:nvPr/>
        </p:nvGrpSpPr>
        <p:grpSpPr>
          <a:xfrm>
            <a:off x="285840" y="146160"/>
            <a:ext cx="8480160" cy="1274760"/>
            <a:chOff x="285840" y="146160"/>
            <a:chExt cx="8480160" cy="1274760"/>
          </a:xfrm>
        </p:grpSpPr>
        <p:pic>
          <p:nvPicPr>
            <p:cNvPr id="382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85840" y="146160"/>
              <a:ext cx="848016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/>
            <p:nvPr/>
          </p:nvSpPr>
          <p:spPr>
            <a:xfrm>
              <a:off x="468360" y="18900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Georgia"/>
                </a:rPr>
                <a:t>ВСЕРОССИЙСКИЙ КОНКУРС ПО АНГЛИЙСКОМУ ЯЗЫКУ </a:t>
              </a:r>
              <a:r>
                <a:rPr b="1" lang="ru-RU" sz="2800" spc="-1" strike="noStrike">
                  <a:solidFill>
                    <a:srgbClr val="000000"/>
                  </a:solidFill>
                  <a:latin typeface="Georgia"/>
                </a:rPr>
                <a:t>«BRITISH BULLDOG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Прямоугольник 2"/>
          <p:cNvGrpSpPr/>
          <p:nvPr/>
        </p:nvGrpSpPr>
        <p:grpSpPr>
          <a:xfrm>
            <a:off x="401760" y="6156360"/>
            <a:ext cx="8413560" cy="635040"/>
            <a:chOff x="401760" y="6156360"/>
            <a:chExt cx="8413560" cy="635040"/>
          </a:xfrm>
        </p:grpSpPr>
        <p:pic>
          <p:nvPicPr>
            <p:cNvPr id="385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01760" y="6156360"/>
              <a:ext cx="841356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468360" y="6237360"/>
              <a:ext cx="8280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d2611c"/>
                  </a:solidFill>
                  <a:uFillTx/>
                  <a:latin typeface="Georgia"/>
                  <a:hlinkClick r:id="rId3"/>
                </a:rPr>
                <a:t>http://runodog.ru</a:t>
              </a:r>
              <a:r>
                <a:rPr b="0" lang="ru-RU" sz="2400" spc="-1" strike="noStrike" u="sng">
                  <a:solidFill>
                    <a:srgbClr val="000000"/>
                  </a:solidFill>
                  <a:uFillTx/>
                  <a:latin typeface="Georgi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7" name="Picture 2" descr="http://sehriyo.uz/wp-content/uploads/2016/12/01.jpg"/>
          <p:cNvPicPr/>
          <p:nvPr/>
        </p:nvPicPr>
        <p:blipFill>
          <a:blip r:embed="rId4"/>
          <a:stretch/>
        </p:blipFill>
        <p:spPr>
          <a:xfrm>
            <a:off x="2124000" y="2205000"/>
            <a:ext cx="4862520" cy="3646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88" name="Прямая соединительная линия 4"/>
          <p:cNvSpPr/>
          <p:nvPr/>
        </p:nvSpPr>
        <p:spPr>
          <a:xfrm>
            <a:off x="4427640" y="3068640"/>
            <a:ext cx="914400" cy="91440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Заголовок 1"/>
          <p:cNvGrpSpPr/>
          <p:nvPr/>
        </p:nvGrpSpPr>
        <p:grpSpPr>
          <a:xfrm>
            <a:off x="285840" y="146160"/>
            <a:ext cx="8480160" cy="1274760"/>
            <a:chOff x="285840" y="146160"/>
            <a:chExt cx="8480160" cy="1274760"/>
          </a:xfrm>
        </p:grpSpPr>
        <p:pic>
          <p:nvPicPr>
            <p:cNvPr id="390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85840" y="146160"/>
              <a:ext cx="848016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>
              <a:off x="468360" y="18900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Georgia"/>
                </a:rPr>
                <a:t>МЕЖДУНАРОДНЫЙ КОНКУРС-ИГРА ПО ФИЗИЧЕСКОЙ КУЛЬТУРЕ </a:t>
              </a:r>
              <a:r>
                <a:rPr b="1" lang="ru-RU" sz="2800" spc="-1" strike="noStrike">
                  <a:solidFill>
                    <a:srgbClr val="000000"/>
                  </a:solidFill>
                  <a:latin typeface="Georgia"/>
                </a:rPr>
                <a:t>«ОРЛЁНОК»</a:t>
              </a:r>
              <a:r>
                <a:rPr b="1" lang="ru-RU" sz="2800" spc="-1" strike="noStrike">
                  <a:solidFill>
                    <a:srgbClr val="000000"/>
                  </a:solidFill>
                  <a:latin typeface="Century Schoolbook"/>
                </a:rPr>
                <a:t>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Прямоугольник 2"/>
          <p:cNvGrpSpPr/>
          <p:nvPr/>
        </p:nvGrpSpPr>
        <p:grpSpPr>
          <a:xfrm>
            <a:off x="401760" y="6022800"/>
            <a:ext cx="8413560" cy="871560"/>
            <a:chOff x="401760" y="6022800"/>
            <a:chExt cx="8413560" cy="871560"/>
          </a:xfrm>
        </p:grpSpPr>
        <p:pic>
          <p:nvPicPr>
            <p:cNvPr id="393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01760" y="6022800"/>
              <a:ext cx="841356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468360" y="6093000"/>
              <a:ext cx="828036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d2611c"/>
                  </a:solidFill>
                  <a:uFillTx/>
                  <a:latin typeface="Georgia"/>
                  <a:hlinkClick r:id="rId3"/>
                </a:rPr>
                <a:t>https://nic-snail.ru/calendar/konkurs-igra-po-fizicheskoy-kulture-orlnok_2017</a:t>
              </a:r>
              <a:r>
                <a:rPr b="0" lang="ru-RU" sz="20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5" name="Picture 2" descr="C:\Users\Omega Electronics\Desktop\ропо.JPG"/>
          <p:cNvPicPr/>
          <p:nvPr/>
        </p:nvPicPr>
        <p:blipFill>
          <a:blip r:embed="rId4"/>
          <a:stretch/>
        </p:blipFill>
        <p:spPr>
          <a:xfrm>
            <a:off x="3348000" y="1844640"/>
            <a:ext cx="2995560" cy="3195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Заголовок 1"/>
          <p:cNvGrpSpPr/>
          <p:nvPr/>
        </p:nvGrpSpPr>
        <p:grpSpPr>
          <a:xfrm>
            <a:off x="285840" y="146160"/>
            <a:ext cx="8480160" cy="1274760"/>
            <a:chOff x="285840" y="146160"/>
            <a:chExt cx="8480160" cy="1274760"/>
          </a:xfrm>
        </p:grpSpPr>
        <p:pic>
          <p:nvPicPr>
            <p:cNvPr id="397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85840" y="146160"/>
              <a:ext cx="848016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>
              <a:off x="468360" y="18900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Georgia"/>
                </a:rPr>
                <a:t>МЕЖДУНАРОДНАЯ ЭВРИСТИЧЕСКАЯ ОЛИМПИАДА </a:t>
              </a:r>
              <a:br>
                <a:rPr sz="2800"/>
              </a:br>
              <a:r>
                <a:rPr b="1" lang="ru-RU" sz="2800" spc="-1" strike="noStrike">
                  <a:solidFill>
                    <a:srgbClr val="000000"/>
                  </a:solidFill>
                  <a:latin typeface="Georgia"/>
                </a:rPr>
                <a:t>«СОВЁНОК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Прямоугольник 2"/>
          <p:cNvGrpSpPr/>
          <p:nvPr/>
        </p:nvGrpSpPr>
        <p:grpSpPr>
          <a:xfrm>
            <a:off x="401760" y="6156360"/>
            <a:ext cx="8413560" cy="635040"/>
            <a:chOff x="401760" y="6156360"/>
            <a:chExt cx="8413560" cy="635040"/>
          </a:xfrm>
        </p:grpSpPr>
        <p:pic>
          <p:nvPicPr>
            <p:cNvPr id="400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01760" y="6156360"/>
              <a:ext cx="841356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468360" y="6237360"/>
              <a:ext cx="8280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d2611c"/>
                  </a:solidFill>
                  <a:uFillTx/>
                  <a:latin typeface="Georgia"/>
                  <a:hlinkClick r:id="rId3"/>
                </a:rPr>
                <a:t>https://www.covenok.ru/sov/</a:t>
              </a:r>
              <a:r>
                <a:rPr b="0" lang="ru-RU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" descr="C:\Users\Omega Electronics\Desktop\Снимок.JPG"/>
          <p:cNvPicPr/>
          <p:nvPr/>
        </p:nvPicPr>
        <p:blipFill>
          <a:blip r:embed="rId4"/>
          <a:stretch/>
        </p:blipFill>
        <p:spPr>
          <a:xfrm>
            <a:off x="2987640" y="1773360"/>
            <a:ext cx="3463920" cy="3965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22T12:55:12Z</dcterms:created>
  <dc:creator>Omega Electronics</dc:creator>
  <dc:description/>
  <dc:language>en-US</dc:language>
  <cp:lastModifiedBy>user</cp:lastModifiedBy>
  <dcterms:modified xsi:type="dcterms:W3CDTF">2017-05-19T18:51:01Z</dcterms:modified>
  <cp:revision>26</cp:revision>
  <dc:subject/>
  <dc:title>Международный игровой конкурс по истории мировой культуры «Золотое руно»</dc:title>
</cp:coreProperties>
</file>