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37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502A-0967-485C-BA21-58AA34215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705-3656-42BE-B8E7-8964C6D3C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47F2-ABF9-46DE-9769-A5868B170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44E0-19BF-4908-BD77-21A1DE134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6AEB-C4D5-4C05-A172-4F8A49E1D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B54-FD01-44FF-A68E-1005B1187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43C3-4AB4-42A1-8EFB-382DB446B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190E-6F3C-4360-A80E-231A75060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E8D0-52A3-4CBB-8B58-4175DF162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94BE-3C32-41B5-AB8A-9F6C224B2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88CE-DBEA-45FB-856D-5603389C6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DAB8-24B9-4807-B507-7DAA33411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3A4-ECFE-4C04-93EB-B77823E96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ECBA-4208-44FC-9F2E-5AA6E7942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C0D5-C716-42AE-BCC3-A2B255EC1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743A-FB64-4616-AFF8-8B5AE92F3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E500-7539-407E-92F4-D397F0FDC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8485-D115-47F8-98AD-89596A4CA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B60E-4583-4F85-932E-9D15A6D87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48DE-0BC2-437F-B54B-BFA99679B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B006-E196-4D1B-9106-681000F564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891F-A6CF-45E0-82AA-932ED13F3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77C-6050-43FA-8813-5F1919C0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461-BA89-4B1C-9957-C6DE8BF2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705-DAF0-4091-A62C-B416DD99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D0C-4926-4162-A3C5-7D3AC7AE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F5F-FA9E-4BDE-97FF-AF642FAA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AB2-A6B4-46AF-ADF8-755363AC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2B6-4581-4F50-9D22-1645101E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C6B-EC61-46F2-9B3C-9E0BDA3A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26F-5ED3-4C20-BD1B-44D24DA4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FEF-C664-41BC-BC7E-B92E452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3D9-0B76-40FC-8A28-145CAC1A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6AD-ADAC-4CC6-8460-9A138E78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2351-C0CA-494C-8C89-3D37EC479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s016.radikal.ru/i337/1101/1d/d49302f6b3f0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char.ru/books/p1691600.jpg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library.74441s027.edusite.ru/images/p16_scan10098.jpg" TargetMode="External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К «Перспектив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ла : Галкина М. 41 г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457200" y="2492280"/>
            <a:ext cx="8229240" cy="4031640"/>
            <a:chOff x="457200" y="2492280"/>
            <a:chExt cx="8229240" cy="4031640"/>
          </a:xfrm>
        </p:grpSpPr>
        <p:grpSp>
          <p:nvGrpSpPr>
            <p:cNvPr id="50" name="Group 6"/>
            <p:cNvGrpSpPr/>
            <p:nvPr/>
          </p:nvGrpSpPr>
          <p:grpSpPr>
            <a:xfrm>
              <a:off x="457200" y="2553840"/>
              <a:ext cx="1089720" cy="1099800"/>
              <a:chOff x="457200" y="2553840"/>
              <a:chExt cx="1089720" cy="1099800"/>
            </a:xfrm>
          </p:grpSpPr>
          <p:pic>
            <p:nvPicPr>
              <p:cNvPr id="51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601200" y="2553840"/>
                <a:ext cx="945720" cy="997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2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457200" y="2665800"/>
                <a:ext cx="934200" cy="987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53" name="Picture 9" descr="12"/>
            <p:cNvPicPr/>
            <p:nvPr/>
          </p:nvPicPr>
          <p:blipFill>
            <a:blip r:embed="rId3"/>
            <a:stretch/>
          </p:blipFill>
          <p:spPr>
            <a:xfrm>
              <a:off x="970560" y="3420360"/>
              <a:ext cx="930240" cy="997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54" name="Group 10"/>
            <p:cNvGrpSpPr/>
            <p:nvPr/>
          </p:nvGrpSpPr>
          <p:grpSpPr>
            <a:xfrm>
              <a:off x="3940200" y="2492280"/>
              <a:ext cx="1092960" cy="1108440"/>
              <a:chOff x="3940200" y="2492280"/>
              <a:chExt cx="1092960" cy="1108440"/>
            </a:xfrm>
          </p:grpSpPr>
          <p:pic>
            <p:nvPicPr>
              <p:cNvPr id="55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084200" y="2492280"/>
                <a:ext cx="948960" cy="996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6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3940200" y="2604240"/>
                <a:ext cx="948960" cy="996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57" name="Group 13"/>
            <p:cNvGrpSpPr/>
            <p:nvPr/>
          </p:nvGrpSpPr>
          <p:grpSpPr>
            <a:xfrm>
              <a:off x="5880240" y="2492280"/>
              <a:ext cx="1109520" cy="1109520"/>
              <a:chOff x="5880240" y="2492280"/>
              <a:chExt cx="1109520" cy="1109520"/>
            </a:xfrm>
          </p:grpSpPr>
          <p:pic>
            <p:nvPicPr>
              <p:cNvPr id="58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049800" y="2492280"/>
                <a:ext cx="939960" cy="963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9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880240" y="2604240"/>
                <a:ext cx="933480" cy="997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60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785000" y="4658760"/>
              <a:ext cx="90144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61" name="Group 17"/>
            <p:cNvGrpSpPr/>
            <p:nvPr/>
          </p:nvGrpSpPr>
          <p:grpSpPr>
            <a:xfrm>
              <a:off x="1262880" y="4349880"/>
              <a:ext cx="1197720" cy="1305720"/>
              <a:chOff x="1262880" y="4349880"/>
              <a:chExt cx="1197720" cy="1305720"/>
            </a:xfrm>
          </p:grpSpPr>
          <p:pic>
            <p:nvPicPr>
              <p:cNvPr id="62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2880" y="4349880"/>
                <a:ext cx="951480" cy="1045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3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56640" y="4659480"/>
                <a:ext cx="903960" cy="9961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4" name="Group 20"/>
            <p:cNvGrpSpPr/>
            <p:nvPr/>
          </p:nvGrpSpPr>
          <p:grpSpPr>
            <a:xfrm>
              <a:off x="2143440" y="5216760"/>
              <a:ext cx="1193400" cy="1307160"/>
              <a:chOff x="2143440" y="5216760"/>
              <a:chExt cx="1193400" cy="1307160"/>
            </a:xfrm>
          </p:grpSpPr>
          <p:pic>
            <p:nvPicPr>
              <p:cNvPr id="65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3440" y="5216760"/>
                <a:ext cx="904680" cy="9961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6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432520" y="5526360"/>
                <a:ext cx="904320" cy="99756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7" name="Group 23"/>
            <p:cNvGrpSpPr/>
            <p:nvPr/>
          </p:nvGrpSpPr>
          <p:grpSpPr>
            <a:xfrm>
              <a:off x="2143440" y="2553840"/>
              <a:ext cx="1219320" cy="1300320"/>
              <a:chOff x="2143440" y="2553840"/>
              <a:chExt cx="1219320" cy="1300320"/>
            </a:xfrm>
          </p:grpSpPr>
          <p:pic>
            <p:nvPicPr>
              <p:cNvPr id="68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43440" y="2553840"/>
                <a:ext cx="904320" cy="9950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9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461320" y="2863440"/>
                <a:ext cx="901440" cy="990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0" name="Group 26"/>
            <p:cNvGrpSpPr/>
            <p:nvPr/>
          </p:nvGrpSpPr>
          <p:grpSpPr>
            <a:xfrm>
              <a:off x="2802960" y="3730320"/>
              <a:ext cx="1340280" cy="1242720"/>
              <a:chOff x="2802960" y="3730320"/>
              <a:chExt cx="1340280" cy="1242720"/>
            </a:xfrm>
          </p:grpSpPr>
          <p:pic>
            <p:nvPicPr>
              <p:cNvPr id="71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250080" y="3730320"/>
                <a:ext cx="893160" cy="9961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2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802960" y="3976920"/>
                <a:ext cx="892800" cy="9961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3" name="Group 29"/>
            <p:cNvGrpSpPr/>
            <p:nvPr/>
          </p:nvGrpSpPr>
          <p:grpSpPr>
            <a:xfrm>
              <a:off x="4487760" y="3544560"/>
              <a:ext cx="1372680" cy="1355040"/>
              <a:chOff x="4487760" y="3544560"/>
              <a:chExt cx="1372680" cy="1355040"/>
            </a:xfrm>
          </p:grpSpPr>
          <p:pic>
            <p:nvPicPr>
              <p:cNvPr id="74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487760" y="3544560"/>
                <a:ext cx="933480" cy="10454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5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4926960" y="3854160"/>
                <a:ext cx="933480" cy="10454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6" name="Group 32"/>
            <p:cNvGrpSpPr/>
            <p:nvPr/>
          </p:nvGrpSpPr>
          <p:grpSpPr>
            <a:xfrm>
              <a:off x="5074200" y="4782600"/>
              <a:ext cx="1308240" cy="1293480"/>
              <a:chOff x="5074200" y="4782600"/>
              <a:chExt cx="1308240" cy="1293480"/>
            </a:xfrm>
          </p:grpSpPr>
          <p:pic>
            <p:nvPicPr>
              <p:cNvPr id="77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74200" y="4782600"/>
                <a:ext cx="941760" cy="1045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8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440680" y="5031000"/>
                <a:ext cx="941760" cy="1045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9" name="Group 35"/>
            <p:cNvGrpSpPr/>
            <p:nvPr/>
          </p:nvGrpSpPr>
          <p:grpSpPr>
            <a:xfrm>
              <a:off x="6686640" y="3068280"/>
              <a:ext cx="1390320" cy="1323720"/>
              <a:chOff x="6686640" y="3068280"/>
              <a:chExt cx="1390320" cy="1323720"/>
            </a:xfrm>
          </p:grpSpPr>
          <p:pic>
            <p:nvPicPr>
              <p:cNvPr id="80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686640" y="3068280"/>
                <a:ext cx="951120" cy="10468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1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25840" y="3345120"/>
                <a:ext cx="951120" cy="10468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82" name="Picture 38" descr=""/>
            <p:cNvPicPr/>
            <p:nvPr/>
          </p:nvPicPr>
          <p:blipFill>
            <a:blip r:embed="rId23"/>
            <a:stretch/>
          </p:blipFill>
          <p:spPr>
            <a:xfrm>
              <a:off x="7053480" y="5153760"/>
              <a:ext cx="901080" cy="997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351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на каждом уроке создается коммуникативно-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7-1-2"/>
          <p:cNvPicPr/>
          <p:nvPr/>
        </p:nvPicPr>
        <p:blipFill>
          <a:blip r:embed="rId1"/>
          <a:stretch/>
        </p:blipFill>
        <p:spPr>
          <a:xfrm>
            <a:off x="2050920" y="3645000"/>
            <a:ext cx="2163960" cy="2852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7-1-1"/>
          <p:cNvPicPr/>
          <p:nvPr/>
        </p:nvPicPr>
        <p:blipFill>
          <a:blip r:embed="rId2"/>
          <a:stretch/>
        </p:blipFill>
        <p:spPr>
          <a:xfrm>
            <a:off x="4140360" y="3645000"/>
            <a:ext cx="2466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и курса соответствуют основному требованию Госстандарта – воспитание всесторонне развитого, образованно и конкурентно успешного гражданина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это невозможно без преодоления тенденции последних лет – уменьшение интереса детей к чтению художественн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bookowl"/>
          <p:cNvPicPr/>
          <p:nvPr/>
        </p:nvPicPr>
        <p:blipFill>
          <a:blip r:embed="rId1"/>
          <a:stretch/>
        </p:blipFill>
        <p:spPr>
          <a:xfrm>
            <a:off x="395280" y="260280"/>
            <a:ext cx="2881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79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 личностной направленности обучения и творческой активности учащихс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уждение у ребёнка желания учиться и получать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редставлений о книге, родном языке и классической литературе как культурно-исторической ц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ую самореализацию личности в процессе изучения русского языка и работы с художественным произведением через создание собственных тек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комплексный подход к изучению языка развивает функциональную грамотность учащихся, повышает уровень их общей культуры и творческой активности, учит детей общаться и лучше понимать друг др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обеспеч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нательное овладение (на доступном детям уровне) родным языком как средством общения и познания для свободного пользования им в различных ситуациях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оммуникативно-речевых умений (писать и говорить, слушать и читать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бережного отношения к языку, его богатству, глубине и вырази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интереса к родному языку, его изу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стиля речевого общения учащихся, основанного на уважении к собеседнику и его м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ение учащихся к духовно-нравственным ценностям русского языка и отечествен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ри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й, весьма важный элемент Программы — знакомство со словарё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ся знакомство младших школьников с разными словарями: орфографическим, толковым, этимологическим, словарём синонимов и антони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p16_scan10101"/>
          <p:cNvPicPr/>
          <p:nvPr/>
        </p:nvPicPr>
        <p:blipFill>
          <a:blip r:embed="rId1"/>
          <a:stretch/>
        </p:blipFill>
        <p:spPr>
          <a:xfrm>
            <a:off x="250920" y="3284640"/>
            <a:ext cx="1457280" cy="2190600"/>
          </a:xfrm>
          <a:prstGeom prst="rect">
            <a:avLst/>
          </a:prstGeom>
          <a:ln w="0">
            <a:noFill/>
          </a:ln>
        </p:spPr>
      </p:pic>
      <p:pic>
        <p:nvPicPr>
          <p:cNvPr id="148" name="i-main-pic" descr="Картинка 8 из 711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4005360"/>
            <a:ext cx="1676520" cy="2085840"/>
          </a:xfrm>
          <a:prstGeom prst="rect">
            <a:avLst/>
          </a:prstGeom>
          <a:ln w="0">
            <a:noFill/>
          </a:ln>
        </p:spPr>
      </p:pic>
      <p:pic>
        <p:nvPicPr>
          <p:cNvPr id="149" name="i-main-pic" descr="Картинка 10 из 71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3357720"/>
            <a:ext cx="1447920" cy="2219040"/>
          </a:xfrm>
          <a:prstGeom prst="rect">
            <a:avLst/>
          </a:prstGeom>
          <a:ln w="0">
            <a:noFill/>
          </a:ln>
        </p:spPr>
      </p:pic>
      <p:pic>
        <p:nvPicPr>
          <p:cNvPr id="150" name="i-main-pic" descr="Картинка 9 из 711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6000" y="3357720"/>
            <a:ext cx="1400040" cy="2085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Etimologicheskiy"/>
          <p:cNvPicPr/>
          <p:nvPr/>
        </p:nvPicPr>
        <p:blipFill>
          <a:blip r:embed="rId8"/>
          <a:stretch/>
        </p:blipFill>
        <p:spPr>
          <a:xfrm>
            <a:off x="5508720" y="4292640"/>
            <a:ext cx="1390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Математика «Учусь учиться»» автор Л. Г.Петерс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Attachment"/>
          <p:cNvPicPr/>
          <p:nvPr/>
        </p:nvPicPr>
        <p:blipFill>
          <a:blip r:embed="rId1"/>
          <a:stretch/>
        </p:blipFill>
        <p:spPr>
          <a:xfrm>
            <a:off x="6084720" y="2349360"/>
            <a:ext cx="20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Attachment"/>
          <p:cNvPicPr/>
          <p:nvPr/>
        </p:nvPicPr>
        <p:blipFill>
          <a:blip r:embed="rId2"/>
          <a:stretch/>
        </p:blipFill>
        <p:spPr>
          <a:xfrm>
            <a:off x="90000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Attachment"/>
          <p:cNvPicPr/>
          <p:nvPr/>
        </p:nvPicPr>
        <p:blipFill>
          <a:blip r:embed="rId3"/>
          <a:stretch/>
        </p:blipFill>
        <p:spPr>
          <a:xfrm>
            <a:off x="3492360" y="3068640"/>
            <a:ext cx="2016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задачи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 учащихся способностей к организации своей учебной деятельности; посредством освоения универсальных учебных действ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ие опыта самостоятельной математической деятельности с целью получения нового знания, его преобразования и примен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логическ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математического языка и математического аппарата как средства описания и исследования окружающего мира и как основы компьютерной грамот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возможностей математики в формировании научного мировоззрения учащихся, в освоении ими научной картины мира с учётом возрастных особеннос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ладение системой математических знаний, умений и навыков, необходимых для повседневной жизни и для продолжения образования в средней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здоровьесберегающей информационно-образователь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формирования определённых ФГОС НОО универсальных учебных действий (УУД) как основы умения учиться предусмотрено системное прохождение каждым учащимся основных этапов формирования любого умения, а имен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иобретение опыта выполнения УУ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мотивация и построение общего способа (алгоритма) выполнения УУД (или структуры учебной дея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тренинг в применении построенного алгоритма УУД, самоконтроль и коррекц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контро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 «Окружающий мир» авторы А. А. Плешаков, М.Ю. Нов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Attachment"/>
          <p:cNvPicPr/>
          <p:nvPr/>
        </p:nvPicPr>
        <p:blipFill>
          <a:blip r:embed="rId1"/>
          <a:stretch/>
        </p:blipFill>
        <p:spPr>
          <a:xfrm>
            <a:off x="1116000" y="1989000"/>
            <a:ext cx="2376360" cy="352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Attachment"/>
          <p:cNvPicPr/>
          <p:nvPr/>
        </p:nvPicPr>
        <p:blipFill>
          <a:blip r:embed="rId2"/>
          <a:stretch/>
        </p:blipFill>
        <p:spPr>
          <a:xfrm>
            <a:off x="5435640" y="1989000"/>
            <a:ext cx="2592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изучения предмета «Окружающий мир» в начальной школ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целостной картины мира и осознание места в нём человека на основе единства рационально-научного познания и эмоционально-ценностного осмысления ребёнком личного опыта общения с людьми и природ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и воспитание личности гражданина России в условиях культурного многообразия российск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омплект для начальной школы «ПЕРСПЕКТИВА» 1 – 4 классы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усский язык, литературное чтение, математика, окружающий мир, технология, музы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325080" y="92988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86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87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8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89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90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91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2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93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94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5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96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97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98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99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00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101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02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03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104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05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06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107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08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09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110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11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12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113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14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15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116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17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18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фика предмета «Окружающий м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я ярко выраженный интегративный характ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яет в равной мере знания о природе, обществе и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ит обучающегося с материалом естественных и социально-гуманитарных наук, необходимым для целостного и системного видения мира в его важнейших взаимосвяз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музыка, ИЗО,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Attachment"/>
          <p:cNvPicPr/>
          <p:nvPr/>
        </p:nvPicPr>
        <p:blipFill>
          <a:blip r:embed="rId1"/>
          <a:stretch/>
        </p:blipFill>
        <p:spPr>
          <a:xfrm>
            <a:off x="755640" y="1916280"/>
            <a:ext cx="1655640" cy="2460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Attachment"/>
          <p:cNvPicPr/>
          <p:nvPr/>
        </p:nvPicPr>
        <p:blipFill>
          <a:blip r:embed="rId2"/>
          <a:stretch/>
        </p:blipFill>
        <p:spPr>
          <a:xfrm>
            <a:off x="2916360" y="1989000"/>
            <a:ext cx="1562040" cy="23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Attachment"/>
          <p:cNvPicPr/>
          <p:nvPr/>
        </p:nvPicPr>
        <p:blipFill>
          <a:blip r:embed="rId3"/>
          <a:stretch/>
        </p:blipFill>
        <p:spPr>
          <a:xfrm>
            <a:off x="4788000" y="206064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Attachment"/>
          <p:cNvPicPr/>
          <p:nvPr/>
        </p:nvPicPr>
        <p:blipFill>
          <a:blip r:embed="rId4"/>
          <a:stretch/>
        </p:blipFill>
        <p:spPr>
          <a:xfrm>
            <a:off x="6732720" y="2060640"/>
            <a:ext cx="18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403280" y="1197000"/>
            <a:ext cx="655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создавался параллельно с разработкой ФГОС начального общего образования, требования которого нашли свое теоретическое и  практическое воплощение в учебниках УМК «Перспектив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цель 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kartinki2_002"/>
          <p:cNvPicPr/>
          <p:nvPr/>
        </p:nvPicPr>
        <p:blipFill>
          <a:blip r:embed="rId1"/>
          <a:stretch/>
        </p:blipFill>
        <p:spPr>
          <a:xfrm>
            <a:off x="3780000" y="2924280"/>
            <a:ext cx="4608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«Я в мире и мир во мн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Хочу учиться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, исправлять ошибки и ставить новые цел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Я общаюсь, значит, я учус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, и, конечно, работать с книго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В здоровом теле здоровый дух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десь важнонаучить детей самим заботиться о здоровье, понимая, что здоровье – это не только физическая, но и духовная ценность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УМК «Перспектива» формирую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детей к истории своей семь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й и большой Роди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ям и обычаям народов России, культурному наслед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вой деятельности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учебники включе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ют применять полученные знания в практическ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ют условия для реализации творческого потенциала уче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 ценностное мировоззрение и нравственную позицию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учебник снабжен системой заданий, направленных на развитие как логического, так и образного мышления, воображения, интуици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о комплекту «Перспектива» позволит каждому ученику сохранить самоуважение и интерес к познанию и открытию но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чебниках задания предлагаются в такой форме, чтобы оживить познавательную активность, любознательность и познавательный интерес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ая система направляет активность ребенка в сферу культуры и свободн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о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user</cp:lastModifiedBy>
  <dcterms:modified xsi:type="dcterms:W3CDTF">2017-05-19T18:30:58Z</dcterms:modified>
  <cp:revision>10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