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7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0C71-2E96-4254-8563-C34DE2946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5B2-F608-447D-BF38-001091DB2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138-26BB-447E-A5FF-1C8772D32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83F1-274A-4331-8DEC-0941326D0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1A4-6CA3-4A3B-BBBF-C14E290E69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1571-1D5F-4C26-AA16-4B8F3678F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F644-1F66-4B37-9AD7-9F23AED8E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273F-9880-4F19-A684-24A0F343D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A467-4C8B-4681-BB8E-C57A0AE87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78F-3741-4332-9062-486D00B12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E854-DE79-4F08-8CF5-6F4749852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EFA9-E9C9-44A0-A331-1BF33E211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3E0-6CAC-42BC-9636-924949BCB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F50-547D-4D02-8FF1-CDF242D16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3331-8A3A-49A0-AAD2-71707575A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2F21-3298-48ED-B9D8-DEB301407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914-4DE4-41C0-A289-5767DB64D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8793-7CDF-49BC-B47A-28A7D40A7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536E-217A-4E3F-AC23-5361F80C9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1993-683E-4433-B13A-E7D613D51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7983-90E7-4C5F-8DB2-FC4FA0DDE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DF5-0659-4095-A27D-267A50889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75E-517A-48AE-A8B8-A6D11EE4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9E3-C570-4D78-ADE2-9E4F3415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A40-0CCB-4CA0-B952-D9E9967D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E05-7332-485E-89BF-A1D3BFDC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A68-13E3-45E1-8DF8-DA8D9F1F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01B-9C13-4A09-AE55-ED342BDA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314-8F2E-4EBF-B3F7-73840D9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7F8-165C-48D5-85FB-C6E7B371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526-B389-4995-B726-68D6F3C2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7C0-EED9-4E54-9312-0E921D1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192-E25A-4FBA-B167-420CCA1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EDA-C6D7-4341-9C48-BEFF7FEA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76D1-1D0E-4989-9581-11B3F59A5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s016.radikal.ru/i337/1101/1d/d49302f6b3f0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char.ru/books/p1691600.jpg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library.74441s027.edusite.ru/images/p16_scan10098.jpg" TargetMode="External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К «Перспектив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ла : Галкина М. 41 г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457200" y="2492280"/>
            <a:ext cx="8229240" cy="4031640"/>
            <a:chOff x="457200" y="2492280"/>
            <a:chExt cx="8229240" cy="4031640"/>
          </a:xfrm>
        </p:grpSpPr>
        <p:grpSp>
          <p:nvGrpSpPr>
            <p:cNvPr id="50" name="Group 6"/>
            <p:cNvGrpSpPr/>
            <p:nvPr/>
          </p:nvGrpSpPr>
          <p:grpSpPr>
            <a:xfrm>
              <a:off x="457200" y="2553840"/>
              <a:ext cx="1089720" cy="1099800"/>
              <a:chOff x="457200" y="2553840"/>
              <a:chExt cx="1089720" cy="1099800"/>
            </a:xfrm>
          </p:grpSpPr>
          <p:pic>
            <p:nvPicPr>
              <p:cNvPr id="5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601200" y="2553840"/>
                <a:ext cx="945720" cy="997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457200" y="2665800"/>
                <a:ext cx="934200" cy="987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53" name="Picture 9" descr="12"/>
            <p:cNvPicPr/>
            <p:nvPr/>
          </p:nvPicPr>
          <p:blipFill>
            <a:blip r:embed="rId3"/>
            <a:stretch/>
          </p:blipFill>
          <p:spPr>
            <a:xfrm>
              <a:off x="970560" y="3420360"/>
              <a:ext cx="930240" cy="997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4" name="Group 10"/>
            <p:cNvGrpSpPr/>
            <p:nvPr/>
          </p:nvGrpSpPr>
          <p:grpSpPr>
            <a:xfrm>
              <a:off x="3940200" y="2492280"/>
              <a:ext cx="1092960" cy="1108440"/>
              <a:chOff x="3940200" y="2492280"/>
              <a:chExt cx="1092960" cy="1108440"/>
            </a:xfrm>
          </p:grpSpPr>
          <p:pic>
            <p:nvPicPr>
              <p:cNvPr id="5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084200" y="2492280"/>
                <a:ext cx="948960" cy="996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3940200" y="2604240"/>
                <a:ext cx="948960" cy="996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57" name="Group 13"/>
            <p:cNvGrpSpPr/>
            <p:nvPr/>
          </p:nvGrpSpPr>
          <p:grpSpPr>
            <a:xfrm>
              <a:off x="5880240" y="2492280"/>
              <a:ext cx="1109520" cy="1109520"/>
              <a:chOff x="5880240" y="2492280"/>
              <a:chExt cx="1109520" cy="1109520"/>
            </a:xfrm>
          </p:grpSpPr>
          <p:pic>
            <p:nvPicPr>
              <p:cNvPr id="5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049800" y="2492280"/>
                <a:ext cx="939960" cy="963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880240" y="2604240"/>
                <a:ext cx="933480" cy="997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6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785000" y="4658760"/>
              <a:ext cx="90144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61" name="Group 17"/>
            <p:cNvGrpSpPr/>
            <p:nvPr/>
          </p:nvGrpSpPr>
          <p:grpSpPr>
            <a:xfrm>
              <a:off x="1262880" y="4349880"/>
              <a:ext cx="1197720" cy="1305720"/>
              <a:chOff x="1262880" y="4349880"/>
              <a:chExt cx="1197720" cy="1305720"/>
            </a:xfrm>
          </p:grpSpPr>
          <p:pic>
            <p:nvPicPr>
              <p:cNvPr id="6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2880" y="4349880"/>
                <a:ext cx="951480" cy="1045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56640" y="4659480"/>
                <a:ext cx="90396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4" name="Group 20"/>
            <p:cNvGrpSpPr/>
            <p:nvPr/>
          </p:nvGrpSpPr>
          <p:grpSpPr>
            <a:xfrm>
              <a:off x="2143440" y="5216760"/>
              <a:ext cx="1193400" cy="1307160"/>
              <a:chOff x="2143440" y="5216760"/>
              <a:chExt cx="1193400" cy="1307160"/>
            </a:xfrm>
          </p:grpSpPr>
          <p:pic>
            <p:nvPicPr>
              <p:cNvPr id="6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3440" y="5216760"/>
                <a:ext cx="90468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432520" y="5526360"/>
                <a:ext cx="904320" cy="9975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7" name="Group 23"/>
            <p:cNvGrpSpPr/>
            <p:nvPr/>
          </p:nvGrpSpPr>
          <p:grpSpPr>
            <a:xfrm>
              <a:off x="2143440" y="2553840"/>
              <a:ext cx="1219320" cy="1300320"/>
              <a:chOff x="2143440" y="2553840"/>
              <a:chExt cx="1219320" cy="1300320"/>
            </a:xfrm>
          </p:grpSpPr>
          <p:pic>
            <p:nvPicPr>
              <p:cNvPr id="6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43440" y="2553840"/>
                <a:ext cx="904320" cy="9950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461320" y="2863440"/>
                <a:ext cx="901440" cy="990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0" name="Group 26"/>
            <p:cNvGrpSpPr/>
            <p:nvPr/>
          </p:nvGrpSpPr>
          <p:grpSpPr>
            <a:xfrm>
              <a:off x="2802960" y="3730320"/>
              <a:ext cx="1340280" cy="1242720"/>
              <a:chOff x="2802960" y="3730320"/>
              <a:chExt cx="1340280" cy="1242720"/>
            </a:xfrm>
          </p:grpSpPr>
          <p:pic>
            <p:nvPicPr>
              <p:cNvPr id="7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50080" y="3730320"/>
                <a:ext cx="89316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802960" y="3976920"/>
                <a:ext cx="892800" cy="9961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3" name="Group 29"/>
            <p:cNvGrpSpPr/>
            <p:nvPr/>
          </p:nvGrpSpPr>
          <p:grpSpPr>
            <a:xfrm>
              <a:off x="4487760" y="3544560"/>
              <a:ext cx="1372680" cy="1355040"/>
              <a:chOff x="4487760" y="3544560"/>
              <a:chExt cx="1372680" cy="1355040"/>
            </a:xfrm>
          </p:grpSpPr>
          <p:pic>
            <p:nvPicPr>
              <p:cNvPr id="7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487760" y="3544560"/>
                <a:ext cx="933480" cy="10454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4926960" y="3854160"/>
                <a:ext cx="933480" cy="10454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6" name="Group 32"/>
            <p:cNvGrpSpPr/>
            <p:nvPr/>
          </p:nvGrpSpPr>
          <p:grpSpPr>
            <a:xfrm>
              <a:off x="5074200" y="4782600"/>
              <a:ext cx="1308240" cy="1293480"/>
              <a:chOff x="5074200" y="4782600"/>
              <a:chExt cx="1308240" cy="1293480"/>
            </a:xfrm>
          </p:grpSpPr>
          <p:pic>
            <p:nvPicPr>
              <p:cNvPr id="7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74200" y="4782600"/>
                <a:ext cx="941760" cy="1045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440680" y="5031000"/>
                <a:ext cx="941760" cy="1045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9" name="Group 35"/>
            <p:cNvGrpSpPr/>
            <p:nvPr/>
          </p:nvGrpSpPr>
          <p:grpSpPr>
            <a:xfrm>
              <a:off x="6686640" y="3068280"/>
              <a:ext cx="1390320" cy="1323720"/>
              <a:chOff x="6686640" y="3068280"/>
              <a:chExt cx="1390320" cy="1323720"/>
            </a:xfrm>
          </p:grpSpPr>
          <p:pic>
            <p:nvPicPr>
              <p:cNvPr id="8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686640" y="3068280"/>
                <a:ext cx="951120" cy="10468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25840" y="3345120"/>
                <a:ext cx="951120" cy="10468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2" name="Picture 38" descr=""/>
            <p:cNvPicPr/>
            <p:nvPr/>
          </p:nvPicPr>
          <p:blipFill>
            <a:blip r:embed="rId23"/>
            <a:stretch/>
          </p:blipFill>
          <p:spPr>
            <a:xfrm>
              <a:off x="7053480" y="5153760"/>
              <a:ext cx="901080" cy="997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351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7-1-2"/>
          <p:cNvPicPr/>
          <p:nvPr/>
        </p:nvPicPr>
        <p:blipFill>
          <a:blip r:embed="rId1"/>
          <a:stretch/>
        </p:blipFill>
        <p:spPr>
          <a:xfrm>
            <a:off x="2050920" y="3645000"/>
            <a:ext cx="2163960" cy="2852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7-1-1"/>
          <p:cNvPicPr/>
          <p:nvPr/>
        </p:nvPicPr>
        <p:blipFill>
          <a:blip r:embed="rId2"/>
          <a:stretch/>
        </p:blipFill>
        <p:spPr>
          <a:xfrm>
            <a:off x="4140360" y="3645000"/>
            <a:ext cx="246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и курса соответствуют основному требованию Госстандарта – воспитание всесторонне развитого, образованно и конкурентно успешного гражданина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это невозможно без преодоления тенденции последних лет – уменьшение интереса детей к чтению художественн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ookowl"/>
          <p:cNvPicPr/>
          <p:nvPr/>
        </p:nvPicPr>
        <p:blipFill>
          <a:blip r:embed="rId1"/>
          <a:stretch/>
        </p:blipFill>
        <p:spPr>
          <a:xfrm>
            <a:off x="395280" y="260280"/>
            <a:ext cx="2881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79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личностной направленности обучения и творческой активности учащихс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уждение у ребёнка желания учиться и получать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едставлений о книге, родном языке и классической литературе как культурно-исторической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ую самореализацию личности в процессе изучения русского языка и работы с художественным произведением через создание собственных тек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комплексный подход к изучению языка развивает функциональную грамотность учащихся, повышает уровень их общей культуры и творческой активности, учит детей общаться и лучше понимать друг др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обеспеч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о-речевых умений (писать и говорить, слушать и читать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бережного отношения к языку, его богатству, глубине и вырази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интереса к родному языку, его из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ение учащихся к духовно-нравственным ценностям русского языка и отечествен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ри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й, весьма важный элемент Программы — знакомство со словарё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ся знакомство младших школьников с разными словарями: орфографическим, толковым, этимологическим, словарём синонимов и антони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p16_scan10101"/>
          <p:cNvPicPr/>
          <p:nvPr/>
        </p:nvPicPr>
        <p:blipFill>
          <a:blip r:embed="rId1"/>
          <a:stretch/>
        </p:blipFill>
        <p:spPr>
          <a:xfrm>
            <a:off x="250920" y="3284640"/>
            <a:ext cx="1457280" cy="2190600"/>
          </a:xfrm>
          <a:prstGeom prst="rect">
            <a:avLst/>
          </a:prstGeom>
          <a:ln w="0">
            <a:noFill/>
          </a:ln>
        </p:spPr>
      </p:pic>
      <p:pic>
        <p:nvPicPr>
          <p:cNvPr id="148" name="i-main-pic" descr="Картинка 8 из 711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4005360"/>
            <a:ext cx="1676520" cy="2085840"/>
          </a:xfrm>
          <a:prstGeom prst="rect">
            <a:avLst/>
          </a:prstGeom>
          <a:ln w="0">
            <a:noFill/>
          </a:ln>
        </p:spPr>
      </p:pic>
      <p:pic>
        <p:nvPicPr>
          <p:cNvPr id="149" name="i-main-pic" descr="Картинка 10 из 71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357720"/>
            <a:ext cx="1447920" cy="2219040"/>
          </a:xfrm>
          <a:prstGeom prst="rect">
            <a:avLst/>
          </a:prstGeom>
          <a:ln w="0">
            <a:noFill/>
          </a:ln>
        </p:spPr>
      </p:pic>
      <p:pic>
        <p:nvPicPr>
          <p:cNvPr id="150" name="i-main-pic" descr="Картинка 9 из 711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6000" y="3357720"/>
            <a:ext cx="1400040" cy="2085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Etimologicheskiy"/>
          <p:cNvPicPr/>
          <p:nvPr/>
        </p:nvPicPr>
        <p:blipFill>
          <a:blip r:embed="rId8"/>
          <a:stretch/>
        </p:blipFill>
        <p:spPr>
          <a:xfrm>
            <a:off x="5508720" y="4292640"/>
            <a:ext cx="1390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Математика «Учусь учиться»» автор Л. Г.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Attachment"/>
          <p:cNvPicPr/>
          <p:nvPr/>
        </p:nvPicPr>
        <p:blipFill>
          <a:blip r:embed="rId1"/>
          <a:stretch/>
        </p:blipFill>
        <p:spPr>
          <a:xfrm>
            <a:off x="6084720" y="2349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Attachment"/>
          <p:cNvPicPr/>
          <p:nvPr/>
        </p:nvPicPr>
        <p:blipFill>
          <a:blip r:embed="rId2"/>
          <a:stretch/>
        </p:blipFill>
        <p:spPr>
          <a:xfrm>
            <a:off x="90000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Attachment"/>
          <p:cNvPicPr/>
          <p:nvPr/>
        </p:nvPicPr>
        <p:blipFill>
          <a:blip r:embed="rId3"/>
          <a:stretch/>
        </p:blipFill>
        <p:spPr>
          <a:xfrm>
            <a:off x="3492360" y="3068640"/>
            <a:ext cx="201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задач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 учащихся способностей к организации своей учебной деятельности; посредством освоения универсальных учебных дей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опыта самостоятельной математической деятельности с целью получения нового знания, его преобразования и примен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лог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математического языка и математического аппарата как средства описания и исследования окружающего мира и как основы компьютерной грамот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возможностей математики в формировании научного мировоззрения учащихся, в освоении ими научной картины мира с учётом возрастных особен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ладение системой математических знаний, умений и навыков, необходимых для повседневной жизни и для продолжения образования в средней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здоровьесберегающей информационно-образователь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формирования определённых ФГОС НОО универсальных учебных действий (УУД) как основы умения учиться предусмотрено системное прохождение каждым учащимся основных этапов формирования любого умения, а имен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обретение опыта выполнения УУ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мотивация и построение общего способа (алгоритма) выполнения УУД (или структуры учебной дея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тренинг в применении построенного алгоритма УУД, самоконтроль и коррек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контр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 «Окружающий мир» авторы А. А. Плешаков, М.Ю. Нов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Attachment"/>
          <p:cNvPicPr/>
          <p:nvPr/>
        </p:nvPicPr>
        <p:blipFill>
          <a:blip r:embed="rId1"/>
          <a:stretch/>
        </p:blipFill>
        <p:spPr>
          <a:xfrm>
            <a:off x="1116000" y="198900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Attachment"/>
          <p:cNvPicPr/>
          <p:nvPr/>
        </p:nvPicPr>
        <p:blipFill>
          <a:blip r:embed="rId2"/>
          <a:stretch/>
        </p:blipFill>
        <p:spPr>
          <a:xfrm>
            <a:off x="5435640" y="1989000"/>
            <a:ext cx="2592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изучения предмета «Окружающий мир» в начальной шко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усский язык, литературное чтение, математика, окружающий мир, технология, музы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325080" y="92988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86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87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8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9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90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91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2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93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94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5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96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97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98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99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0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101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2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3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104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5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6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107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8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09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110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1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12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113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4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15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116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7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18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ка предмета «Окружающий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я ярко выраженный интегративный характ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яет в равной мере знания о природе, обществе и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ит обучающегося с материалом естественных и социально-гуманитарных наук, необходимым для целостного и системного видения мира в его важнейших взаимосвяз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музыка, ИЗО,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Attachment"/>
          <p:cNvPicPr/>
          <p:nvPr/>
        </p:nvPicPr>
        <p:blipFill>
          <a:blip r:embed="rId1"/>
          <a:stretch/>
        </p:blipFill>
        <p:spPr>
          <a:xfrm>
            <a:off x="755640" y="1916280"/>
            <a:ext cx="1655640" cy="2460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Attachment"/>
          <p:cNvPicPr/>
          <p:nvPr/>
        </p:nvPicPr>
        <p:blipFill>
          <a:blip r:embed="rId2"/>
          <a:stretch/>
        </p:blipFill>
        <p:spPr>
          <a:xfrm>
            <a:off x="2916360" y="1989000"/>
            <a:ext cx="156204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Attachment"/>
          <p:cNvPicPr/>
          <p:nvPr/>
        </p:nvPicPr>
        <p:blipFill>
          <a:blip r:embed="rId3"/>
          <a:stretch/>
        </p:blipFill>
        <p:spPr>
          <a:xfrm>
            <a:off x="4788000" y="2060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Attachment"/>
          <p:cNvPicPr/>
          <p:nvPr/>
        </p:nvPicPr>
        <p:blipFill>
          <a:blip r:embed="rId4"/>
          <a:stretch/>
        </p:blipFill>
        <p:spPr>
          <a:xfrm>
            <a:off x="6732720" y="206064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403280" y="1197000"/>
            <a:ext cx="655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создавался параллельно с разработкой ФГОС начального общего образования, требования которого нашли свое теоретическое и  практическое воплощение в учебниках УМК «Перспекти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kartinki2_002"/>
          <p:cNvPicPr/>
          <p:nvPr/>
        </p:nvPicPr>
        <p:blipFill>
          <a:blip r:embed="rId1"/>
          <a:stretch/>
        </p:blipFill>
        <p:spPr>
          <a:xfrm>
            <a:off x="3780000" y="2924280"/>
            <a:ext cx="4608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«Я в мире и мир во мн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, исправлять ошибки и ставить новые цел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, и, конечно, работать с книго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 здоровом теле здоровый дух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десь важнонаучить детей самим заботиться о здоровье, понимая, что здоровье – это не только физическая, но и духовная ценность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УМК «Перспектива» формирую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учебники включе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, интуици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о комплекту «Перспектива» позволит каждому ученику сохранить самоуважение и интерес к познанию и открытию н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чебниках задания предлагаются в такой форме, чтобы оживить познавательную активность, любознательность и познавательный интерес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ая система направляет активность ребенка в сферу культуры и свобод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о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user</cp:lastModifiedBy>
  <dcterms:modified xsi:type="dcterms:W3CDTF">2017-05-19T18:30:58Z</dcterms:modified>
  <cp:revision>10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