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C4446-02D3-4D45-9461-7A92D99EE9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E870B-96E5-4237-BA5B-73DBBF15B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58745-7B5D-4994-98EE-2E97ED9579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D0406-24A7-4301-9640-D6D74D021D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F927C-BF57-4889-9EA3-118334E35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607DF-443C-4101-9791-C32405972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505D6-D85B-47D2-899E-E24C379659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3CC74-6262-401A-AE17-28AAEC1862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A40B3-8897-4BBF-B269-6E2BE5A720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224FF-42F2-4BE3-B9B3-12798B719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D8555-4A0C-40CC-843F-8A57515936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D0A38-E319-45F0-B6AE-DFC3B2C6F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C6490-BA89-45C4-A66E-BBF8F53AF8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337D-8C07-451B-81E1-BE330C8EB5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B5F0F-4944-4EF7-B3FC-CA41C00CF9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BCCA-16B2-4261-8509-5ED3FB429F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5C7D0-F9BA-47FA-A83F-253A48E183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D25B4-B687-4C12-A1B4-3584781F1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94FC5-6132-4D60-8DB4-636A6087A3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A9B2-889F-48F5-BB4F-E3E941E87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9164-2DE9-4AA8-B687-2245FE05E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DB1D-4D85-4B3D-BA01-E83414AA2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E646-A41D-43D3-8AA2-5FD1A82DB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F987-5B2B-466E-B89B-D199CCE9C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92A3-61B3-4CB9-9596-E98ECB28C7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0A95-3CD2-48F5-A902-9D330619F3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B072-25DB-4A2D-A22E-7E25C956F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4D7B-92D9-4806-8ABD-54EBEEB253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812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BCD6-3B7D-47BD-AEA8-E1D86438E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0D67-3F18-4B59-B2B1-2D5107F66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B8BC-F5B4-41EF-957D-3E25B9592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E8D8-E39A-4AC4-889F-CBE6E38D73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BFA1-5AC9-4DFA-90ED-CC7276D144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0AED-E06C-4357-873C-A40BEEE546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2C0A-5223-4BB5-A4BC-14B29C665E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1857-4FCC-4BFC-937C-37D879982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E16B-5078-4CDC-BAAF-4CD83D027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2C88-DF69-4EF0-90AD-FB14F9884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B5BF-FD69-4900-95CD-729438F05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812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4A47-3F04-4AA7-8818-ED34CE751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CBF7-1757-4939-8272-D0086BAA9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FA8F-F193-4947-A464-8916F6A13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7864-35D9-4242-83FF-FAA6AD493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81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71BB8-1CD8-4505-A9F9-B09BE61A9A0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3A29D2-193C-4A62-BF92-567953BB60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9640" y="3240000"/>
            <a:ext cx="485928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990720"/>
            <a:ext cx="77709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ПЕРСПЕКТИВНАЯ НАЧАЛЬНАЯ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ШКО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-312840"/>
            <a:ext cx="83343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br>
              <a:rPr sz="3400"/>
            </a:b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Технология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Авторы Т.М.Рогозина, А.А.Гринева, И.Б.Мылов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2570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-136440"/>
            <a:ext cx="87152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Окружающий мир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Авторы О.Н.Федотова,Г.В.Трафимова</a:t>
            </a:r>
            <a:br>
              <a:rPr sz="3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294984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3113280" cy="441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265608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Цели создания нового комплекта учеб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Учесть характеристику современного младшего школьника и  модель классного коллектива начального звена образования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Учесть изменившиеся требования к образованию (Концепция  модернизации российского образования; Федеральный компонент  государственного стандарта общего образования (начальное образование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Учесть новые требования к учебнику, продиктованные развитыми информационными технолог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143000" cy="99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34120" y="5410080"/>
            <a:ext cx="1428480" cy="10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Основная идея УМК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 «Перспективная нача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6640" y="1752480"/>
            <a:ext cx="80010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альное развитие каждого ребен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на основе педагогической поддержки его </a:t>
            </a:r>
            <a:r>
              <a:rPr b="0" lang="ru-RU" sz="2100" spc="-1" strike="noStrike">
                <a:solidFill>
                  <a:srgbClr val="336699"/>
                </a:solidFill>
                <a:latin typeface="Verdana"/>
              </a:rPr>
              <a:t>индивидуальност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возраста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способностей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интереса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склонностей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развит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условиях специально организованной учебной деятельности, где ученик как равноправный участник процесса обучения  выступает то в рол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учаемог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о в рол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учающег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о в рол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анизатор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учебной ситуаци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856640" y="549360"/>
            <a:ext cx="1108080" cy="113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164360" y="306864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Verdana"/>
              </a:rPr>
              <a:t>                         </a:t>
            </a: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Дидактические принци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непрерывного общего развития каждого ребён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целостности картины мир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учёта индивидуальных возможностей и способностей школьник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прочности и наглядност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храны и укрепления психического и физического здоровья дете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057320" cy="13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56360" y="50133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4560" y="20484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                  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Типические свойства УМК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              «Перспективная начальная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                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828800"/>
            <a:ext cx="77356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Комплектность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единство требований 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установок к УМК каждой предметн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Воспитание средствами УМК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(УМК – как способ организации жизненного пространства школьника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Инструментальность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методический «инструмент» школьника (аппарат самообразования и саморазвития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Интерактивность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общение ученика, организованное учебником за рамками урока посредством обращения к компьютеру или посредством переписки с активом школьных клубов «Ключ и заря», «Мы и окружающий мир»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d828bf"/>
                </a:solidFill>
                <a:latin typeface="Verdana"/>
              </a:rPr>
              <a:t>Интеграция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интегрирование курсов образовательных областей  с целью создания общей картины мир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956720" y="162864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12492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50920" y="212760"/>
            <a:ext cx="779292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Характеристика общих </a:t>
            </a:r>
            <a:br>
              <a:rPr sz="2500"/>
            </a:b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ru-RU" sz="2500" spc="-1" strike="noStrike">
                <a:solidFill>
                  <a:srgbClr val="a50021"/>
                </a:solidFill>
                <a:latin typeface="Times New Roman"/>
              </a:rPr>
              <a:t>учебных умений и навыков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676520"/>
            <a:ext cx="7812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a3b2c1"/>
                </a:solidFill>
                <a:latin typeface="Verdana"/>
              </a:rPr>
              <a:t>I.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Познава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Наблюдение объектов и явлений окружающего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мира; обнаружение изменений, происходящи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 объектами и явлениями 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Сравнение отдельных признаков объекта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или явления, анализ результатов сравн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Проведение измерений разными с помощью простейших прибор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. Творческие работы: сообщения, сочин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(устные и письменные), графические работы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азыгрывание воображаемых ситуаци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83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518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93672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236000" y="1773360"/>
            <a:ext cx="145080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765000"/>
            <a:ext cx="822960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a3b2c1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a3b2c1"/>
                </a:solidFill>
                <a:latin typeface="Verdana"/>
              </a:rPr>
              <a:t>II.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Речевая деятельность, работа с информа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Работа с учебными, художественными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 научно-популярными текста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Элементарное обоснование  высказанного сужд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Заседания клуба «Мы и окружающий мир» - уроки-практикумы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752840" cy="10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4360" y="476280"/>
            <a:ext cx="104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a3b2c1"/>
                </a:solidFill>
                <a:latin typeface="Verdana"/>
              </a:rPr>
              <a:t>                          </a:t>
            </a:r>
            <a:r>
              <a:rPr b="1" lang="en-US" sz="2400" spc="-1" strike="noStrike">
                <a:solidFill>
                  <a:srgbClr val="a3b2c1"/>
                </a:solidFill>
                <a:latin typeface="Verdana"/>
              </a:rPr>
              <a:t>III.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Организация деятельности</a:t>
            </a:r>
            <a:r>
              <a:rPr b="1" i="1" lang="ru-RU" sz="2400" spc="-1" strike="noStrike">
                <a:solidFill>
                  <a:srgbClr val="a3b2c1"/>
                </a:solidFill>
                <a:latin typeface="Verdan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a3b2c1"/>
                </a:solidFill>
                <a:latin typeface="Verdana"/>
              </a:rPr>
              <a:t>                         </a:t>
            </a:r>
            <a:r>
              <a:rPr b="1" lang="ru-RU" sz="2400" spc="-1" strike="noStrike">
                <a:solidFill>
                  <a:srgbClr val="a3b2c1"/>
                </a:solidFill>
                <a:latin typeface="Verdana"/>
              </a:rPr>
              <a:t>на ур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017800"/>
            <a:ext cx="834552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ыполнение инструкций, точно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ледование образцу и простейшим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лгоритма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2. Определение способов контроля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ахождение ошибок в работе и их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правлени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3. Учебное сотрудничество: умени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говариваться, распределять работу, оценивать  общий результат деятельности и свой вклад в него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081080" cy="100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91320" y="2743200"/>
            <a:ext cx="3047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228600" y="212760"/>
            <a:ext cx="937260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онцептуальные основы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учебно-методического комплекта               «Перспективная начальная школа»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150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13400" y="1751040"/>
            <a:ext cx="392904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>
              <a:lnSpc>
                <a:spcPct val="100000"/>
              </a:lnSpc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66"/>
                </a:solidFill>
                <a:latin typeface="Verdana"/>
              </a:rPr>
              <a:t>«Обучить творчеству нельзя, но это вовсе не означает, что нельзя содействовать его образованию и появлению».</a:t>
            </a:r>
            <a:br>
              <a:rPr sz="2200"/>
            </a:br>
            <a:r>
              <a:rPr b="1" lang="ru-RU" sz="2200" spc="-1" strike="noStrike">
                <a:solidFill>
                  <a:srgbClr val="003366"/>
                </a:solidFill>
                <a:latin typeface="Verdana"/>
              </a:rPr>
              <a:t>                             </a:t>
            </a:r>
            <a:r>
              <a:rPr b="1" i="1" lang="ru-RU" sz="2200" spc="-1" strike="noStrike">
                <a:solidFill>
                  <a:srgbClr val="003366"/>
                </a:solidFill>
                <a:latin typeface="Verdana"/>
              </a:rPr>
              <a:t>Выготский Л.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63640" cy="100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-1927" t="2364" r="-1753" b="4728"/>
          <a:stretch/>
        </p:blipFill>
        <p:spPr>
          <a:xfrm>
            <a:off x="324000" y="1844640"/>
            <a:ext cx="430200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-5284800"/>
            <a:ext cx="7925040" cy="74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Модель личностно-коммуникативного развивающего обучения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«Перспективная начальная школа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017800"/>
            <a:ext cx="865008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Руководитель проекта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Чуракова Роза Гельфановна – профессор кафедры начального и дошкольного образования АПК и ППРО, кандидат педагогических наук, научный руководитель проекта «Перспективная начальная школа», автор УМК «Предшкола Нового поколения»)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Издательство </a:t>
            </a: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«Академкнига /учебник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2476440" cy="185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37160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0"/>
            <a:ext cx="780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Verdana"/>
              </a:rPr>
              <a:t>Учебно-методическое обеспече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914400"/>
            <a:ext cx="8345520" cy="62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то один из комплектов учебного книгоиздания, воплотивший в жизнь требования нового Федерального компонента государственного образовательного стандарта начального общего образования и нового базисного учебного пла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ект – результат многолетней работы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ллектива сотрудников РАН, АПКиППРО,МГПУ, ресурсных центр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плект  «Перспективная начальная школа»  для 4-летней начальной школы   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скрывает содержание русского языка, литературного чтения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атематики, окружающего мира, технологии, информатики, музыки, иностранного язык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980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74372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cc00"/>
                </a:solidFill>
                <a:latin typeface="Verdana"/>
              </a:rPr>
              <a:t>Обучение грамоте</a:t>
            </a:r>
            <a:r>
              <a:rPr b="0" lang="en-US" sz="3400" spc="-1" strike="noStrike">
                <a:solidFill>
                  <a:srgbClr val="00cc00"/>
                </a:solidFill>
                <a:latin typeface="Verdana"/>
              </a:rPr>
              <a:t>.</a:t>
            </a:r>
            <a:r>
              <a:rPr b="0" lang="ru-RU" sz="3400" spc="-1" strike="noStrike">
                <a:solidFill>
                  <a:srgbClr val="00cc00"/>
                </a:solidFill>
                <a:latin typeface="Verdana"/>
              </a:rPr>
              <a:t> Азбука. 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4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ры Н.Г.Агаркова, Ю.А.Агар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876400" cy="3876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215136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581280" y="19051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81760" y="39625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14200"/>
            <a:ext cx="8562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Русский язык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Авторы М.Л. Каленчук, Н.А.Чура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547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Литературное чтение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втор Н.А.Чура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278604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2876760" cy="4057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722760" y="3505320"/>
            <a:ext cx="2236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Verdana"/>
              </a:rPr>
              <a:t>Математика.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Автор А.Л.Чекин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16639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2649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17:25Z</dcterms:created>
  <dc:creator>Admin</dc:creator>
  <dc:description/>
  <dc:language>en-US</dc:language>
  <cp:lastModifiedBy>Коля</cp:lastModifiedBy>
  <dcterms:modified xsi:type="dcterms:W3CDTF">2013-04-10T11:57:25Z</dcterms:modified>
  <cp:revision>9</cp:revision>
  <dc:subject/>
  <dc:title>Слайд 1</dc:title>
</cp:coreProperties>
</file>