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E722F-EEDF-4ACE-A13E-86B8DD7B75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52C0B-50C3-4AA7-BDE2-245ED3737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43CFD-071C-4681-8417-E1088AB67C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40A59-1516-4815-9139-FDDF8CBE10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BAF3C-7AD0-465F-9E33-8FFD23707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48B99-0DC4-4C9C-BACF-4CAF5AFA0D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11DA8-6DD9-4FC3-844A-6C17647C61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816E7-1B67-4CDF-A929-9A7E765514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BD553-9DA0-41D9-B8BE-AE47073274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C0CD1-C0EF-4F39-B9BB-07B8F205D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C9500-364B-40BA-AF68-B51EE1C185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033EC-DC47-4976-ACD8-03D6BDEFBC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5F5D0-54DA-4F87-ABDC-61D8FCC19D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5D453-7888-4F10-BE2B-8DB72C891C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8CFCA-F1E7-49AC-AD3E-CE5290332B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4B1CE-CCEB-45BB-9DD1-7259E45138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A944A-48F5-4517-A0C0-3D3B772144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47E99-C628-4DAD-A6BE-8F82D14A0F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88B4-3A24-43E2-9A8C-78B28EC5A1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B7D8-8CF2-46A8-91B7-81C739D6C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DF06-D4DD-4F00-ABCF-87DF4BEA0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7B45-CBAC-49EA-83FF-4866634EE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F073-DEB5-4EEE-B34A-3E2198EFA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1AC5-0399-4C85-AA47-6E2AB04C4C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EBB9-F936-43EE-827B-4AB58509CB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0915-8646-4B16-A985-A53F989FB7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FF4C-F555-4791-8F95-4CE8D763C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1F47-F842-4459-BC34-789199434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812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C65B-1812-4E8F-A866-DE059CB302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4885-72EE-45A1-8B97-CDE018BA3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64AE-5EB3-46E0-86A4-60285D425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1558-3290-4E79-B527-6348478497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E9C8-D400-42C1-88B0-21630874A1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1050-7764-4D8D-B215-EF43C84D15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CD21-29B5-4FBF-AAC6-4EB493653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4E05-33D8-4898-B258-3F375FFEF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7E7E-287A-494D-9D80-0A0429E1D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09AB-4227-4845-A2E8-4AA6A0F3F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4E2D-F838-47F4-AA6B-95CDC3CBE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812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39A8-7EE2-4ADF-B773-6748331A2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93ED-A5C5-49E7-9C67-0AF250012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6338-125A-46B0-9C09-0993686FD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4350-E656-4EF1-A74B-B66602708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cap="sq"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1BF47-C852-4616-A19E-EE3A37E6C6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2A9F73-AFFF-497B-B0AB-48A59FDDF7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79640" y="3240000"/>
            <a:ext cx="485928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990720"/>
            <a:ext cx="77709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ПЕРСПЕКТИВНАЯ НАЧАЛЬНАЯ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ШКОЛ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-312840"/>
            <a:ext cx="83343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400"/>
            </a:br>
            <a:br>
              <a:rPr sz="3400"/>
            </a:b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Технология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Авторы Т.М.Рогозина, А.А.Гринева, И.Б.Мылов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2570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-136440"/>
            <a:ext cx="87152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400"/>
            </a:b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Окружающий мир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Авторы О.Н.Федотова,Г.В.Трафимова</a:t>
            </a:r>
            <a:br>
              <a:rPr sz="3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294984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3113280" cy="441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265608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Цели создания нового комплекта учеб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Учесть характеристику современного младшего школьника и  модель классного коллектива начального звена образования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Учесть изменившиеся требования к образованию (Концепция  модернизации российского образования; Федеральный компонент  государственного стандарта общего образования (начальное образование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Учесть новые требования к учебнику, продиктованные развитыми информационными технолог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143000" cy="99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34120" y="5410080"/>
            <a:ext cx="1428480" cy="10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Основная идея УМК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 «Перспективная нача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6640" y="1752480"/>
            <a:ext cx="80010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альное развитие каждого ребен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на основе педагогической поддержки его </a:t>
            </a:r>
            <a:r>
              <a:rPr b="0" lang="ru-RU" sz="2100" spc="-1" strike="noStrike">
                <a:solidFill>
                  <a:srgbClr val="336699"/>
                </a:solidFill>
                <a:latin typeface="Verdana"/>
              </a:rPr>
              <a:t>индивидуальности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возраста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способностей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интереса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склонностей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развит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условиях специально организованной учебной деятельности, где ученик как равноправный участник процесса обучения  выступает то в рол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бучаемог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то в рол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бучающег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то в рол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анизатор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учебной ситуаци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856640" y="549360"/>
            <a:ext cx="1108080" cy="113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164360" y="306864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Verdana"/>
              </a:rPr>
              <a:t>                         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Дидактические принци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непрерывного общего развития каждого ребён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целостности картины мир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учёта индивидуальных возможностей и способностей школьник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прочности и наглядност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храны и укрепления психического и физического здоровья детей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057320" cy="138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156360" y="5013360"/>
            <a:ext cx="14288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4560" y="204840"/>
            <a:ext cx="800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                  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Типические свойства УМК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              «Перспективная начальная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                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828800"/>
            <a:ext cx="77356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Комплектность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единство требований 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установок к УМК каждой предметн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Воспитание средствами УМК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(УМК – как способ организации жизненного пространства школьника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Инструментальность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методический «инструмент» школьника (аппарат самообразования и саморазвития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Интерактивность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общение ученика, организованное учебником за рамками урока посредством обращения к компьютеру или посредством переписки с активом школьных клубов «Ключ и заря», «Мы и окружающий мир»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Интеграция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интегрирование курсов образовательных областей  с целью создания общей картины мир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956720" y="162864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12492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50920" y="212760"/>
            <a:ext cx="779292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Характеристика общих </a:t>
            </a:r>
            <a:br>
              <a:rPr sz="2500"/>
            </a:b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ru-RU" sz="25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учебных умений и навыков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676520"/>
            <a:ext cx="7812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a3b2c1"/>
                </a:solidFill>
                <a:latin typeface="Verdana"/>
              </a:rPr>
              <a:t>I.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Познава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Наблюдение объектов и явлений окружающего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мира; обнаружение изменений, происходящи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 объектами и явлениями 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Сравнение отдельных признаков объекта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или явления, анализ результатов сравн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Проведение измерений разными с помощью простейших прибор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. Творческие работы: сообщения, сочин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(устные и письменные), графические работы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азыгрывание воображаемых ситуаций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93672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236000" y="1773360"/>
            <a:ext cx="145080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765000"/>
            <a:ext cx="822960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a3b2c1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a3b2c1"/>
                </a:solidFill>
                <a:latin typeface="Verdana"/>
              </a:rPr>
              <a:t>II.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Речевая деятельность, работа с информац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Работа с учебными, художественными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 научно-популярными текста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Элементарное обоснование  высказанного сужд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Заседания клуба «Мы и окружающий мир» - уроки-практикумы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752840" cy="102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4360" y="476280"/>
            <a:ext cx="104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a3b2c1"/>
                </a:solidFill>
                <a:latin typeface="Verdana"/>
              </a:rPr>
              <a:t>                          </a:t>
            </a:r>
            <a:r>
              <a:rPr b="1" lang="en-US" sz="2400" spc="-1" strike="noStrike">
                <a:solidFill>
                  <a:srgbClr val="a3b2c1"/>
                </a:solidFill>
                <a:latin typeface="Verdana"/>
              </a:rPr>
              <a:t>III.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Организация деятельности</a:t>
            </a:r>
            <a:r>
              <a:rPr b="1" i="1" lang="ru-RU" sz="2400" spc="-1" strike="noStrike">
                <a:solidFill>
                  <a:srgbClr val="a3b2c1"/>
                </a:solidFill>
                <a:latin typeface="Verdan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a3b2c1"/>
                </a:solidFill>
                <a:latin typeface="Verdana"/>
              </a:rPr>
              <a:t>                        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на уро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017800"/>
            <a:ext cx="834552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ыполнение инструкций, точное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ледование образцу и простейшим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лгоритма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2. Определение способов контроля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ахождение ошибок в работе и их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справлени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3. Учебное сотрудничество: умение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говариваться, распределять работу, оценивать  общий результат деятельности и свой вклад в него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081080" cy="100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791320" y="27432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228600" y="212760"/>
            <a:ext cx="937260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онцептуальные основы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учебно-методического комплекта               «Перспективная начальная школа»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150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13400" y="1751040"/>
            <a:ext cx="392904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>
              <a:lnSpc>
                <a:spcPct val="100000"/>
              </a:lnSpc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66"/>
                </a:solidFill>
                <a:latin typeface="Verdana"/>
              </a:rPr>
              <a:t>«Обучить творчеству нельзя, но это вовсе не означает, что нельзя содействовать его образованию и появлению».</a:t>
            </a:r>
            <a:br>
              <a:rPr sz="2200"/>
            </a:br>
            <a:r>
              <a:rPr b="1" lang="ru-RU" sz="2200" spc="-1" strike="noStrike">
                <a:solidFill>
                  <a:srgbClr val="003366"/>
                </a:solidFill>
                <a:latin typeface="Verdana"/>
              </a:rPr>
              <a:t>                             </a:t>
            </a:r>
            <a:r>
              <a:rPr b="1" i="1" lang="ru-RU" sz="2200" spc="-1" strike="noStrike">
                <a:solidFill>
                  <a:srgbClr val="003366"/>
                </a:solidFill>
                <a:latin typeface="Verdana"/>
              </a:rPr>
              <a:t>Выготский Л.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63640" cy="100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-1927" t="2364" r="-1753" b="4728"/>
          <a:stretch/>
        </p:blipFill>
        <p:spPr>
          <a:xfrm>
            <a:off x="324000" y="1844640"/>
            <a:ext cx="430200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-5284800"/>
            <a:ext cx="7925040" cy="74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Модель личностно-коммуникативного развивающего обучения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«Перспективная начальная школа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017800"/>
            <a:ext cx="865008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Руководитель проекта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Чуракова Роза Гельфановна – профессор кафедры начального и дошкольного образования АПК и ППРО, кандидат педагогических наук, научный руководитель проекта «Перспективная начальная школа», автор УМК «Предшкола Нового поколения»)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Издательство 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«Академкнига /учебник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2476440" cy="185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37160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0"/>
            <a:ext cx="780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Verdana"/>
              </a:rPr>
              <a:t>Учебно-методическое обеспече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914400"/>
            <a:ext cx="8345520" cy="62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то один из комплектов учебного книгоиздания, воплотивший в жизнь требования нового Федерального компонента государственного образовательного стандарта начального общего образования и нового базисного учебного пла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ект – результат многолетней работы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ллектива сотрудников РАН, АПКиППРО,МГПУ, ресурсных центр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мплект  «Перспективная начальная школа»  для 4-летней начальной школы   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скрывает содержание русского языка, литературного чтения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атематики, окружающего мира, технологии, информатики, музыки, иностранного язык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74372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cc00"/>
                </a:solidFill>
                <a:latin typeface="Verdana"/>
              </a:rPr>
              <a:t>Обучение грамоте</a:t>
            </a:r>
            <a:r>
              <a:rPr b="0" lang="en-US" sz="3400" spc="-1" strike="noStrike">
                <a:solidFill>
                  <a:srgbClr val="00cc00"/>
                </a:solidFill>
                <a:latin typeface="Verdana"/>
              </a:rPr>
              <a:t>.</a:t>
            </a:r>
            <a:r>
              <a:rPr b="0" lang="ru-RU" sz="3400" spc="-1" strike="noStrike">
                <a:solidFill>
                  <a:srgbClr val="00cc00"/>
                </a:solidFill>
                <a:latin typeface="Verdana"/>
              </a:rPr>
              <a:t> Азбука. 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34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ры Н.Г.Агаркова, Ю.А.Агар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876400" cy="3876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215136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581280" y="19051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81760" y="39625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14200"/>
            <a:ext cx="85629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Русский язык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Авторы М.Л. Каленчук, Н.А.Чура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547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Литературное чтение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втор Н.А.Чура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2786040" cy="388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2876760" cy="4057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722760" y="3505320"/>
            <a:ext cx="2236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Математика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Автор А.Л.Чекин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16639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2649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17:25Z</dcterms:created>
  <dc:creator>Admin</dc:creator>
  <dc:description/>
  <dc:language>en-US</dc:language>
  <cp:lastModifiedBy>Коля</cp:lastModifiedBy>
  <dcterms:modified xsi:type="dcterms:W3CDTF">2013-04-10T11:57:25Z</dcterms:modified>
  <cp:revision>9</cp:revision>
  <dc:subject/>
  <dc:title>Слайд 1</dc:title>
</cp:coreProperties>
</file>