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AC2-591C-400F-8D4C-F5D4AF9E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99E-1F4D-412C-B271-DB701968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60B-C563-4ABB-A7B0-D8665C80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6DC-FFC6-4BC2-8CDB-8FBB5DA4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CB89-D688-41BE-93F6-29715232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0B95-3649-4A53-8104-75D21085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E7CD-C5BA-411D-A32F-2017664A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B863-435D-4A0A-B11F-BED20E34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88F4-7379-400F-B9EE-4EA28A68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5F40-13DA-4559-9D84-DBDF035D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8182-D77A-4A07-8FE2-B0615245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EB9-4691-457C-B293-6F422C53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490F-8D47-4641-8FF6-BFCC3EFC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1ABD-8421-49C5-A6E7-A058FB83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6D73-E537-4104-97BF-90C7B15E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1B32-7258-46C7-B67E-D96BCEF4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6B66-56BC-4AE7-9487-3CC359D7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08B-C095-4B35-96CC-B572D54F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91F-A5E6-4730-B112-D9D52A6B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979-AD2A-4D3C-A57C-CF3C3DC1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C17-FFA3-4BC4-BDAE-9A153D97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294-7F13-4923-8877-9C2DA088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B9C9-A15F-4740-8034-6EFE1389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2C0-8EC4-49A8-94CE-8590999C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EBEB-FF4B-4671-8E12-D61AAEEAB24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DAFC-ECA4-4EBF-B2E1-6F3922D737D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-12600" y="1920960"/>
            <a:ext cx="6048360" cy="3657600"/>
          </a:xfrm>
          <a:prstGeom prst="rect">
            <a:avLst/>
          </a:prstGeom>
          <a:ln w="0">
            <a:noFill/>
          </a:ln>
        </p:spPr>
      </p:pic>
      <p:pic>
        <p:nvPicPr>
          <p:cNvPr id="83" name="Подзаголовок 2" descr=""/>
          <p:cNvPicPr/>
          <p:nvPr/>
        </p:nvPicPr>
        <p:blipFill>
          <a:blip r:embed="rId2"/>
          <a:stretch/>
        </p:blipFill>
        <p:spPr>
          <a:xfrm>
            <a:off x="298440" y="360360"/>
            <a:ext cx="5261040" cy="22734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H:\Дедушка Сеня.JPG"/>
          <p:cNvPicPr/>
          <p:nvPr/>
        </p:nvPicPr>
        <p:blipFill>
          <a:blip r:embed="rId3"/>
          <a:stretch/>
        </p:blipFill>
        <p:spPr>
          <a:xfrm>
            <a:off x="5286240" y="1000080"/>
            <a:ext cx="3541680" cy="492912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-360" y="0"/>
            <a:ext cx="4932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Мой прадедушка </a:t>
            </a:r>
            <a:r>
              <a:rPr b="1" lang="ru-RU" sz="2500" spc="-1" strike="noStrike">
                <a:solidFill>
                  <a:srgbClr val="ffc000"/>
                </a:solidFill>
                <a:latin typeface="Times New Roman"/>
              </a:rPr>
              <a:t>Оноприенко Семен Иванович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 родился 12 сентября 1922года в селе Ракитное, Курской области. В 1930 году пошел в школу. Учился хорошо, больше всего любил физическую культуру и труд. Успешно окончил 7- летнюю школу в 1937 году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 1939 году дедушка переехал в Московскую область, в город Электросталь и поступил на завод №12 НКБ (Народный комиссариат боеприпасов), на должность ученика. В 1940 году он стал рабочим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2" descr="F:\2015-03-04\ОноприенкоС.И..JPG"/>
          <p:cNvPicPr/>
          <p:nvPr/>
        </p:nvPicPr>
        <p:blipFill>
          <a:blip r:embed="rId1"/>
          <a:stretch/>
        </p:blipFill>
        <p:spPr>
          <a:xfrm>
            <a:off x="5148360" y="549360"/>
            <a:ext cx="3816360" cy="575928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-360" y="-360"/>
            <a:ext cx="89298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октябре 1942 года дедушку призвали в ряды Красной арми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1943 года окончил объединенные курсы подготовки младших лейтенантов. Ему было присвоено воинское звание    «Младший лейтенант»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2071800" y="3429000"/>
            <a:ext cx="5715000" cy="315900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85840" y="213840"/>
            <a:ext cx="840096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едушка воевал в 91 стрелковом  полку  37 стрелковой  дивизии 34 армии Северо-западного фронта, командиром взвода  ПТР (противотанковых ружей)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 городом Старые Руссы был тяжело ранен в голову. Попал в госпиталь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сле излечения был демобилизован из рядов Советской арми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85840" y="213840"/>
            <a:ext cx="840096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адедушка Сеня был награжден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едалью «За боевые заслуги»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едалью «За отвагу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Рисунок 3" descr="&amp;Pcy;&amp;iecy;&amp;rcy;&amp;vcy;&amp;ycy;&amp;mcy; &amp;Ucy;&amp;kcy;&amp;acy;&amp;zcy;&amp;ocy;&amp;mcy; &amp;Pcy;&amp;rcy;&amp;iecy;&amp;zcy;&amp;icy;&amp;dcy;&amp;iecy;&amp;ncy;&amp;tcy; &amp;Rcy;&amp;ocy;&amp;scy;&amp;scy;&amp;icy;&amp;jcy;&amp;scy;&amp;kcy;&amp;ocy;&amp;jcy; &amp;Fcy;&amp;iecy;&amp;dcy;&amp;iecy;&amp;rcy;&amp;acy;&amp;tscy;&amp;icy;&amp;icy; (&amp;vcy;"/>
          <p:cNvPicPr/>
          <p:nvPr/>
        </p:nvPicPr>
        <p:blipFill>
          <a:blip r:embed="rId1"/>
          <a:stretch/>
        </p:blipFill>
        <p:spPr>
          <a:xfrm>
            <a:off x="7358040" y="3571920"/>
            <a:ext cx="1468440" cy="257184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pic>
        <p:nvPicPr>
          <p:cNvPr id="92" name="Рисунок 4" descr="&amp;Scy;&amp;ucy;&amp;khcy;&amp;ocy;&amp;pcy;&amp;ucy;&amp;tcy;&amp;ncy;&amp;ycy;&amp;iecy; &amp;vcy;&amp;ocy;&amp;jcy;&amp;scy;&amp;kcy;&amp;acy; &amp;Ncy;&amp;acy;&amp;gcy;&amp;rcy;&amp;acy;&amp;dcy;&amp;ycy;"/>
          <p:cNvPicPr/>
          <p:nvPr/>
        </p:nvPicPr>
        <p:blipFill>
          <a:blip r:embed="rId2"/>
          <a:stretch/>
        </p:blipFill>
        <p:spPr>
          <a:xfrm>
            <a:off x="7358040" y="785880"/>
            <a:ext cx="1476360" cy="271440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pic>
        <p:nvPicPr>
          <p:cNvPr id="93" name="Рисунок 5" descr=""/>
          <p:cNvPicPr/>
          <p:nvPr/>
        </p:nvPicPr>
        <p:blipFill>
          <a:blip r:embed="rId3"/>
          <a:stretch/>
        </p:blipFill>
        <p:spPr>
          <a:xfrm>
            <a:off x="357120" y="2357280"/>
            <a:ext cx="6286680" cy="407376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360" y="213840"/>
            <a:ext cx="8929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 возвращению домой в 1945 году  работал в Бориспольской семилетней школе военруком и учителем черчения и рис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1946 года и до пенсии   работал на Ракитянском арматурном заводе, слесаре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ыл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тренером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 футбольной команде «Арматурщик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G:\Оноприенко.JPG"/>
          <p:cNvPicPr/>
          <p:nvPr/>
        </p:nvPicPr>
        <p:blipFill>
          <a:blip r:embed="rId1"/>
          <a:stretch/>
        </p:blipFill>
        <p:spPr>
          <a:xfrm>
            <a:off x="971640" y="3500280"/>
            <a:ext cx="7313400" cy="311328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cxnSp>
        <p:nvCxnSpPr>
          <p:cNvPr id="96" name="Прямая со стрелкой 5"/>
          <p:cNvCxnSpPr/>
          <p:nvPr/>
        </p:nvCxnSpPr>
        <p:spPr>
          <a:xfrm flipH="1">
            <a:off x="1258560" y="2924280"/>
            <a:ext cx="937440" cy="1289520"/>
          </a:xfrm>
          <a:prstGeom prst="straightConnector1">
            <a:avLst/>
          </a:prstGeom>
          <a:ln w="28440">
            <a:solidFill>
              <a:srgbClr val="ff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5840" y="404640"/>
            <a:ext cx="4573440" cy="58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Женился прадед в 1949 году. С семье было сыновей – мой дедушка Николай Семенович (мой дедушка) и Александр Семенович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Мой прадедушка был мастером на все руки . Его нет 38 лет, а стол, лестница, табуреты, сделанные его руками, служат нам до сих пор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Умер прадедушка 1977 году, похоронен в поселке Ракитно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3" descr="C:\Users\2012\Desktop\skfECA (2).JPG"/>
          <p:cNvPicPr/>
          <p:nvPr/>
        </p:nvPicPr>
        <p:blipFill>
          <a:blip r:embed="rId1"/>
          <a:stretch/>
        </p:blipFill>
        <p:spPr>
          <a:xfrm>
            <a:off x="5030640" y="549360"/>
            <a:ext cx="3846600" cy="518328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0"/>
            <a:ext cx="6215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Times New Roman"/>
              </a:rPr>
              <a:t>Я горжусь своим прадедом!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Times New Roman"/>
              </a:rPr>
              <a:t>Низкий поклон ему за неоценимый вклад в Победу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Times New Roman"/>
              </a:rPr>
              <a:t>за мир на нашей земле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Рисунок 6" descr="H:\Дедушка Сеня.JPG"/>
          <p:cNvPicPr/>
          <p:nvPr/>
        </p:nvPicPr>
        <p:blipFill>
          <a:blip r:embed="rId1"/>
          <a:stretch/>
        </p:blipFill>
        <p:spPr>
          <a:xfrm>
            <a:off x="5572080" y="857160"/>
            <a:ext cx="3398760" cy="478656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01" name="Picture 2" descr="&amp;Ocy;&amp;tcy;&amp;vcy;&amp;iecy;&amp;tcy;&amp;ycy;@Mail.Ru: &amp;Kcy;&amp;acy;&amp;kcy;&amp;icy;&amp;iecy; &amp;tscy;&amp;vcy;&amp;iecy;&amp;tcy;&amp;ycy; &amp;vcy; &amp;dcy;&amp;rcy;&amp;iecy;&amp;vcy;&amp;ncy;&amp;ocy;&amp;scy;&amp;tcy;&amp;icy; &amp;ncy;&amp;acy;&amp;zcy;&amp;ycy;&amp;vcy;&amp;acy;&amp;lcy;&amp;icy; &amp;tscy;&amp;vcy;&amp;iecy;&amp;tcy;&amp;acy;&amp;mcy;&amp;icy; &amp;Zcy;&amp;iecy;&amp;vcy;&amp;scy;&amp;acy;?"/>
          <p:cNvPicPr/>
          <p:nvPr/>
        </p:nvPicPr>
        <p:blipFill>
          <a:blip r:embed="rId2"/>
          <a:stretch/>
        </p:blipFill>
        <p:spPr>
          <a:xfrm>
            <a:off x="5460840" y="3643200"/>
            <a:ext cx="36831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Павловна</cp:lastModifiedBy>
  <dcterms:modified xsi:type="dcterms:W3CDTF">2017-05-19T12:01:42Z</dcterms:modified>
  <cp:revision>9</cp:revision>
  <dc:subject/>
  <dc:title>Оноприенко Семён  Иванович (1922-1977) </dc:title>
</cp:coreProperties>
</file>