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485-7BB3-43AC-A881-5C0B2334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C01-6A2B-4C64-A307-2996A9E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3BA-80E4-4F90-AAB4-2D388C52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111-8BFB-4DA8-8A17-A44107BE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C3BB-28CC-4B7D-B517-8279F72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F2A-1B03-403C-9AB8-8432646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FED2-4C2A-4A59-B6F7-1B55CD1B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E7B-9D07-4394-A034-17ABBD1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9075-6050-443D-B25E-44C0C87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DA9-BF9E-45DB-B2C8-33A68CC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75C0-C961-4B87-8A1A-242A640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956-C2D1-4DCC-919C-315D0138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9247-4BF4-4804-9AB2-625665E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018-8AA8-40D9-9F61-EF96F66D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820D-86FD-43B8-89E3-6BB95D2B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CBA-FB66-4C6A-BDD6-16C8ACCA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F6D-D378-42DB-A6BE-DB252130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A72-8BCA-451F-8E9D-1781B168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4BF-5F10-4B0A-A987-04909A78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E11-B156-47E3-97A3-8AF3C06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6F3-5EFE-4A54-A7AF-43AD65AC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860-3693-433E-8E52-DCFDE16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94F-D60C-48C4-9781-2840EBD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C32-6FC0-44A4-9868-1002B2E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BBFB-3C55-479C-B8A9-60151B84E3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996C-20FF-4095-A81E-E5DCC5EFDD5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12600" y="1920960"/>
            <a:ext cx="6048360" cy="365760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298440" y="360360"/>
            <a:ext cx="5261040" cy="2273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H:\Дедушка Сеня.JPG"/>
          <p:cNvPicPr/>
          <p:nvPr/>
        </p:nvPicPr>
        <p:blipFill>
          <a:blip r:embed="rId3"/>
          <a:stretch/>
        </p:blipFill>
        <p:spPr>
          <a:xfrm>
            <a:off x="5286240" y="1000080"/>
            <a:ext cx="3541680" cy="49291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0"/>
            <a:ext cx="493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Мой прадедушка </a:t>
            </a:r>
            <a:r>
              <a:rPr b="1" lang="ru-RU" sz="2500" spc="-1" strike="noStrike">
                <a:solidFill>
                  <a:srgbClr val="ffc000"/>
                </a:solidFill>
                <a:latin typeface="Times New Roman"/>
              </a:rPr>
              <a:t>Оноприенко Семен Иванович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родился 12 сентября 1922года в селе Ракитное, Курской области. В 1930 году пошел в школу. Учился хорошо, больше всего любил физическую культуру и труд. Успешно окончил 7- летнюю школу в 1937 году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 1939 году дедушка переехал в Московскую область, в город Электросталь и поступил на завод №12 НКБ (Народный комиссариат боеприпасов), на должность ученика. В 1940 году он стал рабочим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F:\2015-03-04\ОноприенкоС.И..JPG"/>
          <p:cNvPicPr/>
          <p:nvPr/>
        </p:nvPicPr>
        <p:blipFill>
          <a:blip r:embed="rId1"/>
          <a:stretch/>
        </p:blipFill>
        <p:spPr>
          <a:xfrm>
            <a:off x="5148360" y="549360"/>
            <a:ext cx="3816360" cy="5759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360" y="-360"/>
            <a:ext cx="8929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октябре 1942 года дедушку призвали в ряды Красной арм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1943 года окончил объединенные курсы подготовки младших лейтенантов. Ему было присвоено воинское звание    «Младший лейтенант»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071800" y="3429000"/>
            <a:ext cx="5715000" cy="31590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213840"/>
            <a:ext cx="84009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душка воевал в 91 стрелковом  полку  37 стрелковой  дивизии 34 армии Северо-западного фронта, командиром взвода  ПТР (противотанковых ружей)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 городом Старые Руссы был тяжело ранен в голову. Попал в госпитал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ле излечения был демобилизован из рядов Советской арм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5840" y="213840"/>
            <a:ext cx="84009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адедушка Сеня был награжде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далью «За боевые заслуги»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далью «За отвагу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3" descr="&amp;Pcy;&amp;iecy;&amp;rcy;&amp;vcy;&amp;ycy;&amp;mcy; &amp;Ucy;&amp;kcy;&amp;acy;&amp;zcy;&amp;ocy;&amp;mcy; &amp;Pcy;&amp;rcy;&amp;iecy;&amp;zcy;&amp;icy;&amp;dcy;&amp;iecy;&amp;ncy;&amp;tcy; &amp;Rcy;&amp;ocy;&amp;scy;&amp;scy;&amp;icy;&amp;jcy;&amp;scy;&amp;kcy;&amp;ocy;&amp;jcy; &amp;Fcy;&amp;iecy;&amp;dcy;&amp;iecy;&amp;rcy;&amp;acy;&amp;tscy;&amp;icy;&amp;icy; (&amp;vcy;"/>
          <p:cNvPicPr/>
          <p:nvPr/>
        </p:nvPicPr>
        <p:blipFill>
          <a:blip r:embed="rId1"/>
          <a:stretch/>
        </p:blipFill>
        <p:spPr>
          <a:xfrm>
            <a:off x="7358040" y="3571920"/>
            <a:ext cx="1468440" cy="257184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92" name="Рисунок 4" descr="&amp;Scy;&amp;ucy;&amp;khcy;&amp;ocy;&amp;pcy;&amp;ucy;&amp;tcy;&amp;ncy;&amp;ycy;&amp;iecy; &amp;vcy;&amp;ocy;&amp;jcy;&amp;scy;&amp;kcy;&amp;acy; &amp;Ncy;&amp;acy;&amp;gcy;&amp;rcy;&amp;acy;&amp;dcy;&amp;ycy;"/>
          <p:cNvPicPr/>
          <p:nvPr/>
        </p:nvPicPr>
        <p:blipFill>
          <a:blip r:embed="rId2"/>
          <a:stretch/>
        </p:blipFill>
        <p:spPr>
          <a:xfrm>
            <a:off x="7358040" y="785880"/>
            <a:ext cx="1476360" cy="27144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93" name="Рисунок 5" descr=""/>
          <p:cNvPicPr/>
          <p:nvPr/>
        </p:nvPicPr>
        <p:blipFill>
          <a:blip r:embed="rId3"/>
          <a:stretch/>
        </p:blipFill>
        <p:spPr>
          <a:xfrm>
            <a:off x="357120" y="2357280"/>
            <a:ext cx="6286680" cy="40737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213840"/>
            <a:ext cx="8929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возвращению домой в 1945 году  работал в Бориспольской семилетней школе военруком и учителем черчения и рис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1946 года и до пенсии   работал на Ракитянском арматурном заводе, слесар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тренер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футбольной команде «Арматурщик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G:\Оноприенко.JPG"/>
          <p:cNvPicPr/>
          <p:nvPr/>
        </p:nvPicPr>
        <p:blipFill>
          <a:blip r:embed="rId1"/>
          <a:stretch/>
        </p:blipFill>
        <p:spPr>
          <a:xfrm>
            <a:off x="971640" y="3500280"/>
            <a:ext cx="7313400" cy="311328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cxnSp>
        <p:nvCxnSpPr>
          <p:cNvPr id="96" name="Прямая со стрелкой 5"/>
          <p:cNvCxnSpPr/>
          <p:nvPr/>
        </p:nvCxnSpPr>
        <p:spPr>
          <a:xfrm flipH="1">
            <a:off x="1258560" y="2924280"/>
            <a:ext cx="937440" cy="128952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04640"/>
            <a:ext cx="457344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Женился прадед в 1949 году. С семье было сыновей – мой дедушка Николай Семенович (мой дедушка) и Александр Семенови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ой прадедушка был мастером на все руки . Его нет 38 лет, а стол, лестница, табуреты, сделанные его руками, служат нам до сих по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Умер прадедушка 1977 году, похоронен в поселке Ракитно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C:\Users\2012\Desktop\skfECA (2).JPG"/>
          <p:cNvPicPr/>
          <p:nvPr/>
        </p:nvPicPr>
        <p:blipFill>
          <a:blip r:embed="rId1"/>
          <a:stretch/>
        </p:blipFill>
        <p:spPr>
          <a:xfrm>
            <a:off x="5030640" y="549360"/>
            <a:ext cx="3846600" cy="5183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6215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Я горжусь своим прадедом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Низкий поклон ему за неоценимый вклад в Победу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за мир на нашей земле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6" descr="H:\Дедушка Сеня.JPG"/>
          <p:cNvPicPr/>
          <p:nvPr/>
        </p:nvPicPr>
        <p:blipFill>
          <a:blip r:embed="rId1"/>
          <a:stretch/>
        </p:blipFill>
        <p:spPr>
          <a:xfrm>
            <a:off x="5572080" y="857160"/>
            <a:ext cx="3398760" cy="47865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01" name="Picture 2" descr="&amp;Ocy;&amp;tcy;&amp;vcy;&amp;iecy;&amp;tcy;&amp;ycy;@Mail.Ru: &amp;Kcy;&amp;acy;&amp;kcy;&amp;icy;&amp;iecy; &amp;tscy;&amp;vcy;&amp;iecy;&amp;tcy;&amp;ycy; &amp;vcy; &amp;dcy;&amp;rcy;&amp;iecy;&amp;vcy;&amp;ncy;&amp;ocy;&amp;scy;&amp;tcy;&amp;icy; &amp;ncy;&amp;acy;&amp;zcy;&amp;ycy;&amp;vcy;&amp;acy;&amp;lcy;&amp;icy; &amp;tscy;&amp;vcy;&amp;iecy;&amp;tcy;&amp;acy;&amp;mcy;&amp;icy; &amp;Zcy;&amp;iecy;&amp;vcy;&amp;scy;&amp;acy;?"/>
          <p:cNvPicPr/>
          <p:nvPr/>
        </p:nvPicPr>
        <p:blipFill>
          <a:blip r:embed="rId2"/>
          <a:stretch/>
        </p:blipFill>
        <p:spPr>
          <a:xfrm>
            <a:off x="5460840" y="3643200"/>
            <a:ext cx="3683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Павловна</cp:lastModifiedBy>
  <dcterms:modified xsi:type="dcterms:W3CDTF">2017-05-19T12:01:42Z</dcterms:modified>
  <cp:revision>9</cp:revision>
  <dc:subject/>
  <dc:title>Оноприенко Семён  Иванович (1922-1977) </dc:title>
</cp:coreProperties>
</file>