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3A3-F30C-4417-AF7B-BD7A711DDD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AC7E-FCB1-423B-911B-C121FFA90C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5F4-6028-4DD9-AC64-3B8366CA8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EEC-45A4-405B-976E-148A09875A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687-069A-4C89-993B-4476F202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C45-8B9E-4247-A8C4-27479D39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EAA-3EF3-4DC2-9CAF-6161C7BF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E71-F35E-4021-84EE-8586FC04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929-A4ED-4CF6-81EB-C4CFF5C7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DD75-B962-4C11-BB97-30A756CD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BF93-F681-4B5D-A0F1-29B4E43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EB5F-404A-4BF5-B9A3-8D6B106A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30D6-9C52-448A-872B-5FF3134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204C-6F41-43A6-B8CB-950CD191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6A0-F52C-4AF5-BFE0-6D2B5365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0FB-C602-4DF0-9F14-FF8EDC8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5BF8-7254-4F4C-AA11-810AC031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95A6-6D23-4A99-AB5D-3F82B9BF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2387-A4B5-420F-9641-44D9AD0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9E89-6C5F-4A8E-A972-86E77B67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52D9-1B07-47C9-B8EA-FEFDD53D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851B-73CA-44FD-8756-D4F0D8C1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9885-E1FA-4041-96EA-EE787532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F920-0BF7-45B9-933F-7C08A57B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ED8E-3674-4784-B041-EC169FA9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E215-D305-4961-869B-E36DE47C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219-F687-491C-A907-3C73BFF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3AE1-03CB-43EE-AAFF-F407D1DB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CB21-3BAE-4241-AF92-E0BF43A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79FF-EA15-49A3-9D25-80D0241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715F-8672-480F-A60E-822C54F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2E4E-F4D7-4175-BAA1-BCD33D0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9587-076F-41AE-AEBE-6C65A302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DFFB-992D-4E83-8F3B-DE1D8776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68C7-B505-4815-8981-CE618F42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E9C0-050B-44ED-86CB-23AC0552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7178-ADFB-4B27-9E94-6E0498ED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186-5A33-4DCC-A20C-62188E66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343B-7538-4B83-8F47-7A0F6EB6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EA42-5190-4BB7-AA8F-6F746C85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15B7-5C6B-4CAE-99BB-A38204AF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29FC-FDD1-4956-8EF1-2B3A648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EFE0-F551-431A-A4EF-104CDE9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9054-E74B-4248-B214-DA5DF66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3C45-AFE1-4D80-B0BA-D66BE635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A781-B405-44B0-B8E7-57602B02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0536-D24E-4D41-9FC2-64D2B33C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636A-00BF-4939-9E5E-6A4083A5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27A-0EFF-4AFD-A47E-09D68C6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4EB1-25A1-4C9D-900A-2C086A8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1A3C-66F8-480C-91BB-D6A4F65B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A4C6-451F-4240-A7D4-AE15B83C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8CC0D-457E-411C-A9E4-667BC94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39C17-B518-4291-B0F2-65C488C5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9AB5A-3200-4DDA-8524-6481DFA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329E-F339-4DA3-AF06-51A3E21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1BF9-079B-4295-B620-0BB5769F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F7D9-4AF1-4E65-BBB7-0582B944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AF08-71FB-4E56-9DE5-A4A1A6DE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3A5-7CC5-45F6-A73F-D921B07C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6542D-382E-497A-814E-9ADD08D8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E2E8C-C9A6-4B39-B7BC-EDD25349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FF5D-F13B-47EF-89BD-3C84438C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9E6B-E65C-4B80-BB22-D45EBB45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0DFE6-6953-497B-B29A-EFD57B6B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9A44-B911-42F1-B3D4-7A38AB41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1595C-00D3-47A9-B9B3-C4C3218A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11072-02F3-4455-BCB2-E79494F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4E1A0-7A72-4F01-9AC4-01880E4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6693-FA61-4D70-A735-D657971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A53-0727-4595-A322-9803B7F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931E-5C16-4F3D-B698-9CED2982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CD3F7-6047-4FF2-872D-F9170F0A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D024-AA16-4A16-A763-5B2AC1F7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344A-6F76-4D87-BC92-5FC3D99E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5A3EF-D94F-44AD-880C-0C24BB6A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539B-B8B4-4F4B-AF3D-23D6D77B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9806B-7614-42D8-B6EC-18CC71CE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251F-DE49-44A4-B011-D266C9D4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F426-3B02-47DC-BF96-DC40FF86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4900-7A6E-49D7-AE00-5C17DDB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4E5-0313-44F1-BBB2-66FEAF1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62E12-D6FB-4981-AF7C-CB3A12DB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8A7CF-AABB-43B2-BE02-80732891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9424-C20B-4E57-A3C3-FD3EFD5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9308-D3C4-438E-A4D0-15148FA3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AE8B5-AD98-4A7E-8BAA-EF3BA1B7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B73-F682-46F1-9FE1-20E6C4B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5F88-FAF3-447E-B759-CC60EE0DFE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2EE5-395D-443F-9622-EE27CC0B78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D179-AE5E-4C1E-8337-1F2028917F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9D7D-B77D-426E-9981-C84D40A9CE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F0E0-937C-4BDE-85EB-46E478C633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A396-3F07-4DF9-8B6D-62E5B7420C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EA1-2F02-47AC-870A-8EDBE19BB1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921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делирование предметно-развивающей среды 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бинете начального обучения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140000" y="4838760"/>
            <a:ext cx="4824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1706400" y="2000160"/>
            <a:ext cx="6815160" cy="4729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ебные пособия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186920" y="1125000"/>
            <a:ext cx="7651800" cy="4535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ых компонентом кабинета является методическая библиотека учителя, в которую включены учебные пособия, практические пособия ( тесты, сборники упражнений), журналы по предмету. В кабинете имеется медиатека, материалы которой используются как в урочной так и во внеурочной деятельност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еленый уголок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1332000" y="1484280"/>
            <a:ext cx="73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много цветов и аквариум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1848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товая зон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1187280" y="1773360"/>
            <a:ext cx="75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 умывальник, набор для ванных комнат (зеркало, полка и др.) и необходимые предметы для формирования навыков личной гигиен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500040" y="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вигательная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1042920" y="981000"/>
            <a:ext cx="781524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держит игровое оборудование, игрушки, игровую атрибутику разного рода, игровые материалы, необходимые для игровой деятельности детей, столик со стульчиками для настольных игр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полках размещены массажные коврики, массажные мячи, резиновые мячи различной величины, пластмассовые гантели, кегли, а также скакал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571680" y="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гровая 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1187280" y="1125360"/>
            <a:ext cx="7201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ая зона или зона развивающих игр заним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колько полок мебельной стенки. Здесь размещены различные игры на развитие сенсомоторных процессов, дидактические игры, развивающие познавательные процессы, шнуровки, мозайки, пазлы.  Игры предназначены как для индивидуальной, так и для групповой работы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-406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42560" y="836280"/>
            <a:ext cx="79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ющая предметно-пространственная среда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образовательной среды, представленная специально организованным пространством, материалами, оборудованием и инвентарем для развития детей в соответствии с особенностями каждого возрастного этапа, охраны и укрепления их здоровья, учёта особенностей и коррекции недостатков их развит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818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чальной школе необходимо предусмотреть пространства, постоянно доступные детям и различающиеся по своей функции и атмосфере, по-разному окрашенные эмоционально: 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общения и для уединения; 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для подвижных игр и для спокойной работы и общения; 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для пробы своих возможностей и для демонстрации своих достижений;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для поиска информации. </a:t>
            </a:r>
            <a:br>
              <a:rPr sz="2000"/>
            </a:br>
            <a:r>
              <a:rPr b="1" i="1" lang="ru-RU" sz="20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341360"/>
            <a:ext cx="78915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 разностороннего развития личности; 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социально-активной личности средствами гражданско-патриотического воспитания;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раны здоровья детей;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77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требований, предъявляемых к организации образовательной деятельности в кабинете начальных классов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00000" y="191592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нитарно-гигиенические треб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воздушно-тепловому режи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естественному и искусственному освещен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оформлению кабине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мебели и ее расстановки в кабинет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50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необходимых зон в кабинете начальных классов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5640" y="1557360"/>
            <a:ext cx="7488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зон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зон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уголок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зон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 зон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642960" y="260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rbel"/>
              </a:rPr>
              <a:t>УЧЕБНАЯ  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971640" y="981000"/>
            <a:ext cx="7993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ключает в себя магнитную-маркерную доску, комплекты «парта-стул», рабочее место учите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сыщена дидактическим и цифровым оборудованием, позволяющим организовывать разные виды образовательной деятельности, работать с детьми фронтально, в парах, в малых и больших групп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8ec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Должна предоставлять ребенку возможность для активного исследования и решения задач, содержать современные материалы (конструкторы, материалы для формирования сенсорики, наборы для экспериментирования и п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e42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642960" y="22860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78588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rbel"/>
              </a:rPr>
              <a:t>ЗОНА  ТВОРЧЕСТВ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500040" y="7858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1187280" y="878400"/>
            <a:ext cx="745668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назначена для творческих занятий детей по интересам (лепка, рисование, конструирование, различные виды ремесел, игра на музыкальных инструментах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жет представлять собой выставку детских поделок и рисун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8e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Создание данной зоны помогает ребёнку почувствовать свою значимость, повышает его самооценк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214200" y="213660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213920"/>
            <a:ext cx="777708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бинете оформлены постоянны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ы: «Алфавит», «При чтении сиди правильно», «Уголок России», уголок класса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2484360" y="21420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формационная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21:30:37Z</dcterms:created>
  <dc:creator>ТАТЬЯНА</dc:creator>
  <dc:description/>
  <dc:language>en-US</dc:language>
  <cp:lastModifiedBy>1</cp:lastModifiedBy>
  <dcterms:modified xsi:type="dcterms:W3CDTF">2017-05-18T20:46:03Z</dcterms:modified>
  <cp:revision>20</cp:revision>
  <dc:subject/>
  <dc:title>Проект  «Оформление кабинета начальных классов»</dc:title>
</cp:coreProperties>
</file>