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1AEC-1B99-4800-B3A9-1868A3731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1D9-58C4-471E-A55B-DA3B6B91EF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8619-61A0-45C8-A6A8-029528DE5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826-1EB4-4C20-AF09-089B8A2B7E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050-FD34-41BB-B0D3-20FC081A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354-C9D9-4F20-9E6B-C654B82B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A04-E979-4822-8B21-4ABA693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425-1CF5-4A99-AF77-820E051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531-0A0E-4291-842C-9AED2143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6269-7225-4735-9878-D7C2B76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D19A-515A-4AD6-A7ED-70774816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48D3-3EE5-4ECE-A23F-08951FA4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AFF-7630-444D-A28F-56A963B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7CB9-6403-43E9-9452-BE4C0F68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EA4A-79BD-4506-AA8D-BF87F63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EF6-F6D1-486E-9C67-7BCC256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B050-471D-4C56-85EC-72D8815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6C3-9409-42AC-84BB-B89947E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648-EEBE-4334-AD7B-CE9A870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11D-DD79-4456-9DCF-7690FFF2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9CCD-24D4-423F-9B7E-0A007EF2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8DC2-E3A8-4D40-84B3-32CBF297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A4DE-3F37-4442-9DF2-62E386C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27D1-B855-4522-80D5-B7A1DC1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992B-BDB2-4DA5-BFE0-41E6360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7995-52D8-4669-AF6B-DCA4414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309-681D-490C-8640-0220333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E543-B2FF-4B28-A5C2-AA96F9E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6870-2F0A-4687-8AE8-9A25FA5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DD55-25C9-4E1D-A32D-F4CE727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50E5-0C45-40CE-B7ED-7EF547E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10E4-51D4-4A96-9562-89262F2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7858-1E69-46C9-AF1D-5A4A327D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2B44-78C7-4CF9-8AB4-979533F6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5C54-2145-458A-B92D-235C4F46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9EA0-C8D8-4445-9EB2-DCB4A7F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BA9D-57BA-474D-A834-2487116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46F-EC85-4011-9A50-84C08ED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C57A-0625-4600-A6CF-D0AE984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A326-A8A6-4390-93C7-8150241E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04BE-1B0F-4646-9DFF-581B01BC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3B96-8208-45CF-95E4-FEF9616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C6DC-A8E2-437D-B7BF-8D1601E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C959-722F-4FE1-8B4B-58842983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CB00-98FE-4838-A24C-A8E127CB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E1EA-E012-4226-8724-AC6150B0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B05A-F529-4C34-8043-F4692076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F924-653A-4510-A5C7-8C52149F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A15-6AD5-4AC0-8D86-92D1DEB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55CB-3CCC-408A-AC9D-8D363055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69DF-EE00-48EA-84FE-585858A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0371-2D40-4251-9F46-FA59D62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3496-7C9B-4C2C-AF17-E2389413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EF9E-E1C2-4993-9F23-4A1DA73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D833-A553-4E32-B825-BF9088D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4D494-D22C-4176-B406-BB8D1FB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26A4-D1BF-4551-912E-0B1C704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D4E8-4156-4B0C-A06D-59A3477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5F1E7-D75B-4288-BC50-F28DF525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AAA-2BCE-492C-B403-865BAC6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5EF5E-1413-4791-8D8E-44A06FC9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18BF5-8EE4-4785-BF83-41BE50A7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DA652-20D4-4083-ABEF-FC5E195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483D-FDAD-4533-9F16-9EE1A8D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0872-48F1-4090-8A69-4A58DA88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6B22-DBE5-42DE-9B30-08ADC352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C882-192B-4159-8C42-3FDE7170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404C-2761-4041-B350-A63DCB9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1CB7B-53E6-4B11-9CAD-D11EEAEE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F01F-8F74-4F94-84AA-3C5125D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3EB-4276-448C-847E-782D947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365FA-8871-4DFB-9C41-CFA117B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6252-9DA5-4121-832D-5BDC9629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7337-62FD-4F88-B4AB-FF30475F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FA70-9498-4DE6-9621-B517935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EF63D-1B48-4CFB-8866-386D85B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ACF5-B04B-4B0A-8E60-685B9EA7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A79D-7C04-4E79-8B42-82BDCBFE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EAEF-FAB5-433B-8804-33383B8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EDCD-6BC4-4D8C-8663-DA47442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09F81-26CE-4E33-B290-D7CDF02A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BAF-86C8-4A38-84C2-AD39D19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2AAF-4250-42E6-861E-A885C55B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EA75-EDDB-47FA-8FA0-500851C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100D-762F-4F56-8EFE-514648D0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7C9B1-7F3B-4CD9-B2A9-EBBF3B9C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F4875-4FD6-4DB3-ABDE-B855975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B91-0BC5-4517-BDDF-BC716B5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809C-D256-41BF-AAB4-DB6A4DCE0B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275-B85A-4FBE-926E-7E995964A4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4DA-A5D2-4EAB-8341-0C11CC77B0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536-3A03-46D0-AA52-8E5DD6AAAF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25C-854F-4F0A-89FC-E091BC59BF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D8B0-689B-4553-8FCF-18408BB5FA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1B3-C936-44C4-91A9-502149D630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делирование предметно-развивающей среды 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бинете начального обучения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140000" y="4838760"/>
            <a:ext cx="4824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706400" y="2000160"/>
            <a:ext cx="6815160" cy="4729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е пособия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186920" y="1125000"/>
            <a:ext cx="7651800" cy="453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ых компонентом кабинета является методическая библиотека учителя, в которую включены учебные пособия, практические пособия ( тесты, сборники упражнений), журналы по предмету. В кабинете имеется медиатека, материалы которой используются как в урочной так и во внеурочной деятельно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еленый уголок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1332000" y="1484280"/>
            <a:ext cx="73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много цветов и аквариум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товая зон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1187280" y="1773360"/>
            <a:ext cx="75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умывальник, набор для ванных комнат (зеркало, полка и др.) и необходимые предметы для формирования навыков личной гигиен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500040" y="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вигательная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1042920" y="981000"/>
            <a:ext cx="781524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держит игровое оборудование, игрушки, игровую атрибутику разного рода, игровые материалы, необходимые для игровой деятельности детей, столик со стульчиками для настольных игр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полках размещены массажные коврики, массажные мячи, резиновые мячи различной величины, пластмассовые гантели, кегли, а также скакал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571680" y="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гровая 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187280" y="1125360"/>
            <a:ext cx="7201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зона или зона развивающих игр заним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колько полок мебельной стенки. Здесь размещены различные игры на развитие сенсомоторных процессов, дидактические игры, развивающие познавательные процессы, шнуровки, мозайки, пазлы.  Игры предназначены как для индивидуальной, так и для групповой работы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-40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836280"/>
            <a:ext cx="79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 предметно-пространственная среда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разовательной среды, представленная специально организованным пространством, материалами, оборудованием и инвентарем для развития детей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81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чальной школе необходимо предусмотреть пространства, постоянно доступные детям и различающиеся по своей функции и атмосфере, по-разному окрашенные эмоционально: 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общения и для уединения; 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одвижных игр и для спокойной работы и общения; 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робы своих возможностей и для демонстрации своих достижений;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для поиска информации. </a:t>
            </a:r>
            <a:br>
              <a:rPr sz="2000"/>
            </a:br>
            <a:r>
              <a:rPr b="1" i="1" lang="ru-RU" sz="20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341360"/>
            <a:ext cx="7891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ностороннего развития личности; 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социально-активной личности средствами гражданско-патриотического воспитания;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здоровья детей;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77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требований, предъявляемых к организации образовательной деятельности в кабинете начальных классов: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00000" y="1915920"/>
            <a:ext cx="76327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нитарно-гигиенические треб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воздушно-тепловому режи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естественному и искусственному освещен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оформлению кабин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ования к мебели и ее расстановки в кабине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необходимых зон в кабинете начальных классов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5640" y="1557360"/>
            <a:ext cx="7488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уголок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зон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 зон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642960" y="26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УЧЕБНАЯ  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971640" y="981000"/>
            <a:ext cx="7993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ает в себя магнитную-маркерную доску, комплекты «парта-стул», рабочее место учите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сыщена дидактическим и цифровым оборудованием, позволяющим организовывать разные виды образовательной деятельности, работать с детьми фронтально, в парах, в малых и больших групп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8ec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Должна предоставлять ребенку возможность для активного исследования и решения задач, содержать современные материалы (конструкторы, материалы для формирования сенсорики, наборы для экспериментирования и п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e42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642960" y="22860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78588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ЗОНА  ТВОРЧЕСТ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500040" y="7858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187280" y="878400"/>
            <a:ext cx="74566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назначена для творческих занятий детей по интересам (лепка, рисование, конструирование, различные виды ремесел, игра на музыкальных инструментах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жет представлять собой выставку детских поделок и рисун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8e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ec0"/>
                </a:solidFill>
                <a:latin typeface="Times New Roman"/>
                <a:ea typeface="Times New Roman"/>
              </a:rPr>
              <a:t>Создание данной зоны помогает ребёнку почувствовать свою значимость, повышает его самооценк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214200" y="21366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213920"/>
            <a:ext cx="777708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бинете оформлены постоянны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ы: «Алфавит», «При чтении сиди правильно», «Уголок России», уголок класса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2484360" y="21420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формационная зон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21:30:37Z</dcterms:created>
  <dc:creator>ТАТЬЯНА</dc:creator>
  <dc:description/>
  <dc:language>en-US</dc:language>
  <cp:lastModifiedBy>1</cp:lastModifiedBy>
  <dcterms:modified xsi:type="dcterms:W3CDTF">2017-05-18T20:46:03Z</dcterms:modified>
  <cp:revision>20</cp:revision>
  <dc:subject/>
  <dc:title>Проект  «Оформление кабинета начальных классов»</dc:title>
</cp:coreProperties>
</file>