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D58-C660-4949-8906-C435E9E7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B9A-E7D8-44DC-8AC0-76DA62A1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CE6-F0EF-441B-BFFA-442BAE9F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314-D38A-4FE2-9466-AC85F194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F42-DC2C-4437-A280-C1C4C67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738-260B-4D51-BFC6-ABD9A3AA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A87-E0B9-4E8D-AFF3-0C244536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523-7804-4396-8B63-2CAF3E0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8DA-BE33-4D0B-83E8-1B46704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376-C3F7-4742-9D98-CA42F889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CFC-19EB-4C26-842B-87B9F34C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B98-E9C4-4991-9D56-F63BCB4F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A107-25A2-4885-938C-92DF1B09DD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Устный  счёт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атематика  2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 Усвоение  математической  терминологии.  Решение простых задач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:  Назарова Елена Ефрем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БОУ «Средняя  общеобразовательная  русско-татарская школа  № 87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Казань   Республика   Татарста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7  стержней   для  шариковой  ручки  стоят  56   рублей.  Сколько  стоит  один  стержень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524720" y="4941720"/>
            <a:ext cx="1009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такан  чая  стоит   4  рубля.  Сколько  рублей  стоят  3  таких  же  стакана  чая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740720" y="522936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роверь  себ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         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   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         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     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        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         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        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          6 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        8 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       12 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Оцени  себ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5»   -  нет   ошиб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4»   -  1 - 2 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3»   -   3 -  4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2»   -  более   5  ошиб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8136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Какое   число  больше  7  в  6  раз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380360" y="450864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6  уменьши  в  9  раз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093080" y="465300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0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36   уменьши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на 9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524720" y="4724280"/>
            <a:ext cx="1009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Во  сколько  раз  6  меньше  42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308720" y="4653000"/>
            <a:ext cx="1009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На  сколько  36  больше  8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380360" y="472428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Чему  равно  произведение  чисел  7  и  4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524720" y="4797360"/>
            <a:ext cx="1009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Чему  равно  частное  чисел  72  и  9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380360" y="479736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В  одной  корзине  18  кг  яблок,  а  в  другой  в  3  раза  меньше.   Сколько  килограммов  яблок  во  второй  корзине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740720" y="522936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7:17:31Z</dcterms:created>
  <dc:creator> </dc:creator>
  <dc:description/>
  <dc:language>en-US</dc:language>
  <cp:lastModifiedBy> </cp:lastModifiedBy>
  <dcterms:modified xsi:type="dcterms:W3CDTF">2013-02-23T17:55:32Z</dcterms:modified>
  <cp:revision>7</cp:revision>
  <dc:subject/>
  <dc:title>Слайд 1</dc:title>
</cp:coreProperties>
</file>