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C1E-CC03-4EFD-BCEF-81899570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5D6-8F30-4786-9F8E-684BB0FF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1BF-1CAB-4AF6-8B0E-A2C12E45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C5A-5802-43AD-815B-4F573CE8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8D2-16CB-4B37-BDBC-A8A93DEB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5DF6-C860-46DC-9170-872ED42F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8C0-F9AB-46AA-B8CF-43CA99D4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B8B-C444-4B95-9FD5-110BE5CB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9DD-B2D9-4E83-AB0D-D986183F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E86-B72F-42DC-BEBB-924683FE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E1D-DE7C-4C75-B09F-1CE6B22F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3DA1-9B6D-4617-965A-60C11357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0BB5-C2B0-44F7-84C8-2BBA46CD1B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Устный  счёт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80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атематика  2 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 Усвоение  математической  терминологии.  Решение простых задач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:  Назарова Елена Ефрем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БОУ «Средняя  общеобразовательная  русско-татарская школа  № 87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 Казань   Республика   Татарста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7  стержней   для  шариковой  ручки  стоят  56   рублей.  Сколько  стоит  один  стержень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http://chrio.edu.cap.ru/wiki/images/0/04/I555.jpg"/>
          <p:cNvPicPr/>
          <p:nvPr/>
        </p:nvPicPr>
        <p:blipFill>
          <a:blip r:embed="rId1"/>
          <a:stretch/>
        </p:blipFill>
        <p:spPr>
          <a:xfrm>
            <a:off x="7524720" y="4941720"/>
            <a:ext cx="10098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Стакан  чая  стоит   4  рубля.  Сколько  рублей  стоят  3  таких  же  стакана  чая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http://chrio.edu.cap.ru/wiki/images/0/04/I555.jpg"/>
          <p:cNvPicPr/>
          <p:nvPr/>
        </p:nvPicPr>
        <p:blipFill>
          <a:blip r:embed="rId1"/>
          <a:stretch/>
        </p:blipFill>
        <p:spPr>
          <a:xfrm>
            <a:off x="7740720" y="5229360"/>
            <a:ext cx="1009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Проверь  себя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         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     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         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     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          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          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         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          6 к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          8  ру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        12  ру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Оцени  себя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5»   -  нет   ошиб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4»   -  1 - 2  ошиб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3»   -   3 -  4 ошиб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2»   -  более   5  ошиб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39640" y="836280"/>
            <a:ext cx="8136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Какое   число  больше  7  в  6  раз 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http://chrio.edu.cap.ru/wiki/images/0/04/I555.jpg"/>
          <p:cNvPicPr/>
          <p:nvPr/>
        </p:nvPicPr>
        <p:blipFill>
          <a:blip r:embed="rId1"/>
          <a:stretch/>
        </p:blipFill>
        <p:spPr>
          <a:xfrm>
            <a:off x="7380360" y="4508640"/>
            <a:ext cx="1009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6  уменьши  в  9  раз 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http://chrio.edu.cap.ru/wiki/images/0/04/I555.jpg"/>
          <p:cNvPicPr/>
          <p:nvPr/>
        </p:nvPicPr>
        <p:blipFill>
          <a:blip r:embed="rId1"/>
          <a:stretch/>
        </p:blipFill>
        <p:spPr>
          <a:xfrm>
            <a:off x="7093080" y="4653000"/>
            <a:ext cx="1009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001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36   уменьши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на 9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http://chrio.edu.cap.ru/wiki/images/0/04/I555.jpg"/>
          <p:cNvPicPr/>
          <p:nvPr/>
        </p:nvPicPr>
        <p:blipFill>
          <a:blip r:embed="rId1"/>
          <a:stretch/>
        </p:blipFill>
        <p:spPr>
          <a:xfrm>
            <a:off x="7524720" y="4724280"/>
            <a:ext cx="10098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Во  сколько  раз  6  меньше  42 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http://chrio.edu.cap.ru/wiki/images/0/04/I555.jpg"/>
          <p:cNvPicPr/>
          <p:nvPr/>
        </p:nvPicPr>
        <p:blipFill>
          <a:blip r:embed="rId1"/>
          <a:stretch/>
        </p:blipFill>
        <p:spPr>
          <a:xfrm>
            <a:off x="7308720" y="4653000"/>
            <a:ext cx="10098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На  сколько  36  больше  8 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http://chrio.edu.cap.ru/wiki/images/0/04/I555.jpg"/>
          <p:cNvPicPr/>
          <p:nvPr/>
        </p:nvPicPr>
        <p:blipFill>
          <a:blip r:embed="rId1"/>
          <a:stretch/>
        </p:blipFill>
        <p:spPr>
          <a:xfrm>
            <a:off x="7380360" y="4724280"/>
            <a:ext cx="1009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 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Чему  равно  произведение  чисел  7  и  4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http://chrio.edu.cap.ru/wiki/images/0/04/I555.jpg"/>
          <p:cNvPicPr/>
          <p:nvPr/>
        </p:nvPicPr>
        <p:blipFill>
          <a:blip r:embed="rId1"/>
          <a:stretch/>
        </p:blipFill>
        <p:spPr>
          <a:xfrm>
            <a:off x="7524720" y="4797360"/>
            <a:ext cx="10098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Чему  равно  частное  чисел  72  и  9 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http://chrio.edu.cap.ru/wiki/images/0/04/I555.jpg"/>
          <p:cNvPicPr/>
          <p:nvPr/>
        </p:nvPicPr>
        <p:blipFill>
          <a:blip r:embed="rId1"/>
          <a:stretch/>
        </p:blipFill>
        <p:spPr>
          <a:xfrm>
            <a:off x="7380360" y="4797360"/>
            <a:ext cx="1009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.  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В  одной  корзине  18  кг  яблок,  а  в  другой  в  3  раза  меньше.   Сколько  килограммов  яблок  во  второй  корзине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http://chrio.edu.cap.ru/wiki/images/0/04/I555.jpg"/>
          <p:cNvPicPr/>
          <p:nvPr/>
        </p:nvPicPr>
        <p:blipFill>
          <a:blip r:embed="rId1"/>
          <a:stretch/>
        </p:blipFill>
        <p:spPr>
          <a:xfrm>
            <a:off x="7740720" y="5229360"/>
            <a:ext cx="1009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3T17:17:31Z</dcterms:created>
  <dc:creator> </dc:creator>
  <dc:description/>
  <dc:language>en-US</dc:language>
  <cp:lastModifiedBy> </cp:lastModifiedBy>
  <dcterms:modified xsi:type="dcterms:W3CDTF">2013-02-23T17:55:32Z</dcterms:modified>
  <cp:revision>7</cp:revision>
  <dc:subject/>
  <dc:title>Слайд 1</dc:title>
</cp:coreProperties>
</file>