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6E34-4A84-4AF0-AADF-89DEB1557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64B1-8F75-469D-8F4C-80B1972E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8010-E194-46D5-9979-48A91F3EF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B3FC-77DF-44A6-AFC8-B7018D304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EC14-474C-4451-9040-AE4146B0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3E01-F492-47B9-B88E-097C5B48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16E3-CA29-4F8B-BC10-A2506694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32C8-3C4C-4460-AC63-D1BF1389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7B9A-F25F-424F-A134-C64248B1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4C71-FCBF-4E85-9B2E-3C5FBE6F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2D91-529D-4CA9-8CCF-63E44723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0760-5313-4E4C-9B02-63194BD5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5513-BEA6-4BB8-B87D-C5988694E2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Устный  счёт.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Математика    2  класс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33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Усвоение  математической  терминологии.  Табличные  случаи  умножения  и  делени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читель:  Назарова Елена Ефрем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БОУ «Средняя  общеобразовательная  русско-татарская школа  № 87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. Казань   Республика   Татарста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.   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Сумму  чисел  5   и  4  увеличь  в  3  раза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443640" y="3933720"/>
            <a:ext cx="20890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.   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От  деления  какого  числа  на  6  получится  7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1.  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Разность  чисел  18  и  10  уменьши  в  2  раза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На  нижней  полке  стоит  27   книг,  а  на  верхней  в  3  раза  меньше.   Сколько  книг  на  верхней  полке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3.  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Альбом  стоит  14  рублей, в  тетрадь  2  рубля.  Во  сколько  раз  альбом  дороже  тетради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443640" y="3933720"/>
            <a:ext cx="20890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Найди   седьмую  часть   от  числа  28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516720" y="404640"/>
            <a:ext cx="2089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Проверь  себя.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8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8.    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 56                                       9.      2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 7                                        10.     4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  9                                        11.    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  48                                      12.     9  кни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  45                                       13.   в  7  ра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  9                                         14.   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6  </a:t>
            </a:r>
            <a:r>
              <a:rPr b="0" lang="en-US" sz="9600" spc="-1" strike="noStrike">
                <a:solidFill>
                  <a:srgbClr val="ffffff"/>
                </a:solidFill>
                <a:latin typeface="Arial"/>
                <a:ea typeface="Arial"/>
              </a:rPr>
              <a:t>•  3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443640" y="3933720"/>
            <a:ext cx="20890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             </a:t>
            </a: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8 </a:t>
            </a:r>
            <a:r>
              <a:rPr b="0" lang="en-US" sz="9600" spc="-1" strike="noStrike">
                <a:solidFill>
                  <a:srgbClr val="ffffff"/>
                </a:solidFill>
                <a:latin typeface="Arial"/>
                <a:ea typeface="Arial"/>
              </a:rPr>
              <a:t>•  7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443640" y="3933720"/>
            <a:ext cx="20890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.            </a:t>
            </a: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49   :   7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443640" y="3933720"/>
            <a:ext cx="20890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54   :   6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443640" y="3933720"/>
            <a:ext cx="20890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.        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Найди  произведение  чисел  6  и  8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.   </a:t>
            </a: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Какое  число  больше  5  в  9  раз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443640" y="3933720"/>
            <a:ext cx="20890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.   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Уменьши  63  в  7  раз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236000" y="4076640"/>
            <a:ext cx="1657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.  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Найди  частное  чисел  36  и  4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443640" y="3933720"/>
            <a:ext cx="20890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3T18:27:29Z</dcterms:created>
  <dc:creator> </dc:creator>
  <dc:description/>
  <dc:language>en-US</dc:language>
  <cp:lastModifiedBy> </cp:lastModifiedBy>
  <dcterms:modified xsi:type="dcterms:W3CDTF">2013-02-23T18:52:08Z</dcterms:modified>
  <cp:revision>3</cp:revision>
  <dc:subject/>
  <dc:title>Устный  счёт. Математика    2  класс</dc:title>
</cp:coreProperties>
</file>