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F30-555D-4F95-8DBF-F66DA05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194-9089-4102-9748-CA5A026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873-20D6-463B-9BEF-54C40D49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736-60AC-4C9E-BD98-6F0C2AE4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619-5A97-4848-B3BC-415BE898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4B3-ED00-4A2F-BC17-06A7AF06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DD8-E307-4F70-928F-E1CA8D2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511-4D44-4D08-AAC5-6602B6F1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124-29CF-4986-90B3-4672C173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1E5-F3E2-459F-A371-1775F29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B3E-1EE5-4ACF-96BB-AB9FEC4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82A-2C31-4A1C-83D2-6786CCA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2EE-9619-4DDC-B26C-C216A7718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стный  счёт.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атематика    2  клас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своение  математической  терминологии.  Табличные  случаи  умножения  и  делен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:  Назарова Елена Ефрем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БОУ «Средняя  общеобразовательная  русско-татарская школа  № 87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. Казань   Республика   Татарст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Сумму  чисел  5   и  4  увеличь  в  3  раз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От  деления  какого  числа  на  6  получится  7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Разность  чисел  18  и  10  уменьши  в  2  раз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  нижней  полке  стоит  27   книг,  а  на  верхней  в  3  раза  меньше.   Сколько  книг  на  верхней  полк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льбом  стоит  14  рублей, в  тетрадь  2  рубля.  Во  сколько  раз  альбом  дороже  тетрад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йди   седьмую  часть   от  числа  28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08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верь  себя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8. 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56                                       9.     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7                                        10.     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9                                        11.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48                                      12.     9  кни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45                                       13.   в  7 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9                                         14.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6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•  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•  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   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49   :   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54   :   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айди  произведение  чисел  6  и  8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 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Какое  число  больше  5  в  9  раз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Уменьши  63  в  7  раз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4076640"/>
            <a:ext cx="165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Найди  частное  чисел  36  и  4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8:27:29Z</dcterms:created>
  <dc:creator> </dc:creator>
  <dc:description/>
  <dc:language>en-US</dc:language>
  <cp:lastModifiedBy> </cp:lastModifiedBy>
  <dcterms:modified xsi:type="dcterms:W3CDTF">2013-02-23T18:52:08Z</dcterms:modified>
  <cp:revision>3</cp:revision>
  <dc:subject/>
  <dc:title>Устный  счёт. Математика    2  класс</dc:title>
</cp:coreProperties>
</file>