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3.png" ContentType="image/pn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ECE-159A-40B9-9764-565BEB4F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6F8-8023-4E20-A27C-B1731C87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22F-A4F9-4A01-AA43-9D4CB38C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5E8-EA09-4E08-ACF5-A76B3F70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6356-C1D4-4C41-9D57-FC4617FB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AA94-3159-4552-9C41-075A6377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B5CC-055E-45D3-A8EC-0F9CCAD9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50D7-609D-4493-92F6-24A5F7FC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C785-DFF4-46F5-9563-3B311F4C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B06E-6F7A-44FD-BAC6-5A9EDA71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B96E-D1CF-4C71-9BCE-2D4E13DD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A77-3DE5-4A8D-8000-F5A59D34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11D6-A2B5-4927-8AB4-DF47D80D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E883-BA79-43A7-A89A-F1AFF089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C2A8-F0A5-4526-84CE-AE2DC6AB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E164-B82F-437D-A993-BEAC96A8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40A6-B605-4C6C-B08D-624B1266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A97-F3CF-4B26-B444-2DD1EB32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E52-5D83-4A52-AD72-36E805EC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B94-B30E-4D1A-863A-FD0C84A8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1CA-4461-43FA-8146-0058A88C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56E-7937-4142-BDAA-B703EC2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8FF-F992-4B3E-9C88-4BFB0D7B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799-EF0D-4DD3-9165-89811E65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B0CA-5560-462C-AFF7-109754C9C8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C0A5-6578-4FC9-9D5D-68A77FE4E548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1187280" y="1192320"/>
            <a:ext cx="662472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Лазнева Анна Дмитриевн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авильные и полуправильные многогранник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Индивидуальный проек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исциплина: математика: алгебра, начала математического анализа, геометрия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Руководитель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ижегородова О.М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Усмань 2017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658800" y="1522440"/>
            <a:ext cx="79311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ишли из Древней Греции,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в них  указывается число граней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«эдра»    </a:t>
            </a:r>
            <a:r>
              <a:rPr b="1" i="1" lang="ru-RU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  грань;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тетра» </a:t>
            </a:r>
            <a:r>
              <a:rPr b="1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4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гекса»    </a:t>
            </a:r>
            <a:r>
              <a:rPr b="1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6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окта»    </a:t>
            </a:r>
            <a:r>
              <a:rPr b="1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8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икоса»   </a:t>
            </a:r>
            <a:r>
              <a:rPr b="1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20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додека»  </a:t>
            </a:r>
            <a:r>
              <a:rPr b="1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428760" y="135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Times New Roman"/>
              </a:rPr>
              <a:t>Названия многогранников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                                       </a:t>
            </a: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Кэрролл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Л.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826920" y="620640"/>
            <a:ext cx="7255080" cy="8251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Великолепная пятерка</a:t>
            </a:r>
            <a:endParaRPr b="0" lang="en-US" sz="4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AutoShape 5">
            <a:hlinkClick r:id="rId1" action="ppaction://hlinksldjump"/>
          </p:cNvPr>
          <p:cNvSpPr/>
          <p:nvPr/>
        </p:nvSpPr>
        <p:spPr>
          <a:xfrm>
            <a:off x="8172360" y="587700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3203640" y="549360"/>
            <a:ext cx="5689440" cy="5205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«Космический кубок» Кеплер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3571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оганн Кеплер (1571-1630)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3" name="Picture 5" descr="Рисунок6"/>
          <p:cNvPicPr/>
          <p:nvPr/>
        </p:nvPicPr>
        <p:blipFill>
          <a:blip r:embed="rId1"/>
          <a:stretch/>
        </p:blipFill>
        <p:spPr>
          <a:xfrm>
            <a:off x="324000" y="549360"/>
            <a:ext cx="2319120" cy="29718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Рисунок6"/>
          <p:cNvPicPr/>
          <p:nvPr/>
        </p:nvPicPr>
        <p:blipFill>
          <a:blip r:embed="rId2"/>
          <a:stretch/>
        </p:blipFill>
        <p:spPr>
          <a:xfrm>
            <a:off x="5929200" y="1285920"/>
            <a:ext cx="2881440" cy="292896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7">
            <a:hlinkClick r:id="rId3" action="ppaction://hlinksldjump"/>
          </p:cNvPr>
          <p:cNvSpPr/>
          <p:nvPr/>
        </p:nvSpPr>
        <p:spPr>
          <a:xfrm>
            <a:off x="8286840" y="5857920"/>
            <a:ext cx="720720" cy="684000"/>
          </a:xfrm>
          <a:custGeom>
            <a:avLst/>
            <a:gdLst>
              <a:gd name="textAreaLeft" fmla="*/ 44280 w 720720"/>
              <a:gd name="textAreaRight" fmla="*/ 676440 w 72072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2759" h="21600">
                <a:moveTo>
                  <a:pt x="0" y="0"/>
                </a:moveTo>
                <a:lnTo>
                  <a:pt x="22759" y="0"/>
                </a:lnTo>
                <a:lnTo>
                  <a:pt x="22759" y="21600"/>
                </a:lnTo>
                <a:lnTo>
                  <a:pt x="0" y="21600"/>
                </a:lnTo>
                <a:close/>
              </a:path>
              <a:path fill="lightenLess" w="22759" h="21600">
                <a:moveTo>
                  <a:pt x="0" y="0"/>
                </a:moveTo>
                <a:lnTo>
                  <a:pt x="22759" y="0"/>
                </a:lnTo>
                <a:lnTo>
                  <a:pt x="21359" y="1400"/>
                </a:lnTo>
                <a:lnTo>
                  <a:pt x="1400" y="1400"/>
                </a:lnTo>
                <a:close/>
              </a:path>
              <a:path fill="darken" w="22759" h="21600">
                <a:moveTo>
                  <a:pt x="22759" y="0"/>
                </a:moveTo>
                <a:lnTo>
                  <a:pt x="22759" y="21600"/>
                </a:lnTo>
                <a:lnTo>
                  <a:pt x="21359" y="20200"/>
                </a:lnTo>
                <a:lnTo>
                  <a:pt x="21359" y="1400"/>
                </a:lnTo>
                <a:close/>
              </a:path>
              <a:path fill="darkenLess" w="22759" h="21600">
                <a:moveTo>
                  <a:pt x="22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59" y="20200"/>
                </a:lnTo>
                <a:close/>
              </a:path>
              <a:path fill="lighten" w="22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59" h="21600">
                <a:moveTo>
                  <a:pt x="4373" y="7493"/>
                </a:moveTo>
                <a:lnTo>
                  <a:pt x="7881" y="7493"/>
                </a:lnTo>
                <a:lnTo>
                  <a:pt x="7881" y="12828"/>
                </a:lnTo>
                <a:cubicBezTo>
                  <a:pt x="7881" y="13751"/>
                  <a:pt x="8681" y="14482"/>
                  <a:pt x="9717" y="14482"/>
                </a:cubicBezTo>
                <a:lnTo>
                  <a:pt x="11379" y="14482"/>
                </a:lnTo>
                <a:cubicBezTo>
                  <a:pt x="12415" y="14482"/>
                  <a:pt x="13216" y="13751"/>
                  <a:pt x="13216" y="12828"/>
                </a:cubicBezTo>
                <a:lnTo>
                  <a:pt x="13216" y="7493"/>
                </a:lnTo>
                <a:lnTo>
                  <a:pt x="11379" y="7493"/>
                </a:lnTo>
                <a:lnTo>
                  <a:pt x="14887" y="3985"/>
                </a:lnTo>
                <a:lnTo>
                  <a:pt x="18560" y="7493"/>
                </a:lnTo>
                <a:lnTo>
                  <a:pt x="16724" y="7493"/>
                </a:lnTo>
                <a:lnTo>
                  <a:pt x="16724" y="12828"/>
                </a:lnTo>
                <a:cubicBezTo>
                  <a:pt x="16724" y="15596"/>
                  <a:pt x="14147" y="18155"/>
                  <a:pt x="11379" y="18155"/>
                </a:cubicBezTo>
                <a:lnTo>
                  <a:pt x="9717" y="18155"/>
                </a:lnTo>
                <a:cubicBezTo>
                  <a:pt x="6949" y="18155"/>
                  <a:pt x="4373" y="15596"/>
                  <a:pt x="4373" y="12828"/>
                </a:cubicBez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285840" y="4286160"/>
            <a:ext cx="7429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Иоганн Кеплер, для которого правильные многогранники были любимым предметом изучения, предположил, что существует связь между пятью правильными многогранниками и шестью открытыми к тому времени планетами Солнечной системы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о его мнению, сферы планет связаны между собой вписанными в них платоновыми телами.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оскольку для каждого правильного многогранника центры вписанной и описанной сфер совпадают, то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ся модель будет иметь единый центр, в котором будет находиться Солнце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3647880" y="1357200"/>
            <a:ext cx="235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Модель  Солнечной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истемы  И. Кеплер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1643040" y="33577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оды - икосаэдра.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124000" y="40464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латон связал с правильными многогранниками формы атомов основных стихий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2195640" y="1341360"/>
            <a:ext cx="43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 его учении атомы земли имели форму куба,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2838600" y="187020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атомы огня - форму тетраэдра,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2067480" y="2643120"/>
            <a:ext cx="25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атомы воздуха - октаэдра,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539640" y="5589720"/>
            <a:ext cx="82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наше время эту систему можно сравнить с четырьмя состояниями вещества – твёрдым, жидким, газообразным и пламенным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851040" y="4643280"/>
            <a:ext cx="4751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Пятый многогранник – додекаэдр символизировал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есь мир и почитался главнейшим.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5" name="Picture 9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"/>
          <p:cNvPicPr/>
          <p:nvPr/>
        </p:nvPicPr>
        <p:blipFill>
          <a:blip r:embed="rId2"/>
          <a:stretch/>
        </p:blipFill>
        <p:spPr>
          <a:xfrm>
            <a:off x="6012000" y="19749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Рисунок157"/>
          <p:cNvPicPr/>
          <p:nvPr/>
        </p:nvPicPr>
        <p:blipFill>
          <a:blip r:embed="rId3"/>
          <a:srcRect l="3885" t="2270" r="2751" b="0"/>
          <a:stretch/>
        </p:blipFill>
        <p:spPr>
          <a:xfrm>
            <a:off x="6802560" y="1285920"/>
            <a:ext cx="841320" cy="785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Рисунок159"/>
          <p:cNvPicPr/>
          <p:nvPr/>
        </p:nvPicPr>
        <p:blipFill>
          <a:blip r:embed="rId4"/>
          <a:stretch/>
        </p:blipFill>
        <p:spPr>
          <a:xfrm>
            <a:off x="3714840" y="3071880"/>
            <a:ext cx="936360" cy="798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Рисунок156"/>
          <p:cNvPicPr/>
          <p:nvPr/>
        </p:nvPicPr>
        <p:blipFill>
          <a:blip r:embed="rId5"/>
          <a:stretch/>
        </p:blipFill>
        <p:spPr>
          <a:xfrm>
            <a:off x="5940360" y="4492800"/>
            <a:ext cx="792360" cy="736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4" descr="Рисунок1"/>
          <p:cNvPicPr/>
          <p:nvPr/>
        </p:nvPicPr>
        <p:blipFill>
          <a:blip r:embed="rId6"/>
          <a:stretch/>
        </p:blipFill>
        <p:spPr>
          <a:xfrm>
            <a:off x="179280" y="189000"/>
            <a:ext cx="1876680" cy="20890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14"/>
          <p:cNvSpPr/>
          <p:nvPr/>
        </p:nvSpPr>
        <p:spPr>
          <a:xfrm>
            <a:off x="207720" y="2286000"/>
            <a:ext cx="194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Платон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(427 – 347 г. до н. э.)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429160" y="1428840"/>
            <a:ext cx="3257640" cy="470196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285840" y="1308600"/>
            <a:ext cx="464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Наш мир исполнен симметрии. С древнейших времен с ней связаны наши представления о красоте. Наверное, этим объясняется непреходящий интерес человека к многогранникам - удивительным символам симметрии, привлекавшим внимание множества выдающихся мыслителей, от Платона и Евклида до Эйлера и Кеплера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042920" y="404640"/>
            <a:ext cx="184320" cy="579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Рисунок104"/>
          <p:cNvPicPr/>
          <p:nvPr/>
        </p:nvPicPr>
        <p:blipFill>
          <a:blip r:embed="rId1"/>
          <a:stretch/>
        </p:blipFill>
        <p:spPr>
          <a:xfrm>
            <a:off x="1042920" y="1628640"/>
            <a:ext cx="2665440" cy="2664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Рисунок104"/>
          <p:cNvPicPr/>
          <p:nvPr/>
        </p:nvPicPr>
        <p:blipFill>
          <a:blip r:embed="rId2"/>
          <a:stretch/>
        </p:blipFill>
        <p:spPr>
          <a:xfrm>
            <a:off x="5148360" y="1628640"/>
            <a:ext cx="2757240" cy="2664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2780280" y="404640"/>
            <a:ext cx="296208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970200" y="4437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ирусная частица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788000" y="5013360"/>
            <a:ext cx="388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Аденовирусы - семейство ДНК-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содержащих вирусов, вызывающих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у человека и животных аденовирусные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болезни.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0" name="Picture 4" descr="Рисунок09"/>
          <p:cNvPicPr/>
          <p:nvPr/>
        </p:nvPicPr>
        <p:blipFill>
          <a:blip r:embed="rId1"/>
          <a:stretch/>
        </p:blipFill>
        <p:spPr>
          <a:xfrm>
            <a:off x="755640" y="1557360"/>
            <a:ext cx="3048120" cy="2803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Рисунок10"/>
          <p:cNvPicPr/>
          <p:nvPr/>
        </p:nvPicPr>
        <p:blipFill>
          <a:blip r:embed="rId2"/>
          <a:stretch/>
        </p:blipFill>
        <p:spPr>
          <a:xfrm>
            <a:off x="5148360" y="1989000"/>
            <a:ext cx="2662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539640" y="890640"/>
            <a:ext cx="79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 работы обуслослена тем, что теме правильных и полуправильных многогранников. Их изучали Теэтет, Платон, Евклид, Гипсикл и Папп. Также и нас эти удивительные тела не оставили равнодушной. Ведь их форма – образец совершенства!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Мной был изучен необходимый непрограммный материал, и захотелось расширить свои знания и представления по данной теме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индивидуального проекта - ответить на вопросы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всего правильных многогранников? Какими особенностями они обладают? Как изготовить модель какого-либо правильного многогранника? Где можно встретить эти тела? Ответить на эти и многие другие вопросы и является целью нашей работы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Рисунок155"/>
          <p:cNvPicPr/>
          <p:nvPr/>
        </p:nvPicPr>
        <p:blipFill>
          <a:blip r:embed="rId1"/>
          <a:stretch/>
        </p:blipFill>
        <p:spPr>
          <a:xfrm>
            <a:off x="1116000" y="3213000"/>
            <a:ext cx="6840720" cy="2890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395280" y="476280"/>
            <a:ext cx="7993080" cy="6332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Times New Roman"/>
              </a:rPr>
              <a:t>ПРАВИЛЬНЫЙ  МНОГОГРАННИК</a:t>
            </a:r>
            <a:endParaRPr b="0" lang="en-US" sz="3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134136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- выпуклый многогранник, грани которого являются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авильными многоугольниками с одним и тем ж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числом сторон и в каждой вершине которого сходится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одно и то же число ребер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4716360" y="2421000"/>
            <a:ext cx="3168720" cy="576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Line 6"/>
          <p:cNvSpPr/>
          <p:nvPr/>
        </p:nvSpPr>
        <p:spPr>
          <a:xfrm flipH="1">
            <a:off x="2700360" y="2492280"/>
            <a:ext cx="1727280" cy="20890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0" name="Line 7"/>
          <p:cNvSpPr/>
          <p:nvPr/>
        </p:nvSpPr>
        <p:spPr>
          <a:xfrm flipH="1">
            <a:off x="1116000" y="2421000"/>
            <a:ext cx="3240000" cy="7207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1" name="Line 8"/>
          <p:cNvSpPr/>
          <p:nvPr/>
        </p:nvSpPr>
        <p:spPr>
          <a:xfrm flipH="1">
            <a:off x="4500720" y="2492280"/>
            <a:ext cx="71280" cy="8654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4643280" y="2492280"/>
            <a:ext cx="1584360" cy="20890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WordArt 3"/>
          <p:cNvSpPr txBox="1"/>
          <p:nvPr/>
        </p:nvSpPr>
        <p:spPr>
          <a:xfrm>
            <a:off x="3276720" y="907920"/>
            <a:ext cx="46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 истор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4" name="Picture 4" descr="geometry"/>
          <p:cNvPicPr/>
          <p:nvPr/>
        </p:nvPicPr>
        <p:blipFill>
          <a:blip r:embed="rId1"/>
          <a:stretch/>
        </p:blipFill>
        <p:spPr>
          <a:xfrm>
            <a:off x="250920" y="404640"/>
            <a:ext cx="1689120" cy="18720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2"/>
          <p:cNvSpPr/>
          <p:nvPr/>
        </p:nvSpPr>
        <p:spPr>
          <a:xfrm>
            <a:off x="468360" y="2741400"/>
            <a:ext cx="842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История правильных многогранников уходит в глубокую древность. Правильными многогранниками увлекались Пифагор и его ученики. Их поражала красота, совершенство, гармония этих фигур. Пифагорейцы считали правильные многогранники божественными фигурами и использовали в своих философских сочинениях. Позже учение пифагорейцев о правильных многогранниках изложил в своих трудах другой древнегреческий ученый, философ - идеалист Платон. С тех пор правильные многогранники стали называться платоновыми телами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69720" y="195120"/>
            <a:ext cx="815832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00"/>
                </a:solidFill>
                <a:latin typeface="Times New Roman"/>
              </a:rPr>
              <a:t>Правильный тетраэдр</a:t>
            </a:r>
            <a:endParaRPr b="0" lang="en-US" sz="4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924360" y="1484280"/>
            <a:ext cx="4635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Monotype Corsiv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Составлен из четырёх равносторонних треугольников. Каждая его вершина является вершиной трёх треугольников. Сумма плоских углов при каждой вершине равна 18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º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547640" y="537372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ЕРШИН: 4    РЕБЕР: 6    ГРАНЕЙ: 4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9" name="Picture 5" descr="Рисунок44"/>
          <p:cNvPicPr/>
          <p:nvPr/>
        </p:nvPicPr>
        <p:blipFill>
          <a:blip r:embed="rId1"/>
          <a:stretch/>
        </p:blipFill>
        <p:spPr>
          <a:xfrm>
            <a:off x="684360" y="1700280"/>
            <a:ext cx="324936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3419640" y="1773360"/>
            <a:ext cx="51098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º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428760" y="122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Times New Roman"/>
              </a:rPr>
              <a:t>Куб (гексаэдр)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1403280" y="5445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ЕРШИН: 8       РЕБЕР: 12        ГРАНЕЙ: 6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3" name="Picture 5" descr="Рисунок44"/>
          <p:cNvPicPr/>
          <p:nvPr/>
        </p:nvPicPr>
        <p:blipFill>
          <a:blip r:embed="rId1"/>
          <a:srcRect l="2475" t="2902" r="2422" b="2836"/>
          <a:stretch/>
        </p:blipFill>
        <p:spPr>
          <a:xfrm>
            <a:off x="684360" y="1989000"/>
            <a:ext cx="2808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708360" y="1484280"/>
            <a:ext cx="47815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º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Times New Roman"/>
              </a:rPr>
              <a:t>Правильный октаэдр</a:t>
            </a:r>
            <a:endParaRPr b="0" lang="en-US" sz="4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187280" y="5445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ЕРШИН: 6         РЕБЕР: 12        ГРАНЕЙ: 8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7" name="Picture 5" descr="Рисунок44"/>
          <p:cNvPicPr/>
          <p:nvPr/>
        </p:nvPicPr>
        <p:blipFill>
          <a:blip r:embed="rId1"/>
          <a:stretch/>
        </p:blipFill>
        <p:spPr>
          <a:xfrm>
            <a:off x="539640" y="1628640"/>
            <a:ext cx="332604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00"/>
                </a:solidFill>
                <a:latin typeface="Times New Roman"/>
              </a:rPr>
              <a:t>Правильный икосаэдр</a:t>
            </a:r>
            <a:endParaRPr b="0" lang="en-US" sz="3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30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º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971640" y="5661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ЕРШИН: 12      РЕБЕР: 30        ГРАНЕЙ: 2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1" name="Picture 5" descr="icosahedron2"/>
          <p:cNvPicPr/>
          <p:nvPr/>
        </p:nvPicPr>
        <p:blipFill>
          <a:blip r:embed="rId1"/>
          <a:srcRect l="0" t="6689" r="0" b="8340"/>
          <a:stretch/>
        </p:blipFill>
        <p:spPr>
          <a:xfrm>
            <a:off x="611280" y="2205000"/>
            <a:ext cx="2808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Times New Roman"/>
              </a:rPr>
              <a:t>Правильный додекаэдр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492360" y="1916280"/>
            <a:ext cx="48736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20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324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º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755640" y="54450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ВЕРШИН: 20     РЕБЕР: 30     ГРАНЕЙ: 1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5" name="Picture 5" descr="Рисунок44"/>
          <p:cNvPicPr/>
          <p:nvPr/>
        </p:nvPicPr>
        <p:blipFill>
          <a:blip r:embed="rId1"/>
          <a:srcRect l="2414" t="2544" r="2359" b="0"/>
          <a:stretch/>
        </p:blipFill>
        <p:spPr>
          <a:xfrm>
            <a:off x="539640" y="1844640"/>
            <a:ext cx="2880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5:43:40Z</dcterms:created>
  <dc:creator>Владелец</dc:creator>
  <dc:description/>
  <dc:language>en-US</dc:language>
  <cp:lastModifiedBy>Windows User</cp:lastModifiedBy>
  <dcterms:modified xsi:type="dcterms:W3CDTF">2017-03-22T05:57:22Z</dcterms:modified>
  <cp:revision>31</cp:revision>
  <dc:subject/>
  <dc:title>Слайд 1</dc:title>
</cp:coreProperties>
</file>