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5C9-A493-49C6-8B72-40ED3A41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79D-F5FC-4EC8-9756-DCF9895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666-0FB3-41BA-9E71-F35F7B2A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4BC-EF81-4D6E-8742-6646F74A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BFB7-D6D1-472A-9767-1C5D2918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467E-17F7-4F43-992A-EFEDA313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C9E-F450-4F34-BCF7-A5073DF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2A8-2EB5-475F-832A-1CDB6B12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2998-8EE2-438F-8DF9-3FCC0216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247E-E4B9-42EF-914B-A06D9B1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AD4-0493-41B9-B997-D8243BF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4AE-0E21-4385-9819-CFE8B61C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A25-BEA1-4348-A28E-D4068B4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19FE-8E6E-483A-8BEA-075ACC7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636-92F2-4C7E-941E-93395332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B81D-09BA-49C7-A6E5-7967639E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1F0-05C0-439E-9582-6472F869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839D1-E7A1-42AA-BA61-420A1D87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C7DFD-4ED7-4B25-A0AC-45E0986F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161E9-804D-4501-A554-7A95A72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5B691-E628-4939-8860-041847B4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A8A15-9EAD-4387-A808-B3636C9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D9D-8FE1-4D4E-A608-B054746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6A2A5-D611-463A-BE97-66E01EC0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59352-963F-42F6-9666-7D44661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BBDF7-F50D-48DC-BC09-B9EF6B0F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48D5F-86D0-47C2-9EF3-CD74DE1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7AEFE-040C-412C-853C-23D940B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8E169-5D5A-4D86-836B-AFDB96F2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19779-F857-46D2-A248-75A6604E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6305-F5A9-46CC-A568-FDFB99F2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3AAF-97A6-4720-88F0-ACBE1D7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23CE-30EA-43C9-8AAB-BFF75AB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3AE-4202-4CBB-B92E-6809FE66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5073-69CA-42AC-BCE3-19ED398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511B-12E4-4FC2-A37D-D59FF1D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D0FC-968D-4FB1-BBE1-C487586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681A-1F23-4826-A87C-3756E3A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F658-D35D-48BD-9159-F940838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A766-2C26-4507-BAEB-909E9F6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3026-D18F-4845-AB6A-24AA1763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C2EA-A05B-4438-BCD7-DD536A54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1D5D-F1F2-4012-AD22-41968296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0B6-358C-4212-97DB-F1938443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38A-87E4-4D98-801A-4C77D9A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C7C-D0CC-43A0-850A-60595AD1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30C-854E-4511-AE9B-DAF63BF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C18-27EF-4EBF-96C9-5C0E31A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524-9BE3-4D74-B5E8-60181B08B507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171-EB2D-412A-8DEB-34871C9EED43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F0CA-1678-4E4E-AA65-D2F8D1D4B593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56A-48ED-4EF6-BF9A-3DEBBCC7B149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Heute ist der 16. März, Mittwoch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4000" y="27810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Die Stunde beginnt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für jedes Kind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Schön, nicht wahr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Wunderbar!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2" descr="D:\Картинки\BILDER\deutsch-1.jpg"/>
          <p:cNvPicPr/>
          <p:nvPr/>
        </p:nvPicPr>
        <p:blipFill>
          <a:blip r:embed="rId1"/>
          <a:srcRect l="4352" t="0" r="0" b="0"/>
          <a:stretch/>
        </p:blipFill>
        <p:spPr>
          <a:xfrm>
            <a:off x="5219640" y="2421000"/>
            <a:ext cx="316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42920" y="1268280"/>
            <a:ext cx="6778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e3d2d"/>
                </a:solidFill>
                <a:latin typeface="Century Gothic"/>
              </a:rPr>
              <a:t>Wie war  unsere Stunde?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de-DE" sz="3600" spc="-1" strike="noStrike">
                <a:solidFill>
                  <a:srgbClr val="3e3d2d"/>
                </a:solidFill>
                <a:latin typeface="Century Gothic"/>
              </a:rPr>
              <a:t>- </a:t>
            </a:r>
            <a:r>
              <a:rPr b="0" i="1" lang="en-US" sz="36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urra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- Sehr gut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- Gut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e3d2d"/>
                </a:solidFill>
                <a:latin typeface="Century Gothic"/>
              </a:rPr>
              <a:t>- Nicht gut!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74056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042920" y="1483920"/>
            <a:ext cx="6778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ea022"/>
                </a:solidFill>
                <a:latin typeface="Century Gothic"/>
              </a:rPr>
              <a:t>Tschüss!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Picture 4" descr="https://img-fotki.yandex.ru/get/4108/marya-foygl.19/0_1afbc_966c521a_S"/>
          <p:cNvPicPr/>
          <p:nvPr/>
        </p:nvPicPr>
        <p:blipFill>
          <a:blip r:embed="rId1"/>
          <a:stretch/>
        </p:blipFill>
        <p:spPr>
          <a:xfrm>
            <a:off x="3132000" y="3427560"/>
            <a:ext cx="30956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324000" y="2228760"/>
            <a:ext cx="8712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lche Jahreszeit ist jetzt: Winter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ühling,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mer oder Herbst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st ..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1792440" y="3780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entury Gothic"/>
              </a:rPr>
              <a:t>Frühl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5435640" y="3780000"/>
            <a:ext cx="1671480" cy="2347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5581800" y="-11160"/>
            <a:ext cx="2070000" cy="207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3"/>
          <a:srcRect l="0" t="0" r="0" b="7803"/>
          <a:stretch/>
        </p:blipFill>
        <p:spPr>
          <a:xfrm>
            <a:off x="755640" y="225360"/>
            <a:ext cx="2344680" cy="1621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22366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"/>
          <p:cNvSpPr/>
          <p:nvPr/>
        </p:nvSpPr>
        <p:spPr>
          <a:xfrm>
            <a:off x="900000" y="1916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entury Gothic"/>
              </a:rPr>
              <a:t>«Alle Vögel sind schon da…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2028600" cy="2257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6183360" y="4076640"/>
            <a:ext cx="2276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3" descr=""/>
          <p:cNvPicPr/>
          <p:nvPr/>
        </p:nvPicPr>
        <p:blipFill>
          <a:blip r:embed="rId1"/>
          <a:stretch/>
        </p:blipFill>
        <p:spPr>
          <a:xfrm>
            <a:off x="3676680" y="749160"/>
            <a:ext cx="5022720" cy="117648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4"/>
          <p:cNvSpPr/>
          <p:nvPr/>
        </p:nvSpPr>
        <p:spPr>
          <a:xfrm>
            <a:off x="844200" y="765000"/>
            <a:ext cx="16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[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] 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480960" y="2492280"/>
            <a:ext cx="84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Alle Vögel sind schon da, alle Vögel, all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Welch ein Singen, Musiz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Pfeifen, Zwitschern, Tirilier'n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Frühling will nun einmarsch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entury Gothic"/>
              </a:rPr>
              <a:t>kommt mit Sang und Schall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6270480" y="4724280"/>
            <a:ext cx="15764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3" descr=""/>
          <p:cNvPicPr/>
          <p:nvPr/>
        </p:nvPicPr>
        <p:blipFill>
          <a:blip r:embed="rId1"/>
          <a:stretch/>
        </p:blipFill>
        <p:spPr>
          <a:xfrm>
            <a:off x="3676680" y="749160"/>
            <a:ext cx="5022720" cy="11764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4"/>
          <p:cNvSpPr/>
          <p:nvPr/>
        </p:nvSpPr>
        <p:spPr>
          <a:xfrm>
            <a:off x="844200" y="765000"/>
            <a:ext cx="16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[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de-DE" sz="8000" spc="-1" strike="noStrike">
                <a:solidFill>
                  <a:srgbClr val="000000"/>
                </a:solidFill>
                <a:latin typeface="Century Gothic"/>
              </a:rPr>
              <a:t>] 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480960" y="2492280"/>
            <a:ext cx="84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Vöge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d schon da, 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Vöge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ein Singen, Musiz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feifen, Zwitschern, Tiri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r'n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üh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wi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n einmarschier'n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mt mit Sang und Scha</a:t>
            </a:r>
            <a:r>
              <a:rPr b="1" lang="de-DE" sz="3200" spc="-1" strike="noStrike" u="sng">
                <a:solidFill>
                  <a:srgbClr val="fea022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6270480" y="4724280"/>
            <a:ext cx="15764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84000" y="1196640"/>
            <a:ext cx="7785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Wie ist das Wetter im Frühling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1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Ist es kalt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2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Ist es warm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3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Regnet es oft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4.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de-DE" sz="3600" spc="-1" strike="noStrike">
                <a:solidFill>
                  <a:srgbClr val="3e3d2d"/>
                </a:solidFill>
                <a:latin typeface="Century Gothic"/>
              </a:rPr>
              <a:t>Taut der Schnee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Объект 2" descr=""/>
          <p:cNvPicPr/>
          <p:nvPr/>
        </p:nvPicPr>
        <p:blipFill>
          <a:blip r:embed="rId1"/>
          <a:stretch/>
        </p:blipFill>
        <p:spPr>
          <a:xfrm>
            <a:off x="1195560" y="1420920"/>
            <a:ext cx="6778440" cy="1755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2195640" y="3454560"/>
            <a:ext cx="4267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entury Gothic"/>
              </a:rPr>
              <a:t>Was passt zusammen?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826920" y="1413000"/>
          <a:ext cx="7490160" cy="5048280"/>
        </p:xfrm>
        <a:graphic>
          <a:graphicData uri="http://schemas.openxmlformats.org/drawingml/2006/table">
            <a:tbl>
              <a:tblPr/>
              <a:tblGrid>
                <a:gridCol w="4105440"/>
                <a:gridCol w="3384720"/>
              </a:tblGrid>
              <a:tr h="504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das Gesi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die Au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die 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der M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der Kop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die Oh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die Ha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bl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dunk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l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 ku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уш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вол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гл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го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р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корот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дли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т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ё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60" name="AutoShape 3"/>
          <p:cNvCxnSpPr/>
          <p:nvPr/>
        </p:nvCxnSpPr>
        <p:spPr>
          <a:xfrm flipV="1">
            <a:off x="2411280" y="1627920"/>
            <a:ext cx="244872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755640" y="2636640"/>
            <a:ext cx="7704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L/b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S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76</a:t>
            </a:r>
            <a:r>
              <a:rPr b="1" lang="de-DE" sz="4000" spc="-1" strike="noStrike">
                <a:solidFill>
                  <a:srgbClr val="3e3d2d"/>
                </a:solidFill>
                <a:latin typeface="Century Gothic"/>
              </a:rPr>
              <a:t> -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 выучить слова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A/b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1" lang="en-US" sz="4000" spc="-1" strike="noStrike">
                <a:solidFill>
                  <a:srgbClr val="3e3d2d"/>
                </a:solidFill>
                <a:latin typeface="Century Gothic"/>
              </a:rPr>
              <a:t>S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47</a:t>
            </a:r>
            <a:r>
              <a:rPr b="1" lang="de-DE" sz="40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de-DE" sz="4000" spc="-1" strike="noStrike">
                <a:solidFill>
                  <a:srgbClr val="3e3d2d"/>
                </a:solidFill>
                <a:latin typeface="Century Gothic"/>
              </a:rPr>
              <a:t>Üb</a:t>
            </a:r>
            <a:r>
              <a:rPr b="1" lang="ru-RU" sz="4000" spc="-1" strike="noStrike">
                <a:solidFill>
                  <a:srgbClr val="3e3d2d"/>
                </a:solidFill>
                <a:latin typeface="Century Gothic"/>
              </a:rPr>
              <a:t>. 2, 3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1361520" y="1197000"/>
            <a:ext cx="38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entury Gothic"/>
              </a:rPr>
              <a:t>die Hausaufgaben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7:50:17Z</dcterms:created>
  <dc:creator>Ванюта</dc:creator>
  <dc:description/>
  <dc:language>en-US</dc:language>
  <cp:lastModifiedBy>Ванюта</cp:lastModifiedBy>
  <dcterms:modified xsi:type="dcterms:W3CDTF">2016-03-15T17:30:48Z</dcterms:modified>
  <cp:revision>11</cp:revision>
  <dc:subject/>
  <dc:title>Презентация PowerPoint</dc:title>
</cp:coreProperties>
</file>