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3A0-B8EC-4AC4-AC12-8140FAFC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F58-26F1-4CF0-BF27-B7960480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692-19AE-4933-BE92-2A447D61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F75-7EA9-4F9B-82A7-5E455C34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345-9F1D-4B05-811B-58379709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0EB-9D90-408F-A31B-D6173F18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E32-AC0B-48AD-9CB6-9C86898F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126-3D36-4D0B-9683-3A8399B7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8EA-064D-43B8-9E3F-E368FE12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94C-B16B-407B-8F68-43FD27E4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A19-407A-49D2-8696-6BE19AFD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450-4081-4BD6-8042-7B83B17E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234A-6595-4DF9-89B9-475D180C80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0" y="178920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учший способ изучить что-либо – это открыть самом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http://www.ra-zebra.ru/content/book.php?vsdf=dbridec/voprosy-k-taras-bulba-81244.jpg"/>
          <p:cNvPicPr/>
          <p:nvPr/>
        </p:nvPicPr>
        <p:blipFill>
          <a:blip r:embed="rId2"/>
          <a:stretch/>
        </p:blipFill>
        <p:spPr>
          <a:xfrm>
            <a:off x="826920" y="4005360"/>
            <a:ext cx="2016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3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632520" y="1413000"/>
            <a:ext cx="49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тимис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 Я верю в то, что….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628560" y="3716280"/>
            <a:ext cx="39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ссимис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 Я не уверен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www.playing-field.ru/img/2015/052123/5929660"/>
          <p:cNvPicPr/>
          <p:nvPr/>
        </p:nvPicPr>
        <p:blipFill>
          <a:blip r:embed="rId2"/>
          <a:stretch/>
        </p:blipFill>
        <p:spPr>
          <a:xfrm>
            <a:off x="6659640" y="260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www.playing-field.ru/img/2015/052216/4205995"/>
          <p:cNvPicPr/>
          <p:nvPr/>
        </p:nvPicPr>
        <p:blipFill>
          <a:blip r:embed="rId3"/>
          <a:stretch/>
        </p:blipFill>
        <p:spPr>
          <a:xfrm>
            <a:off x="5724360" y="3933720"/>
            <a:ext cx="259272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558720" y="260280"/>
            <a:ext cx="3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ст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324000" y="1476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радос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24000" y="235080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24000" y="32144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желате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407880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-252360" y="49431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ерд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50920" y="5806800"/>
            <a:ext cx="29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5164920" y="260280"/>
            <a:ext cx="315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ессимист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859280" y="14864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859280" y="22788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859280" y="31431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ур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859280" y="40068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859280" y="4943160"/>
            <a:ext cx="31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зли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859280" y="5734800"/>
            <a:ext cx="31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л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179280" y="8424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х и ах, сделай свой выб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1403280" y="328464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http://img-fotki.yandex.ru/get/6306/113422508.1/0_7b010_6ed08f37_L.jpg"/>
          <p:cNvPicPr/>
          <p:nvPr/>
        </p:nvPicPr>
        <p:blipFill>
          <a:blip r:embed="rId2"/>
          <a:stretch/>
        </p:blipFill>
        <p:spPr>
          <a:xfrm>
            <a:off x="395280" y="4149720"/>
            <a:ext cx="2089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395280" y="994680"/>
            <a:ext cx="8424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«Я тучка, тучка, тучка, а вовсе не медведь.  ___, как приятно тучке по небу лететь!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___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и трудная эта работа из болота тащить бегемо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___, как красив зимний лес в снежном уборе!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, и от меня она мало хорошего видела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324000" y="1628640"/>
            <a:ext cx="863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1403280" y="2492280"/>
            <a:ext cx="865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1258920" y="3860640"/>
            <a:ext cx="865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1187280" y="5229360"/>
            <a:ext cx="863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4"/>
          <p:cNvSpPr/>
          <p:nvPr/>
        </p:nvSpPr>
        <p:spPr>
          <a:xfrm>
            <a:off x="1625040" y="1052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Ромашки трудолюб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1"/>
          <p:cNvGrpSpPr/>
          <p:nvPr/>
        </p:nvGrpSpPr>
        <p:grpSpPr>
          <a:xfrm>
            <a:off x="3099600" y="2528280"/>
            <a:ext cx="3231000" cy="3032280"/>
            <a:chOff x="3099600" y="2528280"/>
            <a:chExt cx="3231000" cy="3032280"/>
          </a:xfrm>
        </p:grpSpPr>
        <p:sp>
          <p:nvSpPr>
            <p:cNvPr id="82" name="Oval 2"/>
            <p:cNvSpPr/>
            <p:nvPr/>
          </p:nvSpPr>
          <p:spPr>
            <a:xfrm>
              <a:off x="4381920" y="3758040"/>
              <a:ext cx="63252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3"/>
            <p:cNvSpPr/>
            <p:nvPr/>
          </p:nvSpPr>
          <p:spPr>
            <a:xfrm rot="19574400">
              <a:off x="4710240" y="3200040"/>
              <a:ext cx="1285920" cy="445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4"/>
            <p:cNvSpPr/>
            <p:nvPr/>
          </p:nvSpPr>
          <p:spPr>
            <a:xfrm rot="637200">
              <a:off x="5014440" y="4038840"/>
              <a:ext cx="1285920" cy="445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val 5"/>
            <p:cNvSpPr/>
            <p:nvPr/>
          </p:nvSpPr>
          <p:spPr>
            <a:xfrm rot="15422400">
              <a:off x="3798000" y="2944440"/>
              <a:ext cx="1226520" cy="466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6"/>
            <p:cNvSpPr/>
            <p:nvPr/>
          </p:nvSpPr>
          <p:spPr>
            <a:xfrm rot="16200000">
              <a:off x="4115520" y="4713840"/>
              <a:ext cx="1226520" cy="466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val 7"/>
            <p:cNvSpPr/>
            <p:nvPr/>
          </p:nvSpPr>
          <p:spPr>
            <a:xfrm rot="726000">
              <a:off x="3131640" y="3593520"/>
              <a:ext cx="1285920" cy="445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8"/>
            <p:cNvSpPr/>
            <p:nvPr/>
          </p:nvSpPr>
          <p:spPr>
            <a:xfrm rot="19574400">
              <a:off x="3288240" y="4334400"/>
              <a:ext cx="1285920" cy="445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826920" y="209160"/>
            <a:ext cx="69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Ах!» - все дружно, быстро встал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Ух!» - руками помах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! Направо повернул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а! Согнулись, разогнулис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и – налево повернулис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овь согнулись, разогнул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Эх!» - в ладошки хлопнул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жками притопну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убоко теперь вздохну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х!»  и классно отдохну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ttp://xn--80aaleqhbkbz7ak6l.xn--p1ai/uploads/images/d/e/t/detskie_pesni_zarjadka.jpg"/>
          <p:cNvPicPr/>
          <p:nvPr/>
        </p:nvPicPr>
        <p:blipFill>
          <a:blip r:embed="rId2"/>
          <a:stretch/>
        </p:blipFill>
        <p:spPr>
          <a:xfrm>
            <a:off x="5651640" y="4292640"/>
            <a:ext cx="32223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1258920" y="901080"/>
            <a:ext cx="6842160" cy="448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многогранен, многоцветен,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ю добр, жесток подчас,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щедр и скуп, богат и беден: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глядись в него - он весь для нас!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латырц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0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324000" y="571320"/>
            <a:ext cx="784836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ы набрал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 4 до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о Вы неисправимый оптимист. Если даже неприятности преследуют Вас буквально по пятам, вы считаете их случайными и верите в свою удачу. 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ы набрал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 13 до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ы привыкли надеяться только на себя. В удачу Вы не верите, и строя планы, принимаете во внимание только несчастливые случайности. Но, пожалуй, вы чересчур пессимистично смотрите на жиз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1908000" y="159480"/>
            <a:ext cx="50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977760" y="549360"/>
            <a:ext cx="93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П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6440400" y="620640"/>
            <a:ext cx="9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О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1796040"/>
            <a:ext cx="485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ирайте оптимистов в друз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озьмите за привычку улыбаться ча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лай все воврем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ейс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авьте новые ц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859280" y="1620000"/>
            <a:ext cx="46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аться с оптимист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ый день – новый успе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думать о своей неуда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гать друг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тоит обижатьс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11"/>
          <p:cNvSpPr/>
          <p:nvPr/>
        </p:nvSpPr>
        <p:spPr>
          <a:xfrm>
            <a:off x="4716360" y="1700280"/>
            <a:ext cx="0" cy="5157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1T12:48:09Z</dcterms:created>
  <dc:creator>123</dc:creator>
  <dc:description/>
  <dc:language>en-US</dc:language>
  <cp:lastModifiedBy>123</cp:lastModifiedBy>
  <dcterms:modified xsi:type="dcterms:W3CDTF">2016-04-21T13:50:00Z</dcterms:modified>
  <cp:revision>7</cp:revision>
  <dc:subject/>
  <dc:title>Слайд 1</dc:title>
</cp:coreProperties>
</file>