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E9B9-4244-42BE-8F32-42FECAF91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48F7-9ABD-4EF7-8E06-91323ABF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A317-0BD5-4596-B1B3-900DF679F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53B6-A680-4860-A0C1-C72FAA882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74B9-7037-4033-9158-7D134E7F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D31B-E253-42FF-B3EE-15BC429B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25E3-6EE0-4B93-8D0B-1E8C509E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5EC5-A008-4CB8-B594-C662B227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09E9-F89A-4AAD-B73F-A5C8C66C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DEC5-EB1F-4F40-9FEC-8057E3C3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052E-EBC0-4E3A-9F12-303134F1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454B-7678-4855-8F14-F0B162C7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F357-6D4A-4A31-B49B-A19616D11A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boombob.ru/img/picture/May/19/fa5c0faad7f7550afd5f267609d3b9d7/1.jpg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0" y="1789200"/>
            <a:ext cx="88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учший способ изучить что-либо – это открыть самому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http://www.ra-zebra.ru/content/book.php?vsdf=dbridec/voprosy-k-taras-bulba-81244.jpg"/>
          <p:cNvPicPr/>
          <p:nvPr/>
        </p:nvPicPr>
        <p:blipFill>
          <a:blip r:embed="rId2"/>
          <a:stretch/>
        </p:blipFill>
        <p:spPr>
          <a:xfrm>
            <a:off x="826920" y="4005360"/>
            <a:ext cx="201636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3" name="Picture 2" descr="http://boombob.ru/img/picture/May/19/fa5c0faad7f7550afd5f267609d3b9d7/1.jpg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5"/>
          <p:cNvSpPr/>
          <p:nvPr/>
        </p:nvSpPr>
        <p:spPr>
          <a:xfrm>
            <a:off x="632520" y="1413000"/>
            <a:ext cx="493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птимис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 Я верю в то, что….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6"/>
          <p:cNvSpPr/>
          <p:nvPr/>
        </p:nvSpPr>
        <p:spPr>
          <a:xfrm>
            <a:off x="628560" y="3716280"/>
            <a:ext cx="39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ессимис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 Я не уверен…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http://www.playing-field.ru/img/2015/052123/5929660"/>
          <p:cNvPicPr/>
          <p:nvPr/>
        </p:nvPicPr>
        <p:blipFill>
          <a:blip r:embed="rId2"/>
          <a:stretch/>
        </p:blipFill>
        <p:spPr>
          <a:xfrm>
            <a:off x="6659640" y="260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http://www.playing-field.ru/img/2015/052216/4205995"/>
          <p:cNvPicPr/>
          <p:nvPr/>
        </p:nvPicPr>
        <p:blipFill>
          <a:blip r:embed="rId3"/>
          <a:stretch/>
        </p:blipFill>
        <p:spPr>
          <a:xfrm>
            <a:off x="5724360" y="3933720"/>
            <a:ext cx="2592720" cy="20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8" name="Picture 2" descr="http://boombob.ru/img/picture/May/19/fa5c0faad7f7550afd5f267609d3b9d7/1.jpg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558720" y="260280"/>
            <a:ext cx="319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ист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324000" y="1476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ерадост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324000" y="2350800"/>
            <a:ext cx="36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ел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24000" y="321444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желате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24000" y="4078800"/>
            <a:ext cx="43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ч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-252360" y="49431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ерд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250920" y="5806800"/>
            <a:ext cx="29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курат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11"/>
          <p:cNvSpPr/>
          <p:nvPr/>
        </p:nvSpPr>
        <p:spPr>
          <a:xfrm>
            <a:off x="5164920" y="260280"/>
            <a:ext cx="315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Пессимист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4859280" y="148644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ив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4859280" y="2278800"/>
            <a:ext cx="40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ст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4859280" y="31431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мур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4859280" y="400680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во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4859280" y="4943160"/>
            <a:ext cx="31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язлив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4859280" y="5734800"/>
            <a:ext cx="31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ял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2" descr="http://boombob.ru/img/picture/May/19/fa5c0faad7f7550afd5f267609d3b9d7/1.jpg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"/>
          <p:cNvSpPr/>
          <p:nvPr/>
        </p:nvSpPr>
        <p:spPr>
          <a:xfrm>
            <a:off x="179280" y="84240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а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Ох и ах, сделай свой выбор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5"/>
          <p:cNvSpPr/>
          <p:nvPr/>
        </p:nvSpPr>
        <p:spPr>
          <a:xfrm>
            <a:off x="1403280" y="328464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рать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http://img-fotki.yandex.ru/get/6306/113422508.1/0_7b010_6ed08f37_L.jpg"/>
          <p:cNvPicPr/>
          <p:nvPr/>
        </p:nvPicPr>
        <p:blipFill>
          <a:blip r:embed="rId2"/>
          <a:stretch/>
        </p:blipFill>
        <p:spPr>
          <a:xfrm>
            <a:off x="395280" y="4149720"/>
            <a:ext cx="208908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2" descr="http://boombob.ru/img/picture/May/19/fa5c0faad7f7550afd5f267609d3b9d7/1.jpg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"/>
          <p:cNvSpPr/>
          <p:nvPr/>
        </p:nvSpPr>
        <p:spPr>
          <a:xfrm>
            <a:off x="395280" y="994680"/>
            <a:ext cx="84247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«Я тучка, тучка, тучка, а вовсе не медведь.  ___, как приятно тучке по небу лететь!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___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и трудная эта работа из болота тащить бегемо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___, как красив зимний лес в снежном уборе!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___, и от меня она мало хорошего видела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324000" y="1628640"/>
            <a:ext cx="86328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Ах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1403280" y="2492280"/>
            <a:ext cx="86508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х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1258920" y="3860640"/>
            <a:ext cx="86508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Ах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9"/>
          <p:cNvSpPr/>
          <p:nvPr/>
        </p:nvSpPr>
        <p:spPr>
          <a:xfrm>
            <a:off x="1187280" y="5229360"/>
            <a:ext cx="86364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х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9" name="Picture 2" descr="http://boombob.ru/img/picture/May/19/fa5c0faad7f7550afd5f267609d3b9d7/1.jpg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4"/>
          <p:cNvSpPr/>
          <p:nvPr/>
        </p:nvSpPr>
        <p:spPr>
          <a:xfrm>
            <a:off x="1625040" y="1052640"/>
            <a:ext cx="620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Ромашки трудолюб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Group 1"/>
          <p:cNvGrpSpPr/>
          <p:nvPr/>
        </p:nvGrpSpPr>
        <p:grpSpPr>
          <a:xfrm>
            <a:off x="3099600" y="2528280"/>
            <a:ext cx="3231000" cy="3032280"/>
            <a:chOff x="3099600" y="2528280"/>
            <a:chExt cx="3231000" cy="3032280"/>
          </a:xfrm>
        </p:grpSpPr>
        <p:sp>
          <p:nvSpPr>
            <p:cNvPr id="82" name="Oval 2"/>
            <p:cNvSpPr/>
            <p:nvPr/>
          </p:nvSpPr>
          <p:spPr>
            <a:xfrm>
              <a:off x="4381920" y="3758040"/>
              <a:ext cx="632520" cy="57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Oval 3"/>
            <p:cNvSpPr/>
            <p:nvPr/>
          </p:nvSpPr>
          <p:spPr>
            <a:xfrm rot="19574400">
              <a:off x="4710240" y="3200040"/>
              <a:ext cx="1285920" cy="445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Oval 4"/>
            <p:cNvSpPr/>
            <p:nvPr/>
          </p:nvSpPr>
          <p:spPr>
            <a:xfrm rot="637200">
              <a:off x="5014440" y="4038840"/>
              <a:ext cx="1285920" cy="445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Oval 5"/>
            <p:cNvSpPr/>
            <p:nvPr/>
          </p:nvSpPr>
          <p:spPr>
            <a:xfrm rot="15422400">
              <a:off x="3798000" y="2944440"/>
              <a:ext cx="1226520" cy="466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Oval 6"/>
            <p:cNvSpPr/>
            <p:nvPr/>
          </p:nvSpPr>
          <p:spPr>
            <a:xfrm rot="16200000">
              <a:off x="4115520" y="4713840"/>
              <a:ext cx="1226520" cy="466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Oval 7"/>
            <p:cNvSpPr/>
            <p:nvPr/>
          </p:nvSpPr>
          <p:spPr>
            <a:xfrm rot="726000">
              <a:off x="3131640" y="3593520"/>
              <a:ext cx="1285920" cy="445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Oval 8"/>
            <p:cNvSpPr/>
            <p:nvPr/>
          </p:nvSpPr>
          <p:spPr>
            <a:xfrm rot="19574400">
              <a:off x="3288240" y="4334400"/>
              <a:ext cx="1285920" cy="445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1" name="Picture 2" descr="http://boombob.ru/img/picture/May/19/fa5c0faad7f7550afd5f267609d3b9d7/1.jpg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"/>
          <p:cNvSpPr/>
          <p:nvPr/>
        </p:nvSpPr>
        <p:spPr>
          <a:xfrm>
            <a:off x="826920" y="209160"/>
            <a:ext cx="6913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Ах!» - все дружно, быстро встал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«Ух!» - руками помаха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! Направо повернулис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а! Согнулись, разогнулись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и – налево повернулис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овь согнулись, разогнулис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«Эх!» - в ладошки хлопнул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жками притопну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лубоко теперь вздохну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Ох!»  и классно отдохнул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http://xn--80aaleqhbkbz7ak6l.xn--p1ai/uploads/images/d/e/t/detskie_pesni_zarjadka.jpg"/>
          <p:cNvPicPr/>
          <p:nvPr/>
        </p:nvPicPr>
        <p:blipFill>
          <a:blip r:embed="rId2"/>
          <a:stretch/>
        </p:blipFill>
        <p:spPr>
          <a:xfrm>
            <a:off x="5651640" y="4292640"/>
            <a:ext cx="32223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6" name="Picture 2" descr="http://boombob.ru/img/picture/May/19/fa5c0faad7f7550afd5f267609d3b9d7/1.jpg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"/>
          <p:cNvSpPr/>
          <p:nvPr/>
        </p:nvSpPr>
        <p:spPr>
          <a:xfrm>
            <a:off x="1258920" y="901080"/>
            <a:ext cx="6842160" cy="448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 многогранен, многоцветен, 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ю добр, жесток подчас, 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щедр и скуп, богат и беден: 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глядись в него - он весь для нас! 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Алатырц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0" name="Picture 2" descr="http://boombob.ru/img/picture/May/19/fa5c0faad7f7550afd5f267609d3b9d7/1.jpg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"/>
          <p:cNvSpPr/>
          <p:nvPr/>
        </p:nvSpPr>
        <p:spPr>
          <a:xfrm>
            <a:off x="324000" y="571320"/>
            <a:ext cx="7848360" cy="47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зультаты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вы набрали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т 4 до1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, то Вы неисправимый оптимист. Если даже неприятности преследуют Вас буквально по пятам, вы считаете их случайными и верите в свою удачу. 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вы набрали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т 13 до 2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. Вы привыкли надеяться только на себя. В удачу Вы не верите, и строя планы, принимаете во внимание только несчастливые случайности. Но, пожалуй, вы чересчур пессимистично смотрите на жизн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4" name="Picture 2" descr="http://boombob.ru/img/picture/May/19/fa5c0faad7f7550afd5f267609d3b9d7/1.jpg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1908000" y="159480"/>
            <a:ext cx="50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авил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6"/>
          <p:cNvSpPr/>
          <p:nvPr/>
        </p:nvSpPr>
        <p:spPr>
          <a:xfrm>
            <a:off x="977760" y="549360"/>
            <a:ext cx="93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П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7"/>
          <p:cNvSpPr/>
          <p:nvPr/>
        </p:nvSpPr>
        <p:spPr>
          <a:xfrm>
            <a:off x="6440400" y="620640"/>
            <a:ext cx="97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О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0" y="1796040"/>
            <a:ext cx="4859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бирайте оптимистов в друзь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Возьмите за привычку улыбаться чащ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лай все воврем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мейся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тавьте новые це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4859280" y="1620000"/>
            <a:ext cx="460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щаться с оптимист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ый день – новый успе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думать о своей неудач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могать други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стоит обижаться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ая соединительная линия 11"/>
          <p:cNvSpPr/>
          <p:nvPr/>
        </p:nvSpPr>
        <p:spPr>
          <a:xfrm>
            <a:off x="4716360" y="1700280"/>
            <a:ext cx="0" cy="5157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1T12:48:09Z</dcterms:created>
  <dc:creator>123</dc:creator>
  <dc:description/>
  <dc:language>en-US</dc:language>
  <cp:lastModifiedBy>123</cp:lastModifiedBy>
  <dcterms:modified xsi:type="dcterms:W3CDTF">2016-04-21T13:50:00Z</dcterms:modified>
  <cp:revision>7</cp:revision>
  <dc:subject/>
  <dc:title>Слайд 1</dc:title>
</cp:coreProperties>
</file>