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341-6433-41B0-99D4-DECD2700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6ED-EF4A-44D5-9AE5-D04A0B9F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0F710-74C0-4BC4-A163-DC5A2646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C23D-9549-4407-A472-BE545FFA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39308-A916-4CA1-AD1F-3619870D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21BA-0ADC-49BE-958B-F545B7C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5F40E-F179-4005-AF4E-6C9410A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9B2C6-5824-4C30-BE1B-9B55459C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129F6-9F63-4B02-8E04-858C9E17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18CB9-A2B8-4EFE-8B79-6981EBEC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680B-CA9D-44BB-AA35-5D89088C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E4A19-DDA3-41C2-BED9-BADAC844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CE7-C633-4B33-A298-5DB051A6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5ECA8-64FB-4DAC-B32A-F0C7A14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5767B-92E2-4437-A0B1-4814C06B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F0C34-E56F-4F87-8602-BE78EDBE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12EA2-7B62-4EAB-930B-E69C7F64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A317-EDFB-492E-8646-203E123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95695-6C5A-4D5D-9AC7-202F816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B54B1-86E1-41F8-8A95-CDC7FB0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D0D30-7C83-4B0E-904C-B19129B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6F0CB-0447-4732-9710-1BAECC9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7D5A8-D76A-4DE0-9C7A-9E0FCE88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87F-FBF0-4E22-BC5F-9EB1555D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53510-F930-44E3-B1D4-90EC07D4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A0C9-405E-4561-A6FF-932001C5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E196D-80F2-4662-9949-484278E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A34A0-BC43-4647-8CE5-FF861039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65375-ACC7-4CFD-B100-C11F2FC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6DCFD-D2D9-4A9B-A8D5-E940AA2B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F4AEA-55E6-4A6A-89C8-6DAB6DB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57030-7CB3-42FE-BBA3-DE0B244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1351F-9E04-4528-8CC1-78C7373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7618-0365-4DF0-B75F-A66042E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F71A-DE55-4737-B656-9FC1BF0F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E77E-1A7A-4603-A255-F160EDF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63AD-8E8A-4C57-98A0-D7EDB21B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B1B8-A381-4AE1-B8FB-AE58E0D8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1888F-4B31-46D5-9988-E9D77EB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5BB01-ABAE-43AB-966A-0EB7FCA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DD423-463F-411A-924F-70A0970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B8147-46DC-40CF-AF25-D593282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CF70B-7FF7-4F34-A667-46BA2BF7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6A7D-0E9A-486B-8108-6FC749E2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909DE-1BCD-4B71-8F82-4C422F90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422-E1BD-406A-BDC9-6523E3D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14DA0-1675-450F-B65B-5BB998F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AB39D-B95D-4B87-B4CF-42DB0CB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213BA-8DE0-44E9-BC62-73DD272B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0A4D2-917A-4F84-B62F-578A9A82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B7BE0-B846-4454-85D2-60C7E4E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96BF-6D9B-4E90-8834-C3222DE8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CDE2-9279-4F3B-A52E-9A6D7C71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45C5-CEA6-4BE2-A52C-FEBC9CBD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9611-A0AA-462B-8BA9-C41092A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9C3C-F3B4-4181-9BAC-F0ADA1F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46C-FC6B-48EF-80B3-603CDA82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CF76-7A98-44B8-A709-8B26ECE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52A4-2A48-4362-A50B-4AB9615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1969-7373-4E87-8405-A8677284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98BF-4026-4F69-8FA3-030EA386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062B-A913-42E7-990F-E7582082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103A-8608-481A-90A4-E7124165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E253-9F1B-4DED-9EFA-D6356A8F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AB0C-B357-43B9-913A-D2E3E5A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49A6-B91F-42C8-A150-C2CA9CA5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F6A1-B6F9-43D6-AC88-0EFC414C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383-8B00-4647-93AE-581E4915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9E7E2-56BD-4970-8C2C-EDA2EFA5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A0DC-E634-4ED6-A997-8A121A5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254A-6E8D-49DD-8901-9D5243E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917D-58BF-4C08-84ED-AFB6399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035F-BF1D-436D-ACBC-41C7012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B69D-08EF-4B4B-A6F0-B74243DD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4690-3B97-4798-AE8A-705CA201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6A09-44F9-4CA9-B08D-48F60A4F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78CA-BBEF-4257-B8F5-4508E3CC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37CF-5AE1-4A48-92A0-0AA3F353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B63-FF8C-43F1-9D76-E5D462C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2048-9D28-4E7A-876D-912C447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88A3-85F6-4D88-AD36-A01EABC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A8A4-B680-47E2-8352-3470420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D555-EDC3-4DC2-B68A-8A2C89E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63BA-54F9-4D0D-AEB9-B07E67F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3786-A159-4910-AE1E-EDF52AE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990F-C8A4-4E26-BCC4-D6DF13D6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F91D-CF1B-4628-A1CD-C615B9D1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AF53-9E04-4A22-AE45-5A6E1C70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C21E-B805-4177-9993-10090795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393-EB7B-4D6E-AC5D-0F1F8334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BC6E1-D992-406C-895E-C24C739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ED6A-3B45-400F-AA09-5D7CC74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6F73-8EAB-4ED1-9B26-3555080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DCE37-A0C3-449B-95EB-7525CA96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9C55-95D5-4D84-B87B-8AC70EF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0030-4D59-4765-98A9-3E39DF51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D8F8-224D-4516-B322-04B1A25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CECC-DEE4-42CE-8A41-084AFEC8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098D-842A-413C-93C5-7B76DCEF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55B9-AA0B-40B9-8533-F12A1CFA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5C-FDE5-4166-B573-8B2F5AB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74E04-F449-4EEE-AE5A-D1FBFFEC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1FC6-FDC6-4543-917D-92A12437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72AA-F134-47E2-9DE5-51B7AB03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AA31F-1F0E-4F59-A484-8D981B1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8C50B-AE9E-43B0-83EF-DED4A70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E27C-80FD-468A-BEC2-E1C02902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7662-4F57-4ACB-983B-7044A84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AAE7-1F65-4FDA-B7CB-97C158D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1624-A6B3-4796-A2F8-DBE7B7B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C828D-6A58-447D-89EF-2DD3D03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516-74B4-4FA8-9672-C45B41E4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2237-2E08-4513-94DA-58E5505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755B-209F-4A41-BA61-99A64C00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E6388-2970-430E-B0D1-75E8E7E7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46D8-7233-41ED-82A4-FB374BE6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CB4A-947E-45EE-94A3-69E8ADC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EF31-8966-4E2B-9354-AE08A51A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600C-9FEF-49B0-9320-86A4D7F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95BD-A5B4-43E7-889D-144CC0D7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7721-8E9E-4961-9CD7-4601734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CA60-4839-40D4-BF9F-10C668AD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F6B-CB3E-43CF-9DBB-3490AFE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DB2D-47AA-4051-B8DA-4965450A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DB3F5-418B-48BA-A879-E11EF69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3A381-7661-4A3E-BA52-6F235FD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3AE7-F2C3-485B-B18E-C162DBED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0E99-AF56-4D80-9CC5-386087BC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6E04-039F-4E5F-8DE1-B6E4357F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E9B8E-2071-40C2-BE69-00CB62C3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5986F-48B4-45BC-869F-7C369FB6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59D0E-281C-44B0-8CA6-186F51AB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001E-1000-4814-93FF-9CD61875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3DA-3D79-4029-95A9-7EB2943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4E39-7CB7-45B1-962B-1B94D11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AE4E-8E96-4505-B0FA-2A6A749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00AE5-3556-4848-AABD-EAFC5C8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723F-15A3-4DE5-AA56-9BDBE4E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1EC2-7363-49B4-A37D-4198DC85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B33E8-5C38-4F45-B504-EBE8DE3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5603-6FE2-4F04-8416-25FE124D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92D5C-D6D4-453A-89AC-E36CF3B7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F4D5C-AFA1-4513-A5EA-942D262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FC770-C0FD-48F8-BA25-1C82BA4C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946D-D1E0-4A1D-B9DF-779817B1B9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2382840"/>
            <a:ext cx="12192120" cy="4475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903E-66A4-412A-8F46-57C6508831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zaazcrmdynamics.blob.core.windows.net/2012-05-29/images/header-footer/background-gradient-header.jpg"/>
          <p:cNvPicPr/>
          <p:nvPr/>
        </p:nvPicPr>
        <p:blipFill>
          <a:blip r:embed="rId2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ED65-4863-40B3-B1B7-F9492FA65A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http://zaazcrmdynamics.blob.core.windows.net/2012-05-29/images/header-footer/background-gradient-header.jpg"/>
          <p:cNvPicPr/>
          <p:nvPr/>
        </p:nvPicPr>
        <p:blipFill>
          <a:blip r:embed="rId2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35C-ACF2-406D-8F23-DCAEEDBE70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весенняя капель\water-waves-wallpaper-waves-abstract-site-design-header-2560x1600-HD-63783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5029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5057-1A02-4D0A-BBDF-D50416DAAA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User\Desktop\весенняя капель\water-waves-wallpaper-waves-abstract-site-design-header-2560x1600-HD-637831.jpg"/>
          <p:cNvPicPr/>
          <p:nvPr/>
        </p:nvPicPr>
        <p:blipFill>
          <a:blip r:embed="rId2"/>
          <a:stretch/>
        </p:blipFill>
        <p:spPr>
          <a:xfrm>
            <a:off x="0" y="0"/>
            <a:ext cx="3921120" cy="53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ser\Desktop\весенняя капель\water-waves-wallpaper-waves-abstract-site-design-header-2560x1600-HD-637831.jpg"/>
          <p:cNvPicPr/>
          <p:nvPr/>
        </p:nvPicPr>
        <p:blipFill>
          <a:blip r:embed="rId3"/>
          <a:stretch/>
        </p:blipFill>
        <p:spPr>
          <a:xfrm>
            <a:off x="7620120" y="6165720"/>
            <a:ext cx="4572000" cy="692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zaazcrmdynamics.blob.core.windows.net/2012-05-29/images/header-footer/background-gradient-header.jpg"/>
          <p:cNvPicPr/>
          <p:nvPr/>
        </p:nvPicPr>
        <p:blipFill>
          <a:blip r:embed="rId4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3A55-2F5B-4846-B092-BC8FB3573B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F99C-1929-4E55-A4CA-9DFC0ECFC1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0"/>
            <a:ext cx="18702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57A-07E3-499E-AA3D-FBB97359F6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10585440" y="0"/>
            <a:ext cx="16066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B93-06BA-40DC-9B9C-DAAC26E51D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User\Desktop\весенняя капель\water-waves-wallpaper-waves-abstract-site-design-header-2560x1600-HD-637831.jpg"/>
          <p:cNvPicPr/>
          <p:nvPr/>
        </p:nvPicPr>
        <p:blipFill>
          <a:blip r:embed="rId2"/>
          <a:stretch/>
        </p:blipFill>
        <p:spPr>
          <a:xfrm>
            <a:off x="0" y="0"/>
            <a:ext cx="3921120" cy="53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User\Desktop\весенняя капель\water-waves-wallpaper-waves-abstract-site-design-header-2560x1600-HD-637831.jpg"/>
          <p:cNvPicPr/>
          <p:nvPr/>
        </p:nvPicPr>
        <p:blipFill>
          <a:blip r:embed="rId3"/>
          <a:stretch/>
        </p:blipFill>
        <p:spPr>
          <a:xfrm>
            <a:off x="7620120" y="6165720"/>
            <a:ext cx="4572000" cy="692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zaazcrmdynamics.blob.core.windows.net/2012-05-29/images/header-footer/background-gradient-header.jpg"/>
          <p:cNvPicPr/>
          <p:nvPr/>
        </p:nvPicPr>
        <p:blipFill>
          <a:blip r:embed="rId4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E36-3F0B-4B9B-AEE1-2FA811547F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0"/>
            <a:ext cx="9414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C:\Users\User\Desktop\весенняя капель\water-waves-wallpaper-waves-abstract-site-design-header-2560x1600-HD-637831.jpg"/>
          <p:cNvPicPr/>
          <p:nvPr/>
        </p:nvPicPr>
        <p:blipFill>
          <a:blip r:embed="rId3"/>
          <a:stretch/>
        </p:blipFill>
        <p:spPr>
          <a:xfrm>
            <a:off x="7994520" y="0"/>
            <a:ext cx="4197600" cy="53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ttp://zaazcrmdynamics.blob.core.windows.net/2012-05-29/images/header-footer/background-gradient-header.jpg"/>
          <p:cNvPicPr/>
          <p:nvPr/>
        </p:nvPicPr>
        <p:blipFill>
          <a:blip r:embed="rId4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C19-9F04-47BE-9B19-33B18E67FC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User\Desktop\весенняя капель\water-waves-wallpaper-waves-abstract-site-design-header-2560x1600-HD-637831.png"/>
          <p:cNvPicPr/>
          <p:nvPr/>
        </p:nvPicPr>
        <p:blipFill>
          <a:blip r:embed="rId2"/>
          <a:stretch/>
        </p:blipFill>
        <p:spPr>
          <a:xfrm>
            <a:off x="0" y="4184640"/>
            <a:ext cx="12192120" cy="2673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ttp://zaazcrmdynamics.blob.core.windows.net/2012-05-29/images/header-footer/background-gradient-header.jpg"/>
          <p:cNvPicPr/>
          <p:nvPr/>
        </p:nvPicPr>
        <p:blipFill>
          <a:blip r:embed="rId3"/>
          <a:stretch/>
        </p:blipFill>
        <p:spPr>
          <a:xfrm>
            <a:off x="-19080" y="-19080"/>
            <a:ext cx="12223800" cy="68961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597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DEB3-8001-4DF1-91FE-B5F137BE54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4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35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8.xml"/><Relationship Id="rId17" Type="http://schemas.openxmlformats.org/officeDocument/2006/relationships/slide" Target="slide40.xml"/><Relationship Id="rId18" Type="http://schemas.openxmlformats.org/officeDocument/2006/relationships/slide" Target="slide9.xml"/><Relationship Id="rId19" Type="http://schemas.openxmlformats.org/officeDocument/2006/relationships/slide" Target="slide16.xml"/><Relationship Id="rId20" Type="http://schemas.openxmlformats.org/officeDocument/2006/relationships/slide" Target="slide15.xml"/><Relationship Id="rId21" Type="http://schemas.openxmlformats.org/officeDocument/2006/relationships/slide" Target="slide10.xml"/><Relationship Id="rId2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5767560" y="2571840"/>
            <a:ext cx="6765840" cy="18349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03040" y="5616360"/>
            <a:ext cx="443736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азработала воспитатель старшей группы МДОУ «Детский сад №153» Г. Саратова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номаренко Юлия Николаевна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7" name="Прямоугольник 3"/>
          <p:cNvSpPr/>
          <p:nvPr/>
        </p:nvSpPr>
        <p:spPr>
          <a:xfrm>
            <a:off x="8159400" y="860400"/>
            <a:ext cx="40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Старш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«Почем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8" descr="7"/>
          <p:cNvPicPr/>
          <p:nvPr/>
        </p:nvPicPr>
        <p:blipFill>
          <a:blip r:embed="rId2"/>
          <a:stretch/>
        </p:blipFill>
        <p:spPr>
          <a:xfrm>
            <a:off x="1368360" y="266760"/>
            <a:ext cx="3691080" cy="4098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7"/>
          <p:cNvPicPr/>
          <p:nvPr/>
        </p:nvPicPr>
        <p:blipFill>
          <a:blip r:embed="rId3"/>
          <a:stretch/>
        </p:blipFill>
        <p:spPr>
          <a:xfrm>
            <a:off x="1357200" y="266760"/>
            <a:ext cx="3691080" cy="40989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9"/>
          <p:cNvSpPr/>
          <p:nvPr/>
        </p:nvSpPr>
        <p:spPr>
          <a:xfrm>
            <a:off x="4888080" y="4292640"/>
            <a:ext cx="68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563c1"/>
                </a:solidFill>
                <a:latin typeface="Arial"/>
              </a:rPr>
              <a:t>по теме «Этот загадочный космос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5200" y="419040"/>
            <a:ext cx="105156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то из учёных нашей страны является основоположником теоретической космонавтики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7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2"/>
          <p:cNvSpPr/>
          <p:nvPr/>
        </p:nvSpPr>
        <p:spPr>
          <a:xfrm>
            <a:off x="1596960" y="4705200"/>
            <a:ext cx="975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Константин Эдуардович Циалковски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Назовите выдающегося конструктора ракетно космических систем, с именем которого связаны первые победы нашей страны в освоении космос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8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2"/>
          <p:cNvSpPr/>
          <p:nvPr/>
        </p:nvSpPr>
        <p:spPr>
          <a:xfrm>
            <a:off x="-133200" y="4525920"/>
            <a:ext cx="99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ергей Павлович Королё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8" descr="image001_46"/>
          <p:cNvPicPr/>
          <p:nvPr/>
        </p:nvPicPr>
        <p:blipFill>
          <a:blip r:embed="rId2"/>
          <a:stretch/>
        </p:blipFill>
        <p:spPr>
          <a:xfrm>
            <a:off x="9439200" y="3932280"/>
            <a:ext cx="27529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Самая большая планет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8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2"/>
          <p:cNvSpPr/>
          <p:nvPr/>
        </p:nvSpPr>
        <p:spPr>
          <a:xfrm>
            <a:off x="2745360" y="553716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Юпите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Как назывался космический корабль, на борту которого первый космонавт планеты совершил полёт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9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2"/>
          <p:cNvSpPr/>
          <p:nvPr/>
        </p:nvSpPr>
        <p:spPr>
          <a:xfrm>
            <a:off x="2893320" y="5425920"/>
            <a:ext cx="42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Вост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8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2"/>
          <a:stretch/>
        </p:blipFill>
        <p:spPr>
          <a:xfrm>
            <a:off x="9516960" y="4351320"/>
            <a:ext cx="24321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 звали первую женщину космонавт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9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2"/>
          <p:cNvSpPr/>
          <p:nvPr/>
        </p:nvSpPr>
        <p:spPr>
          <a:xfrm>
            <a:off x="1154160" y="4502160"/>
            <a:ext cx="1079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Валентина Владимировна Терешк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 называется главный космодром, с которого стартовали первые космические корабли? 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0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03" name="Прямоугольник 2"/>
          <p:cNvSpPr/>
          <p:nvPr/>
        </p:nvSpPr>
        <p:spPr>
          <a:xfrm>
            <a:off x="3390120" y="5425920"/>
            <a:ext cx="508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Байкону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8" descr="image001_46"/>
          <p:cNvPicPr/>
          <p:nvPr/>
        </p:nvPicPr>
        <p:blipFill>
          <a:blip r:embed="rId2"/>
          <a:stretch/>
        </p:blipFill>
        <p:spPr>
          <a:xfrm>
            <a:off x="9086760" y="3770280"/>
            <a:ext cx="27529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то был дублёром Ю.А. Гагарина . Космонавт 2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0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2"/>
          <p:cNvSpPr/>
          <p:nvPr/>
        </p:nvSpPr>
        <p:spPr>
          <a:xfrm>
            <a:off x="2961360" y="5425920"/>
            <a:ext cx="62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Герман Тит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Aft>
                <a:spcPts val="901"/>
              </a:spcAft>
              <a:buClr>
                <a:srgbClr val="2e75b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А какие главные герои летали в космос до людей и благополучно вернулись? 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1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2"/>
          <p:cNvSpPr/>
          <p:nvPr/>
        </p:nvSpPr>
        <p:spPr>
          <a:xfrm>
            <a:off x="1568520" y="4633920"/>
            <a:ext cx="798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Собаки Белка и Стрел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8" descr="telpics_ru_381118580_120x160"/>
          <p:cNvPicPr/>
          <p:nvPr/>
        </p:nvPicPr>
        <p:blipFill>
          <a:blip r:embed="rId2"/>
          <a:stretch/>
        </p:blipFill>
        <p:spPr>
          <a:xfrm>
            <a:off x="9315360" y="3449520"/>
            <a:ext cx="271620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buClr>
                <a:srgbClr val="2e75b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Как называется снаряжение космонавтов? 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1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2"/>
          <p:cNvSpPr/>
          <p:nvPr/>
        </p:nvSpPr>
        <p:spPr>
          <a:xfrm>
            <a:off x="3257280" y="5388120"/>
            <a:ext cx="51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Скафанд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Космонавт, первый вышедший в космос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22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9991800" y="3797280"/>
            <a:ext cx="1957320" cy="228744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2"/>
          <p:cNvSpPr/>
          <p:nvPr/>
        </p:nvSpPr>
        <p:spPr>
          <a:xfrm>
            <a:off x="1000080" y="4016520"/>
            <a:ext cx="706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Алексей Леон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53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838080" y="1525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Каждый играет за себя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Ответы записываются в 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бланке ответов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За правильно решенное задание –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1 звезду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Задания выбирают по очереди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  <a:p>
            <a:pPr marL="196560" indent="-19656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3c1"/>
                </a:solidFill>
                <a:latin typeface="Arial"/>
              </a:rPr>
              <a:t>Выигрывает тот, кто набрал больше всего баллов.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23" name="Picture 6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2"/>
          <a:stretch/>
        </p:blipFill>
        <p:spPr>
          <a:xfrm>
            <a:off x="8751960" y="227160"/>
            <a:ext cx="32065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Каким цветом холодные звёзды?</a:t>
            </a: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27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3524040" y="5388120"/>
            <a:ext cx="48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красны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8" descr="image001_46"/>
          <p:cNvPicPr/>
          <p:nvPr/>
        </p:nvPicPr>
        <p:blipFill>
          <a:blip r:embed="rId2"/>
          <a:stretch/>
        </p:blipFill>
        <p:spPr>
          <a:xfrm>
            <a:off x="9193320" y="233280"/>
            <a:ext cx="27525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Сколько звёзд в созвездии Большой медведицы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32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2"/>
          <p:cNvSpPr/>
          <p:nvPr/>
        </p:nvSpPr>
        <p:spPr>
          <a:xfrm>
            <a:off x="2977560" y="5537160"/>
            <a:ext cx="25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ак называется спутник Земли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37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2"/>
          <p:cNvSpPr/>
          <p:nvPr/>
        </p:nvSpPr>
        <p:spPr>
          <a:xfrm>
            <a:off x="3135240" y="542592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Лу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8" descr="telpics_ru_381118580_120x160"/>
          <p:cNvPicPr/>
          <p:nvPr/>
        </p:nvPicPr>
        <p:blipFill>
          <a:blip r:embed="rId2"/>
          <a:stretch/>
        </p:blipFill>
        <p:spPr>
          <a:xfrm>
            <a:off x="9304200" y="225360"/>
            <a:ext cx="27162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5400" spc="-1" strike="noStrike">
                <a:solidFill>
                  <a:srgbClr val="2e75b6"/>
                </a:solidFill>
                <a:latin typeface="Monotype Corsiva"/>
              </a:rPr>
              <a:t>В каком положении находятся космонавты при выходе из корабля на орбиту? </a:t>
            </a: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42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2"/>
          <p:cNvSpPr/>
          <p:nvPr/>
        </p:nvSpPr>
        <p:spPr>
          <a:xfrm>
            <a:off x="2828880" y="5425920"/>
            <a:ext cx="60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Невесом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2e75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75b6"/>
                </a:solidFill>
                <a:latin typeface="Monotype Corsiva"/>
              </a:rPr>
              <a:t>Сколько длился первый полёт Юрия Гагарина в космосе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47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2"/>
          <p:cNvSpPr/>
          <p:nvPr/>
        </p:nvSpPr>
        <p:spPr>
          <a:xfrm>
            <a:off x="2781000" y="5425920"/>
            <a:ext cx="508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108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11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2"/>
          <a:stretch/>
        </p:blipFill>
        <p:spPr>
          <a:xfrm>
            <a:off x="9516960" y="4592520"/>
            <a:ext cx="243216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5" descr="img1"/>
          <p:cNvPicPr/>
          <p:nvPr/>
        </p:nvPicPr>
        <p:blipFill>
          <a:blip r:embed="rId1"/>
          <a:stretch/>
        </p:blipFill>
        <p:spPr>
          <a:xfrm>
            <a:off x="135000" y="144360"/>
            <a:ext cx="11896560" cy="6569280"/>
          </a:xfrm>
          <a:prstGeom prst="rect">
            <a:avLst/>
          </a:prstGeom>
          <a:ln w="0">
            <a:noFill/>
          </a:ln>
        </p:spPr>
      </p:pic>
      <p:sp>
        <p:nvSpPr>
          <p:cNvPr id="525" name="1"/>
          <p:cNvSpPr/>
          <p:nvPr/>
        </p:nvSpPr>
        <p:spPr>
          <a:xfrm>
            <a:off x="882720" y="7509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2" action="ppaction://hlinksldjump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2"/>
          <p:cNvSpPr/>
          <p:nvPr/>
        </p:nvSpPr>
        <p:spPr>
          <a:xfrm>
            <a:off x="2324160" y="739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10"/>
          <p:cNvSpPr/>
          <p:nvPr/>
        </p:nvSpPr>
        <p:spPr>
          <a:xfrm>
            <a:off x="2338560" y="19321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19"/>
          <p:cNvSpPr/>
          <p:nvPr/>
        </p:nvSpPr>
        <p:spPr>
          <a:xfrm>
            <a:off x="3713040" y="313992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20"/>
          <p:cNvSpPr/>
          <p:nvPr/>
        </p:nvSpPr>
        <p:spPr>
          <a:xfrm>
            <a:off x="5129280" y="31827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6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11"/>
          <p:cNvSpPr/>
          <p:nvPr/>
        </p:nvSpPr>
        <p:spPr>
          <a:xfrm>
            <a:off x="3713040" y="193212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7" action="ppaction://hlinksldjump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"/>
          <p:cNvSpPr/>
          <p:nvPr/>
        </p:nvSpPr>
        <p:spPr>
          <a:xfrm>
            <a:off x="3713040" y="75240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8" action="ppaction://hlinksldjump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12"/>
          <p:cNvSpPr/>
          <p:nvPr/>
        </p:nvSpPr>
        <p:spPr>
          <a:xfrm>
            <a:off x="5172120" y="19209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9" action="ppaction://hlinksldjump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13"/>
          <p:cNvSpPr/>
          <p:nvPr/>
        </p:nvSpPr>
        <p:spPr>
          <a:xfrm>
            <a:off x="6535800" y="193824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0" action="ppaction://hlinksldjump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14"/>
          <p:cNvSpPr/>
          <p:nvPr/>
        </p:nvSpPr>
        <p:spPr>
          <a:xfrm>
            <a:off x="7907400" y="19321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1" action="ppaction://hlinksldjump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15"/>
          <p:cNvSpPr/>
          <p:nvPr/>
        </p:nvSpPr>
        <p:spPr>
          <a:xfrm>
            <a:off x="9234360" y="1919160"/>
            <a:ext cx="113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2" action="ppaction://hlinksldjump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16"/>
          <p:cNvSpPr/>
          <p:nvPr/>
        </p:nvSpPr>
        <p:spPr>
          <a:xfrm>
            <a:off x="10563120" y="19321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3" action="ppaction://hlinksldjump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4"/>
          <p:cNvSpPr/>
          <p:nvPr/>
        </p:nvSpPr>
        <p:spPr>
          <a:xfrm>
            <a:off x="5116680" y="739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4" action="ppaction://hlinksldjump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5"/>
          <p:cNvSpPr/>
          <p:nvPr/>
        </p:nvSpPr>
        <p:spPr>
          <a:xfrm>
            <a:off x="6488280" y="72216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5" action="ppaction://hlinksldjump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6"/>
          <p:cNvSpPr/>
          <p:nvPr/>
        </p:nvSpPr>
        <p:spPr>
          <a:xfrm>
            <a:off x="7859880" y="712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6" action="ppaction://hlinksldjump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7"/>
          <p:cNvSpPr/>
          <p:nvPr/>
        </p:nvSpPr>
        <p:spPr>
          <a:xfrm>
            <a:off x="9231480" y="712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7" action="ppaction://hlinksldjump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8"/>
          <p:cNvSpPr/>
          <p:nvPr/>
        </p:nvSpPr>
        <p:spPr>
          <a:xfrm>
            <a:off x="10576080" y="68580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8" action="ppaction://hlinksldjump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18"/>
          <p:cNvSpPr/>
          <p:nvPr/>
        </p:nvSpPr>
        <p:spPr>
          <a:xfrm>
            <a:off x="2320920" y="31669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19" action="ppaction://hlinksldjump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17"/>
          <p:cNvSpPr/>
          <p:nvPr/>
        </p:nvSpPr>
        <p:spPr>
          <a:xfrm>
            <a:off x="844560" y="3127320"/>
            <a:ext cx="1139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20" action="ppaction://hlinksldjump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9"/>
          <p:cNvSpPr/>
          <p:nvPr/>
        </p:nvSpPr>
        <p:spPr>
          <a:xfrm>
            <a:off x="888840" y="1914480"/>
            <a:ext cx="11401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e2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563c1"/>
                </a:solidFill>
                <a:uFillTx/>
                <a:latin typeface="Calibri"/>
                <a:hlinkClick r:id="rId21" action="ppaction://hlinksldjump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56960" y="365040"/>
            <a:ext cx="100710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Кто и когда совершил первый полёт в космос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47" name="Рисунок 2" descr="http://cdns2.freepik.com/free-photo/_17-22602585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3" descr="http://aleks-zschool.narod.ru/images/p56_neznayka.jpg"/>
          <p:cNvPicPr/>
          <p:nvPr/>
        </p:nvPicPr>
        <p:blipFill>
          <a:blip r:embed="rId3"/>
          <a:stretch/>
        </p:blipFill>
        <p:spPr>
          <a:xfrm>
            <a:off x="10150560" y="449748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549" name="Прямоугольник 2"/>
          <p:cNvSpPr/>
          <p:nvPr/>
        </p:nvSpPr>
        <p:spPr>
          <a:xfrm>
            <a:off x="1879560" y="4835520"/>
            <a:ext cx="81694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Юрий Алексеевич Гагари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 апреля 196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1360" y="16347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Из чего состоят звёзды?</a:t>
            </a:r>
            <a:endParaRPr b="0" lang="en-US" sz="5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52" name="Рисунок 3" descr="http://cdns2.freepik.com/free-photo/_17-22602585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2"/>
          <p:cNvSpPr/>
          <p:nvPr/>
        </p:nvSpPr>
        <p:spPr>
          <a:xfrm>
            <a:off x="2937600" y="5267160"/>
            <a:ext cx="72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водород и гел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8" descr="image001_46"/>
          <p:cNvPicPr/>
          <p:nvPr/>
        </p:nvPicPr>
        <p:blipFill>
          <a:blip r:embed="rId3"/>
          <a:stretch/>
        </p:blipFill>
        <p:spPr>
          <a:xfrm>
            <a:off x="9229680" y="2381400"/>
            <a:ext cx="275292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акой галактике принадлежит солнечная система?</a:t>
            </a:r>
            <a:endParaRPr b="0" lang="en-US" sz="40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5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3" descr="http://cdns2.freepik.com/free-photo/_17-226025854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4440" y="5384880"/>
            <a:ext cx="1616040" cy="13176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2"/>
          <p:cNvSpPr/>
          <p:nvPr/>
        </p:nvSpPr>
        <p:spPr>
          <a:xfrm>
            <a:off x="2592720" y="5253120"/>
            <a:ext cx="64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млеч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9120" y="1829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Сколько планет в солнечной системе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62" name="Рисунок 3" descr="http://cdns2.freepik.com/free-photo/_17-22602585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2"/>
          <p:cNvSpPr/>
          <p:nvPr/>
        </p:nvSpPr>
        <p:spPr>
          <a:xfrm>
            <a:off x="1663560" y="473076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9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8" descr="%25D1%2584%25D0%25B0%25D0%25BD%25D1%2582%25D0%25B8%25D0%25BA%2B%25D0%25BD%25D0%25B5%25D0%25B7%25D0%25BD%25D0%25B0%25D0%25B8%25CC%2586%25D0%25BA%25D0%25B0%2B2"/>
          <p:cNvPicPr/>
          <p:nvPr/>
        </p:nvPicPr>
        <p:blipFill>
          <a:blip r:embed="rId3"/>
          <a:stretch/>
        </p:blipFill>
        <p:spPr>
          <a:xfrm>
            <a:off x="9526680" y="227160"/>
            <a:ext cx="24318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Назовите ближайшую к Земле звезду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67" name="Рисунок 2" descr="http://aleks-zschool.narod.ru/images/p56_neznayka.jpg"/>
          <p:cNvPicPr/>
          <p:nvPr/>
        </p:nvPicPr>
        <p:blipFill>
          <a:blip r:embed="rId1"/>
          <a:stretch/>
        </p:blipFill>
        <p:spPr>
          <a:xfrm>
            <a:off x="10058400" y="125280"/>
            <a:ext cx="1957320" cy="22878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3" descr="http://cdns2.freepik.com/free-photo/_17-226025854.jpg"/>
          <p:cNvPicPr/>
          <p:nvPr/>
        </p:nvPicPr>
        <p:blipFill>
          <a:blip r:embed="rId2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2"/>
          <p:cNvSpPr/>
          <p:nvPr/>
        </p:nvSpPr>
        <p:spPr>
          <a:xfrm>
            <a:off x="2753640" y="542592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Солнц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5200" y="366480"/>
            <a:ext cx="10515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2f559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В каком созвездии находится Полярная звезда?</a:t>
            </a:r>
            <a:endParaRPr b="0" lang="en-US" sz="4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72" name="Рисунок 3" descr="http://cdns2.freepik.com/free-photo/_17-226025854.jpg"/>
          <p:cNvPicPr/>
          <p:nvPr/>
        </p:nvPicPr>
        <p:blipFill>
          <a:blip r:embed="rId1"/>
          <a:stretch/>
        </p:blipFill>
        <p:spPr>
          <a:xfrm>
            <a:off x="243000" y="5425920"/>
            <a:ext cx="1616040" cy="131796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"/>
          <p:cNvSpPr/>
          <p:nvPr/>
        </p:nvSpPr>
        <p:spPr>
          <a:xfrm>
            <a:off x="2735280" y="5388120"/>
            <a:ext cx="76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твет: малая медведиц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8" descr="image001_46"/>
          <p:cNvPicPr/>
          <p:nvPr/>
        </p:nvPicPr>
        <p:blipFill>
          <a:blip r:embed="rId2"/>
          <a:stretch/>
        </p:blipFill>
        <p:spPr>
          <a:xfrm>
            <a:off x="9240840" y="236520"/>
            <a:ext cx="27525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3:00:56Z</dcterms:created>
  <dc:creator>Нот-11</dc:creator>
  <dc:description/>
  <dc:language>en-US</dc:language>
  <cp:lastModifiedBy>USER</cp:lastModifiedBy>
  <dcterms:modified xsi:type="dcterms:W3CDTF">2017-05-19T05:19:57Z</dcterms:modified>
  <cp:revision>53</cp:revision>
  <dc:subject/>
  <dc:title>Презентация PowerPoint</dc:title>
</cp:coreProperties>
</file>