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26F-03AE-4541-B0C4-266DFA9F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821-1F2C-42BA-8A69-8A708C78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F2667-CCF4-450F-8D32-683675F1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C9B49-283F-41E2-8243-66B9FEEB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0AC89-83C2-4D54-B084-69C53F59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74699-F4CF-401B-9C8C-4578DD39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44675-143E-4CF7-B52D-E9CE5A59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EDEF8-7676-476B-BDB6-72E80300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8D02B-6AEE-4C51-A706-894D6D95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BE801-02CE-4150-8B73-C92E28D0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FCEFD-F2B5-43CA-8960-9EEAC6F6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4BD3A-67E2-4DEE-AEE9-8074A5A0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061-A477-4817-AEDD-9C2FACAE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A31B2-6500-4475-BDEB-8A47B5E8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9BCC6-4977-4DA5-AA62-C1F96CE5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339F4-B849-4F31-BFFD-964F3A0E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28AAC-DF78-4F4A-8B6D-FB616394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338BD-32D7-49F7-A575-F965BE80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80E4D-9D91-4985-BA4F-4A3B9C34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A5C2E-3F6A-4AD8-830A-4C15CCC3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121CA-0ADB-443A-B4E4-70DD069E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FC635-5E7A-4F9E-9629-CA915F74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AD16D-13AB-4246-BA97-312BE352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8CF-87D6-4A66-8E46-61934C70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409B6-A3D5-4307-BEF0-4FBF63BB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39C4C-BC8E-4001-B40D-E067710C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2AE25-F370-4313-9C3F-4E6FD75B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E12ED-D451-4798-8DF0-293C7E87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45A76-6E43-4D07-84B9-39EE7B25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BFE30-E6BF-4CA3-9481-F53451EB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704CE-C5DB-4259-8850-054EE4EF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C5875-1018-470C-A746-B13FE33F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AD2C8-6357-4BA0-AFB3-F5CC7458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8920E-A10D-4702-BB43-247BC121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985D-DF69-4CB9-A930-B4D50BB6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9F299-27DB-4A27-B50B-80C1A999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9E87F-067B-4B63-872C-87A80353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40BE7-BC60-4725-B57A-F2B05845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80A8E-5ABA-4130-8876-E8101445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C55CC-038B-4C68-90CB-CDB51F0D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F508F-36E2-4FB4-9B8F-7850E01C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B7AC7-AF37-4F15-B5D3-4CB79818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A3DBB-48C1-4BF4-84C0-4B89D4D7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EF17F-EBB1-4540-BDBF-76590C35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A2AA1-61DB-4B55-A614-2E871E6B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6D19-0C19-4E5E-9B7E-46474D84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69581-4590-4171-8F6F-51D10892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5A297-6A19-4251-82BC-CCA84A52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88F73-0B2E-43D2-846A-564F9F43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6DE82-59BC-4BDF-83A2-BBCE29E9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B1E70-0A2C-4A4B-BEAE-0A3792D4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A41D-D993-454A-A3CD-3B78FDF0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D940-8EB2-4D49-96C1-63116962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36B9-5A8E-4585-8B5B-E62F0C14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7993-EAFF-41BA-A067-FC26E6F9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E527-F36B-42C6-BE8C-CAF3102A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45B-FF3B-4670-A617-C0D00208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35F8-3789-4BE0-B2EC-1E171818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20DC-64AA-4ADD-B82C-4FC8A4B8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8052-7995-45FA-ACEE-C3352F8C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1046-0519-47FA-AF1E-DF21C900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3BE5-7C84-4F2C-B9F8-1DE162C8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209F5-1B22-429B-AC97-159B45B3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EE178-D55F-437D-9B12-40474D8D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C25FA-07CA-4AA9-A0D0-AA62E247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1E514-8F1D-46A8-80E5-21E47C6B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F8BC0-21DE-497B-ABBC-C92238A4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D39-4456-4C32-B565-62DEDBF9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84BFB-B1A9-4D4B-907A-0CE7893A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8F6A1-4C50-439D-B38C-447E1B95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14FE5-E991-4597-8040-19D03149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D4C5B-C8BC-417B-AB5C-CAED7AB5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BD460-4992-4356-A96E-5DA80976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1D02E-C44C-43D1-A8A9-39E200BC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BF9F3-DB75-449D-95BA-002DEC44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DC737-10E8-49AD-99E2-0E45466D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45D98-E1C6-461C-8A6B-54CAE5E8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F8126-D3D2-43DD-8F05-2472A1FD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D46F-469C-4AA2-B3CB-115D18E8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EEC08-1FD2-4133-9B4D-BD157B72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F032A-7B96-4AD0-B172-527F972B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BF05B-7390-4552-B122-756E3693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0016E-DFC9-4573-9C9D-E2B12D1D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C9ACF-5E52-45E9-A805-9EF9517E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69BB4-2738-4758-9D25-94385560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99E4B-0EAA-4E7C-BBAC-E2B1C8F6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39F77-E39A-4406-B49B-56AB7FFB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5ADC9-F984-4520-B8B0-CDBFCBB0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42158-40DD-4DA5-AD8C-91BDB82F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37E-E4BD-4AA0-B2E8-B7935E59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A4B8F-A188-4861-AF6E-2FA90E05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FEE53-3C9D-4442-9B81-9C6CDA9C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FB807-2917-48FE-AB7E-C22858A0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98BE9-8D31-4192-BAD6-F6F734E5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C19B0-F5C8-4453-B058-61AC394B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89EAB-06FE-4FC8-8C41-495D2DC4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1C0B4-4BE4-4331-A876-C7C01700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D7538-7EA8-4487-9C88-F2E003FF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BEBC6-AD19-401A-907C-D7D57684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086E0-A02C-4826-911F-DBA10D8B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E37-7568-4994-B8C0-4C9E267A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621BF-44B4-4CD4-9ADB-21A144D8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39755-005C-4847-8FFF-47E1759A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6D522-2C2B-42ED-B701-1F04C7BA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A37C1-90FD-4594-864B-C9FA45F2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93605-4AFB-41F1-B73F-B733A7D5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4421D-7195-40E4-BDC4-2BBF5D40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908D1-B270-4D31-B59E-751B2D71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AB4B9-79F1-41CA-9DE8-5871EC26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15B1C-8607-47F6-8378-F387A77C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A7466-4DF9-4573-898C-CA674DB0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E060-3F83-4058-BD40-1D3D7A23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7CD0E-FC32-4F3D-83D9-9AFB01DB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0F1E4-CF51-4575-AC46-98CBB59C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FE496-7447-4923-9292-9C81D82D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F8373-F996-4DD7-A8B0-6E3E4148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1646B-9870-4373-9117-ED0BE9D6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EC297-B1A6-4316-AB46-62BAA3B5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723C6-FE84-4714-A270-F6C366AB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E58DC-C357-4AD9-90CA-27C0D93D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DE042-8A57-48D9-A372-1FBA7C72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3F945-4396-49E8-9CBD-DB9E1141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51C-05BF-4F44-AE88-E92B8BD5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FAFF4-ABC3-4B1F-97E2-A58B67FB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C69AA-FB5D-4644-934F-79043EE6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4F1B7-268E-49CD-840A-EAC6E609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D95C5-8E1A-4E5D-9AAF-51295810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B8E90-764F-4276-9BF3-13021EF7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9FB1B-CD1E-4965-BC8B-003AC2AD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7A575-EF0B-437C-ADD7-D99A11F5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1082B-BBD2-4C83-B478-4C4A96A1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ED573-4C64-44C3-9CEE-A5E6B1CD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69230-4B99-49B8-85EB-D8859159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698-EDA9-4763-A02E-42AB9166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6882C-1EB4-474B-9939-C603E81D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9CB72-EC9C-4B0B-8096-C4C8D7C6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32B10-46CB-4858-A7FF-A060F3B7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8B9B1-98EF-4562-81AF-E6662961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F9AEF-381C-4DF6-9525-356E0543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F0809-9B83-4A4C-92FC-348591D0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DDDE5-0909-48AA-AB3D-6D7CDC66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B3605-083A-42D5-95A4-2C6C18D9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F6831-1C2D-4338-83CB-63E24562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49E8D-8B7B-4FD0-A287-C6993C90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F40A-ABB0-4698-BA22-6DFD6226B2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:\Users\User\Desktop\весенняя капель\water-waves-wallpaper-waves-abstract-site-design-header-2560x1600-HD-637831.png"/>
          <p:cNvPicPr/>
          <p:nvPr/>
        </p:nvPicPr>
        <p:blipFill>
          <a:blip r:embed="rId2"/>
          <a:stretch/>
        </p:blipFill>
        <p:spPr>
          <a:xfrm>
            <a:off x="0" y="2382840"/>
            <a:ext cx="12192120" cy="44751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http://zaazcrmdynamics.blob.core.windows.net/2012-05-29/images/header-footer/background-gradient-header.jpg"/>
          <p:cNvPicPr/>
          <p:nvPr/>
        </p:nvPicPr>
        <p:blipFill>
          <a:blip r:embed="rId3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A204-C06C-44AA-96D5-A4E21594C5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http://zaazcrmdynamics.blob.core.windows.net/2012-05-29/images/header-footer/background-gradient-header.jpg"/>
          <p:cNvPicPr/>
          <p:nvPr/>
        </p:nvPicPr>
        <p:blipFill>
          <a:blip r:embed="rId2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A0AC-AC80-4B7C-8C30-9A4C66FFEF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http://zaazcrmdynamics.blob.core.windows.net/2012-05-29/images/header-footer/background-gradient-header.jpg"/>
          <p:cNvPicPr/>
          <p:nvPr/>
        </p:nvPicPr>
        <p:blipFill>
          <a:blip r:embed="rId2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FE8D-02EB-43D8-8262-B941F4507E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\Desktop\весенняя капель\water-waves-wallpaper-waves-abstract-site-design-header-2560x1600-HD-637831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5029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zaazcrmdynamics.blob.core.windows.net/2012-05-29/images/header-footer/background-gradient-header.jpg"/>
          <p:cNvPicPr/>
          <p:nvPr/>
        </p:nvPicPr>
        <p:blipFill>
          <a:blip r:embed="rId3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8B4E-52E8-441A-8142-19CBD7663C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User\Desktop\весенняя капель\water-waves-wallpaper-waves-abstract-site-design-header-2560x1600-HD-637831.jpg"/>
          <p:cNvPicPr/>
          <p:nvPr/>
        </p:nvPicPr>
        <p:blipFill>
          <a:blip r:embed="rId2"/>
          <a:stretch/>
        </p:blipFill>
        <p:spPr>
          <a:xfrm>
            <a:off x="0" y="0"/>
            <a:ext cx="3921120" cy="53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User\Desktop\весенняя капель\water-waves-wallpaper-waves-abstract-site-design-header-2560x1600-HD-637831.jpg"/>
          <p:cNvPicPr/>
          <p:nvPr/>
        </p:nvPicPr>
        <p:blipFill>
          <a:blip r:embed="rId3"/>
          <a:stretch/>
        </p:blipFill>
        <p:spPr>
          <a:xfrm>
            <a:off x="7620120" y="6165720"/>
            <a:ext cx="4572000" cy="692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zaazcrmdynamics.blob.core.windows.net/2012-05-29/images/header-footer/background-gradient-header.jpg"/>
          <p:cNvPicPr/>
          <p:nvPr/>
        </p:nvPicPr>
        <p:blipFill>
          <a:blip r:embed="rId4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8067-B25C-43EA-9F20-DEF056995E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User\Desktop\весенняя капель\water-waves-wallpaper-waves-abstract-site-design-header-2560x1600-HD-637831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5715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zaazcrmdynamics.blob.core.windows.net/2012-05-29/images/header-footer/background-gradient-header.jpg"/>
          <p:cNvPicPr/>
          <p:nvPr/>
        </p:nvPicPr>
        <p:blipFill>
          <a:blip r:embed="rId3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3099-A101-434C-92B9-D90F9905F9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User\Desktop\весенняя капель\water-waves-wallpaper-waves-abstract-site-design-header-2560x1600-HD-637831.png"/>
          <p:cNvPicPr/>
          <p:nvPr/>
        </p:nvPicPr>
        <p:blipFill>
          <a:blip r:embed="rId2"/>
          <a:stretch/>
        </p:blipFill>
        <p:spPr>
          <a:xfrm>
            <a:off x="0" y="0"/>
            <a:ext cx="18702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http://zaazcrmdynamics.blob.core.windows.net/2012-05-29/images/header-footer/background-gradient-header.jpg"/>
          <p:cNvPicPr/>
          <p:nvPr/>
        </p:nvPicPr>
        <p:blipFill>
          <a:blip r:embed="rId3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9EEE-0ABE-47A0-B515-9030DF8480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User\Desktop\весенняя капель\water-waves-wallpaper-waves-abstract-site-design-header-2560x1600-HD-637831.png"/>
          <p:cNvPicPr/>
          <p:nvPr/>
        </p:nvPicPr>
        <p:blipFill>
          <a:blip r:embed="rId2"/>
          <a:stretch/>
        </p:blipFill>
        <p:spPr>
          <a:xfrm>
            <a:off x="10585440" y="0"/>
            <a:ext cx="160668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ttp://zaazcrmdynamics.blob.core.windows.net/2012-05-29/images/header-footer/background-gradient-header.jpg"/>
          <p:cNvPicPr/>
          <p:nvPr/>
        </p:nvPicPr>
        <p:blipFill>
          <a:blip r:embed="rId3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38D3-AA5E-4CE2-8AA8-A16A347107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C:\Users\User\Desktop\весенняя капель\water-waves-wallpaper-waves-abstract-site-design-header-2560x1600-HD-637831.jpg"/>
          <p:cNvPicPr/>
          <p:nvPr/>
        </p:nvPicPr>
        <p:blipFill>
          <a:blip r:embed="rId2"/>
          <a:stretch/>
        </p:blipFill>
        <p:spPr>
          <a:xfrm>
            <a:off x="0" y="0"/>
            <a:ext cx="3921120" cy="539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C:\Users\User\Desktop\весенняя капель\water-waves-wallpaper-waves-abstract-site-design-header-2560x1600-HD-637831.jpg"/>
          <p:cNvPicPr/>
          <p:nvPr/>
        </p:nvPicPr>
        <p:blipFill>
          <a:blip r:embed="rId3"/>
          <a:stretch/>
        </p:blipFill>
        <p:spPr>
          <a:xfrm>
            <a:off x="7620120" y="6165720"/>
            <a:ext cx="4572000" cy="692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ttp://zaazcrmdynamics.blob.core.windows.net/2012-05-29/images/header-footer/background-gradient-header.jpg"/>
          <p:cNvPicPr/>
          <p:nvPr/>
        </p:nvPicPr>
        <p:blipFill>
          <a:blip r:embed="rId4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79DF-0F0F-48EA-AF43-1E662168CF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C:\Users\User\Desktop\весенняя капель\water-waves-wallpaper-waves-abstract-site-design-header-2560x1600-HD-637831.png"/>
          <p:cNvPicPr/>
          <p:nvPr/>
        </p:nvPicPr>
        <p:blipFill>
          <a:blip r:embed="rId2"/>
          <a:stretch/>
        </p:blipFill>
        <p:spPr>
          <a:xfrm>
            <a:off x="0" y="0"/>
            <a:ext cx="9414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C:\Users\User\Desktop\весенняя капель\water-waves-wallpaper-waves-abstract-site-design-header-2560x1600-HD-637831.jpg"/>
          <p:cNvPicPr/>
          <p:nvPr/>
        </p:nvPicPr>
        <p:blipFill>
          <a:blip r:embed="rId3"/>
          <a:stretch/>
        </p:blipFill>
        <p:spPr>
          <a:xfrm>
            <a:off x="7994520" y="0"/>
            <a:ext cx="4197600" cy="539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http://zaazcrmdynamics.blob.core.windows.net/2012-05-29/images/header-footer/background-gradient-header.jpg"/>
          <p:cNvPicPr/>
          <p:nvPr/>
        </p:nvPicPr>
        <p:blipFill>
          <a:blip r:embed="rId4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579C-BF02-4357-A96B-EAD302B9EA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C:\Users\User\Desktop\весенняя капель\water-waves-wallpaper-waves-abstract-site-design-header-2560x1600-HD-637831.png"/>
          <p:cNvPicPr/>
          <p:nvPr/>
        </p:nvPicPr>
        <p:blipFill>
          <a:blip r:embed="rId2"/>
          <a:stretch/>
        </p:blipFill>
        <p:spPr>
          <a:xfrm>
            <a:off x="0" y="4184640"/>
            <a:ext cx="12192120" cy="26733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http://zaazcrmdynamics.blob.core.windows.net/2012-05-29/images/header-footer/background-gradient-header.jpg"/>
          <p:cNvPicPr/>
          <p:nvPr/>
        </p:nvPicPr>
        <p:blipFill>
          <a:blip r:embed="rId3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BD22-4435-409B-82AC-2FC89A68EF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4.xml"/><Relationship Id="rId3" Type="http://schemas.openxmlformats.org/officeDocument/2006/relationships/slide" Target="slide4.xml"/><Relationship Id="rId4" Type="http://schemas.openxmlformats.org/officeDocument/2006/relationships/slide" Target="slide11.xml"/><Relationship Id="rId5" Type="http://schemas.openxmlformats.org/officeDocument/2006/relationships/slide" Target="slide36.xml"/><Relationship Id="rId6" Type="http://schemas.openxmlformats.org/officeDocument/2006/relationships/slide" Target="slide37.xml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slide" Target="slide35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6.xml"/><Relationship Id="rId15" Type="http://schemas.openxmlformats.org/officeDocument/2006/relationships/slide" Target="slide7.xml"/><Relationship Id="rId16" Type="http://schemas.openxmlformats.org/officeDocument/2006/relationships/slide" Target="slide8.xml"/><Relationship Id="rId17" Type="http://schemas.openxmlformats.org/officeDocument/2006/relationships/slide" Target="slide40.xml"/><Relationship Id="rId18" Type="http://schemas.openxmlformats.org/officeDocument/2006/relationships/slide" Target="slide9.xml"/><Relationship Id="rId19" Type="http://schemas.openxmlformats.org/officeDocument/2006/relationships/slide" Target="slide16.xml"/><Relationship Id="rId20" Type="http://schemas.openxmlformats.org/officeDocument/2006/relationships/slide" Target="slide15.xml"/><Relationship Id="rId21" Type="http://schemas.openxmlformats.org/officeDocument/2006/relationships/slide" Target="slide10.xml"/><Relationship Id="rId2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3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Заголовок 1" descr=""/>
          <p:cNvPicPr/>
          <p:nvPr/>
        </p:nvPicPr>
        <p:blipFill>
          <a:blip r:embed="rId1"/>
          <a:stretch/>
        </p:blipFill>
        <p:spPr>
          <a:xfrm>
            <a:off x="5767560" y="2571840"/>
            <a:ext cx="6765840" cy="18349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203040" y="5616360"/>
            <a:ext cx="443736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Разработала воспитатель старшей группы МДОУ «Детский сад №153» Г. Саратова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номаренко Юлия Николаевна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7" name="Прямоугольник 3"/>
          <p:cNvSpPr/>
          <p:nvPr/>
        </p:nvSpPr>
        <p:spPr>
          <a:xfrm>
            <a:off x="8159400" y="860400"/>
            <a:ext cx="401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Calibri"/>
              </a:rPr>
              <a:t>Старшая групп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Calibri"/>
              </a:rPr>
              <a:t>«Почемуч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8" descr="7"/>
          <p:cNvPicPr/>
          <p:nvPr/>
        </p:nvPicPr>
        <p:blipFill>
          <a:blip r:embed="rId2"/>
          <a:stretch/>
        </p:blipFill>
        <p:spPr>
          <a:xfrm>
            <a:off x="1368360" y="266760"/>
            <a:ext cx="3691080" cy="40989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0" descr="7"/>
          <p:cNvPicPr/>
          <p:nvPr/>
        </p:nvPicPr>
        <p:blipFill>
          <a:blip r:embed="rId3"/>
          <a:stretch/>
        </p:blipFill>
        <p:spPr>
          <a:xfrm>
            <a:off x="1357200" y="266760"/>
            <a:ext cx="3691080" cy="409896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9"/>
          <p:cNvSpPr/>
          <p:nvPr/>
        </p:nvSpPr>
        <p:spPr>
          <a:xfrm>
            <a:off x="4888080" y="4292640"/>
            <a:ext cx="68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563c1"/>
                </a:solidFill>
                <a:latin typeface="Arial"/>
              </a:rPr>
              <a:t>по теме «Этот загадочный космос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5200" y="419040"/>
            <a:ext cx="105156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Кто из учёных нашей страны является основоположником теоретической космонавтики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77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10058400" y="125280"/>
            <a:ext cx="1957320" cy="228780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3" descr="http://cdns2.freepik.com/free-photo/_17-226025854.jpg"/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579" name="Прямоугольник 2"/>
          <p:cNvSpPr/>
          <p:nvPr/>
        </p:nvSpPr>
        <p:spPr>
          <a:xfrm>
            <a:off x="1596960" y="4705200"/>
            <a:ext cx="975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Константин Эдуардович Циалковский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Назовите выдающегося конструктора ракетно космических систем, с именем которого связаны первые победы нашей страны в освоении космоса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82" name="Рисунок 3" descr="http://cdns2.freepik.com/free-photo/_17-226025854.jpg"/>
          <p:cNvPicPr/>
          <p:nvPr/>
        </p:nvPicPr>
        <p:blipFill>
          <a:blip r:embed="rId1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583" name="Прямоугольник 2"/>
          <p:cNvSpPr/>
          <p:nvPr/>
        </p:nvSpPr>
        <p:spPr>
          <a:xfrm>
            <a:off x="-133200" y="4525920"/>
            <a:ext cx="99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ергей Павлович Королё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Picture 8" descr="image001_46"/>
          <p:cNvPicPr/>
          <p:nvPr/>
        </p:nvPicPr>
        <p:blipFill>
          <a:blip r:embed="rId2"/>
          <a:stretch/>
        </p:blipFill>
        <p:spPr>
          <a:xfrm>
            <a:off x="9439200" y="3932280"/>
            <a:ext cx="275292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Самая большая планета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87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10058400" y="125280"/>
            <a:ext cx="1957320" cy="2287800"/>
          </a:xfrm>
          <a:prstGeom prst="rect">
            <a:avLst/>
          </a:prstGeom>
          <a:ln w="0">
            <a:noFill/>
          </a:ln>
        </p:spPr>
      </p:pic>
      <p:pic>
        <p:nvPicPr>
          <p:cNvPr id="588" name="Рисунок 3" descr="http://cdns2.freepik.com/free-photo/_17-226025854.jpg"/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589" name="Прямоугольник 2"/>
          <p:cNvSpPr/>
          <p:nvPr/>
        </p:nvSpPr>
        <p:spPr>
          <a:xfrm>
            <a:off x="2745360" y="5537160"/>
            <a:ext cx="45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Юпите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Monotype Corsiva"/>
              </a:rPr>
              <a:t>Как назывался космический корабль, на борту которого первый космонавт планеты совершил полёт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92" name="Рисунок 3" descr="http://cdns2.freepik.com/free-photo/_17-226025854.jpg"/>
          <p:cNvPicPr/>
          <p:nvPr/>
        </p:nvPicPr>
        <p:blipFill>
          <a:blip r:embed="rId1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2"/>
          <p:cNvSpPr/>
          <p:nvPr/>
        </p:nvSpPr>
        <p:spPr>
          <a:xfrm>
            <a:off x="2893320" y="5425920"/>
            <a:ext cx="422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Восто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8" descr="%25D1%2584%25D0%25B0%25D0%25BD%25D1%2582%25D0%25B8%25D0%25BA%2B%25D0%25BD%25D0%25B5%25D0%25B7%25D0%25BD%25D0%25B0%25D0%25B8%25CC%2586%25D0%25BA%25D0%25B0%2B2"/>
          <p:cNvPicPr/>
          <p:nvPr/>
        </p:nvPicPr>
        <p:blipFill>
          <a:blip r:embed="rId2"/>
          <a:stretch/>
        </p:blipFill>
        <p:spPr>
          <a:xfrm>
            <a:off x="9516960" y="4351320"/>
            <a:ext cx="24321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Как звали первую женщину космонавта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97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10058400" y="125280"/>
            <a:ext cx="1957320" cy="2287800"/>
          </a:xfrm>
          <a:prstGeom prst="rect">
            <a:avLst/>
          </a:prstGeom>
          <a:ln w="0">
            <a:noFill/>
          </a:ln>
        </p:spPr>
      </p:pic>
      <p:pic>
        <p:nvPicPr>
          <p:cNvPr id="598" name="Рисунок 3" descr="http://cdns2.freepik.com/free-photo/_17-226025854.jpg"/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599" name="Прямоугольник 2"/>
          <p:cNvSpPr/>
          <p:nvPr/>
        </p:nvSpPr>
        <p:spPr>
          <a:xfrm>
            <a:off x="1154160" y="4502160"/>
            <a:ext cx="1079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Валентина Владимировна Терешко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Как называется главный космодром, с которого стартовали первые космические корабли? 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02" name="Рисунок 3" descr="http://cdns2.freepik.com/free-photo/_17-226025854.jpg"/>
          <p:cNvPicPr/>
          <p:nvPr/>
        </p:nvPicPr>
        <p:blipFill>
          <a:blip r:embed="rId1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03" name="Прямоугольник 2"/>
          <p:cNvSpPr/>
          <p:nvPr/>
        </p:nvSpPr>
        <p:spPr>
          <a:xfrm>
            <a:off x="3390120" y="5425920"/>
            <a:ext cx="508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Байкону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Picture 8" descr="image001_46"/>
          <p:cNvPicPr/>
          <p:nvPr/>
        </p:nvPicPr>
        <p:blipFill>
          <a:blip r:embed="rId2"/>
          <a:stretch/>
        </p:blipFill>
        <p:spPr>
          <a:xfrm>
            <a:off x="9086760" y="3770280"/>
            <a:ext cx="27529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Кто был дублёром Ю.А. Гагарина . Космонавт 2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07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10058400" y="125280"/>
            <a:ext cx="1957320" cy="2287800"/>
          </a:xfrm>
          <a:prstGeom prst="rect">
            <a:avLst/>
          </a:prstGeom>
          <a:ln w="0">
            <a:noFill/>
          </a:ln>
        </p:spPr>
      </p:pic>
      <p:pic>
        <p:nvPicPr>
          <p:cNvPr id="608" name="Рисунок 3" descr="http://cdns2.freepik.com/free-photo/_17-226025854.jpg"/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2"/>
          <p:cNvSpPr/>
          <p:nvPr/>
        </p:nvSpPr>
        <p:spPr>
          <a:xfrm>
            <a:off x="2961360" y="5425920"/>
            <a:ext cx="626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Герман Тит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Aft>
                <a:spcPts val="901"/>
              </a:spcAft>
              <a:buClr>
                <a:srgbClr val="2e75b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e75b6"/>
                </a:solidFill>
                <a:latin typeface="Monotype Corsiva"/>
              </a:rPr>
              <a:t>А какие главные герои летали в космос до людей и благополучно вернулись? 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12" name="Рисунок 3" descr="http://cdns2.freepik.com/free-photo/_17-226025854.jpg"/>
          <p:cNvPicPr/>
          <p:nvPr/>
        </p:nvPicPr>
        <p:blipFill>
          <a:blip r:embed="rId1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2"/>
          <p:cNvSpPr/>
          <p:nvPr/>
        </p:nvSpPr>
        <p:spPr>
          <a:xfrm>
            <a:off x="1568520" y="4633920"/>
            <a:ext cx="798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Собаки Белка и Стрел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Picture 8" descr="telpics_ru_381118580_120x160"/>
          <p:cNvPicPr/>
          <p:nvPr/>
        </p:nvPicPr>
        <p:blipFill>
          <a:blip r:embed="rId2"/>
          <a:stretch/>
        </p:blipFill>
        <p:spPr>
          <a:xfrm>
            <a:off x="9315360" y="3449520"/>
            <a:ext cx="271620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buClr>
                <a:srgbClr val="2e75b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e75b6"/>
                </a:solidFill>
                <a:latin typeface="Monotype Corsiva"/>
              </a:rPr>
              <a:t>Как называется снаряжение космонавтов? 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17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10058400" y="125280"/>
            <a:ext cx="1957320" cy="228780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3" descr="http://cdns2.freepik.com/free-photo/_17-226025854.jpg"/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19" name="Прямоугольник 2"/>
          <p:cNvSpPr/>
          <p:nvPr/>
        </p:nvSpPr>
        <p:spPr>
          <a:xfrm>
            <a:off x="3257280" y="5388120"/>
            <a:ext cx="51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Скафанд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e75b6"/>
                </a:solidFill>
                <a:latin typeface="Monotype Corsiva"/>
              </a:rPr>
              <a:t>Космонавт, первый вышедший в космос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22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9991800" y="3797280"/>
            <a:ext cx="1957320" cy="228744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3" descr="http://cdns2.freepik.com/free-photo/_17-226025854.jpg"/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2"/>
          <p:cNvSpPr/>
          <p:nvPr/>
        </p:nvSpPr>
        <p:spPr>
          <a:xfrm>
            <a:off x="1000080" y="4016520"/>
            <a:ext cx="706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Алексей Леон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Заголовок 1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5303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 txBox="1"/>
          <p:nvPr/>
        </p:nvSpPr>
        <p:spPr>
          <a:xfrm>
            <a:off x="838080" y="1525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-19656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3c1"/>
                </a:solidFill>
                <a:latin typeface="Arial"/>
              </a:rPr>
              <a:t>Каждый играет за себя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  <a:p>
            <a:pPr marL="196560" indent="-19656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3c1"/>
                </a:solidFill>
                <a:latin typeface="Arial"/>
              </a:rPr>
              <a:t>Ответы записываются в 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  <a:p>
            <a:pPr marL="196560" indent="-1965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3c1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563c1"/>
                </a:solidFill>
                <a:latin typeface="Arial"/>
              </a:rPr>
              <a:t>бланке ответов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  <a:p>
            <a:pPr marL="196560" indent="-19656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3c1"/>
                </a:solidFill>
                <a:latin typeface="Arial"/>
              </a:rPr>
              <a:t>За правильно решенное задание –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1 звезду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  <a:p>
            <a:pPr marL="196560" indent="-19656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3c1"/>
                </a:solidFill>
                <a:latin typeface="Arial"/>
              </a:rPr>
              <a:t>Задания выбирают по очереди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  <a:p>
            <a:pPr marL="196560" indent="-19656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3c1"/>
                </a:solidFill>
                <a:latin typeface="Arial"/>
              </a:rPr>
              <a:t>Выигрывает тот, кто набрал больше всего баллов.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23" name="Picture 6" descr="%25D1%2584%25D0%25B0%25D0%25BD%25D1%2582%25D0%25B8%25D0%25BA%2B%25D0%25BD%25D0%25B5%25D0%25B7%25D0%25BD%25D0%25B0%25D0%25B8%25CC%2586%25D0%25BA%25D0%25B0%2B2"/>
          <p:cNvPicPr/>
          <p:nvPr/>
        </p:nvPicPr>
        <p:blipFill>
          <a:blip r:embed="rId2"/>
          <a:stretch/>
        </p:blipFill>
        <p:spPr>
          <a:xfrm>
            <a:off x="8751960" y="227160"/>
            <a:ext cx="320652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2060"/>
              </a:solidFill>
              <a:latin typeface="Calibri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Каким цветом холодные звёзды?</a:t>
            </a:r>
            <a:endParaRPr b="0" lang="en-US" sz="54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27" name="Рисунок 3" descr="http://cdns2.freepik.com/free-photo/_17-226025854.jpg"/>
          <p:cNvPicPr/>
          <p:nvPr/>
        </p:nvPicPr>
        <p:blipFill>
          <a:blip r:embed="rId1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28" name="Прямоугольник 2"/>
          <p:cNvSpPr/>
          <p:nvPr/>
        </p:nvSpPr>
        <p:spPr>
          <a:xfrm>
            <a:off x="3524040" y="5388120"/>
            <a:ext cx="488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красны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Picture 8" descr="image001_46"/>
          <p:cNvPicPr/>
          <p:nvPr/>
        </p:nvPicPr>
        <p:blipFill>
          <a:blip r:embed="rId2"/>
          <a:stretch/>
        </p:blipFill>
        <p:spPr>
          <a:xfrm>
            <a:off x="9193320" y="233280"/>
            <a:ext cx="27525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Сколько звёзд в созвездии Большой медведицы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32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10058400" y="125280"/>
            <a:ext cx="1957320" cy="2287800"/>
          </a:xfrm>
          <a:prstGeom prst="rect">
            <a:avLst/>
          </a:prstGeom>
          <a:ln w="0">
            <a:noFill/>
          </a:ln>
        </p:spPr>
      </p:pic>
      <p:pic>
        <p:nvPicPr>
          <p:cNvPr id="633" name="Рисунок 3" descr="http://cdns2.freepik.com/free-photo/_17-226025854.jpg"/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34" name="Прямоугольник 2"/>
          <p:cNvSpPr/>
          <p:nvPr/>
        </p:nvSpPr>
        <p:spPr>
          <a:xfrm>
            <a:off x="2977560" y="5537160"/>
            <a:ext cx="255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Как называется спутник Земли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37" name="Рисунок 3" descr="http://cdns2.freepik.com/free-photo/_17-226025854.jpg"/>
          <p:cNvPicPr/>
          <p:nvPr/>
        </p:nvPicPr>
        <p:blipFill>
          <a:blip r:embed="rId1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38" name="Прямоугольник 2"/>
          <p:cNvSpPr/>
          <p:nvPr/>
        </p:nvSpPr>
        <p:spPr>
          <a:xfrm>
            <a:off x="3135240" y="5425920"/>
            <a:ext cx="367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Лу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8" descr="telpics_ru_381118580_120x160"/>
          <p:cNvPicPr/>
          <p:nvPr/>
        </p:nvPicPr>
        <p:blipFill>
          <a:blip r:embed="rId2"/>
          <a:stretch/>
        </p:blipFill>
        <p:spPr>
          <a:xfrm>
            <a:off x="9304200" y="225360"/>
            <a:ext cx="27162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1" lang="ru-RU" sz="5400" spc="-1" strike="noStrike">
                <a:solidFill>
                  <a:srgbClr val="2e75b6"/>
                </a:solidFill>
                <a:latin typeface="Monotype Corsiva"/>
              </a:rPr>
              <a:t>В каком положении находятся космонавты при выходе из корабля на орбиту? </a:t>
            </a:r>
            <a:endParaRPr b="0" lang="en-US" sz="54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42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10058400" y="125280"/>
            <a:ext cx="1957320" cy="2287800"/>
          </a:xfrm>
          <a:prstGeom prst="rect">
            <a:avLst/>
          </a:prstGeom>
          <a:ln w="0">
            <a:noFill/>
          </a:ln>
        </p:spPr>
      </p:pic>
      <p:pic>
        <p:nvPicPr>
          <p:cNvPr id="643" name="Рисунок 3" descr="http://cdns2.freepik.com/free-photo/_17-226025854.jpg"/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2"/>
          <p:cNvSpPr/>
          <p:nvPr/>
        </p:nvSpPr>
        <p:spPr>
          <a:xfrm>
            <a:off x="2828880" y="5425920"/>
            <a:ext cx="607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Невесомо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2e75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e75b6"/>
                </a:solidFill>
                <a:latin typeface="Monotype Corsiva"/>
              </a:rPr>
              <a:t>Сколько длился первый полёт Юрия Гагарина в космосе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47" name="Рисунок 3" descr="http://cdns2.freepik.com/free-photo/_17-226025854.jpg"/>
          <p:cNvPicPr/>
          <p:nvPr/>
        </p:nvPicPr>
        <p:blipFill>
          <a:blip r:embed="rId1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2"/>
          <p:cNvSpPr/>
          <p:nvPr/>
        </p:nvSpPr>
        <p:spPr>
          <a:xfrm>
            <a:off x="2781000" y="5425920"/>
            <a:ext cx="508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108 мину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9" name="Picture 11" descr="%25D1%2584%25D0%25B0%25D0%25BD%25D1%2582%25D0%25B8%25D0%25BA%2B%25D0%25BD%25D0%25B5%25D0%25B7%25D0%25BD%25D0%25B0%25D0%25B8%25CC%2586%25D0%25BA%25D0%25B0%2B2"/>
          <p:cNvPicPr/>
          <p:nvPr/>
        </p:nvPicPr>
        <p:blipFill>
          <a:blip r:embed="rId2"/>
          <a:stretch/>
        </p:blipFill>
        <p:spPr>
          <a:xfrm>
            <a:off x="9516960" y="4592520"/>
            <a:ext cx="243216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45" descr="img1"/>
          <p:cNvPicPr/>
          <p:nvPr/>
        </p:nvPicPr>
        <p:blipFill>
          <a:blip r:embed="rId1"/>
          <a:stretch/>
        </p:blipFill>
        <p:spPr>
          <a:xfrm>
            <a:off x="135000" y="144360"/>
            <a:ext cx="11896560" cy="6569280"/>
          </a:xfrm>
          <a:prstGeom prst="rect">
            <a:avLst/>
          </a:prstGeom>
          <a:ln w="0">
            <a:noFill/>
          </a:ln>
        </p:spPr>
      </p:pic>
      <p:sp>
        <p:nvSpPr>
          <p:cNvPr id="525" name="1"/>
          <p:cNvSpPr/>
          <p:nvPr/>
        </p:nvSpPr>
        <p:spPr>
          <a:xfrm>
            <a:off x="882720" y="75096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2" action="ppaction://hlinksldjump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2"/>
          <p:cNvSpPr/>
          <p:nvPr/>
        </p:nvSpPr>
        <p:spPr>
          <a:xfrm>
            <a:off x="2324160" y="73980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3" action="ppaction://hlinksldjump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10"/>
          <p:cNvSpPr/>
          <p:nvPr/>
        </p:nvSpPr>
        <p:spPr>
          <a:xfrm>
            <a:off x="2338560" y="193212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4" action="ppaction://hlinksldjump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19"/>
          <p:cNvSpPr/>
          <p:nvPr/>
        </p:nvSpPr>
        <p:spPr>
          <a:xfrm>
            <a:off x="3713040" y="3139920"/>
            <a:ext cx="1138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5" action="ppaction://hlinksldjump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20"/>
          <p:cNvSpPr/>
          <p:nvPr/>
        </p:nvSpPr>
        <p:spPr>
          <a:xfrm>
            <a:off x="5129280" y="318276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6" action="ppaction://hlinksldjump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11"/>
          <p:cNvSpPr/>
          <p:nvPr/>
        </p:nvSpPr>
        <p:spPr>
          <a:xfrm>
            <a:off x="3713040" y="1932120"/>
            <a:ext cx="1138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7" action="ppaction://hlinksldjump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3"/>
          <p:cNvSpPr/>
          <p:nvPr/>
        </p:nvSpPr>
        <p:spPr>
          <a:xfrm>
            <a:off x="3713040" y="752400"/>
            <a:ext cx="1138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8" action="ppaction://hlinksldjump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12"/>
          <p:cNvSpPr/>
          <p:nvPr/>
        </p:nvSpPr>
        <p:spPr>
          <a:xfrm>
            <a:off x="5172120" y="192096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9" action="ppaction://hlinksldjump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13"/>
          <p:cNvSpPr/>
          <p:nvPr/>
        </p:nvSpPr>
        <p:spPr>
          <a:xfrm>
            <a:off x="6535800" y="193824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0" action="ppaction://hlinksldjump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14"/>
          <p:cNvSpPr/>
          <p:nvPr/>
        </p:nvSpPr>
        <p:spPr>
          <a:xfrm>
            <a:off x="7907400" y="193212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1" action="ppaction://hlinksldjump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15"/>
          <p:cNvSpPr/>
          <p:nvPr/>
        </p:nvSpPr>
        <p:spPr>
          <a:xfrm>
            <a:off x="9234360" y="1919160"/>
            <a:ext cx="1138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2" action="ppaction://hlinksldjump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16"/>
          <p:cNvSpPr/>
          <p:nvPr/>
        </p:nvSpPr>
        <p:spPr>
          <a:xfrm>
            <a:off x="10563120" y="193212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3" action="ppaction://hlinksldjump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4"/>
          <p:cNvSpPr/>
          <p:nvPr/>
        </p:nvSpPr>
        <p:spPr>
          <a:xfrm>
            <a:off x="5116680" y="73980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4" action="ppaction://hlinksldjump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5"/>
          <p:cNvSpPr/>
          <p:nvPr/>
        </p:nvSpPr>
        <p:spPr>
          <a:xfrm>
            <a:off x="6488280" y="72216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5" action="ppaction://hlinksldjump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6"/>
          <p:cNvSpPr/>
          <p:nvPr/>
        </p:nvSpPr>
        <p:spPr>
          <a:xfrm>
            <a:off x="7859880" y="71280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6" action="ppaction://hlinksldjump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7"/>
          <p:cNvSpPr/>
          <p:nvPr/>
        </p:nvSpPr>
        <p:spPr>
          <a:xfrm>
            <a:off x="9231480" y="71280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7" action="ppaction://hlinksldjump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8"/>
          <p:cNvSpPr/>
          <p:nvPr/>
        </p:nvSpPr>
        <p:spPr>
          <a:xfrm>
            <a:off x="10576080" y="68580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8" action="ppaction://hlinksldjump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18"/>
          <p:cNvSpPr/>
          <p:nvPr/>
        </p:nvSpPr>
        <p:spPr>
          <a:xfrm>
            <a:off x="2320920" y="316692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9" action="ppaction://hlinksldjump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17"/>
          <p:cNvSpPr/>
          <p:nvPr/>
        </p:nvSpPr>
        <p:spPr>
          <a:xfrm>
            <a:off x="844560" y="312732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20" action="ppaction://hlinksldjump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9"/>
          <p:cNvSpPr/>
          <p:nvPr/>
        </p:nvSpPr>
        <p:spPr>
          <a:xfrm>
            <a:off x="888840" y="1914480"/>
            <a:ext cx="11401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21" action="ppaction://hlinksldjump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56960" y="365040"/>
            <a:ext cx="100710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Кто и когда совершил первый полёт в космос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47" name="Рисунок 2" descr="http://cdns2.freepik.com/free-photo/_17-226025854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3" descr="http://aleks-zschool.narod.ru/images/p56_neznayka.jpg"/>
          <p:cNvPicPr/>
          <p:nvPr/>
        </p:nvPicPr>
        <p:blipFill>
          <a:blip r:embed="rId3"/>
          <a:stretch/>
        </p:blipFill>
        <p:spPr>
          <a:xfrm>
            <a:off x="10150560" y="4497480"/>
            <a:ext cx="1957320" cy="2287440"/>
          </a:xfrm>
          <a:prstGeom prst="rect">
            <a:avLst/>
          </a:prstGeom>
          <a:ln w="0">
            <a:noFill/>
          </a:ln>
        </p:spPr>
      </p:pic>
      <p:sp>
        <p:nvSpPr>
          <p:cNvPr id="549" name="Прямоугольник 2"/>
          <p:cNvSpPr/>
          <p:nvPr/>
        </p:nvSpPr>
        <p:spPr>
          <a:xfrm>
            <a:off x="1879560" y="4835520"/>
            <a:ext cx="81694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Юрий Алексеевич Гагарин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2 апреля 196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11360" y="16347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Из чего состоят звёзды?</a:t>
            </a:r>
            <a:endParaRPr b="0" lang="en-US" sz="54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52" name="Рисунок 3" descr="http://cdns2.freepik.com/free-photo/_17-226025854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553" name="Прямоугольник 2"/>
          <p:cNvSpPr/>
          <p:nvPr/>
        </p:nvSpPr>
        <p:spPr>
          <a:xfrm>
            <a:off x="2937600" y="5267160"/>
            <a:ext cx="72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водород и гел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8" descr="image001_46"/>
          <p:cNvPicPr/>
          <p:nvPr/>
        </p:nvPicPr>
        <p:blipFill>
          <a:blip r:embed="rId3"/>
          <a:stretch/>
        </p:blipFill>
        <p:spPr>
          <a:xfrm>
            <a:off x="9229680" y="2381400"/>
            <a:ext cx="2752920" cy="29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Какой галактике принадлежит солнечная система?</a:t>
            </a:r>
            <a:endParaRPr b="0" lang="en-US" sz="40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57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10058400" y="125280"/>
            <a:ext cx="1957320" cy="228780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3" descr="http://cdns2.freepik.com/free-photo/_17-226025854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4440" y="5384880"/>
            <a:ext cx="1616040" cy="1317600"/>
          </a:xfrm>
          <a:prstGeom prst="rect">
            <a:avLst/>
          </a:prstGeom>
          <a:ln w="0">
            <a:noFill/>
          </a:ln>
        </p:spPr>
      </p:pic>
      <p:sp>
        <p:nvSpPr>
          <p:cNvPr id="559" name="Прямоугольник 2"/>
          <p:cNvSpPr/>
          <p:nvPr/>
        </p:nvSpPr>
        <p:spPr>
          <a:xfrm>
            <a:off x="2592720" y="5253120"/>
            <a:ext cx="64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млеч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9120" y="18298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Сколько планет в солнечной системе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62" name="Рисунок 3" descr="http://cdns2.freepik.com/free-photo/_17-226025854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2"/>
          <p:cNvSpPr/>
          <p:nvPr/>
        </p:nvSpPr>
        <p:spPr>
          <a:xfrm>
            <a:off x="1663560" y="473076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9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8" descr="%25D1%2584%25D0%25B0%25D0%25BD%25D1%2582%25D0%25B8%25D0%25BA%2B%25D0%25BD%25D0%25B5%25D0%25B7%25D0%25BD%25D0%25B0%25D0%25B8%25CC%2586%25D0%25BA%25D0%25B0%2B2"/>
          <p:cNvPicPr/>
          <p:nvPr/>
        </p:nvPicPr>
        <p:blipFill>
          <a:blip r:embed="rId3"/>
          <a:stretch/>
        </p:blipFill>
        <p:spPr>
          <a:xfrm>
            <a:off x="9526680" y="227160"/>
            <a:ext cx="24318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Назовите ближайшую к Земле звезду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67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10058400" y="125280"/>
            <a:ext cx="1957320" cy="228780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3" descr="http://cdns2.freepik.com/free-photo/_17-226025854.jpg"/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2"/>
          <p:cNvSpPr/>
          <p:nvPr/>
        </p:nvSpPr>
        <p:spPr>
          <a:xfrm>
            <a:off x="2753640" y="5425920"/>
            <a:ext cx="44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Солнц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В каком созвездии находится Полярная звезда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72" name="Рисунок 3" descr="http://cdns2.freepik.com/free-photo/_17-226025854.jpg"/>
          <p:cNvPicPr/>
          <p:nvPr/>
        </p:nvPicPr>
        <p:blipFill>
          <a:blip r:embed="rId1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2"/>
          <p:cNvSpPr/>
          <p:nvPr/>
        </p:nvSpPr>
        <p:spPr>
          <a:xfrm>
            <a:off x="2735280" y="5388120"/>
            <a:ext cx="765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малая медведиц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8" descr="image001_46"/>
          <p:cNvPicPr/>
          <p:nvPr/>
        </p:nvPicPr>
        <p:blipFill>
          <a:blip r:embed="rId2"/>
          <a:stretch/>
        </p:blipFill>
        <p:spPr>
          <a:xfrm>
            <a:off x="9240840" y="236520"/>
            <a:ext cx="27525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03:00:56Z</dcterms:created>
  <dc:creator>Нот-11</dc:creator>
  <dc:description/>
  <dc:language>en-US</dc:language>
  <cp:lastModifiedBy>USER</cp:lastModifiedBy>
  <dcterms:modified xsi:type="dcterms:W3CDTF">2017-05-19T05:19:57Z</dcterms:modified>
  <cp:revision>53</cp:revision>
  <dc:subject/>
  <dc:title>Презентация PowerPoint</dc:title>
</cp:coreProperties>
</file>