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CCB-7194-472A-98B6-4CC33EBF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B77-99EC-49F9-A88C-AE6B126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CA2-CD02-49E5-94FB-15CB33E8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A05-50A0-494D-8221-EFAC2D89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75A-7ED4-45FA-8369-8FCFCC8E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4C7-8F0F-4292-8321-F810DB1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38E-2756-4287-8F33-14551261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3DA-5322-4B2C-BF8D-E849145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D3B-E9A1-4A88-96EE-E6F9BB67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0E2-8CAE-4FAA-B72A-663F058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30D-473D-476C-AD24-742D594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F66-0DF7-4F01-A417-EB2A2BE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F6E-279C-44B0-9015-925D25667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5720" y="1920960"/>
            <a:ext cx="5027760" cy="236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530b"/>
                </a:solidFill>
                <a:latin typeface="Arial Black"/>
              </a:rPr>
              <a:t>Проект</a:t>
            </a:r>
            <a:br>
              <a:rPr sz="3200"/>
            </a:br>
            <a:r>
              <a:rPr b="0" lang="ru-RU" sz="3200" spc="-1" strike="noStrike">
                <a:solidFill>
                  <a:srgbClr val="f5530b"/>
                </a:solidFill>
                <a:latin typeface="Arial Black"/>
              </a:rPr>
              <a:t>Здоровый малы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"/>
          <p:cNvGrpSpPr/>
          <p:nvPr/>
        </p:nvGrpSpPr>
        <p:grpSpPr>
          <a:xfrm>
            <a:off x="2948040" y="1628640"/>
            <a:ext cx="3959280" cy="122400"/>
            <a:chOff x="2948040" y="1628640"/>
            <a:chExt cx="3959280" cy="122400"/>
          </a:xfrm>
        </p:grpSpPr>
        <p:sp>
          <p:nvSpPr>
            <p:cNvPr id="45" name="Line 9"/>
            <p:cNvSpPr/>
            <p:nvPr/>
          </p:nvSpPr>
          <p:spPr>
            <a:xfrm>
              <a:off x="2948040" y="1628640"/>
              <a:ext cx="395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0"/>
            <p:cNvSpPr/>
            <p:nvPr/>
          </p:nvSpPr>
          <p:spPr>
            <a:xfrm>
              <a:off x="3163680" y="1690560"/>
              <a:ext cx="352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1"/>
            <p:cNvSpPr/>
            <p:nvPr/>
          </p:nvSpPr>
          <p:spPr>
            <a:xfrm>
              <a:off x="3524040" y="1751040"/>
              <a:ext cx="2664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6"/>
          <p:cNvSpPr/>
          <p:nvPr/>
        </p:nvSpPr>
        <p:spPr>
          <a:xfrm>
            <a:off x="3629520" y="6165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Г.О.Г Выкса 2017 го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22" descr=""/>
          <p:cNvPicPr/>
          <p:nvPr/>
        </p:nvPicPr>
        <p:blipFill>
          <a:blip r:embed="rId3"/>
          <a:stretch/>
        </p:blipFill>
        <p:spPr>
          <a:xfrm>
            <a:off x="5138640" y="3780000"/>
            <a:ext cx="4054680" cy="2565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4"/>
          <a:stretch/>
        </p:blipFill>
        <p:spPr>
          <a:xfrm>
            <a:off x="2700360" y="-55440"/>
            <a:ext cx="6626160" cy="1012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епова Т.Г - </a:t>
            </a: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Формирование здорового образа жизни у дошкольников. Издательство Учитель 2015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тавцева Нина Владимировна, Краснова Римма Сергеевна. Издательство Сфера 2013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Воспитание ценностей здорового образа жизни у детей 3-7 лет. Планирование, занятия, игры. ФГОС ДО.  Издательство учитель 2016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Интернет ресур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"/>
          <p:cNvSpPr/>
          <p:nvPr/>
        </p:nvSpPr>
        <p:spPr>
          <a:xfrm>
            <a:off x="2987640" y="260280"/>
            <a:ext cx="54007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"/>
          <p:cNvSpPr/>
          <p:nvPr/>
        </p:nvSpPr>
        <p:spPr>
          <a:xfrm>
            <a:off x="2771640" y="189000"/>
            <a:ext cx="53294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684360" y="189000"/>
            <a:ext cx="83516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ок используемой литератур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епова Т.Г - </a:t>
            </a: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Формирование здорового образа жизни у дошкольников. Издательство Учитель 2015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тавцева Нина Владимировна, Краснова Римма Сергеевна. Издательство Сфера 2013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Воспитание ценностей здорового образа жизни у детей 3-7 лет. Планирование, занятия, игры. ФГОС ДО.  Издательство учитель 2016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Интернет ресур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"/>
          <p:cNvSpPr/>
          <p:nvPr/>
        </p:nvSpPr>
        <p:spPr>
          <a:xfrm>
            <a:off x="2987640" y="260280"/>
            <a:ext cx="54007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2"/>
          <p:cNvSpPr/>
          <p:nvPr/>
        </p:nvSpPr>
        <p:spPr>
          <a:xfrm>
            <a:off x="2771640" y="189000"/>
            <a:ext cx="53294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684360" y="189000"/>
            <a:ext cx="83516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ок используемой литератур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вставка верх 1"/>
          <p:cNvPicPr/>
          <p:nvPr/>
        </p:nvPicPr>
        <p:blipFill>
          <a:blip r:embed="rId1"/>
          <a:stretch/>
        </p:blipFill>
        <p:spPr>
          <a:xfrm>
            <a:off x="36360" y="14400"/>
            <a:ext cx="914400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8"/>
          <p:cNvGrpSpPr/>
          <p:nvPr/>
        </p:nvGrpSpPr>
        <p:grpSpPr>
          <a:xfrm>
            <a:off x="1332000" y="5732640"/>
            <a:ext cx="6552720" cy="144000"/>
            <a:chOff x="1332000" y="5732640"/>
            <a:chExt cx="6552720" cy="144000"/>
          </a:xfrm>
        </p:grpSpPr>
        <p:sp>
          <p:nvSpPr>
            <p:cNvPr id="54" name="Line 9"/>
            <p:cNvSpPr/>
            <p:nvPr/>
          </p:nvSpPr>
          <p:spPr>
            <a:xfrm>
              <a:off x="1332000" y="5876640"/>
              <a:ext cx="6552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688760" y="5803920"/>
              <a:ext cx="584064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2285280" y="5732640"/>
              <a:ext cx="4408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4560" y="115560"/>
            <a:ext cx="647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바탕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바탕"/>
              </a:rPr>
              <a:t>детский сад комбинированного вида №3 «Ручеёк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058400"/>
            <a:ext cx="88567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Реализация проекта « Здоровый малыш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Участники проекта: дети группы  общеразвивающей направленности для детей 3-4 лет №12, родители,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Тип проекта: познавательно –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Образовательные области: Познавательное развитие. Физическое развитие. Речевое развитие. Художественно-эстетическое развитие. Социально –коммуникатив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Сроки реализации: 1 неделя (с 30.01.2017 по . 03. 02 .2017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                                                                   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Разработала                                                                                                                                                                                   воспитатель:                                                                                                                                                                                       О.В Вд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вставка верх 1"/>
          <p:cNvPicPr/>
          <p:nvPr/>
        </p:nvPicPr>
        <p:blipFill>
          <a:blip r:embed="rId1"/>
          <a:stretch/>
        </p:blipFill>
        <p:spPr>
          <a:xfrm>
            <a:off x="36360" y="14400"/>
            <a:ext cx="9144000" cy="19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8"/>
          <p:cNvGrpSpPr/>
          <p:nvPr/>
        </p:nvGrpSpPr>
        <p:grpSpPr>
          <a:xfrm>
            <a:off x="1332000" y="5732640"/>
            <a:ext cx="6552720" cy="144000"/>
            <a:chOff x="1332000" y="5732640"/>
            <a:chExt cx="6552720" cy="144000"/>
          </a:xfrm>
        </p:grpSpPr>
        <p:sp>
          <p:nvSpPr>
            <p:cNvPr id="62" name="Line 9"/>
            <p:cNvSpPr/>
            <p:nvPr/>
          </p:nvSpPr>
          <p:spPr>
            <a:xfrm>
              <a:off x="1332000" y="5876640"/>
              <a:ext cx="6552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1688760" y="5803920"/>
              <a:ext cx="584064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2285280" y="5732640"/>
              <a:ext cx="4408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1080" y="974520"/>
            <a:ext cx="8856720" cy="56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Тип проект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познавательно –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Проект проводится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Внутри детского сада с детьми второй младшей  группы №12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По продолжительности проект: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краткосрочный (1 неделя).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바탕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и укрепление здоровья детей через систему комплексной физкультурно-оздорови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ние навыков самостоятельности у детей при соблюдении культурно-гигиенических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желания и стремления вести здоровы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и родители имеют элементарные представления о ценности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Обобщение проектной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: «Открытое мероприятие « Быть здоровым это замечательно»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                         Лэпбук « Все 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Г.О. Г. Выкса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116000" y="2376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765000"/>
            <a:ext cx="9036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ается значительное увеличение количества случаев заболеваемости, что требует необходимости использования современных, инновационных подходов воспитательно-оздоровительной раб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Дети не знакомы с понятием «здоровый образ жизни», они не осознают значимость здоровья и  как его сохранить и укрепить. На вопрос воспитателя: - Что нужно делать, чтобы не боле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ти отвечаю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до пить лекарства или табле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оспитательная – образовательная работа  требует от нас формировать у детей привычки к здоровому образу жизни, которые всегда стоят на первом мес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В процессе повседневной работы с детьми необходимо стремиться к тому, чтобы выполнение правил личной гигиены стало для них естественным, а гигиенические навыки с возрастом постоянно совершенствовалис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3"/>
          <p:cNvSpPr/>
          <p:nvPr/>
        </p:nvSpPr>
        <p:spPr>
          <a:xfrm>
            <a:off x="2916360" y="260280"/>
            <a:ext cx="115092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2916360" y="260280"/>
            <a:ext cx="287964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3132000" y="260280"/>
            <a:ext cx="3672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с одним вырезанным углом 6"/>
          <p:cNvSpPr/>
          <p:nvPr/>
        </p:nvSpPr>
        <p:spPr>
          <a:xfrm>
            <a:off x="3348000" y="260280"/>
            <a:ext cx="4680000" cy="144360"/>
          </a:xfrm>
          <a:custGeom>
            <a:avLst/>
            <a:gdLst/>
            <a:ahLst/>
            <a:rect l="l" t="t" r="r" b="b"/>
            <a:pathLst>
              <a:path w="4679950" h="144463">
                <a:moveTo>
                  <a:pt x="0" y="0"/>
                </a:moveTo>
                <a:lnTo>
                  <a:pt x="4655872" y="0"/>
                </a:lnTo>
                <a:lnTo>
                  <a:pt x="4679950" y="24078"/>
                </a:lnTo>
                <a:lnTo>
                  <a:pt x="4679950" y="144463"/>
                </a:lnTo>
                <a:lnTo>
                  <a:pt x="0" y="14446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3456000" y="55440"/>
            <a:ext cx="4680000" cy="69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616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культуры здоровья у детей 3-4 лет; сохранение и укрепление здоровья детей; приобщение детей и их родителей к здоровому образу жизн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зователь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представление о здоровом образе жиз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жать знакомить с правилами личной гигие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ствовать укреплению здоровья детей через систему оздоровительных мероприятий.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вивающ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культурно-гигиенические навыки у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у детей умения выполнять правильно дыхательные гимнастики и  упражнения.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оспитатель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 интерес детей к здоровому образу жиз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у детей желание заниматься физкультурой, спортом, закаляться, заботиться о своем здоровье, заботливо относиться к своему телу и организ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у детей желание выглядеть чистым, аккуратным и опрятны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ить связи между детским садом и семьей, изменить позицию родителей в отношении своего здоровья и здоровья детей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8"/>
          <p:cNvGrpSpPr/>
          <p:nvPr/>
        </p:nvGrpSpPr>
        <p:grpSpPr>
          <a:xfrm>
            <a:off x="3995640" y="281160"/>
            <a:ext cx="3959280" cy="122040"/>
            <a:chOff x="3995640" y="281160"/>
            <a:chExt cx="3959280" cy="122040"/>
          </a:xfrm>
        </p:grpSpPr>
        <p:sp>
          <p:nvSpPr>
            <p:cNvPr id="79" name="Line 9"/>
            <p:cNvSpPr/>
            <p:nvPr/>
          </p:nvSpPr>
          <p:spPr>
            <a:xfrm>
              <a:off x="3995640" y="281160"/>
              <a:ext cx="395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4211280" y="342720"/>
              <a:ext cx="352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4571640" y="403200"/>
              <a:ext cx="2664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8000" y="720720"/>
          <a:ext cx="8928000" cy="5894280"/>
        </p:xfrm>
        <a:graphic>
          <a:graphicData uri="http://schemas.openxmlformats.org/drawingml/2006/table">
            <a:tbl>
              <a:tblPr/>
              <a:tblGrid>
                <a:gridCol w="2430360"/>
                <a:gridCol w="4764240"/>
                <a:gridCol w="1733400"/>
              </a:tblGrid>
              <a:tr h="2909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, изучение и обработка информа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дготовительный этап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  Создание проблемы, постановка цели и задач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методической литературой по данной проблеме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варительная работа с детьми и родителями о важности проблемы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методической, познавательной  и художественной литературы о здоровь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наглядного иллюстрированного материала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дидактических, подвижных игр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материала для продуктивной деятельности детей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оставление  перспективного плана мероприятий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родителями по взаимодействию в рамках проекта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2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д проектом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этап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детьм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Беседы с детьми о важности мытья рук, употребление  в пищу фруктов, овощей. Беседы с детьми о здоровье, что нужно делать чтобы быть здоровым.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поставленной цели и задач через различные виды детской деятельности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родителями;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2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 этап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ация  для родителей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дня для ребенка"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омендации родителям о здоровом образе жизни ребёнк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"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показ «Быть здоровым замечате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эпбук « Все о здоровь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Скругленный прямоугольник 4"/>
          <p:cNvSpPr/>
          <p:nvPr/>
        </p:nvSpPr>
        <p:spPr>
          <a:xfrm>
            <a:off x="2916360" y="189000"/>
            <a:ext cx="46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3348000" y="189000"/>
            <a:ext cx="396072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3203640" y="81000"/>
            <a:ext cx="446400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апы проекта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08000" y="836640"/>
          <a:ext cx="9036000" cy="5396040"/>
        </p:xfrm>
        <a:graphic>
          <a:graphicData uri="http://schemas.openxmlformats.org/drawingml/2006/table">
            <a:tbl>
              <a:tblPr/>
              <a:tblGrid>
                <a:gridCol w="2187360"/>
                <a:gridCol w="6848640"/>
              </a:tblGrid>
              <a:tr h="5684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тской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ы организации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ые игры: «Больница", « Поликлиника»., « Детский сад» ; Игровая ситуация « Мишка заболел», « Научим куклу мыть руки», « Дети идут на заряд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 Съедобное не съедобное», Лото « Овощи фрукты». Д/И « Вредно полез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-речев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 «Мое тело»,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седа «Витамины я люблю – быть здоровым я хочу!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еседы «Опасная прогулка», «Идем на физкультуру»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седа о здоровье и чистот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, «Зачем нужна зарядка?»; - упражнение «Мой внешний вид».                                  Конструирование  « Спортивная площадка».   Рассматривание альбомов « Здоровый образ жизни», « Я и мое тело», « Зимние виды спорта».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художественной литературы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К.Чуковский «Мойдодыр»;    П.Ефимов «Стихотворение о физкультуре»;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учивание пословиц, поговорок о здоровье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азгадывание загадок о спорте, о предметах гигиены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/и «Подскажи словечко»; д/и «Чем занимается спортсмен?     упражнение «Кто скажет больше слов о мяче?».      Наблюдение « Посадка лука». Беседа  « Витамины на окн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960480"/>
          <a:ext cx="8435880" cy="5635440"/>
        </p:xfrm>
        <a:graphic>
          <a:graphicData uri="http://schemas.openxmlformats.org/drawingml/2006/table">
            <a:tbl>
              <a:tblPr/>
              <a:tblGrid>
                <a:gridCol w="2043000"/>
                <a:gridCol w="6392880"/>
              </a:tblGrid>
              <a:tr h="7524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тской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ы организации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96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ивн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 « Микробы на руках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« Овощи и фрукты полезные для здоровья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крашивание картинок « Гигиенические принадлежности, фрукты , овощи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344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ые упражнения «Веселый мяч», «Пройди и не задень», «Переложи шарики»; «Собери мусор», игры на прогулке «Эстафета»,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и «У медведя во бору», «Кот и мыши», «Лиса и зайцы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дрящая гимнастика «Мячики»;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ительная «Тренировк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вставка верх 1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У детей значительно повысился интерес и желание заниматься гимнастикой,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изкультуро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, принимать участие в закаливающих процедур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У детей повысились знания о значимости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дорового образа жизн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. Расширилось представление о пользе овощей и фруктов для здоровь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С целью повышения интереса к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доровом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образу жизни необходимо продолжать систематическую работу в данном направлении через создание и реализацию новых совместных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, и использование интегрированного подхода в этом направ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"/>
          <p:cNvSpPr/>
          <p:nvPr/>
        </p:nvSpPr>
        <p:spPr>
          <a:xfrm>
            <a:off x="1979640" y="1268280"/>
            <a:ext cx="532908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916360" y="189000"/>
            <a:ext cx="518472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627280" y="189000"/>
            <a:ext cx="6192720" cy="771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аключительный эта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4:36Z</dcterms:created>
  <dc:creator>Cooper</dc:creator>
  <dc:description/>
  <dc:language>en-US</dc:language>
  <cp:lastModifiedBy>Ольга</cp:lastModifiedBy>
  <cp:lastPrinted>2017-01-28T21:57:50Z</cp:lastPrinted>
  <dcterms:modified xsi:type="dcterms:W3CDTF">2017-02-28T16:07:22Z</dcterms:modified>
  <cp:revision>56</cp:revision>
  <dc:subject/>
  <dc:title>Школьная форма для учащихся школ  г. Ломоносова (Ораниенбаума)</dc:title>
</cp:coreProperties>
</file>