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8811-C5AC-4C38-A2CD-3B82D384D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AA2C-4A33-4F8C-A40E-C144D9B31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280B-6E75-4F1F-8BDC-F26D28EDF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CA2E-9A6E-4AC4-94D0-0FAB5AD78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105D-7051-4588-B294-A2B48ED6BA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57FD-3ED0-4C8B-ABBF-A0D8F9C025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694B-9BEB-43D0-ACE9-A8CE1BD6FF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C99C-FF50-41C4-A940-B8381C09FA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AD4C-112D-47DC-803C-A166C27469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7355-838E-4B30-BF03-F07A2F4086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3630-E3FD-4593-96C4-8C84BDD24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6C99-D7C3-4677-8D2D-6E9A62D51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A05D-1C6F-49D8-81F7-20C965C429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21DD-3B6B-4374-817B-DDE99D2402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31B5-493F-4F3E-B49A-AA1E4F5B5D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53AF-741C-478D-B7A9-9505B37932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D0AB-AC5E-4CF0-95F1-DEF4CF47E0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2D2D-F736-4AD5-B389-637A58D334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0A51-1BEB-4994-AAE7-6A14246FC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3C64-778B-492A-9D6B-53A1356F9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986D-D2F7-4F27-B48E-D318F1BC8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9AAC-A5AC-48D6-9FD9-231DBB5CA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B048-8241-4193-9DF2-A0DDB9431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E269-F631-4BB7-83E1-53CE2EAED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0A3FC-CDEB-4DA7-ABBA-045460B9935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7600" cy="198360"/>
            <a:chOff x="228600" y="2889360"/>
            <a:chExt cx="8607600" cy="19836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7040" cy="19836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7040" cy="19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7040" cy="19836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8B0C0D-8F29-423A-BC37-63567B5E28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1079640"/>
            <a:ext cx="77724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47"/>
                </a:solidFill>
                <a:latin typeface="Comic Sans MS"/>
              </a:rPr>
              <a:t>Творческий проект: </a:t>
            </a:r>
            <a:br>
              <a:rPr sz="4000"/>
            </a:br>
            <a:r>
              <a:rPr b="1" lang="ru-RU" sz="4000" spc="-1" strike="noStrike">
                <a:solidFill>
                  <a:srgbClr val="b84747"/>
                </a:solidFill>
                <a:latin typeface="Comic Sans MS"/>
              </a:rPr>
              <a:t>«Юбка. Конструирование»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374840" y="4125960"/>
            <a:ext cx="64008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Выполнила Гимбатова Диа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ученица  6 «А» класса ГБОУ СОШ № 12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2013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66680"/>
            <a:ext cx="807552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Последовательность изготовления издел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060640"/>
            <a:ext cx="4040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Сниму с себя мерки и построю чертёж прям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 основному чертежу прямой юбки выполню моделирование в соответствии с выбранной моделью. Изготовлю выкройку и выполню раскр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дготовлю ткань к раскрою и выполню раскр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дготовлю детали юбки к смётыванию и юбку к примерк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роведу примерку юбки и исправлю дефекты, если они возникну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646520" y="2060640"/>
            <a:ext cx="4040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вытач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боковые срез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застёжку в левом боковом шве юбки тесьмой- молн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пояс, обработаю верхний срез юбки притачным пояс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нижний срез юбки швом вподгибку с закрытым срез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петлю и пришью пуговиц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-1126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Экономическое обоснова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484280"/>
            <a:ext cx="7770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76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Мой расчёт затрат на материалы для изготовления юбки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205000"/>
          <a:ext cx="7488360" cy="3768840"/>
        </p:xfrm>
        <a:graphic>
          <a:graphicData uri="http://schemas.openxmlformats.org/drawingml/2006/table">
            <a:tbl>
              <a:tblPr/>
              <a:tblGrid>
                <a:gridCol w="1754280"/>
                <a:gridCol w="1752480"/>
                <a:gridCol w="1965240"/>
                <a:gridCol w="20163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Наименование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Условная ц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Расход материала (ш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Затраты на материа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Костюмно- платьевая тк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20руб. за 1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м 20см (ширина ткани 1м 40с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44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Нитки швей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руб. за катуш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 катуш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Пуговиц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Застёжка- мол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9руб. за 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9ру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Итого:                                                                              162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14520"/>
            <a:ext cx="7777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зготовление изделия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Контроль качеств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Изготовлю юбку в той последовательности, которая изложена в учебнике технологии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Учитель рассказывала на уроках технологии о критериях проверки и оценки качества проекта. Я самостоятельно  буду контролировать и оценивать качество своего проект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99284c"/>
                </a:solidFill>
                <a:latin typeface="Comic Sans MS"/>
              </a:rPr>
              <a:t>Оформление проекта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Ознакомлюсь с требованиями к оформлению проекта и выполню всё, что нужно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Самооценк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600200"/>
            <a:ext cx="7715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Проанализирую этапы выполнения проекта. Всё ли из задуманного я сделала? Получится ли у меня проект? Довольна ли я им? Хочу ли я в нём что- нибудь исправить? Какие этапы выполнения проекта были для меня наиболее трудоёмкими? Какие знания и умения мне понадобились для изготовления проектного изделия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Я оцениваю свою работу на «отлично»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57636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Comic Sans MS"/>
              </a:rPr>
              <a:t>Задачи проек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1763640"/>
            <a:ext cx="788364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Определение конкретной задачи и её формулиров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Выявление основных требований к издели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Исслед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Разработка идей, вариант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Анализ идей и выбор лучшего вариан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Выбор ткани, инструментов, приспособлений оборуд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Последовательность изготовления издел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Экономическое обоснован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Изготовление изделия. Контроль качест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Оформление проек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Самооцен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57636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99284c"/>
                </a:solidFill>
                <a:latin typeface="Arial"/>
              </a:rPr>
              <a:t>Обоснование возникшей проблемы и потребности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017800"/>
            <a:ext cx="406584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3280" indent="-43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6633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ff6633"/>
                </a:solidFill>
                <a:latin typeface="Comic Sans MS"/>
              </a:rPr>
              <a:t>По программе «Технология» в 6 классе выполняется швейное изделие -  юбка. Мне необходимо было продумать все этапы технологического проектирования для последующего изготовления изделия и представить потребности в виде схемы размышлений. Вооружившись учебником и знаниями, полученными на уроках, приступила к проек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319640" y="2016000"/>
            <a:ext cx="4149720" cy="4173840"/>
            <a:chOff x="4319640" y="2016000"/>
            <a:chExt cx="4149720" cy="4173840"/>
          </a:xfrm>
        </p:grpSpPr>
        <p:sp>
          <p:nvSpPr>
            <p:cNvPr id="136" name=""/>
            <p:cNvSpPr/>
            <p:nvPr/>
          </p:nvSpPr>
          <p:spPr>
            <a:xfrm flipH="1" flipV="1">
              <a:off x="5633640" y="3090960"/>
              <a:ext cx="507960" cy="674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50000" y="2332080"/>
              <a:ext cx="863280" cy="834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езопасност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руда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164200" y="3715920"/>
              <a:ext cx="820800" cy="2588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1080" y="3166920"/>
              <a:ext cx="863640" cy="835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кан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164200" y="4235400"/>
              <a:ext cx="820800" cy="25560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19640" y="4200480"/>
              <a:ext cx="863640" cy="835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нструирование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635440" y="4443480"/>
              <a:ext cx="507960" cy="66816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6760" y="5037120"/>
              <a:ext cx="863640" cy="835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ел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7560" y="4522680"/>
              <a:ext cx="0" cy="82548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2680" y="5354640"/>
              <a:ext cx="863640" cy="835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а, стиль,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илуэт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1720" y="4441680"/>
              <a:ext cx="501480" cy="66852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78600" y="5037120"/>
              <a:ext cx="863640" cy="835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блема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требность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4232160"/>
              <a:ext cx="814320" cy="25236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05720" y="4200480"/>
              <a:ext cx="863640" cy="83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нструменты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испособл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807240" y="3713040"/>
              <a:ext cx="814320" cy="260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05720" y="3168720"/>
              <a:ext cx="863640" cy="8348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рудование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649920" y="3088800"/>
              <a:ext cx="501840" cy="6764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8600" y="2335320"/>
              <a:ext cx="863640" cy="8348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я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зготовл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396120" y="2849400"/>
              <a:ext cx="0" cy="836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2680" y="2016000"/>
              <a:ext cx="863640" cy="8352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тоимость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атериалов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62680" y="3686040"/>
              <a:ext cx="863640" cy="8352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b84747"/>
                  </a:solidFill>
                  <a:latin typeface="Arial"/>
                </a:rPr>
                <a:t>Юбк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36720" y="720720"/>
            <a:ext cx="734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Comic Sans MS"/>
              </a:rPr>
              <a:t>Определение конкретной задачи и её формулиров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664000"/>
            <a:ext cx="822960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Когда я обосновала возникшую проблему и потребность, то определила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моя задача - изготовить юбку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76360" y="576360"/>
            <a:ext cx="7775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Comic Sans MS"/>
              </a:rPr>
              <a:t>Выявление основных требований </a:t>
            </a:r>
            <a:br>
              <a:rPr sz="2800"/>
            </a:br>
            <a:r>
              <a:rPr b="1" i="1" lang="ru-RU" sz="2800" spc="-1" strike="noStrike">
                <a:solidFill>
                  <a:srgbClr val="99284c"/>
                </a:solidFill>
                <a:latin typeface="Comic Sans MS"/>
              </a:rPr>
              <a:t>к издели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303640"/>
            <a:ext cx="82296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Wingdings" charset="2"/>
              <a:buChar char="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420e"/>
                </a:solidFill>
                <a:latin typeface="Comic Sans MS"/>
              </a:rPr>
              <a:t>Какие требования я представляю к своему будущему изделию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олжна быть красивой и модной, соответствовать особенностям строения фигуры, назначению и внешнему обли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Конструкция юбки должна соответствовать выбранной моде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олжна хорошо сидеть на фигуре, быть удобной в носк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Нужно, чтобы юбка была универсальной в носке и её можно было сочетать с нарядной и повседневной блузкой или жакет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Изделие должно быть недорогим, но качественно изготовленн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576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сследования, тенденци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016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Font typeface="Wingdings" charset="2"/>
              <a:buChar char="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Различают три основных стиля: классический, спортивный и романтический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К классическому стилю относят всё, что со временем почти не меняется, то что вне мо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Одежда спортивного стиля, как правило, свободного покроя. Она удобна для движений, для разнообразной работы, активного отдых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Романтический стиль- это лёгкость, мечтательность. В одежде используются элементы исторического, национального(фольклорного) костю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87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Разработка идей, вариантов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71640"/>
            <a:ext cx="40402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51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Я выбрала юбку романтического сти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51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вухшовная, расширенная книзу. Застёжка- молния в левом боковом шве. Верхний срез юбки обработан притачным поясом, нижний- швом вподгиб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967280" y="1944720"/>
            <a:ext cx="3392640" cy="4184640"/>
            <a:chOff x="4967280" y="1944720"/>
            <a:chExt cx="3392640" cy="418464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4967280" y="1944720"/>
              <a:ext cx="3392640" cy="41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967280" y="1944720"/>
              <a:ext cx="3392640" cy="41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-411120"/>
            <a:ext cx="82296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Выбор ткани, инструментов, приспособлений оборудован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754200" y="2276640"/>
            <a:ext cx="378144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76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Выбор ткан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    </a:t>
            </a: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Теперь, когда я определилась с моделью юбки, мне ещё предстоит выбрать подходящую ткань для её изготовления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25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f89d08"/>
                </a:solidFill>
                <a:latin typeface="Comic Sans MS"/>
              </a:rPr>
              <a:t>Я решила, что для моей юбки больше подойдёт костюмно- платьевая ткань. Этот материал хорошо драпируется, образуя мягкие красивые складк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1680" y="2262240"/>
            <a:ext cx="3902040" cy="3071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229440" y="4540320"/>
            <a:ext cx="1009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тюмно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ьева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680160" y="3220920"/>
            <a:ext cx="1800" cy="1078200"/>
          </a:xfrm>
          <a:prstGeom prst="line">
            <a:avLst/>
          </a:prstGeom>
          <a:ln cap="sq" w="284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6000" y="139680"/>
            <a:ext cx="8470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Выбор оборудования,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нструментов и приспособлений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71640"/>
            <a:ext cx="822960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Швейная машинка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Утюжильная доска, утюг, пульверизатор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Ручная игла №3, булавки, ножницы, напёрсто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Нитки хлопчатобумажные №50- для машинных работ, №60- для ручных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Сантиметровая лента, линейка, мело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       </a:t>
            </a: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Дополнительные материалы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бумага для построения чертежей и изготовления лекал, учебник, рабочая тетрадь для повторения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02:42Z</dcterms:created>
  <dc:creator>Customer</dc:creator>
  <dc:description/>
  <dc:language>en-US</dc:language>
  <cp:lastModifiedBy>user</cp:lastModifiedBy>
  <dcterms:modified xsi:type="dcterms:W3CDTF">2013-08-21T06:20:44Z</dcterms:modified>
  <cp:revision>15</cp:revision>
  <dc:subject/>
  <dc:title>Творческий проект: «Юбка».</dc:title>
</cp:coreProperties>
</file>