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F8EF-6043-48D2-9F37-B21B79A00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6121-A4BF-444B-8C26-D961DC6A5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5DD1-9CC9-4069-B715-B5D1A93DB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322D-E894-4110-9C8C-663D3FBE5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525E9-394C-450D-A104-2A9C4EBF8A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98ECB-4020-4D1E-AEF3-4E65D35BF7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94609-5CA8-4D94-937D-A38A04412A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5FD6B-0338-4322-B907-C07E39A2DE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F3543-385F-456B-8551-57CE3ED233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6020C-FBE7-46B4-B2AD-99192D9BE5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E65E6-8E69-4F05-864B-78BE50DD7F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2C63-CDFD-46B0-913F-C641FF0C4F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E05F9-9C12-4151-B330-C70BFF2D3A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9AA89-E99C-4FF7-998C-8CF957B77D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07E36-8F1E-4D62-B19B-EF30DC6AFC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29AE7-196F-44D7-9AD6-232DBB1FE7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C3185-0081-4B4A-BF06-8C8FE8A144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2D9F-0AB4-4398-BAB5-03BD198D5C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4C958-CB67-4E76-9B7E-89A286F22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7BC7-3A5B-44D0-A7ED-0F4C9F337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AD59-0397-4874-A79F-FB670C7B0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8BF0-9BC7-49ED-A0A8-F49493A3B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F7BBC-BC83-4FE2-ADF7-0B0631144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ED0E-64A5-48EB-85F6-85987D41A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0DE47-454E-4E1F-BB18-739A7EB3D5D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1440"/>
          </a:xfrm>
          <a:prstGeom prst="line">
            <a:avLst/>
          </a:prstGeom>
          <a:ln cap="sq"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2889360"/>
            <a:ext cx="8607600" cy="198360"/>
            <a:chOff x="228600" y="2889360"/>
            <a:chExt cx="8607600" cy="198360"/>
          </a:xfrm>
        </p:grpSpPr>
        <p:sp>
          <p:nvSpPr>
            <p:cNvPr id="46" name=""/>
            <p:cNvSpPr/>
            <p:nvPr/>
          </p:nvSpPr>
          <p:spPr>
            <a:xfrm>
              <a:off x="228600" y="2889360"/>
              <a:ext cx="2867040" cy="19836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98880" y="2889360"/>
              <a:ext cx="2867040" cy="1983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69160" y="2889360"/>
              <a:ext cx="2867040" cy="19836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FD71683-0AF3-4283-AFA1-66F650AA48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20720" y="1079640"/>
            <a:ext cx="777240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47"/>
                </a:solidFill>
                <a:latin typeface="Comic Sans MS"/>
              </a:rPr>
              <a:t>Творческий проект: </a:t>
            </a:r>
            <a:br>
              <a:rPr sz="4000"/>
            </a:br>
            <a:r>
              <a:rPr b="1" lang="ru-RU" sz="4000" spc="-1" strike="noStrike">
                <a:solidFill>
                  <a:srgbClr val="b84747"/>
                </a:solidFill>
                <a:latin typeface="Comic Sans MS"/>
              </a:rPr>
              <a:t>«Юбка. Конструирование»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1374840" y="4125960"/>
            <a:ext cx="640080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420e"/>
                </a:solidFill>
                <a:latin typeface="Garamond"/>
              </a:rPr>
              <a:t>Выполнила Гимбатова Диана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420e"/>
                </a:solidFill>
                <a:latin typeface="Garamond"/>
              </a:rPr>
              <a:t>ученица  6 «А» класса ГБОУ СОШ № 12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420e"/>
                </a:solidFill>
                <a:latin typeface="Garamond"/>
              </a:rPr>
              <a:t>2013 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66680"/>
            <a:ext cx="807552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Последовательность изготовления изделия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060640"/>
            <a:ext cx="4040280" cy="40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Сниму с себя мерки и построю чертёж прямой юб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По основному чертежу прямой юбки выполню моделирование в соответствии с выбранной моделью. Изготовлю выкройку и выполню раскрой юб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Подготовлю ткань к раскрою и выполню раскрой юб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Подготовлю детали юбки к смётыванию и юбку к примерк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Проведу примерку юбки и исправлю дефекты, если они возникну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4646520" y="2060640"/>
            <a:ext cx="4040280" cy="40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вытач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боковые срез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застёжку в левом боковом шве юбки тесьмой- молни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пояс, обработаю верхний срез юбки притачным пояс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нижний срез юбки швом вподгибку с закрытым срез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петлю и пришью пуговиц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-1126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mic Sans MS"/>
              </a:rPr>
              <a:t>Экономическое обосновани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1484280"/>
            <a:ext cx="7770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476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89d08"/>
                </a:solidFill>
                <a:latin typeface="Comic Sans MS"/>
              </a:rPr>
              <a:t>Мой расчёт затрат на материалы для изготовления юбки: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55640" y="2205000"/>
          <a:ext cx="7488360" cy="3768840"/>
        </p:xfrm>
        <a:graphic>
          <a:graphicData uri="http://schemas.openxmlformats.org/drawingml/2006/table">
            <a:tbl>
              <a:tblPr/>
              <a:tblGrid>
                <a:gridCol w="1754280"/>
                <a:gridCol w="1752480"/>
                <a:gridCol w="1965240"/>
                <a:gridCol w="201636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Наименование материа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Условная ц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Расход материала (шт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Затраты на материа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Костюмно- платьевая тка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20руб. за 1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м 20см (ширина ткани 1м 40см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44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Нитки швей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6руб. за катушк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 катуш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6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Пуговиц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руб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Застёжка- мол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9руб. за 1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9ру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Итого:                                                                              162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11280" y="614520"/>
            <a:ext cx="7777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Изготовление изделия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Контроль качеств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55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Изготовлю юбку в той последовательности, которая изложена в учебнике технологии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55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Учитель рассказывала на уроках технологии о критериях проверки и оценки качества проекта. Я самостоятельно  буду контролировать и оценивать качество своего проекта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200" spc="-1" strike="noStrike">
                <a:solidFill>
                  <a:srgbClr val="99284c"/>
                </a:solidFill>
                <a:latin typeface="Comic Sans MS"/>
              </a:rPr>
              <a:t>Оформление проекта.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55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Ознакомлюсь с требованиями к оформлению проекта и выполню всё, что нужно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Самооценк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600200"/>
            <a:ext cx="7715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55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Проанализирую этапы выполнения проекта. Всё ли из задуманного я сделала? Получится ли у меня проект? Довольна ли я им? Хочу ли я в нём что- нибудь исправить? Какие этапы выполнения проекта были для меня наиболее трудоёмкими? Какие знания и умения мне понадобились для изготовления проектного изделия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55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Я оцениваю свою работу на «отлично»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57636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Comic Sans MS"/>
              </a:rPr>
              <a:t>Задачи проект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612720" y="1763640"/>
            <a:ext cx="788364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Определение конкретной задачи и её формулиров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Выявление основных требований к изделию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Исследова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Разработка идей, вариант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Анализ идей и выбор лучшего вариан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Выбор ткани, инструментов, приспособлений оборудова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Последовательность изготовления издел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Экономическое обосновани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Изготовление изделия. Контроль качеств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Оформление проек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Самооценк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576360"/>
            <a:ext cx="82296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800" spc="-1" strike="noStrike">
                <a:solidFill>
                  <a:srgbClr val="99284c"/>
                </a:solidFill>
                <a:latin typeface="Arial"/>
              </a:rPr>
              <a:t>Обоснование возникшей проблемы и потребности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2017800"/>
            <a:ext cx="4065840" cy="41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3280" indent="-43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6633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ff6633"/>
                </a:solidFill>
                <a:latin typeface="Comic Sans MS"/>
              </a:rPr>
              <a:t>По программе «Технология» в 6 классе выполняется швейное изделие -  юбка. Мне необходимо было продумать все этапы технологического проектирования для последующего изготовления изделия и представить потребности в виде схемы размышлений. Вооружившись учебником и знаниями, полученными на уроках, приступила к проект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319640" y="2016000"/>
            <a:ext cx="4149720" cy="4173840"/>
            <a:chOff x="4319640" y="2016000"/>
            <a:chExt cx="4149720" cy="4173840"/>
          </a:xfrm>
        </p:grpSpPr>
        <p:sp>
          <p:nvSpPr>
            <p:cNvPr id="136" name=""/>
            <p:cNvSpPr/>
            <p:nvPr/>
          </p:nvSpPr>
          <p:spPr>
            <a:xfrm flipH="1" flipV="1">
              <a:off x="5633640" y="3090960"/>
              <a:ext cx="507960" cy="67464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50000" y="2332080"/>
              <a:ext cx="863280" cy="8348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Безопасность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руда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5164200" y="3715920"/>
              <a:ext cx="820800" cy="25884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1080" y="3166920"/>
              <a:ext cx="863640" cy="8352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кань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164200" y="4235400"/>
              <a:ext cx="820800" cy="25560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19640" y="4200480"/>
              <a:ext cx="863640" cy="8352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онструирование,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моделирование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635440" y="4443480"/>
              <a:ext cx="507960" cy="66816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46760" y="5037120"/>
              <a:ext cx="863640" cy="8352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Модель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97560" y="4522680"/>
              <a:ext cx="0" cy="82548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62680" y="5354640"/>
              <a:ext cx="863640" cy="8352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Мода, стиль,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илуэт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51720" y="4441680"/>
              <a:ext cx="501480" cy="66852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78600" y="5037120"/>
              <a:ext cx="863640" cy="8352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облема,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требность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4232160"/>
              <a:ext cx="814320" cy="25236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05720" y="4200480"/>
              <a:ext cx="863640" cy="835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нструменты,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испособления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807240" y="3713040"/>
              <a:ext cx="814320" cy="26064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05720" y="3168720"/>
              <a:ext cx="863640" cy="8348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орудование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649920" y="3088800"/>
              <a:ext cx="501840" cy="67644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78600" y="2335320"/>
              <a:ext cx="863640" cy="8348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ехнология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зготовления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6396120" y="2849400"/>
              <a:ext cx="0" cy="83664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62680" y="2016000"/>
              <a:ext cx="863640" cy="83520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тоимость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материалов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62680" y="3686040"/>
              <a:ext cx="863640" cy="83520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b84747"/>
                  </a:solidFill>
                  <a:latin typeface="Arial"/>
                </a:rPr>
                <a:t>Юбка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36720" y="720720"/>
            <a:ext cx="7343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Comic Sans MS"/>
              </a:rPr>
              <a:t>Определение конкретной задачи и её формулиров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664000"/>
            <a:ext cx="8229600" cy="34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420e"/>
                </a:solidFill>
                <a:latin typeface="Comic Sans MS"/>
              </a:rPr>
              <a:t>Когда я обосновала возникшую проблему и потребность, то определила: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420e"/>
                </a:solidFill>
                <a:latin typeface="Comic Sans MS"/>
              </a:rPr>
              <a:t>моя задача - изготовить юбку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76360" y="576360"/>
            <a:ext cx="7775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284c"/>
                </a:solidFill>
                <a:latin typeface="Comic Sans MS"/>
              </a:rPr>
              <a:t>Выявление основных требований </a:t>
            </a:r>
            <a:br>
              <a:rPr sz="2800"/>
            </a:br>
            <a:r>
              <a:rPr b="1" i="1" lang="ru-RU" sz="2800" spc="-1" strike="noStrike">
                <a:solidFill>
                  <a:srgbClr val="99284c"/>
                </a:solidFill>
                <a:latin typeface="Comic Sans MS"/>
              </a:rPr>
              <a:t>к изделию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303640"/>
            <a:ext cx="822960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Font typeface="Wingdings" charset="2"/>
              <a:buChar char="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420e"/>
                </a:solidFill>
                <a:latin typeface="Comic Sans MS"/>
              </a:rPr>
              <a:t>Какие требования я представляю к своему будущему изделию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Юбка должна быть красивой и модной, соответствовать особенностям строения фигуры, назначению и внешнему облик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Конструкция юбки должна соответствовать выбранной модел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Юбка должна хорошо сидеть на фигуре, быть удобной в носк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Нужно, чтобы юбка была универсальной в носке и её можно было сочетать с нарядной и повседневной блузкой или жакет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Изделие должно быть недорогим, но качественно изготовленны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57636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Исследования, тенденци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0160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666600"/>
              </a:buClr>
              <a:buFont typeface="Wingdings" charset="2"/>
              <a:buChar char="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420e"/>
                </a:solidFill>
                <a:latin typeface="Comic Sans MS"/>
              </a:rPr>
              <a:t>Различают три основных стиля: классический, спортивный и романтический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9966"/>
                </a:solidFill>
                <a:latin typeface="Comic Sans MS"/>
              </a:rPr>
              <a:t>К классическому стилю относят всё, что со временем почти не меняется, то что вне мод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9966"/>
                </a:solidFill>
                <a:latin typeface="Comic Sans MS"/>
              </a:rPr>
              <a:t>Одежда спортивного стиля, как правило, свободного покроя. Она удобна для движений, для разнообразной работы, активного отдых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9966"/>
                </a:solidFill>
                <a:latin typeface="Comic Sans MS"/>
              </a:rPr>
              <a:t>Романтический стиль- это лёгкость, мечтательность. В одежде используются элементы исторического, национального(фольклорного) костюм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287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Разработка идей, вариантов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871640"/>
            <a:ext cx="404028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451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Я выбрала юбку романтического стил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451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Юбка двухшовная, расширенная книзу. Застёжка- молния в левом боковом шве. Верхний срез юбки обработан притачным поясом, нижний- швом вподгибк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967280" y="1944720"/>
            <a:ext cx="3392640" cy="4184640"/>
            <a:chOff x="4967280" y="1944720"/>
            <a:chExt cx="3392640" cy="418464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4967280" y="1944720"/>
              <a:ext cx="3392640" cy="41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967280" y="1944720"/>
              <a:ext cx="3392640" cy="41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-411120"/>
            <a:ext cx="822960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Выбор ткани, инструментов, приспособлений оборудования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754200" y="2276640"/>
            <a:ext cx="378144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476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89d08"/>
                </a:solidFill>
                <a:latin typeface="Comic Sans MS"/>
              </a:rPr>
              <a:t>Выбор ткани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89d08"/>
                </a:solidFill>
                <a:latin typeface="Comic Sans MS"/>
              </a:rPr>
              <a:t>    </a:t>
            </a:r>
            <a:r>
              <a:rPr b="0" lang="ru-RU" sz="1900" spc="-1" strike="noStrike">
                <a:solidFill>
                  <a:srgbClr val="f89d08"/>
                </a:solidFill>
                <a:latin typeface="Comic Sans MS"/>
              </a:rPr>
              <a:t>Теперь, когда я определилась с моделью юбки, мне ещё предстоит выбрать подходящую ткань для её изготовления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425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f89d08"/>
                </a:solidFill>
                <a:latin typeface="Comic Sans MS"/>
              </a:rPr>
              <a:t>Я решила, что для моей юбки больше подойдёт костюмно- платьевая ткань. Этот материал хорошо драпируется, образуя мягкие красивые складки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711680" y="2262240"/>
            <a:ext cx="3902040" cy="3071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229440" y="4540320"/>
            <a:ext cx="10094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тюмно-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98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ьева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6680160" y="3220920"/>
            <a:ext cx="1800" cy="1078200"/>
          </a:xfrm>
          <a:prstGeom prst="line">
            <a:avLst/>
          </a:prstGeom>
          <a:ln cap="sq" w="2844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16000" y="139680"/>
            <a:ext cx="847080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Выбор оборудования, </a:t>
            </a:r>
            <a:br>
              <a:rPr sz="3600"/>
            </a:b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инструментов и приспособлений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871640"/>
            <a:ext cx="822960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9880" indent="-568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9966"/>
                </a:solidFill>
                <a:latin typeface="Comic Sans MS"/>
              </a:rPr>
              <a:t>Швейная машинка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9966"/>
                </a:solidFill>
                <a:latin typeface="Comic Sans MS"/>
              </a:rPr>
              <a:t>Утюжильная доска, утюг, пульверизатор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9966"/>
                </a:solidFill>
                <a:latin typeface="Comic Sans MS"/>
              </a:rPr>
              <a:t>Ручная игла №3, булавки, ножницы, напёрсток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9966"/>
                </a:solidFill>
                <a:latin typeface="Comic Sans MS"/>
              </a:rPr>
              <a:t>Нитки хлопчатобумажные №50- для машинных работ, №60- для ручных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9966"/>
                </a:solidFill>
                <a:latin typeface="Comic Sans MS"/>
              </a:rPr>
              <a:t>Сантиметровая лента, линейка, мелок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420e"/>
                </a:solidFill>
                <a:latin typeface="Comic Sans MS"/>
              </a:rPr>
              <a:t>       </a:t>
            </a:r>
            <a:r>
              <a:rPr b="0" lang="ru-RU" sz="2200" spc="-1" strike="noStrike">
                <a:solidFill>
                  <a:srgbClr val="ff420e"/>
                </a:solidFill>
                <a:latin typeface="Comic Sans MS"/>
              </a:rPr>
              <a:t>Дополнительные материалы: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420e"/>
                </a:solidFill>
                <a:latin typeface="Comic Sans MS"/>
              </a:rPr>
              <a:t>бумага для построения чертежей и изготовления лекал, учебник, рабочая тетрадь для повторения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6:02:42Z</dcterms:created>
  <dc:creator>Customer</dc:creator>
  <dc:description/>
  <dc:language>en-US</dc:language>
  <cp:lastModifiedBy>user</cp:lastModifiedBy>
  <dcterms:modified xsi:type="dcterms:W3CDTF">2013-08-21T06:20:44Z</dcterms:modified>
  <cp:revision>15</cp:revision>
  <dc:subject/>
  <dc:title>Творческий проект: «Юбка».</dc:title>
</cp:coreProperties>
</file>