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11B-35E8-4FF5-B87D-D147EC06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11F-22E1-4B00-960E-2A1DB6F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2C3-192D-4594-ADDD-5C1980C4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5B6-1622-4520-8260-497140C9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D6F-28B8-4BBB-9550-DAC087EC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2EF-567B-4D9D-A4C9-CD76A927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64E-866B-4027-B903-87C7D5C5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87C-58A4-4AF0-B114-F7D310B9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B7E-11FA-48EC-AF73-2A3FFF27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A09-C4BD-40F3-891C-49546F3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29C-B63B-4A43-B761-3A447BD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ACA-C625-4636-9471-4E4241C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ACF2-4F99-455D-9D38-81F515FBD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sobr.r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вая защита детей в семье и ДО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3240" y="388620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й педагог – Колесникова Олеся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46432"/>
          <p:cNvPicPr/>
          <p:nvPr/>
        </p:nvPicPr>
        <p:blipFill>
          <a:blip r:embed="rId1"/>
          <a:stretch/>
        </p:blipFill>
        <p:spPr>
          <a:xfrm>
            <a:off x="533520" y="3657600"/>
            <a:ext cx="2361960" cy="30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yahooeu_ru_1"/>
          <p:cNvPicPr/>
          <p:nvPr/>
        </p:nvPicPr>
        <p:blipFill>
          <a:blip r:embed="rId2"/>
          <a:stretch/>
        </p:blipFill>
        <p:spPr>
          <a:xfrm>
            <a:off x="2895480" y="3657600"/>
            <a:ext cx="2362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ы жестокого обращения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прав ребенка связано с низким уровнем правовой и психолого-педагогической культуры их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зическое насил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еднамеренное нанесение физических повреждений ребенку)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ксуальное насил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влечение ребенка с его согласия или без такого в сексуальные действия со взрослыми); 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•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сихическое насил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ериодическое, длительное или постоянное психическое воздействие на ребенка, тормозящее развитие личности и приводящее к формированию патологических черт характера)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небрежение нуждами ребе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брошенные дети, отсутствие элементарной заботы о ребенке, в результате которого нарушается его эмоциональное состояние и появляется угроза его здоровью и развитию)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fc372946c0b98fb8d7f87d4c38ea83a_M"/>
          <p:cNvPicPr/>
          <p:nvPr/>
        </p:nvPicPr>
        <p:blipFill>
          <a:blip r:embed="rId1"/>
          <a:stretch/>
        </p:blipFill>
        <p:spPr>
          <a:xfrm>
            <a:off x="304920" y="457200"/>
            <a:ext cx="3809880" cy="575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nkligozlubebeklerdirt"/>
          <p:cNvPicPr/>
          <p:nvPr/>
        </p:nvPicPr>
        <p:blipFill>
          <a:blip r:embed="rId2"/>
          <a:stretch/>
        </p:blipFill>
        <p:spPr>
          <a:xfrm>
            <a:off x="4724280" y="228600"/>
            <a:ext cx="4095720" cy="2814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96574_or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ушение прав в сказк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кие права главных героев  были нарушены в сказк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Три поросенка» и  зайки из сказки «Заюшкина избушк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аво на неприкосновенность жилищ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им правом пользовалась лягушка в сказке В. Гаршина «Лягушка-путешественница»?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свободу передвиж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акое право нарушила Баба-Яга и гуси-лебеди, украв малолетнего мальчика в сказке «Гуси-лебеди»?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ребенка жить со своими родител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кое право нарушен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- Плаваешь, глупая, ныряешь? Ныряй, ныряй, а я тебя все равно съ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и лучше сама! – сказала Лиса». (Д. Мамин-Сибиряк «Серая шейк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ьные дети, дети-инвалиды имеют право на полноценную и достойную жизнь в условиях, которые обеспечивают их достоинство, способствуют уверенности в себе и облегчают их активное участие в жизни обще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очему обитатели двора в сказке Г. Х. Андерсена «Гадкий утенок» обижали                          гадкого утенка? Какое право они нарушили?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 не похож на других. Нарушено право на индивидуаль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5181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регите своих детей»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гите своих де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за шалости не руг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о своих неудачных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а них не срыв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ердитесь на них всерь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если они провин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нет дороже сле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 ресничек родных скат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лит усталость с н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ладать с нею нету м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а к вам подойдет с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уки протянет до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имите покрепче 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ой ласкою дорож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частья короткий ми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счастливыми поспеш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93469876_large_4603781_x_9c8f8302"/>
          <p:cNvPicPr/>
          <p:nvPr/>
        </p:nvPicPr>
        <p:blipFill>
          <a:blip r:embed="rId1"/>
          <a:stretch/>
        </p:blipFill>
        <p:spPr>
          <a:xfrm>
            <a:off x="5638680" y="22860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3102008Bebekler82969_09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6483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дь растают, как снег вес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мелькнут дни златые э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окинут очаг род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зрослевшие ваши д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листывая альб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фотографиями детств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грустью вспомните о было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 тех днях, когда были вмес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же будете вы хот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это время опять вернуть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б им маленьким песню спе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ечки нежной губами коснуть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ока в доме детский смех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игрушек некуда деть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 на свете счастливей всех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регите, пожалуйста, детст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.Карп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3590f12972863c88d9867872a294b509"/>
          <p:cNvPicPr/>
          <p:nvPr/>
        </p:nvPicPr>
        <p:blipFill>
          <a:blip r:embed="rId1"/>
          <a:stretch/>
        </p:blipFill>
        <p:spPr>
          <a:xfrm>
            <a:off x="5257800" y="457200"/>
            <a:ext cx="3362400" cy="259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39227608_ageddes339"/>
          <p:cNvPicPr/>
          <p:nvPr/>
        </p:nvPicPr>
        <p:blipFill>
          <a:blip r:embed="rId2"/>
          <a:stretch/>
        </p:blipFill>
        <p:spPr>
          <a:xfrm>
            <a:off x="5257800" y="3505320"/>
            <a:ext cx="34290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Материалы центра «Ле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мыкова Н.Ю. «Права ребенка»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esobr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ждународные документы по защите прав де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Декларация прав ребенка" — принята ООН в 1959 году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 "Конвенция о правах ребенка" — принята ООН в 1989 году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 "Всемирная декларация об обеспечении выживания, защиты и развития детей" — принята ООН в 1990 год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екларации прав ребен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10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ные права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им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гражданство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юбовь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нимание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атериальное обеспечение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оциальную защиту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олучать образование, развиваться физически, нравственно, духовно в условиях свободы и достоинства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воевременное получение помощи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защищенным от всех форм небрежного отношения, жестокости, эксплуатац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091116290053"/>
          <p:cNvPicPr/>
          <p:nvPr/>
        </p:nvPicPr>
        <p:blipFill>
          <a:blip r:embed="rId1"/>
          <a:stretch/>
        </p:blipFill>
        <p:spPr>
          <a:xfrm>
            <a:off x="6172200" y="1295280"/>
            <a:ext cx="27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онвенция о правах ребен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Конвенции впервые ребенок рассматривается не только как объект, требующий социальной защиты, но и как субъект права, которому даны все права человека: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и уважение к правам человека и основным свободам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и уважение к родителям ребенка и его культурной самобытности, к национальным ценностям страны, в которой ребенок проживает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ебенка к сознательной жизни в свободном обществе, в духе понимания, мира, терпимости, равноправия, дружбы между народами. 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lagge-unicef"/>
          <p:cNvPicPr/>
          <p:nvPr/>
        </p:nvPicPr>
        <p:blipFill>
          <a:blip r:embed="rId1"/>
          <a:stretch/>
        </p:blipFill>
        <p:spPr>
          <a:xfrm>
            <a:off x="3733920" y="5257800"/>
            <a:ext cx="21333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rava-det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ва, соблюдение и защиту которых могут обеспечить педагоги ДОУ: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охрану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участвовать в иг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сохранение своей индивидуа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защиту от всех форм физического или психического насилия, оскорбления, отсутствие заботы или небрежного и грубого обращения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allery_221_15721"/>
          <p:cNvPicPr/>
          <p:nvPr/>
        </p:nvPicPr>
        <p:blipFill>
          <a:blip r:embed="rId1"/>
          <a:stretch/>
        </p:blipFill>
        <p:spPr>
          <a:xfrm>
            <a:off x="6095880" y="1447920"/>
            <a:ext cx="2819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рмативно-правовые документы федерального и регионального уровн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я РФ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ейный кодекс РФ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 "Об основных гарантиях и правах ребенка в РФ"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 "Об образовании"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66320257_4"/>
          <p:cNvPicPr/>
          <p:nvPr/>
        </p:nvPicPr>
        <p:blipFill>
          <a:blip r:embed="rId1"/>
          <a:stretch/>
        </p:blipFill>
        <p:spPr>
          <a:xfrm>
            <a:off x="4952880" y="4724280"/>
            <a:ext cx="393408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ейный кодекс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мейный кодекс вступил в силу 1 апреля 1996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 5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рантирует ребенку право жить и воспитываться в семье, знать своих родителей, право на их заботу и совместное с ними проживание, на воспитание, обеспечение его интересов, всестороннее развитие, уважение его человеческого достоинств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 5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раво ребенка на общение с родителями и другими родственн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 5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рантирует защиту прав и законных интересов ребенка родителями или законными представителями, органами опеки и попечительств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 6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говариваются права и обязанности родителей по воспитанию и образованию детей (ответственность родителей за воспитание, здоровье, физическое, психическое, духовное и нравственное развитие ребенка). </a:t>
            </a:r>
            <a:br>
              <a:rPr sz="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ФЗ РФ «Об основных гарантиях прав ребенка в РФ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ые категории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-инвалиды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дети — жертвы межнациональных конфликтов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дети с отклонением в поведении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дети с ограниченными возможностям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6762866_large_3241851_5_1_1"/>
          <p:cNvPicPr/>
          <p:nvPr/>
        </p:nvPicPr>
        <p:blipFill>
          <a:blip r:embed="rId1"/>
          <a:stretch/>
        </p:blipFill>
        <p:spPr>
          <a:xfrm>
            <a:off x="5715000" y="16002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339151422_olimp"/>
          <p:cNvPicPr/>
          <p:nvPr/>
        </p:nvPicPr>
        <p:blipFill>
          <a:blip r:embed="rId2"/>
          <a:stretch/>
        </p:blipFill>
        <p:spPr>
          <a:xfrm>
            <a:off x="5715000" y="4038480"/>
            <a:ext cx="2971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6-05-13T09:50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