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D6BC-C23D-4897-9483-5422E83A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E221-FFDF-44D1-9004-F0AF3753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4BCD-45DF-490C-B038-B92C1CDA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1371-31BC-4E02-966B-46867183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024A-492C-4BED-A102-C3F43A4A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8369-850E-4058-959B-82FF4AA7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99D0-5651-445C-B9E1-FC5E248F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0ED2-156F-4745-8D59-6E98F409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F808-E201-40EA-891E-8A81AEE6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82AB-3611-4073-B31D-D30C1D30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3D2A-91BB-4171-8727-CB3D2BF6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33D8-5851-4F03-89CA-D3D2AADF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B078-5EEB-460E-9372-E33EA071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7CA7-7F35-4A65-8681-E383328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4714-0571-454A-BADD-56010179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A996-66C8-410A-91D3-BBEE44DE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2911-1995-4927-90AA-715F8F59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ABCC-2069-4559-BDE5-8CCDEFCF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4DF6-630C-496C-A399-A822FE52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B6BF-DE9B-48AA-AC55-67C8AF7F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D1D2-F5BC-4201-89CD-7E8CD438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251C-6A73-410C-9835-090C4167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7EF4-562E-49D0-8CEC-6742D9FB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C843-F21A-4CE9-B16F-2BFFBF67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0E81-5CB9-438F-9008-ACAA5A987D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DBD8-3D15-4B07-9A81-54001A7BC5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Calibri"/>
              </a:rPr>
              <a:t>Технология оценивания образовательных достижен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7093080" y="5877000"/>
            <a:ext cx="1841400" cy="718920"/>
          </a:xfrm>
          <a:prstGeom prst="rect">
            <a:avLst/>
          </a:prstGeom>
          <a:ln w="0">
            <a:noFill/>
          </a:ln>
        </p:spPr>
      </p:pic>
      <p:pic>
        <p:nvPicPr>
          <p:cNvPr id="108" name="i-main-pic" descr="Картинка 162 из 5055"/>
          <p:cNvPicPr/>
          <p:nvPr/>
        </p:nvPicPr>
        <p:blipFill>
          <a:blip r:embed="rId2"/>
          <a:stretch/>
        </p:blipFill>
        <p:spPr>
          <a:xfrm>
            <a:off x="0" y="4508640"/>
            <a:ext cx="3186000" cy="234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-main-pic" descr="Картинка 1 из 5055"/>
          <p:cNvPicPr/>
          <p:nvPr/>
        </p:nvPicPr>
        <p:blipFill>
          <a:blip r:embed="rId1"/>
          <a:stretch/>
        </p:blipFill>
        <p:spPr>
          <a:xfrm>
            <a:off x="468360" y="549360"/>
            <a:ext cx="8226360" cy="6157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7302600" y="6138720"/>
            <a:ext cx="1841400" cy="7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1:26:42Z</dcterms:created>
  <dc:creator>User</dc:creator>
  <dc:description/>
  <dc:language>en-US</dc:language>
  <cp:lastModifiedBy>ПК</cp:lastModifiedBy>
  <dcterms:modified xsi:type="dcterms:W3CDTF">2017-05-19T15:10:46Z</dcterms:modified>
  <cp:revision>28</cp:revision>
  <dc:subject/>
  <dc:title>Технология оценивания образовательных достижений.</dc:title>
</cp:coreProperties>
</file>