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D28B3-07BF-4A35-ACEC-53E03007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B5FA-8757-4F65-999B-D1D7D207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D4ED-506B-496E-8ED3-A1BC00CE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DB1FF-ED68-4BF3-9CFD-3C632A93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962C-4E76-4EF6-80CD-BD2F701E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76F2-2C9E-4B90-B452-1D314A4D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C149-7FCA-4CD7-9AF5-1837823D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5C6C-E366-437E-B380-9D56A868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7A9A-4811-4742-A416-FE3F4686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C1C2-79A5-40CA-AA46-5CEA1669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65E4-4834-4FBC-B18E-83BDBC12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90699-239A-4448-BB35-A3F99561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2688-0FEF-40CE-9801-5DC71CB3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2E19-3432-4F1B-87BD-ABBB16CF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74BD-34F1-41A4-A34B-B387788D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E1EA-F4C4-47C2-A3CA-218DA2B2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E129-06D2-437B-BD83-B4A45EAB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1308D-4338-4537-AD7F-85BF57DF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4018-4E34-4540-AAFB-CF660877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81A09-3930-42EC-B471-8B243C7C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E2783-63FE-4552-BA40-6F60A72B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70BC-3AF4-467C-BC43-4901D6F1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48B01-7581-4A6E-B3BE-81DF7E95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3FC2-0D78-4878-A399-4D80C0A8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C821-9B44-4B67-91E8-71D480E301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5434-5B83-4068-B69E-27E1861A1F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424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Calibri"/>
              </a:rPr>
              <a:t>Технология оценивания образовательных достижен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7093080" y="5877000"/>
            <a:ext cx="1841400" cy="718920"/>
          </a:xfrm>
          <a:prstGeom prst="rect">
            <a:avLst/>
          </a:prstGeom>
          <a:ln w="0">
            <a:noFill/>
          </a:ln>
        </p:spPr>
      </p:pic>
      <p:pic>
        <p:nvPicPr>
          <p:cNvPr id="108" name="i-main-pic" descr="Картинка 162 из 5055"/>
          <p:cNvPicPr/>
          <p:nvPr/>
        </p:nvPicPr>
        <p:blipFill>
          <a:blip r:embed="rId2"/>
          <a:stretch/>
        </p:blipFill>
        <p:spPr>
          <a:xfrm>
            <a:off x="0" y="4508640"/>
            <a:ext cx="3186000" cy="234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-main-pic" descr="Картинка 1 из 5055"/>
          <p:cNvPicPr/>
          <p:nvPr/>
        </p:nvPicPr>
        <p:blipFill>
          <a:blip r:embed="rId1"/>
          <a:stretch/>
        </p:blipFill>
        <p:spPr>
          <a:xfrm>
            <a:off x="468360" y="549360"/>
            <a:ext cx="8226360" cy="6157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7302600" y="6138720"/>
            <a:ext cx="1841400" cy="7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1:26:42Z</dcterms:created>
  <dc:creator>User</dc:creator>
  <dc:description/>
  <dc:language>en-US</dc:language>
  <cp:lastModifiedBy>ПК</cp:lastModifiedBy>
  <dcterms:modified xsi:type="dcterms:W3CDTF">2017-05-19T15:10:46Z</dcterms:modified>
  <cp:revision>28</cp:revision>
  <dc:subject/>
  <dc:title>Технология оценивания образовательных достижений.</dc:title>
</cp:coreProperties>
</file>