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6EE-67F7-4372-BA01-BB327BCA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023-7358-4300-BF82-2229CDC8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8E6-FBB5-4660-8F69-02D365D0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969-E0A1-413A-98C1-A8FA27E3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FF43-6808-4647-A8B8-9D666FF7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98B7-731F-4258-BF69-EFCC6625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6421-AA02-4096-9ED5-5B0864D6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0D94-3150-4133-A717-4DE17797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7BD7-D2C1-435C-B7D7-E89E4324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FF1E-62D0-4963-84E8-5B245768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21E7-D2BF-4141-9D51-19B8BB16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C8D-471C-4799-BE35-1BE9236C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4699-E6A6-43B2-B92C-B506FDB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D0F7-4974-4904-9F14-F9ABFAC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203D-7D4A-4A6B-AF26-5A9B636F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2BD6-601A-49C9-AA73-F5DA54E3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1D39-CF6E-4813-B6BA-7B86A7AC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8BC-286F-4BC6-91E1-08C847D8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836-A078-46A4-96A5-C3860522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948-573A-4D5A-893A-04FCCE83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646-8380-4D03-BAB5-B491E1FF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C4A-1A1B-49ED-A095-0EECF917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195-55D4-426D-BD6E-C22691A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38F-D64A-47CE-B8F2-6E83677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F877-8732-4483-8D74-75C60F91797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7BF-2357-403E-B254-CD344C7A631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ics.livejournal.com/myhomorkina/pic/0000222f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7696080" y="5529960"/>
            <a:ext cx="122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Times New Roman"/>
              </a:rPr>
              <a:t>Инструктор по физической культур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Times New Roman"/>
              </a:rPr>
              <a:t>И.В.Алиев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3520" y="533160"/>
            <a:ext cx="81532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Гимнастика в детском саду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8 «Зимняя зарядк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Следить за положением туловища и рук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«Чтобы сильным стать и ловки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риступаем к тренировк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Носом вдох, а выдох рт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Дышим глубже, а пото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Шаг на месте, не спеш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Как погода хороша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Не боимся мы порош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Ловим снег – хлопок в ладош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Руки в стороны, по шва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Хватит снега нам и ва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Мы теперь метатели, бьём по неприятел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Размахнись рукой – бросок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рямо в цель летит снежок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9 «В лесу»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419720" cy="4456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876920" y="9144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Ноги на ширине плеч. Руки на поясе. Шаги на месте, следить за положением туловища. Присесть, касаясь руками пола, смотреть вперёд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«Мы шли, шли, шли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Земляничку нашли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Сели, поели и опять пошли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Мы шли, шли, шли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Наконец, домой пришли.»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Упражнение повторяется 3-4 раза, меняются только названия ягод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12  «Поехали!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76920" y="990360"/>
            <a:ext cx="4114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Упражнение выполняется сидя. Спина прижата к спинке стула. С помощью рук дети изображают транспорт, на котором еду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«На лошадке ехали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До угла доеха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Сели на машину,  налили бензин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На машине ехал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До реки доеха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Трр! Стоп! Разворот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На реке – пароход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Пароходом ехал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До горы доеха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Пароход не везё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Надо сесть в самолё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Самолёт летит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В нём мотор гудит : «У – у – у!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8" descr="Картинка 38 из 9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3880"/>
            <a:ext cx="47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11 «Равновесие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Детям предлагается проверить свою осанку. Упражнение может выполняться как сидя, так и сто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Ребёнок стоит (садит-ся) прямо, распрямляет плечи, кладёт себе на голову дневник или книгу и старается удержать предметы на голове, считая до 10-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8" descr="1261492083_2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Все предлагаемые упражнения выполняют с проговариванием слов, стихотворений и скороговорок 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В зале или кабинете, где проходит занятие, должна быть комфортная обстановка и свежий возду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Дети в удобной одежде и обув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Исходные положения разнообразн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1 в ходьбе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024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Ходьба на месте и в движен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на носках, руки вверх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на пятках, руки за голов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«Мы проверили осан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И свели лопатк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Мы походим на носках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Мы идём на пятках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2 - </a:t>
            </a: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Самокоррекция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434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Построиться в колон-ну. Посмотреть налево и направо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Подравняться: «Смотрим прямо, дышим ровно, глубоко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«Смотрим влево, смотрим вправо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«Спинка ровная у нас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А осанка – высший  класс!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419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3 «Гуси шипят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281480" cy="5370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Исходное положение – ноги врозь, руки за спин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Наклониться вперёд, голову поднять и сказать : «Ш–ш–ш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4 «Котик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«</a:t>
            </a: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Лучик котика коснулся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Котик сладко потянулся…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5 «Ели-Елки-Елочки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00600" y="837720"/>
            <a:ext cx="403848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Ели» -стоя на носках, руки ввер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Ёлки» - руки в стороны, ступни ног прижаты к пол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Ёлочки» - присесть, руки вперёд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ледить за спиной, спина пряма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Есть в лесу три полочки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Ели – ёлки – ёлоч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Лежат на елях небес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На  ёлках – птичьи голос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Внизу на ёлочках – роса»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4960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6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«Кузнечики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пина прямая, руки на поясе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Поднимайте плечик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Прыгайте, кузнечики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Прыг - скок, прыг - скок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ели, травушку покушал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Тишину послушал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Выше, выше высоко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Прыгай на носках легко!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1"/>
          <a:stretch/>
        </p:blipFill>
        <p:spPr>
          <a:xfrm>
            <a:off x="5181480" y="380880"/>
            <a:ext cx="3200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7 «Аист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343400" cy="483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006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Спина прямая, руки на пояс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Дети плавно и медленно под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нимают  то правую ногу, т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левую, согнутую в колен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И так же плавно опускаютс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«Аист, аист длинноноги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окажи домой дорогу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Аист отвечает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«Топай пра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Топай ле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Снова - пра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Снова – левою ного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осле -  пра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осле – ле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И тогда придёшь домой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05-19T15:15:03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