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9950-4368-4BF9-9CC1-09F55F176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83D5-B36C-4277-B2A7-A21D7490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FAE4-5F7C-44A9-BBB8-3C0C13B70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CA7A-4971-4437-B4D0-2D978FA75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17B8-23B1-4336-BA00-E33479A70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CC9A-ADB5-4666-AFED-8F0C0C25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DB2C-7ADC-4E33-B6E2-196F282A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6250-4269-4FF8-87EB-B273D7C6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51A3-6E65-49A8-B647-3517F60B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1819-1B48-43A6-849B-51129FB9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02AD-9F1E-4FDE-B519-90BE3433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56C9-6C45-4724-A973-DA38DC71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DB20-7D28-452A-9F9A-3BC41003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D8F8-9ADB-4C96-BE68-1FC7C183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0852-8B94-4EF5-A9BC-B65BAEA5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D635-0092-4981-A1F2-55CB6F2B7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F5C0-B3D9-4D8E-973F-7C1707378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1F5B-A411-48BF-8B7B-520C39B8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7352-247A-4B87-A20E-21B7AE05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0A69-8522-4761-962C-D73C0BC7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BDE7-5880-4D41-9CEF-F366D963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606E-A499-4F42-8546-C07F3109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6A56-DCC7-4183-BDD4-FCBC103F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3535-2BA4-47FB-8B78-C6110AC4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1A28-E004-4793-A99D-0195C55B075E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000"/>
              <a:ext cx="3622680" cy="6129000"/>
              <a:chOff x="5407560" y="63000"/>
              <a:chExt cx="362268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160" y="348120"/>
                <a:ext cx="211644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9840"/>
                <a:ext cx="90648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3800" y="297720"/>
              <a:ext cx="891360" cy="829440"/>
              <a:chOff x="5653800" y="29772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400" y="79632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64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5720" y="39744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1200" y="5253480"/>
              <a:ext cx="1062360" cy="833400"/>
              <a:chOff x="961200" y="5253480"/>
              <a:chExt cx="1062360" cy="8334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400" y="5520600"/>
                <a:ext cx="250920" cy="3016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8000" y="5730840"/>
                <a:ext cx="429480" cy="250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560" y="5377680"/>
                <a:ext cx="448920" cy="127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1101-A427-4556-97D4-0FF9DC3D33BA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pics.livejournal.com/myhomorkina/pic/0000222f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7696080" y="5529960"/>
            <a:ext cx="122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66"/>
                </a:solidFill>
                <a:latin typeface="Times New Roman"/>
              </a:rPr>
              <a:t>Инструктор по физической культуре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66"/>
                </a:solidFill>
                <a:latin typeface="Times New Roman"/>
              </a:rPr>
              <a:t>И.В.Алиев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33520" y="533160"/>
            <a:ext cx="8153280" cy="55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Гимнастика в детском саду 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1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Times New Roman"/>
              </a:rPr>
              <a:t>Упражнение № 8 «Зимняя зарядка»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800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Следить за положением туловища и рук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«Чтобы сильным стать и ловким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Приступаем к тренировке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Носом вдох, а выдох ртом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Дышим глубже, а потом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Шаг на месте, не спеш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Как погода хороша!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Не боимся мы пороши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Ловим снег – хлопок в ладош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Руки в стороны, по швам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Хватит снега нам и вам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Мы теперь метатели, бьём по неприятелю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Размахнись рукой – бросок!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Прямо в цель летит снежок»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Times New Roman"/>
              </a:rPr>
              <a:t>Упражнение № 9 «В лесу» 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419720" cy="44560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876920" y="914400"/>
            <a:ext cx="4114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66"/>
                </a:solidFill>
                <a:latin typeface="Times New Roman"/>
              </a:rPr>
              <a:t>     </a:t>
            </a:r>
            <a:r>
              <a:rPr b="1" i="1" lang="ru-RU" sz="2200" spc="-1" strike="noStrike">
                <a:solidFill>
                  <a:srgbClr val="006666"/>
                </a:solidFill>
                <a:latin typeface="Times New Roman"/>
              </a:rPr>
              <a:t>Ноги на ширине плеч. Руки на поясе. Шаги на месте, следить за положением туловища. Присесть, касаясь руками пола, смотреть вперёд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6666"/>
                </a:solidFill>
                <a:latin typeface="Times New Roman"/>
              </a:rPr>
              <a:t>     </a:t>
            </a:r>
            <a:r>
              <a:rPr b="1" i="1" lang="ru-RU" sz="2200" spc="-1" strike="noStrike">
                <a:solidFill>
                  <a:srgbClr val="006666"/>
                </a:solidFill>
                <a:latin typeface="Times New Roman"/>
              </a:rPr>
              <a:t>«Мы шли, шли, шли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6666"/>
                </a:solidFill>
                <a:latin typeface="Times New Roman"/>
              </a:rPr>
              <a:t>      </a:t>
            </a:r>
            <a:r>
              <a:rPr b="1" i="1" lang="ru-RU" sz="2200" spc="-1" strike="noStrike">
                <a:solidFill>
                  <a:srgbClr val="006666"/>
                </a:solidFill>
                <a:latin typeface="Times New Roman"/>
              </a:rPr>
              <a:t>Земляничку нашли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6666"/>
                </a:solidFill>
                <a:latin typeface="Times New Roman"/>
              </a:rPr>
              <a:t>     </a:t>
            </a:r>
            <a:r>
              <a:rPr b="1" i="1" lang="ru-RU" sz="2200" spc="-1" strike="noStrike">
                <a:solidFill>
                  <a:srgbClr val="006666"/>
                </a:solidFill>
                <a:latin typeface="Times New Roman"/>
              </a:rPr>
              <a:t>Сели, поели и опять пошли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6666"/>
                </a:solidFill>
                <a:latin typeface="Times New Roman"/>
              </a:rPr>
              <a:t>     </a:t>
            </a:r>
            <a:r>
              <a:rPr b="1" i="1" lang="ru-RU" sz="2200" spc="-1" strike="noStrike">
                <a:solidFill>
                  <a:srgbClr val="006666"/>
                </a:solidFill>
                <a:latin typeface="Times New Roman"/>
              </a:rPr>
              <a:t>Мы шли, шли, шли,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6666"/>
                </a:solidFill>
                <a:latin typeface="Times New Roman"/>
              </a:rPr>
              <a:t>     </a:t>
            </a:r>
            <a:r>
              <a:rPr b="1" i="1" lang="ru-RU" sz="2200" spc="-1" strike="noStrike">
                <a:solidFill>
                  <a:srgbClr val="006666"/>
                </a:solidFill>
                <a:latin typeface="Times New Roman"/>
              </a:rPr>
              <a:t>Наконец, домой пришли.»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6666"/>
                </a:solidFill>
                <a:latin typeface="Times New Roman"/>
              </a:rPr>
              <a:t>      </a:t>
            </a:r>
            <a:r>
              <a:rPr b="1" i="1" lang="ru-RU" sz="2200" spc="-1" strike="noStrike">
                <a:solidFill>
                  <a:srgbClr val="006666"/>
                </a:solidFill>
                <a:latin typeface="Times New Roman"/>
              </a:rPr>
              <a:t>Упражнение повторяется 3-4 раза, меняются только названия ягод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Times New Roman"/>
              </a:rPr>
              <a:t>Упражнение № 12  «Поехали!»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876920" y="990360"/>
            <a:ext cx="4114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Упражнение выполняется сидя. Спина прижата к спинке стула. С помощью рук дети изображают транспорт, на котором еду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«На лошадке ехали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До угла доехали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Сели на машину,  налили бензину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На машине ехали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До реки доехали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Трр! Стоп! Разворот!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На реке – пароход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Пароходом ехали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До горы доехали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Пароход не везёт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  </a:t>
            </a: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Надо сесть в самолё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  </a:t>
            </a: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Самолёт летит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  </a:t>
            </a: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В нём мотор гудит : «У – у – у!» 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0" name="Picture 8" descr="Картинка 38 из 9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523880"/>
            <a:ext cx="4724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Times New Roman"/>
              </a:rPr>
              <a:t>Упражнение № 11 «Равновесие»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3848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1" i="1" lang="ru-RU" sz="2400" spc="-1" strike="noStrike">
                <a:solidFill>
                  <a:srgbClr val="006666"/>
                </a:solidFill>
                <a:latin typeface="Times New Roman"/>
              </a:rPr>
              <a:t>Детям предлагается проверить свою осанку. Упражнение может выполняться как сидя, так и стоя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006666"/>
                </a:solidFill>
                <a:latin typeface="Times New Roman"/>
              </a:rPr>
              <a:t>Ребёнок стоит (садит-ся) прямо, распрямляет плечи, кладёт себе на голову дневник или книгу и старается удержать предметы на голове, считая до 10-т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4" name="Picture 8" descr="1261492083_2"/>
          <p:cNvPicPr/>
          <p:nvPr/>
        </p:nvPicPr>
        <p:blipFill>
          <a:blip r:embed="rId1"/>
          <a:stretch/>
        </p:blipFill>
        <p:spPr>
          <a:xfrm>
            <a:off x="4648320" y="838080"/>
            <a:ext cx="4038480" cy="54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Times New Roman"/>
              </a:rPr>
              <a:t>     </a:t>
            </a:r>
            <a:r>
              <a:rPr b="1" i="1" lang="ru-RU" sz="3200" spc="-1" strike="noStrike">
                <a:solidFill>
                  <a:srgbClr val="006699"/>
                </a:solidFill>
                <a:latin typeface="Times New Roman"/>
              </a:rPr>
              <a:t>Все предлагаемые упражнения выполняют с проговариванием слов, стихотворений и скороговорок 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Times New Roman"/>
              </a:rPr>
              <a:t>     </a:t>
            </a:r>
            <a:r>
              <a:rPr b="1" i="1" lang="ru-RU" sz="3200" spc="-1" strike="noStrike">
                <a:solidFill>
                  <a:srgbClr val="006699"/>
                </a:solidFill>
                <a:latin typeface="Times New Roman"/>
              </a:rPr>
              <a:t>В зале или кабинете, где проходит занятие, должна быть комфортная обстановка и свежий воздух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Times New Roman"/>
              </a:rPr>
              <a:t>     </a:t>
            </a:r>
            <a:r>
              <a:rPr b="1" i="1" lang="ru-RU" sz="3200" spc="-1" strike="noStrike">
                <a:solidFill>
                  <a:srgbClr val="006699"/>
                </a:solidFill>
                <a:latin typeface="Times New Roman"/>
              </a:rPr>
              <a:t>Дети в удобной одежде и обув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6699"/>
                </a:solidFill>
                <a:latin typeface="Times New Roman"/>
              </a:rPr>
              <a:t>Исходные положения разнообразн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228240"/>
            <a:ext cx="82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Times New Roman"/>
              </a:rPr>
              <a:t>Упражнение № 1 в ходьбе 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56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800240" y="1447560"/>
            <a:ext cx="3886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Times New Roman"/>
              </a:rPr>
              <a:t>Ходьба на месте и в движении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Times New Roman"/>
              </a:rPr>
              <a:t>на носках, руки вверху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Times New Roman"/>
              </a:rPr>
              <a:t>на пятках, руки за голово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Times New Roman"/>
              </a:rPr>
              <a:t>«Мы проверили осанку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Times New Roman"/>
              </a:rPr>
              <a:t>И свели лопатк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Times New Roman"/>
              </a:rPr>
              <a:t>Мы походим на носках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Times New Roman"/>
              </a:rPr>
              <a:t>Мы идём на пятках»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3200" spc="-1" strike="noStrike">
                <a:solidFill>
                  <a:srgbClr val="006666"/>
                </a:solidFill>
                <a:latin typeface="Times New Roman"/>
              </a:rPr>
              <a:t>Упражнение № 2 - </a:t>
            </a:r>
            <a:r>
              <a:rPr b="1" i="1" lang="ru-RU" sz="3200" spc="-1" strike="noStrike">
                <a:solidFill>
                  <a:srgbClr val="006666"/>
                </a:solidFill>
                <a:latin typeface="Times New Roman"/>
              </a:rPr>
              <a:t>Самокоррекция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43400" cy="49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006666"/>
                </a:solidFill>
                <a:latin typeface="Times New Roman"/>
              </a:rPr>
              <a:t>Построиться в колон-ну. Посмотреть налево и направо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006666"/>
                </a:solidFill>
                <a:latin typeface="Times New Roman"/>
              </a:rPr>
              <a:t>Подравняться: «Смотрим прямо, дышим ровно, глубоко»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6666"/>
                </a:solidFill>
                <a:latin typeface="Times New Roman"/>
              </a:rPr>
              <a:t>«Смотрим влево, смотрим вправо»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6666"/>
                </a:solidFill>
                <a:latin typeface="Times New Roman"/>
              </a:rPr>
              <a:t>«Спинка ровная у нас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Times New Roman"/>
              </a:rPr>
              <a:t>     </a:t>
            </a:r>
            <a:r>
              <a:rPr b="1" i="1" lang="ru-RU" sz="2800" spc="-1" strike="noStrike">
                <a:solidFill>
                  <a:srgbClr val="006666"/>
                </a:solidFill>
                <a:latin typeface="Times New Roman"/>
              </a:rPr>
              <a:t>А осанка – высший  класс!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5" name="Picture 6" descr=""/>
          <p:cNvPicPr/>
          <p:nvPr/>
        </p:nvPicPr>
        <p:blipFill>
          <a:blip r:embed="rId1"/>
          <a:stretch/>
        </p:blipFill>
        <p:spPr>
          <a:xfrm>
            <a:off x="4495680" y="1600200"/>
            <a:ext cx="441972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Times New Roman"/>
              </a:rPr>
              <a:t>Упражнение № 3 «Гуси шипят»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281480" cy="5370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6666"/>
                </a:solidFill>
                <a:latin typeface="Times New Roman"/>
              </a:rPr>
              <a:t>Исходное положение – ноги врозь, руки за спину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006666"/>
                </a:solidFill>
                <a:latin typeface="Times New Roman"/>
              </a:rPr>
              <a:t>Наклониться вперёд, голову поднять и сказать : «Ш–ш–ш»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Times New Roman"/>
              </a:rPr>
              <a:t>Упражнение № 4 «Котик»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290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«</a:t>
            </a:r>
            <a:r>
              <a:rPr b="1" i="1" lang="ru-RU" sz="3200" spc="-1" strike="noStrike">
                <a:solidFill>
                  <a:srgbClr val="006666"/>
                </a:solidFill>
                <a:latin typeface="Times New Roman"/>
              </a:rPr>
              <a:t>Лучик котика коснулся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Times New Roman"/>
              </a:rPr>
              <a:t>Котик сладко потянулся….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886200" y="1295280"/>
            <a:ext cx="4800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440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Times New Roman"/>
              </a:rPr>
              <a:t>Упражнение № 5 «Ели-Елки-Елочки»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800600" y="837720"/>
            <a:ext cx="4038480" cy="52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Times New Roman"/>
              </a:rPr>
              <a:t>«Ели» -стоя на носках, руки вверх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Times New Roman"/>
              </a:rPr>
              <a:t>«Ёлки» - руки в стороны, ступни ног прижаты к полу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Times New Roman"/>
              </a:rPr>
              <a:t>«Ёлочки» - присесть, руки вперёд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Times New Roman"/>
              </a:rPr>
              <a:t>Следить за спиной, спина пряма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Times New Roman"/>
              </a:rPr>
              <a:t>«Есть в лесу три полочки-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66"/>
                </a:solidFill>
                <a:latin typeface="Times New Roman"/>
              </a:rPr>
              <a:t>Ели – ёлки – ёлочк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66"/>
                </a:solidFill>
                <a:latin typeface="Times New Roman"/>
              </a:rPr>
              <a:t>Лежат на елях небеса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66"/>
                </a:solidFill>
                <a:latin typeface="Times New Roman"/>
              </a:rPr>
              <a:t>На  ёлках – птичьи голоса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66"/>
                </a:solidFill>
                <a:latin typeface="Times New Roman"/>
              </a:rPr>
              <a:t>Внизу на ёлочках – роса»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Picture 8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403848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4496040" cy="96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Times New Roman"/>
              </a:rPr>
              <a:t>Упражнение № 6 </a:t>
            </a:r>
            <a:br>
              <a:rPr sz="3200"/>
            </a:br>
            <a:r>
              <a:rPr b="1" i="1" lang="ru-RU" sz="3200" spc="-1" strike="noStrike">
                <a:solidFill>
                  <a:srgbClr val="006666"/>
                </a:solidFill>
                <a:latin typeface="Times New Roman"/>
              </a:rPr>
              <a:t>«Кузнечики»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8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Times New Roman"/>
              </a:rPr>
              <a:t>Спина прямая, руки на поясе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Times New Roman"/>
              </a:rPr>
              <a:t>«Поднимайте плечики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Times New Roman"/>
              </a:rPr>
              <a:t>Прыгайте, кузнечики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Times New Roman"/>
              </a:rPr>
              <a:t>Прыг - скок, прыг - скок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Times New Roman"/>
              </a:rPr>
              <a:t>Сели, травушку покушали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Times New Roman"/>
              </a:rPr>
              <a:t>Тишину послушал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Times New Roman"/>
              </a:rPr>
              <a:t>Выше, выше высоко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Times New Roman"/>
              </a:rPr>
              <a:t>Прыгай на носках легко!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Picture 12" descr=""/>
          <p:cNvPicPr/>
          <p:nvPr/>
        </p:nvPicPr>
        <p:blipFill>
          <a:blip r:embed="rId1"/>
          <a:stretch/>
        </p:blipFill>
        <p:spPr>
          <a:xfrm>
            <a:off x="5181480" y="380880"/>
            <a:ext cx="32004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4400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Times New Roman"/>
              </a:rPr>
              <a:t>Упражнение № 7 «Аист»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4343400" cy="483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800600" y="106668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Спина прямая, руки на поясе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Дети плавно и медленно под-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нимают  то правую ногу, то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левую, согнутую в колене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И так же плавно опускаются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«Аист, аист длинноногий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покажи домой дорогу»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Аист отвечает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«Топай правою ногою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Топай левою ногою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Снова - правою ногою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Снова – левою ногою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После -  правою ногою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После – левою ногою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И тогда придёшь домой»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dcterms:modified xsi:type="dcterms:W3CDTF">2017-05-19T15:15:03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