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77F-2CF0-44E0-AD67-768C3740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AFF-C69C-45AC-A016-1A4587E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BBC-C67A-489D-A195-E20A328C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290-C006-4627-82A4-36CC8C9C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9D76-7A1A-4F15-9B6F-B3C8510B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ECC7-D09D-4697-9D69-4C0E067D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824D-469B-4E96-9E84-8121DC1F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67F4-882C-4FD2-8000-15492782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119-A1F9-4654-AA94-DB44F0D6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09A7-76E6-4861-8795-96C9F5C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82EA-3D82-47DA-BA9F-99D7B4FA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F22-4D19-4B51-9A20-F63F1628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251-84F8-4C9D-B6AB-E560C1E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A76C-43BE-4B8F-AD40-CC87749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58D0-54FC-4FB9-8CAE-C22069C9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E186-B0D9-41AE-9FF2-2FB2BE40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C0DA-7763-42FE-A5A0-7F1F0EFA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521-C244-451B-A71C-8CCB2AAE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939-7746-454C-9B28-CCD9C449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C55-64EC-4D63-93C2-A69A5E5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1B4-40DB-4F88-BD7E-D8100D75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493-01CB-4DB2-B0BB-DF64B18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B84-0E94-4A25-86A9-E569F61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8EC-2D32-4183-B1F1-ECF294A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9B0A-0CA3-419D-8E26-0FCF76FE82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ACFC-B5DA-4EB1-9C32-9C5A9286606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chelovek/Professii-5.files/0005-005-Konditer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ipproject.info/Cliparts_Free/Berufe_Free/Clipart_Free_Download_47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51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539640" y="620640"/>
            <a:ext cx="684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56000"/>
                  </a:srgbClr>
                </a:solidFill>
                <a:latin typeface="Arial"/>
              </a:rPr>
              <a:t>« Истинное сокровищ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56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1476360" y="2133720"/>
            <a:ext cx="4967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61000"/>
                  </a:srgbClr>
                </a:solidFill>
                <a:latin typeface="Arial"/>
              </a:rPr>
              <a:t>для людей –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6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539640" y="3357720"/>
            <a:ext cx="662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66000"/>
                  </a:srgbClr>
                </a:solidFill>
                <a:latin typeface="Arial"/>
              </a:rPr>
              <a:t>умение трудиться»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66000"/>
                </a:srgbClr>
              </a:solidFill>
              <a:latin typeface="Arial"/>
              <a:ea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8e49c"/>
                </a:solidFill>
                <a:latin typeface="Arial"/>
              </a:rPr>
              <a:t>Я прислушаюсь к мнению учителей  и сверстников, но выберу сам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7d47d"/>
                </a:solidFill>
                <a:latin typeface="Arial"/>
              </a:rPr>
              <a:t>Я выберу такую профессию, которая имеет высокий престиж в обществе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892dc"/>
                </a:solidFill>
                <a:latin typeface="Arial"/>
              </a:rPr>
              <a:t>Я выберу такую профессию, которая подходит моим интересам и способностям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611280" y="1916280"/>
            <a:ext cx="7056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а "Самая-самая". 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40328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сладк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6" descr="Картинка 147 из 156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557360"/>
            <a:ext cx="590544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133200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денеж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3" name="Picture 6" descr="Картинка 477 из 1567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989000"/>
            <a:ext cx="4122720" cy="4457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539640" y="476280"/>
            <a:ext cx="57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человеч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5" name="Picture 6" descr="i?id=216776928-47-72"/>
          <p:cNvPicPr/>
          <p:nvPr/>
        </p:nvPicPr>
        <p:blipFill>
          <a:blip r:embed="rId1"/>
          <a:stretch/>
        </p:blipFill>
        <p:spPr>
          <a:xfrm>
            <a:off x="468360" y="1628640"/>
            <a:ext cx="2087640" cy="2063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i?id=254395265-30-72"/>
          <p:cNvPicPr/>
          <p:nvPr/>
        </p:nvPicPr>
        <p:blipFill>
          <a:blip r:embed="rId2"/>
          <a:stretch/>
        </p:blipFill>
        <p:spPr>
          <a:xfrm>
            <a:off x="5580000" y="1628640"/>
            <a:ext cx="207648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i?id=235764583-05-72"/>
          <p:cNvPicPr/>
          <p:nvPr/>
        </p:nvPicPr>
        <p:blipFill>
          <a:blip r:embed="rId3"/>
          <a:stretch/>
        </p:blipFill>
        <p:spPr>
          <a:xfrm>
            <a:off x="3419640" y="3284640"/>
            <a:ext cx="1562040" cy="214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125892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детск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9" name="Picture 6" descr="i?id=5602433-26-72"/>
          <p:cNvPicPr/>
          <p:nvPr/>
        </p:nvPicPr>
        <p:blipFill>
          <a:blip r:embed="rId1"/>
          <a:stretch/>
        </p:blipFill>
        <p:spPr>
          <a:xfrm>
            <a:off x="25092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i?id=103557831-13-72"/>
          <p:cNvPicPr/>
          <p:nvPr/>
        </p:nvPicPr>
        <p:blipFill>
          <a:blip r:embed="rId2"/>
          <a:stretch/>
        </p:blipFill>
        <p:spPr>
          <a:xfrm>
            <a:off x="5916600" y="1628640"/>
            <a:ext cx="167004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i?id=53203273-15-72"/>
          <p:cNvPicPr/>
          <p:nvPr/>
        </p:nvPicPr>
        <p:blipFill>
          <a:blip r:embed="rId3"/>
          <a:stretch/>
        </p:blipFill>
        <p:spPr>
          <a:xfrm>
            <a:off x="2987640" y="3141720"/>
            <a:ext cx="1789200" cy="2581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i?id=216776928-47-72"/>
          <p:cNvPicPr/>
          <p:nvPr/>
        </p:nvPicPr>
        <p:blipFill>
          <a:blip r:embed="rId1"/>
          <a:stretch/>
        </p:blipFill>
        <p:spPr>
          <a:xfrm>
            <a:off x="5580000" y="4653000"/>
            <a:ext cx="1932120" cy="1784160"/>
          </a:xfrm>
          <a:prstGeom prst="rect">
            <a:avLst/>
          </a:prstGeom>
          <a:ln w="0">
            <a:noFill/>
          </a:ln>
        </p:spPr>
      </p:pic>
      <p:sp>
        <p:nvSpPr>
          <p:cNvPr id="233" name="WordArt 4"/>
          <p:cNvSpPr txBox="1"/>
          <p:nvPr/>
        </p:nvSpPr>
        <p:spPr>
          <a:xfrm>
            <a:off x="1692360" y="189000"/>
            <a:ext cx="446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серьез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4" name="Picture 6" descr="i?id=103291006-19-72"/>
          <p:cNvPicPr/>
          <p:nvPr/>
        </p:nvPicPr>
        <p:blipFill>
          <a:blip r:embed="rId2"/>
          <a:stretch/>
        </p:blipFill>
        <p:spPr>
          <a:xfrm>
            <a:off x="0" y="2924280"/>
            <a:ext cx="21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i?id=79567762-49-72"/>
          <p:cNvPicPr/>
          <p:nvPr/>
        </p:nvPicPr>
        <p:blipFill>
          <a:blip r:embed="rId3"/>
          <a:stretch/>
        </p:blipFill>
        <p:spPr>
          <a:xfrm>
            <a:off x="5508720" y="1484280"/>
            <a:ext cx="186048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1116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волосат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7" name="Picture 6" descr="i?id=34208377-10-72"/>
          <p:cNvPicPr/>
          <p:nvPr/>
        </p:nvPicPr>
        <p:blipFill>
          <a:blip r:embed="rId1"/>
          <a:stretch/>
        </p:blipFill>
        <p:spPr>
          <a:xfrm>
            <a:off x="1258920" y="2276640"/>
            <a:ext cx="4608360" cy="324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6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324000" y="1413000"/>
            <a:ext cx="2952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>
                    <a:alpha val="57000"/>
                  </a:srgbClr>
                </a:solidFill>
                <a:latin typeface="Impact"/>
              </a:rPr>
              <a:t>профессия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>
                  <a:alpha val="5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3995640" y="692280"/>
            <a:ext cx="33148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3366">
                    <a:alpha val="68000"/>
                  </a:srgbClr>
                </a:solidFill>
                <a:latin typeface="Impact"/>
              </a:rPr>
              <a:t>специальность 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3366">
                  <a:alpha val="6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179280" y="4508640"/>
            <a:ext cx="331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лжность </a:t>
            </a:r>
            <a:endParaRPr b="1" i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00" name="WordArt 11"/>
          <p:cNvSpPr txBox="1"/>
          <p:nvPr/>
        </p:nvSpPr>
        <p:spPr>
          <a:xfrm>
            <a:off x="3564000" y="2708280"/>
            <a:ext cx="4392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квалификаци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476360" y="189000"/>
            <a:ext cx="43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вкусная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9" name="Picture 6" descr="i?id=294453327-29-72"/>
          <p:cNvPicPr/>
          <p:nvPr/>
        </p:nvPicPr>
        <p:blipFill>
          <a:blip r:embed="rId1"/>
          <a:stretch/>
        </p:blipFill>
        <p:spPr>
          <a:xfrm>
            <a:off x="900000" y="1628640"/>
            <a:ext cx="590400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2f1311"/>
                </a:solidFill>
                <a:latin typeface="Arial"/>
              </a:rPr>
              <a:t>Спасибо  за  внимание!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амые модные специальност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амые забытые профессии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Профессии, которые всегда нужны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амые отважные профессии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Дело и кормит, и мучает, и учит»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Без дела слабеет сила».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Белые руки чужие труды любят»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« Землю красит солнце, а человека труд».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1547640" y="404640"/>
            <a:ext cx="4537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ыбор"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Picture 6" descr="i?id=539859373-46-72"/>
          <p:cNvPicPr/>
          <p:nvPr/>
        </p:nvPicPr>
        <p:blipFill>
          <a:blip r:embed="rId1"/>
          <a:stretch/>
        </p:blipFill>
        <p:spPr>
          <a:xfrm>
            <a:off x="250920" y="15573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i?id=410783019-49-72"/>
          <p:cNvPicPr/>
          <p:nvPr/>
        </p:nvPicPr>
        <p:blipFill>
          <a:blip r:embed="rId2"/>
          <a:stretch/>
        </p:blipFill>
        <p:spPr>
          <a:xfrm>
            <a:off x="6227640" y="155736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i?id=346229093-14-72"/>
          <p:cNvPicPr/>
          <p:nvPr/>
        </p:nvPicPr>
        <p:blipFill>
          <a:blip r:embed="rId3"/>
          <a:stretch/>
        </p:blipFill>
        <p:spPr>
          <a:xfrm>
            <a:off x="6443640" y="465300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?id=132567028-37-72"/>
          <p:cNvPicPr/>
          <p:nvPr/>
        </p:nvPicPr>
        <p:blipFill>
          <a:blip r:embed="rId4"/>
          <a:stretch/>
        </p:blipFill>
        <p:spPr>
          <a:xfrm>
            <a:off x="250920" y="465300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i?id=103557831-13-72"/>
          <p:cNvPicPr/>
          <p:nvPr/>
        </p:nvPicPr>
        <p:blipFill>
          <a:blip r:embed="rId5"/>
          <a:stretch/>
        </p:blipFill>
        <p:spPr>
          <a:xfrm>
            <a:off x="3059280" y="465300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i?id=192915051-41-72"/>
          <p:cNvPicPr/>
          <p:nvPr/>
        </p:nvPicPr>
        <p:blipFill>
          <a:blip r:embed="rId6"/>
          <a:stretch/>
        </p:blipFill>
        <p:spPr>
          <a:xfrm>
            <a:off x="3348000" y="155736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i?id=41667906-51-72"/>
          <p:cNvPicPr/>
          <p:nvPr/>
        </p:nvPicPr>
        <p:blipFill>
          <a:blip r:embed="rId7"/>
          <a:stretch/>
        </p:blipFill>
        <p:spPr>
          <a:xfrm>
            <a:off x="1476360" y="3141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i?id=527695255-40-72"/>
          <p:cNvPicPr/>
          <p:nvPr/>
        </p:nvPicPr>
        <p:blipFill>
          <a:blip r:embed="rId8"/>
          <a:stretch/>
        </p:blipFill>
        <p:spPr>
          <a:xfrm>
            <a:off x="4932360" y="2997360"/>
            <a:ext cx="1143000" cy="142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e49c"/>
                </a:solidFill>
                <a:latin typeface="Arial"/>
              </a:rPr>
              <a:t>Я точно знаю - кем буду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e49c"/>
                </a:solidFill>
                <a:latin typeface="Arial"/>
              </a:rPr>
              <a:t>Я уже выбрал себе профессию.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Arial"/>
              </a:rPr>
              <a:t>Я выберу профессию, которую мне посоветуют сверстники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f1311"/>
                </a:solidFill>
                <a:latin typeface="Arial"/>
              </a:rPr>
              <a:t>Я выберу профессию, которую мне посоветуют учителя.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3:39:36Z</dcterms:created>
  <dc:creator>сибвез</dc:creator>
  <dc:description/>
  <dc:language>en-US</dc:language>
  <cp:lastModifiedBy>Дмитрий Каленюк</cp:lastModifiedBy>
  <dcterms:modified xsi:type="dcterms:W3CDTF">2013-04-23T08:37:11Z</dcterms:modified>
  <cp:revision>5</cp:revision>
  <dc:subject/>
  <dc:title> </dc:title>
</cp:coreProperties>
</file>