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884-5605-4D58-9605-73F68CF5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E0D-AA2A-4371-9698-8B66E99A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B3D-CCE5-4C01-BDD9-9481A5E7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BA4-48D2-4271-B38D-E9E98737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19AC-DA28-4178-BB69-C1959A3E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86E6-5A1C-42EC-8E1F-444EE610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8555-E609-4B11-8D14-6D65BA18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9A48-28C6-4871-B428-60A369D6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2BA6-923C-490C-8528-7EA52800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884E-6738-4713-B972-9121DD1A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9DB4-FAC7-438D-A379-18A484C8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62C-7CE5-423F-B6B7-44DFA1E5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91D0-F70B-471A-AC70-3AD8EEAF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7C2E-C84A-43D7-90EE-419D32A8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86E5-919E-4556-9AF4-67562ADE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5E48-ADF2-492F-9B08-061AE563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2B6F-ED21-4225-AF28-9EC35B37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4F9-29C4-4C60-A778-DADC7B9F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0AF-D589-4841-BC70-94595BC4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32E-B57E-496C-88F1-BE4FE2C6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508-674C-4B60-984F-5A78A98D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4E6-2948-43ED-8E59-A16AAAF4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C60-6E5F-4FCF-AE8E-44833F45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EE6D-EE95-4078-9B62-75FAA69F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1032-260C-495A-9DBC-45E7A5D202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A626-DD47-42BE-B5E8-7614BE5AB0FD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900igr.net/datai/chelovek/Professii-5.files/0005-005-Konditer.pn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lipproject.info/Cliparts_Free/Berufe_Free/Clipart_Free_Download_47.gif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518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539640" y="620640"/>
            <a:ext cx="684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>
                    <a:alpha val="56000"/>
                  </a:srgbClr>
                </a:solidFill>
                <a:latin typeface="Arial"/>
              </a:rPr>
              <a:t>« Истинное сокровищ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>
                  <a:alpha val="56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94" name="WordArt 5"/>
          <p:cNvSpPr txBox="1"/>
          <p:nvPr/>
        </p:nvSpPr>
        <p:spPr>
          <a:xfrm>
            <a:off x="1476360" y="2133720"/>
            <a:ext cx="4967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>
                    <a:alpha val="61000"/>
                  </a:srgbClr>
                </a:solidFill>
                <a:latin typeface="Arial"/>
              </a:rPr>
              <a:t>для людей –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>
                  <a:alpha val="6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95" name="WordArt 6"/>
          <p:cNvSpPr txBox="1"/>
          <p:nvPr/>
        </p:nvSpPr>
        <p:spPr>
          <a:xfrm>
            <a:off x="539640" y="3357720"/>
            <a:ext cx="6624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>
                    <a:alpha val="66000"/>
                  </a:srgbClr>
                </a:solidFill>
                <a:latin typeface="Arial"/>
              </a:rPr>
              <a:t>умение трудиться»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>
                  <a:alpha val="66000"/>
                </a:srgbClr>
              </a:solidFill>
              <a:latin typeface="Arial"/>
              <a:ea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8e49c"/>
                </a:solidFill>
                <a:latin typeface="Arial"/>
              </a:rPr>
              <a:t>Я прислушаюсь к мнению учителей  и сверстников, но выберу сам.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7d47d"/>
                </a:solidFill>
                <a:latin typeface="Arial"/>
              </a:rPr>
              <a:t>Я выберу такую профессию, которая имеет высокий престиж в обществе.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386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8892dc"/>
                </a:solidFill>
                <a:latin typeface="Arial"/>
              </a:rPr>
              <a:t>Я выберу такую профессию, которая подходит моим интересам и способностям.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>
            <a:off x="611280" y="1916280"/>
            <a:ext cx="705636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гра "Самая-самая". 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1403280" y="189000"/>
            <a:ext cx="52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сладкая 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1" name="Picture 6" descr="Картинка 147 из 156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557360"/>
            <a:ext cx="5905440" cy="489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4"/>
          <p:cNvSpPr txBox="1"/>
          <p:nvPr/>
        </p:nvSpPr>
        <p:spPr>
          <a:xfrm>
            <a:off x="1332000" y="189000"/>
            <a:ext cx="56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денежная 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3" name="Picture 6" descr="Картинка 477 из 1567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1989000"/>
            <a:ext cx="4122720" cy="4457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4"/>
          <p:cNvSpPr txBox="1"/>
          <p:nvPr/>
        </p:nvSpPr>
        <p:spPr>
          <a:xfrm>
            <a:off x="539640" y="476280"/>
            <a:ext cx="576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человечная 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5" name="Picture 6" descr="i?id=216776928-47-72"/>
          <p:cNvPicPr/>
          <p:nvPr/>
        </p:nvPicPr>
        <p:blipFill>
          <a:blip r:embed="rId1"/>
          <a:stretch/>
        </p:blipFill>
        <p:spPr>
          <a:xfrm>
            <a:off x="468360" y="1628640"/>
            <a:ext cx="2087640" cy="2063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i?id=254395265-30-72"/>
          <p:cNvPicPr/>
          <p:nvPr/>
        </p:nvPicPr>
        <p:blipFill>
          <a:blip r:embed="rId2"/>
          <a:stretch/>
        </p:blipFill>
        <p:spPr>
          <a:xfrm>
            <a:off x="5580000" y="1628640"/>
            <a:ext cx="2076480" cy="18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i?id=235764583-05-72"/>
          <p:cNvPicPr/>
          <p:nvPr/>
        </p:nvPicPr>
        <p:blipFill>
          <a:blip r:embed="rId3"/>
          <a:stretch/>
        </p:blipFill>
        <p:spPr>
          <a:xfrm>
            <a:off x="3419640" y="3284640"/>
            <a:ext cx="1562040" cy="2149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1258920" y="404640"/>
            <a:ext cx="576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детская 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9" name="Picture 6" descr="i?id=5602433-26-72"/>
          <p:cNvPicPr/>
          <p:nvPr/>
        </p:nvPicPr>
        <p:blipFill>
          <a:blip r:embed="rId1"/>
          <a:stretch/>
        </p:blipFill>
        <p:spPr>
          <a:xfrm>
            <a:off x="250920" y="1628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i?id=103557831-13-72"/>
          <p:cNvPicPr/>
          <p:nvPr/>
        </p:nvPicPr>
        <p:blipFill>
          <a:blip r:embed="rId2"/>
          <a:stretch/>
        </p:blipFill>
        <p:spPr>
          <a:xfrm>
            <a:off x="5916600" y="1628640"/>
            <a:ext cx="1670040" cy="208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i?id=53203273-15-72"/>
          <p:cNvPicPr/>
          <p:nvPr/>
        </p:nvPicPr>
        <p:blipFill>
          <a:blip r:embed="rId3"/>
          <a:stretch/>
        </p:blipFill>
        <p:spPr>
          <a:xfrm>
            <a:off x="2987640" y="3141720"/>
            <a:ext cx="1789200" cy="2581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9" descr="i?id=216776928-47-72"/>
          <p:cNvPicPr/>
          <p:nvPr/>
        </p:nvPicPr>
        <p:blipFill>
          <a:blip r:embed="rId1"/>
          <a:stretch/>
        </p:blipFill>
        <p:spPr>
          <a:xfrm>
            <a:off x="5580000" y="4653000"/>
            <a:ext cx="1932120" cy="1784160"/>
          </a:xfrm>
          <a:prstGeom prst="rect">
            <a:avLst/>
          </a:prstGeom>
          <a:ln w="0">
            <a:noFill/>
          </a:ln>
        </p:spPr>
      </p:pic>
      <p:sp>
        <p:nvSpPr>
          <p:cNvPr id="233" name="WordArt 4"/>
          <p:cNvSpPr txBox="1"/>
          <p:nvPr/>
        </p:nvSpPr>
        <p:spPr>
          <a:xfrm>
            <a:off x="1692360" y="189000"/>
            <a:ext cx="446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серьезная 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4" name="Picture 6" descr="i?id=103291006-19-72"/>
          <p:cNvPicPr/>
          <p:nvPr/>
        </p:nvPicPr>
        <p:blipFill>
          <a:blip r:embed="rId2"/>
          <a:stretch/>
        </p:blipFill>
        <p:spPr>
          <a:xfrm>
            <a:off x="0" y="2924280"/>
            <a:ext cx="2124000" cy="151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i?id=79567762-49-72"/>
          <p:cNvPicPr/>
          <p:nvPr/>
        </p:nvPicPr>
        <p:blipFill>
          <a:blip r:embed="rId3"/>
          <a:stretch/>
        </p:blipFill>
        <p:spPr>
          <a:xfrm>
            <a:off x="5508720" y="1484280"/>
            <a:ext cx="1860480" cy="165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4"/>
          <p:cNvSpPr txBox="1"/>
          <p:nvPr/>
        </p:nvSpPr>
        <p:spPr>
          <a:xfrm>
            <a:off x="1116000" y="189000"/>
            <a:ext cx="52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волосатая 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7" name="Picture 6" descr="i?id=34208377-10-72"/>
          <p:cNvPicPr/>
          <p:nvPr/>
        </p:nvPicPr>
        <p:blipFill>
          <a:blip r:embed="rId1"/>
          <a:stretch/>
        </p:blipFill>
        <p:spPr>
          <a:xfrm>
            <a:off x="1258920" y="2276640"/>
            <a:ext cx="4608360" cy="324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6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324000" y="1413000"/>
            <a:ext cx="29527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>
                    <a:alpha val="57000"/>
                  </a:srgbClr>
                </a:solidFill>
                <a:latin typeface="Impact"/>
              </a:rPr>
              <a:t>профессия 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>
                  <a:alpha val="57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3995640" y="692280"/>
            <a:ext cx="33148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003366">
                    <a:alpha val="68000"/>
                  </a:srgbClr>
                </a:solidFill>
                <a:latin typeface="Impact"/>
              </a:rPr>
              <a:t>специальность </a:t>
            </a:r>
            <a:endParaRPr b="1" i="1" lang="en-US" sz="1800" spc="1" strike="noStrike">
              <a:ln w="9360">
                <a:solidFill>
                  <a:srgbClr val="ccffff"/>
                </a:solidFill>
                <a:miter/>
              </a:ln>
              <a:solidFill>
                <a:srgbClr val="003366">
                  <a:alpha val="6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199" name="WordArt 9"/>
          <p:cNvSpPr txBox="1"/>
          <p:nvPr/>
        </p:nvSpPr>
        <p:spPr>
          <a:xfrm>
            <a:off x="179280" y="4508640"/>
            <a:ext cx="331308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олжность </a:t>
            </a:r>
            <a:endParaRPr b="1" i="1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00" name="WordArt 11"/>
          <p:cNvSpPr txBox="1"/>
          <p:nvPr/>
        </p:nvSpPr>
        <p:spPr>
          <a:xfrm>
            <a:off x="3564000" y="2708280"/>
            <a:ext cx="4392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квалификация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1476360" y="189000"/>
            <a:ext cx="43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вкусная 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9" name="Picture 6" descr="i?id=294453327-29-72"/>
          <p:cNvPicPr/>
          <p:nvPr/>
        </p:nvPicPr>
        <p:blipFill>
          <a:blip r:embed="rId1"/>
          <a:stretch/>
        </p:blipFill>
        <p:spPr>
          <a:xfrm>
            <a:off x="900000" y="1628640"/>
            <a:ext cx="5904000" cy="403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2f1311"/>
                </a:solidFill>
                <a:latin typeface="Arial"/>
              </a:rPr>
              <a:t>Спасибо  за  внимание!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«Самые модные специальности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«Самые забытые профессии»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«Профессии, которые всегда нужны»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«Самые отважные профессии»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«Дело и кормит, и мучает, и учит»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«Без дела слабеет сила».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«Белые руки чужие труды любят»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« Землю красит солнце, а человека труд».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1547640" y="404640"/>
            <a:ext cx="4537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ыбор"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4" name="Picture 6" descr="i?id=539859373-46-72"/>
          <p:cNvPicPr/>
          <p:nvPr/>
        </p:nvPicPr>
        <p:blipFill>
          <a:blip r:embed="rId1"/>
          <a:stretch/>
        </p:blipFill>
        <p:spPr>
          <a:xfrm>
            <a:off x="250920" y="15573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i?id=410783019-49-72"/>
          <p:cNvPicPr/>
          <p:nvPr/>
        </p:nvPicPr>
        <p:blipFill>
          <a:blip r:embed="rId2"/>
          <a:stretch/>
        </p:blipFill>
        <p:spPr>
          <a:xfrm>
            <a:off x="6227640" y="155736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i?id=346229093-14-72"/>
          <p:cNvPicPr/>
          <p:nvPr/>
        </p:nvPicPr>
        <p:blipFill>
          <a:blip r:embed="rId3"/>
          <a:stretch/>
        </p:blipFill>
        <p:spPr>
          <a:xfrm>
            <a:off x="6443640" y="465300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i?id=132567028-37-72"/>
          <p:cNvPicPr/>
          <p:nvPr/>
        </p:nvPicPr>
        <p:blipFill>
          <a:blip r:embed="rId4"/>
          <a:stretch/>
        </p:blipFill>
        <p:spPr>
          <a:xfrm>
            <a:off x="250920" y="465300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i?id=103557831-13-72"/>
          <p:cNvPicPr/>
          <p:nvPr/>
        </p:nvPicPr>
        <p:blipFill>
          <a:blip r:embed="rId5"/>
          <a:stretch/>
        </p:blipFill>
        <p:spPr>
          <a:xfrm>
            <a:off x="3059280" y="465300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i?id=192915051-41-72"/>
          <p:cNvPicPr/>
          <p:nvPr/>
        </p:nvPicPr>
        <p:blipFill>
          <a:blip r:embed="rId6"/>
          <a:stretch/>
        </p:blipFill>
        <p:spPr>
          <a:xfrm>
            <a:off x="3348000" y="1557360"/>
            <a:ext cx="1057320" cy="1428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i?id=41667906-51-72"/>
          <p:cNvPicPr/>
          <p:nvPr/>
        </p:nvPicPr>
        <p:blipFill>
          <a:blip r:embed="rId7"/>
          <a:stretch/>
        </p:blipFill>
        <p:spPr>
          <a:xfrm>
            <a:off x="1476360" y="3141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0" descr="i?id=527695255-40-72"/>
          <p:cNvPicPr/>
          <p:nvPr/>
        </p:nvPicPr>
        <p:blipFill>
          <a:blip r:embed="rId8"/>
          <a:stretch/>
        </p:blipFill>
        <p:spPr>
          <a:xfrm>
            <a:off x="4932360" y="2997360"/>
            <a:ext cx="1143000" cy="1428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73864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8e49c"/>
                </a:solidFill>
                <a:latin typeface="Arial"/>
              </a:rPr>
              <a:t>Я точно знаю - кем буду.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2060280"/>
            <a:ext cx="73864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8e49c"/>
                </a:solidFill>
                <a:latin typeface="Arial"/>
              </a:rPr>
              <a:t>Я уже выбрал себе профессию.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7d47d"/>
                </a:solidFill>
                <a:latin typeface="Arial"/>
              </a:rPr>
              <a:t>Я выберу профессию, которую мне посоветуют сверстники.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386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f1311"/>
                </a:solidFill>
                <a:latin typeface="Arial"/>
              </a:rPr>
              <a:t>Я выберу профессию, которую мне посоветуют учителя. 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3:39:36Z</dcterms:created>
  <dc:creator>сибвез</dc:creator>
  <dc:description/>
  <dc:language>en-US</dc:language>
  <cp:lastModifiedBy>Дмитрий Каленюк</cp:lastModifiedBy>
  <dcterms:modified xsi:type="dcterms:W3CDTF">2013-04-23T08:37:11Z</dcterms:modified>
  <cp:revision>5</cp:revision>
  <dc:subject/>
  <dc:title> </dc:title>
</cp:coreProperties>
</file>