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2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6.png" ContentType="image/png"/>
  <Override PartName="/ppt/media/image20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5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4.png" ContentType="image/png"/>
  <Override PartName="/ppt/media/image18.gif" ContentType="image/gif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CF8-9D68-4016-8D52-E82B7EE8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789-08BF-4CFB-81A7-F02D350F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A38-9AE6-467F-B017-B28A8B52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52E-B494-403D-830B-335D7F6B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ECCA-F3FB-4355-B096-0CE77467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4D0E-9D33-493F-B930-D408A222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3D10-5266-45E2-8544-F2A21924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F7CC-2598-4AF7-A602-4C9789DB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F2B0-62A0-43B8-AB81-0806339C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5F4C-EFE0-437D-B4AF-87CA185F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0A37-A064-4CB0-A0B1-51785FD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CF6-550E-4821-9206-0D59770F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C387-1AC2-4A48-A633-AC2A1AC7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B8A5-1433-4298-9C50-45456C62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B8D2-5292-4392-9D4F-F5D58A5B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634E-7666-4FD7-BACD-5C955CE0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B040-1D31-4E69-8D4A-B7502977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12D3-6F2F-4B36-BBB0-CEAD485B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2E0A-CF42-4140-9F94-5FA37B7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EBDFB-721E-4E4D-8467-0BE2D4F5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253E-AE74-43A8-A243-B82B74EF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E5655-1FB3-4B01-B584-3E0D9A22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3EB-56F0-4E6A-AFB4-F63A87D7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0DF5-A2DD-4E94-AAEF-AB40B233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148E-45D6-4657-B9AE-BE455CCB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442BE-1D1E-439E-AF85-07F59F7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F684-716D-41E7-91AC-705C552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A108-709A-425E-8176-54178B11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120A-E222-4120-960E-DA97ED55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0693-7903-44C3-8223-0DDF3B6B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A2B68-3E52-4F69-A7FC-6C8C66CB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21E2-8F7D-40CE-B474-9091DAFA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251A-D3AC-4394-B906-363CC593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572-20A9-4E55-B97D-4A025671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B1560-9A60-40AA-B75C-76C1E48A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118B4-181E-42D6-98C3-8C85812F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F6FC-36F8-40AB-A219-A3AB93E8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5794-08BD-429D-9460-6ACE06FA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AFCF4-275A-4217-8E33-718A44BC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B065-40B1-43DC-85F0-D8D89DF7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B08BE-5B24-48C1-B431-1617C4AB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096A9-976F-4567-989A-7EA9A63D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AC761-E020-4996-BACC-08C79C0C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6C3C4-A5B8-4A27-8C5A-E6C15658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942-1D21-48C2-8CE0-F1DFF92B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6AAE4-4399-404A-977F-D733CAB7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6D447-3DEB-448A-9614-D497CA3C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1C4D2-9E2A-4C88-92CA-331C67BA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120D5-91BB-4BBA-8352-287A8396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98192-4B9B-463A-8FED-D1EEBD09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73A4-9FBE-4BB3-89B7-D8DDCFC7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63049-6212-4A54-A54B-604AB187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AFB4C-7B43-41AD-B44E-071A6FB1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9E5BF-ABC5-4F3F-AF8E-4E9BD033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9BDBA-8365-430C-BD22-2D60453B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8A5-E898-4791-99DC-EA947331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254B6-F916-4894-879D-6E02A412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EEC70-7F60-4FC6-B878-DA7E8491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F6657-2247-44AD-89C4-264E4049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81D26-C8C2-4E15-A89A-EF331663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E123-6135-4ACA-B06C-81C3FEF3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6A19-F4C5-42D9-983B-3300C456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A16A0-571A-4B6A-8941-FD4E5E2E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21BC0-8249-4AA9-86B6-20DEE004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0E60B-97F2-4758-A8E5-B7AAB52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F3354-A58F-4DA4-993E-DC8D2FC8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A5A-0D50-483F-8473-717C5AB1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72091-276E-4731-877B-4E5B7937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F9530-F876-42AA-AD10-15D83A7A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CD7BB-24F8-4A3A-8A05-63EA72F3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2C7A9-D2F1-4D2E-930C-1A996232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312DF-FD20-4D82-8C67-87DE562C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D498F-44C9-4336-B17E-20ABEF8D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00EB7-0A29-4767-A8C0-5B3261DD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010B6-9CB6-4A95-9411-55A5BC7D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50022-D545-494C-98DC-E5070D41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613A2-316B-41B6-9846-B1D3529A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14D-CA0C-40B0-AB7B-2E9E6CC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51883-6B3B-42DE-84BD-F87D5D05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E7692-B185-4111-B9E1-EFB4A02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D56F4-88CA-4B37-B783-9A721CA5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5B259-EF8D-4F0F-A0C0-F8A71309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8E842-3DC5-4AF4-88E2-A7A216BD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ACF-539E-4EF7-B93A-D58B378A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8370-7E04-4A67-B1D4-9E662AF2708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07A9-83DF-4A6B-8F79-6CF41A6A0D7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D4F5-8712-4A7D-91AC-EE81404C22E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30D6-C242-44C6-8274-F1B3719DD7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7231-D99F-456C-A90A-35A6369910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D5C1-E1D1-4497-9BD9-A7DE456147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9010-EA27-458C-ACE6-AE58C74B5BF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доровьесберегающие технологии в школ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6" descr=""/>
          <p:cNvPicPr/>
          <p:nvPr/>
        </p:nvPicPr>
        <p:blipFill>
          <a:blip r:embed="rId1"/>
          <a:stretch/>
        </p:blipFill>
        <p:spPr>
          <a:xfrm>
            <a:off x="1332000" y="2490840"/>
            <a:ext cx="6202440" cy="404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ПАСНОСТЬ школьных факторов риск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в период интенсивного рос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комплексно и системн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длительно (9-11 лет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гативные последствия аккумулируются, переходят в выраженную патолог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Низкий уровень физического и психического здоровья школьников- ПРЕПЯТСТВИЕ на пути модернизации Российского образования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3" descr="D:\Мои документы\Картинки\Animated\человечки\j0283766.gif"/>
          <p:cNvPicPr/>
          <p:nvPr/>
        </p:nvPicPr>
        <p:blipFill>
          <a:blip r:embed="rId1"/>
          <a:stretch/>
        </p:blipFill>
        <p:spPr>
          <a:xfrm>
            <a:off x="1643040" y="4429080"/>
            <a:ext cx="3062160" cy="2143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D:\Мои документы\Картинки\Animated\человечки\j0283206.gif"/>
          <p:cNvPicPr/>
          <p:nvPr/>
        </p:nvPicPr>
        <p:blipFill>
          <a:blip r:embed="rId2"/>
          <a:stretch/>
        </p:blipFill>
        <p:spPr>
          <a:xfrm>
            <a:off x="5572080" y="4500720"/>
            <a:ext cx="2217960" cy="2170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Мероприятия по сохранению и укреплению здоровья школьников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авать ученикам реальную нагрузк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ть эффективные методы обуч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вышать качество занятий физической культур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одить мониторинг состояния здоровья школьни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лучшать организацию пит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ционализировать досуговую деятельность, каникулярное время и летний отдых обучающих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4" descr="00036229"/>
          <p:cNvPicPr/>
          <p:nvPr/>
        </p:nvPicPr>
        <p:blipFill>
          <a:blip r:embed="rId1"/>
          <a:stretch/>
        </p:blipFill>
        <p:spPr>
          <a:xfrm>
            <a:off x="5786280" y="3557520"/>
            <a:ext cx="2819520" cy="2473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D:\Мои документы\Картинки\еда\e1.jpg"/>
          <p:cNvPicPr/>
          <p:nvPr/>
        </p:nvPicPr>
        <p:blipFill>
          <a:blip r:embed="rId2"/>
          <a:stretch/>
        </p:blipFill>
        <p:spPr>
          <a:xfrm>
            <a:off x="1595520" y="3643200"/>
            <a:ext cx="2905200" cy="2613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нам мешает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уровень познавательной активности ребя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уровень мотивации учебной деятель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устойчивость эмоциональной сфер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сокий уровень тревожности подрост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сформированность навыков общ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вые шаги по созданию школы здоровь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благоприятного психологического клима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менение личностно-значимых методов работ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ые задания разных типов и уровн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ый темп учебной деятельности; смена видов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Анализ урока с позиции здоровьесбережени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видов учебной деятельности(4-7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лжительность 1 вида деятельность- 10 мину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видов преподавания- не менее 3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едование видов преподавания-через 10-15 мин.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метода свободного выбора действ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ые методы обучения (игра, исследование, обсуждение и т.д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менение ТС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едование поз учащихся (следить за осанкой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оздоровительных моментов на уроке (физкультминутки, динамические паузы,релаксация, гимнастика для глаз и т.д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в содержательной части урока вопросов о здоровь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мотивации деятельности учащихся (похвала, поддержка, соревновательный момент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зитивный психологический климат на уроке (сотрудничество, дружелюби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заимопонимание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эмоциональных разрядок на уроке (шутка, отвлеченная короткая беседа и  т.д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тность урока- 60%;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момент наступл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томляемости (падение внимания)- пауз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6" descr="D:\Мои документы\Картинки\Animated\лица\AG00312_.GIF"/>
          <p:cNvPicPr/>
          <p:nvPr/>
        </p:nvPicPr>
        <p:blipFill>
          <a:blip r:embed="rId1"/>
          <a:stretch/>
        </p:blipFill>
        <p:spPr>
          <a:xfrm>
            <a:off x="6786720" y="2714760"/>
            <a:ext cx="1379520" cy="197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 компонентов здоровьесбереж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ая окружающая сре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пит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медицинское обслужив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распространение знаний о здоровь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школы и социума в вопросах сохранения 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койное завершение урока, без суеты, комментарии домашнего зад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ЛЬЗЯ задерживать учеников после звонка на перемену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мена- ЭТО ВРЕМЯ ИХ ЗАКОННОГО ОТДЫХА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ра! Перемена!!!!!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6" name="Picture 2" descr="C:\Documents and Settings\Елена\Мои документы\ПРЕЗЕНТАЦИИ\Фекдченко - №6\САЙТ1.files\image034.gif"/>
          <p:cNvPicPr/>
          <p:nvPr/>
        </p:nvPicPr>
        <p:blipFill>
          <a:blip r:embed="rId1"/>
          <a:stretch/>
        </p:blipFill>
        <p:spPr>
          <a:xfrm>
            <a:off x="3000240" y="2000160"/>
            <a:ext cx="4497480" cy="4316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ормы и методы здоровьесбережения в ОУ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Неудовлетворительное состояние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нутришкольной среды ---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нитогинг состояния  помещения,школьной мебели, оборудовани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Нерациональная организация учебного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цесса ---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ибкое чередование учебной и неучебной деятельности, гибкое моделирование образовательной траектор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Низкая двигательная активность-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--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ключение в режим учебного процесса динамических минуток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Неадекватные приемы и методы преподавания------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Гибкие  формы обучения, индивидуальный подход;                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1" name="Picture 2" descr="D:\Мои документы\Картинки\Animated\человечки\j0223734.gif"/>
          <p:cNvPicPr/>
          <p:nvPr/>
        </p:nvPicPr>
        <p:blipFill>
          <a:blip r:embed="rId1"/>
          <a:stretch/>
        </p:blipFill>
        <p:spPr>
          <a:xfrm>
            <a:off x="3429000" y="0"/>
            <a:ext cx="273852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Стрессовые ситуации на уроке-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ностая система воспитания, система дополнительного образов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Нарушение здоровья учащихся -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изкультурная работа, лечебные процедуры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3" descr="D:\Мои документы\Картинки\Animated\спорт\j0303467.gif"/>
          <p:cNvPicPr/>
          <p:nvPr/>
        </p:nvPicPr>
        <p:blipFill>
          <a:blip r:embed="rId1"/>
          <a:stretch/>
        </p:blipFill>
        <p:spPr>
          <a:xfrm>
            <a:off x="6143760" y="5643720"/>
            <a:ext cx="799920" cy="561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D:\Мои документы\Картинки\Animated\спорт\j0303467.gif"/>
          <p:cNvPicPr/>
          <p:nvPr/>
        </p:nvPicPr>
        <p:blipFill>
          <a:blip r:embed="rId2"/>
          <a:stretch/>
        </p:blipFill>
        <p:spPr>
          <a:xfrm>
            <a:off x="6215040" y="564372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D:\Мои документы\Картинки\Animated\спорт\j0303467.gif"/>
          <p:cNvPicPr/>
          <p:nvPr/>
        </p:nvPicPr>
        <p:blipFill>
          <a:blip r:embed="rId3"/>
          <a:stretch/>
        </p:blipFill>
        <p:spPr>
          <a:xfrm>
            <a:off x="5692680" y="4857840"/>
            <a:ext cx="2441520" cy="1714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D:\Мои документы\Картинки\Animated\человечки\j0254414.gif"/>
          <p:cNvPicPr/>
          <p:nvPr/>
        </p:nvPicPr>
        <p:blipFill>
          <a:blip r:embed="rId4"/>
          <a:stretch/>
        </p:blipFill>
        <p:spPr>
          <a:xfrm>
            <a:off x="1857240" y="285840"/>
            <a:ext cx="1922760" cy="1571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Отсутствие культуры здоровья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кции, беседы, просветительская работа с родителями и ученик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12" descr="D:\Елена\фото семинар. конференции\P1020408.JPG"/>
          <p:cNvPicPr/>
          <p:nvPr/>
        </p:nvPicPr>
        <p:blipFill>
          <a:blip r:embed="rId1"/>
          <a:stretch/>
        </p:blipFill>
        <p:spPr>
          <a:xfrm>
            <a:off x="5429160" y="3822840"/>
            <a:ext cx="3143520" cy="2463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D:\Елена\Фото проект\P1030603.JPG"/>
          <p:cNvPicPr/>
          <p:nvPr/>
        </p:nvPicPr>
        <p:blipFill>
          <a:blip r:embed="rId2"/>
          <a:stretch/>
        </p:blipFill>
        <p:spPr>
          <a:xfrm>
            <a:off x="1573200" y="3821040"/>
            <a:ext cx="3284640" cy="2465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Школы, содействующие здоровью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стемность мероприятий, направленных на укрепление здоровья (тесная связь всех педагогических и медицинских сотрудников школы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ебный процесс организован разумно и природосообразно (расписание, нагрузки-соответствуют возрастным особенностям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здать школу здоровья- БОЛЬШОЙ ТРУД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6215040" cy="5572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-х компонентная модель школы, содействующей здоровью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Ориентация в поведении на укрепление здоровь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Школьная  медицинская служба проводит раннюю профилактику и идентификац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ая школьная среда: безопасное питание, соблюдение санитарных норм,  здоровый психологический клима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 чем мы боремся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кольные факторы риск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Стрессовая педагогическ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тодика (крик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нтенсификация образования (большие нагрузк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Несоответствие методик обучения возрастным особенностя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4" descr="j0285261"/>
          <p:cNvPicPr/>
          <p:nvPr/>
        </p:nvPicPr>
        <p:blipFill>
          <a:blip r:embed="rId1"/>
          <a:stretch/>
        </p:blipFill>
        <p:spPr>
          <a:xfrm>
            <a:off x="7000920" y="1285920"/>
            <a:ext cx="1884240" cy="244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ждевременное начало систематического обуч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соблюдение физиологических и гигиенических требований в учебном процесс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грамотность педагогов в вопросах здоровьесбережения школьни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ерегрузки….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4" descr="j0284135"/>
          <p:cNvPicPr/>
          <p:nvPr/>
        </p:nvPicPr>
        <p:blipFill>
          <a:blip r:embed="rId1"/>
          <a:stretch/>
        </p:blipFill>
        <p:spPr>
          <a:xfrm>
            <a:off x="1727280" y="2571840"/>
            <a:ext cx="3130560" cy="3763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D:\Мои документы\Картинки\Animated\человечки\j0283742.gif"/>
          <p:cNvPicPr/>
          <p:nvPr/>
        </p:nvPicPr>
        <p:blipFill>
          <a:blip r:embed="rId2"/>
          <a:stretch/>
        </p:blipFill>
        <p:spPr>
          <a:xfrm>
            <a:off x="5429160" y="1285920"/>
            <a:ext cx="35323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ссовая безграмотность родителей в вопросах здоровьесбережения де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достаточная развитость системы физического воспитания де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утствие системы работы по формированию ценностей здоровь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18:54:13Z</dcterms:created>
  <dc:creator>Елена</dc:creator>
  <dc:description/>
  <dc:language>en-US</dc:language>
  <cp:lastModifiedBy>1</cp:lastModifiedBy>
  <dcterms:modified xsi:type="dcterms:W3CDTF">2017-05-19T04:48:11Z</dcterms:modified>
  <cp:revision>26</cp:revision>
  <dc:subject/>
  <dc:title>Здоровьесберегающие технологии в школе</dc:title>
</cp:coreProperties>
</file>