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12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6.png" ContentType="image/png"/>
  <Override PartName="/ppt/media/image20.jpeg" ContentType="image/jpeg"/>
  <Override PartName="/ppt/media/image14.gif" ContentType="image/gif"/>
  <Override PartName="/ppt/media/image19.jpeg" ContentType="image/jpeg"/>
  <Override PartName="/ppt/media/image1.jpeg" ContentType="image/jpeg"/>
  <Override PartName="/ppt/media/image5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4.png" ContentType="image/png"/>
  <Override PartName="/ppt/media/image18.gif" ContentType="image/gif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DB4-2F0F-411F-A367-138ABE2E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4C9-43F5-4763-BA61-6205C0B3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0DE-F3A3-441B-A340-9BE3506D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BA0-BDD2-4C63-8E47-FB3EEC43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28B7-3E92-4ADC-97D3-8106D026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6BFB-941F-4B34-8C04-D5AE0FC0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77BD-E261-41B4-A518-4B5603EF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9A2E-8E1C-473E-9F9E-082A60D7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0D40-71A5-4FF0-A1FF-4EB0E747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A8AD-2B88-4514-A8FE-5B1FDCC0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01F9-0322-48D3-8B99-6AC64028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435-5E8B-4058-9E47-B2805E0B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8091-FC65-48A5-9B2E-32512BDD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1869-A331-4302-95B8-0B049D1A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9B0F-AA0B-4776-B76D-8C14F3B6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64BE-E796-4276-8694-153D6460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16CB-B1BE-4FFB-AC49-525E3D9A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F389-8C94-46BB-8992-8A067F30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F5D40-3D97-4250-ADBD-33BA5885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7951-9635-4B29-B23C-5BB687CF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FED1-201B-461D-8563-399B7A54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64956-2463-4EF2-A5AA-D3F9840C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483-B765-4E82-97FD-572C5FB8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86146-3551-4EE4-806C-89859DB4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01D4-6AAB-47DD-A456-254CEA86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93BB9-C259-4ADF-9592-1AABA66C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14508-ECE4-4E65-BA8D-455FF351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458F-5437-48E5-9FA8-05399827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55CD6-17C6-4E68-9C06-1119ECA2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D2B8B-36FD-49FC-8D69-E46814B8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431BC-E306-40A0-9112-719D9D69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1C4A0-6063-4E07-9DA1-CF5ACAAE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E2A7A-C50F-4C05-B637-CBF6CF7E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A4A-349A-4918-8AD6-087306C9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61022-CC8F-483C-85DD-09BFA069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46346-7AA0-4716-8A9A-6D53E440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6F94E-F33F-407F-8181-AB5227CA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65CD1-012B-4F49-8A49-A91E4249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23D75-1BCB-41F8-83C5-6C529733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F2CFE-8635-4EB9-809C-D4C23F59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DC72C-CF57-4D2A-BDE3-AA9ED306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5548B-C857-454B-969C-C0859372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95A59-C081-4D69-A137-80D829A7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D64E3-AC32-4BF8-9DC3-B411D0FA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49E-3B45-4A46-84D9-0CA2DF1C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0B615-6D01-492D-8E72-89DAC955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62164-5FC7-4AF5-8EA8-9EFC8745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BB05E-F918-43DF-9ACD-0269CA64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A8833-3FBA-4F89-BFE2-0F24BBD5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26459-33EC-4E0C-A0C0-EEEA4B89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43751-149E-4B56-B028-48924312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9B435-91F8-44A5-BB75-22D6267A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37E09-176E-40A2-ACD3-F02A8574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B17EF-C5C8-46ED-AE80-37651A66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DF1EF-D262-49F7-BCA4-11183E09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864-DB0C-4852-9AA7-ACF592DD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BA700-DBAE-4116-9437-341083D6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6EB14-BD74-4A71-BBD1-019EA6CD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E8B91-EF5C-4A41-8DA3-0AD7F370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CC17D-4983-4B0A-BB43-4E49D74F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8E55F-901B-4012-8BB5-5D7ECBDC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F6A42-EF97-4A73-AF0D-A84A8CEA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69939-8F93-4FB5-B429-F6433576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46FC4-34CF-433D-8C9F-709F51BB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1E285-AC91-4115-88B0-706B6E0F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FDBFE-3AFE-4C6B-8319-0E470620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1BC3-4FD6-476A-90B9-910E78C0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53BFB-D373-4297-8E36-587357C9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07630-A56C-4688-BED0-E77F6655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0F6DA-1C67-410A-8246-D1AB8452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040F2-B655-411C-AFE0-77BA74DB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EE159-6847-4B7D-8C16-23F0ACC6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59987-2401-4932-8542-1B606016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0D0B7-71DB-4CE5-A117-C9AB885A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32DFA-6F33-4B94-A7FD-C02899CD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BAE3D-4BAB-498C-84AA-3E439B1B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4545C-8E48-4FC4-9EC0-3E0B4633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6C6-A885-4A17-84E1-D38E357C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72160-0657-429C-8F0B-19ACD9A5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82883-49B8-430A-9FD2-3B34B29E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12C09-C3E0-4C41-97DA-426D6999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6DD97-7F61-4B76-B724-A131AA36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AF64B-1D6A-4412-B038-F4A84ECD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618-97E3-461C-AF21-7C5CA9FE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8E5B-4022-4680-BD7E-1D1A1767471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88DB-7136-4FD6-8DB3-D700D387989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67DD-3D16-48EB-BC66-A71903BEC1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BD6B-4FC0-48BD-98A7-10E0E1147B3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308A-ED7F-47D1-972A-EF0859AFD68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E322-2DB3-4367-956F-BA7050BEDAF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2925-E52F-4F8F-8E95-8FDF459570E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доровьесберегающие технологии в школе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6" descr=""/>
          <p:cNvPicPr/>
          <p:nvPr/>
        </p:nvPicPr>
        <p:blipFill>
          <a:blip r:embed="rId1"/>
          <a:stretch/>
        </p:blipFill>
        <p:spPr>
          <a:xfrm>
            <a:off x="1332000" y="2490840"/>
            <a:ext cx="6202440" cy="4043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ПАСНОСТЬ школьных факторов риска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йствуют в период интенсивного рост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йствуют комплексно и системн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йствуют длительно (9-11 лет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гативные последствия аккумулируются, переходят в выраженную патологи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Низкий уровень физического и психического здоровья школьников- ПРЕПЯТСТВИЕ на пути модернизации Российского образования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3" descr="D:\Мои документы\Картинки\Animated\человечки\j0283766.gif"/>
          <p:cNvPicPr/>
          <p:nvPr/>
        </p:nvPicPr>
        <p:blipFill>
          <a:blip r:embed="rId1"/>
          <a:stretch/>
        </p:blipFill>
        <p:spPr>
          <a:xfrm>
            <a:off x="1643040" y="4429080"/>
            <a:ext cx="3062160" cy="2143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D:\Мои документы\Картинки\Animated\человечки\j0283206.gif"/>
          <p:cNvPicPr/>
          <p:nvPr/>
        </p:nvPicPr>
        <p:blipFill>
          <a:blip r:embed="rId2"/>
          <a:stretch/>
        </p:blipFill>
        <p:spPr>
          <a:xfrm>
            <a:off x="5572080" y="4500720"/>
            <a:ext cx="2217960" cy="2170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Мероприятия по сохранению и укреплению здоровья школьников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авать ученикам реальную нагрузк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овать эффективные методы обуч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вышать качество занятий физической культуро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одить мониторинг состояния здоровья школьни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лучшать организацию пит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ционализировать досуговую деятельность, каникулярное время и летний отдых обучающих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4" descr="00036229"/>
          <p:cNvPicPr/>
          <p:nvPr/>
        </p:nvPicPr>
        <p:blipFill>
          <a:blip r:embed="rId1"/>
          <a:stretch/>
        </p:blipFill>
        <p:spPr>
          <a:xfrm>
            <a:off x="5786280" y="3557520"/>
            <a:ext cx="2819520" cy="24735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D:\Мои документы\Картинки\еда\e1.jpg"/>
          <p:cNvPicPr/>
          <p:nvPr/>
        </p:nvPicPr>
        <p:blipFill>
          <a:blip r:embed="rId2"/>
          <a:stretch/>
        </p:blipFill>
        <p:spPr>
          <a:xfrm>
            <a:off x="1595520" y="3643200"/>
            <a:ext cx="2905200" cy="2613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нам мешает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изкий уровень познавательной активности ребят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изкий уровень мотивации учебной деятель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устойчивость эмоциональной сфер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сокий уровень тревожности подрост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сформированность навыков общ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рвые шаги по созданию школы здоровья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благоприятного психологического климат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менение личностно-значимых методов работ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дивидуальные задания разных типов и уровн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дивидуальный темп учебной деятельности; смена видов деятель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Анализ урока с позиции здоровьесбережения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видов учебной деятельности(4-7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лжительность 1 вида деятельность- 10 минут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видов преподавания- не менее 3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редование видов преподавания-через 10-15 мин.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метода свободного выбора действ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ивные методы обучения (игра, исследование, обсуждение и т.д.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менение ТС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редование поз учащихся (следить за осанкой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оздоровительных моментов на уроке (физкультминутки, динамические паузы,релаксация, гимнастика для глаз и т.д.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в содержательной части урока вопросов о здоровь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мотивации деятельности учащихся (похвала, поддержка, соревновательный момент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зитивный психологический климат на уроке (сотрудничество, дружелюбие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заимопонимание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эмоциональных разрядок на уроке (шутка, отвлеченная короткая беседа и  т.д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отность урока- 60%;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момент наступл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томляемости (падение внимания)- пауз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6" descr="D:\Мои документы\Картинки\Animated\лица\AG00312_.GIF"/>
          <p:cNvPicPr/>
          <p:nvPr/>
        </p:nvPicPr>
        <p:blipFill>
          <a:blip r:embed="rId1"/>
          <a:stretch/>
        </p:blipFill>
        <p:spPr>
          <a:xfrm>
            <a:off x="6786720" y="2714760"/>
            <a:ext cx="1379520" cy="1973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5 компонентов здоровьесбереж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ая окружающая сре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 пит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ое медицинское обслужив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распространение знаний о здоровь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школы и социума в вопросах сохранения 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койное завершение урока, без суеты, комментарии домашнего зад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ЛЬЗЯ задерживать учеников после звонка на перемену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емена- ЭТО ВРЕМЯ ИХ ЗАКОННОГО ОТДЫХА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ра! Перемена!!!!!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6" name="Picture 2" descr="C:\Documents and Settings\Елена\Мои документы\ПРЕЗЕНТАЦИИ\Фекдченко - №6\САЙТ1.files\image034.gif"/>
          <p:cNvPicPr/>
          <p:nvPr/>
        </p:nvPicPr>
        <p:blipFill>
          <a:blip r:embed="rId1"/>
          <a:stretch/>
        </p:blipFill>
        <p:spPr>
          <a:xfrm>
            <a:off x="3000240" y="2000160"/>
            <a:ext cx="4497480" cy="4316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Формы и методы здоровьесбережения в ОУ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Неудовлетворительное состояние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нутришкольной среды ----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нитогинг состояния  помещения,школьной мебели, оборудовани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Нерациональная организация учебного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оцесса ----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ибкое чередование учебной и неучебной деятельности, гибкое моделирование образовательной траектори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Низкая двигательная активность-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--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ключение в режим учебного процесса динамических минуток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Неадекватные приемы и методы преподавания------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Гибкие  формы обучения, индивидуальный подход;                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1" name="Picture 2" descr="D:\Мои документы\Картинки\Animated\человечки\j0223734.gif"/>
          <p:cNvPicPr/>
          <p:nvPr/>
        </p:nvPicPr>
        <p:blipFill>
          <a:blip r:embed="rId1"/>
          <a:stretch/>
        </p:blipFill>
        <p:spPr>
          <a:xfrm>
            <a:off x="3429000" y="0"/>
            <a:ext cx="2738520" cy="1643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Стрессовые ситуации на уроке---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нностая система воспитания, система дополнительного образов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Нарушение здоровья учащихся ---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изкультурная работа, лечебные процедуры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3" descr="D:\Мои документы\Картинки\Animated\спорт\j0303467.gif"/>
          <p:cNvPicPr/>
          <p:nvPr/>
        </p:nvPicPr>
        <p:blipFill>
          <a:blip r:embed="rId1"/>
          <a:stretch/>
        </p:blipFill>
        <p:spPr>
          <a:xfrm>
            <a:off x="6143760" y="5643720"/>
            <a:ext cx="799920" cy="561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D:\Мои документы\Картинки\Animated\спорт\j0303467.gif"/>
          <p:cNvPicPr/>
          <p:nvPr/>
        </p:nvPicPr>
        <p:blipFill>
          <a:blip r:embed="rId2"/>
          <a:stretch/>
        </p:blipFill>
        <p:spPr>
          <a:xfrm>
            <a:off x="6215040" y="564372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D:\Мои документы\Картинки\Animated\спорт\j0303467.gif"/>
          <p:cNvPicPr/>
          <p:nvPr/>
        </p:nvPicPr>
        <p:blipFill>
          <a:blip r:embed="rId3"/>
          <a:stretch/>
        </p:blipFill>
        <p:spPr>
          <a:xfrm>
            <a:off x="5692680" y="4857840"/>
            <a:ext cx="2441520" cy="17143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D:\Мои документы\Картинки\Animated\человечки\j0254414.gif"/>
          <p:cNvPicPr/>
          <p:nvPr/>
        </p:nvPicPr>
        <p:blipFill>
          <a:blip r:embed="rId4"/>
          <a:stretch/>
        </p:blipFill>
        <p:spPr>
          <a:xfrm>
            <a:off x="1857240" y="285840"/>
            <a:ext cx="1922760" cy="1571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Отсутствие культуры здоровья-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кции, беседы, просветительская работа с родителями и ученик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12" descr="D:\Елена\фото семинар. конференции\P1020408.JPG"/>
          <p:cNvPicPr/>
          <p:nvPr/>
        </p:nvPicPr>
        <p:blipFill>
          <a:blip r:embed="rId1"/>
          <a:stretch/>
        </p:blipFill>
        <p:spPr>
          <a:xfrm>
            <a:off x="5429160" y="3822840"/>
            <a:ext cx="3143520" cy="2463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D:\Елена\Фото проект\P1030603.JPG"/>
          <p:cNvPicPr/>
          <p:nvPr/>
        </p:nvPicPr>
        <p:blipFill>
          <a:blip r:embed="rId2"/>
          <a:stretch/>
        </p:blipFill>
        <p:spPr>
          <a:xfrm>
            <a:off x="1573200" y="3821040"/>
            <a:ext cx="3284640" cy="2465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Школы, содействующие здоровью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истемность мероприятий, направленных на укрепление здоровья (тесная связь всех педагогических и медицинских сотрудников школы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ебный процесс организован разумно и природосообразно (расписание, нагрузки-соответствуют возрастным особенностям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здать школу здоровья- БОЛЬШОЙ ТРУД!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"/>
          <p:cNvPicPr/>
          <p:nvPr/>
        </p:nvPicPr>
        <p:blipFill>
          <a:blip r:embed="rId1"/>
          <a:stretch/>
        </p:blipFill>
        <p:spPr>
          <a:xfrm>
            <a:off x="1928880" y="1285920"/>
            <a:ext cx="6215040" cy="5572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-х компонентная модель школы, содействующей здоровью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Ориентация в поведении на укрепление здоровь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Школьная  медицинская служба проводит раннюю профилактику и идентификаци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ая школьная среда: безопасное питание, соблюдение санитарных норм,  здоровый психологический клима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 чем мы боремся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Школьные факторы риск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Стрессовая педагогическа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тодика (крик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нтенсификация образования (большие нагрузк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Несоответствие методик обучения возрастным особенностя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4" descr="j0285261"/>
          <p:cNvPicPr/>
          <p:nvPr/>
        </p:nvPicPr>
        <p:blipFill>
          <a:blip r:embed="rId1"/>
          <a:stretch/>
        </p:blipFill>
        <p:spPr>
          <a:xfrm>
            <a:off x="7000920" y="1285920"/>
            <a:ext cx="1884240" cy="2441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ждевременное начало систематического обуч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соблюдение физиологических и гигиенических требований в учебном процесс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грамотность педагогов в вопросах здоровьесбережения школьни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ерегрузки….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4" descr="j0284135"/>
          <p:cNvPicPr/>
          <p:nvPr/>
        </p:nvPicPr>
        <p:blipFill>
          <a:blip r:embed="rId1"/>
          <a:stretch/>
        </p:blipFill>
        <p:spPr>
          <a:xfrm>
            <a:off x="1727280" y="2571840"/>
            <a:ext cx="3130560" cy="3763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D:\Мои документы\Картинки\Animated\человечки\j0283742.gif"/>
          <p:cNvPicPr/>
          <p:nvPr/>
        </p:nvPicPr>
        <p:blipFill>
          <a:blip r:embed="rId2"/>
          <a:stretch/>
        </p:blipFill>
        <p:spPr>
          <a:xfrm>
            <a:off x="5429160" y="1285920"/>
            <a:ext cx="35323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ссовая безграмотность родителей в вопросах здоровьесбережения дет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достаточная развитость системы физического воспитания дет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утствие системы работы по формированию ценностей здоровь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8T18:54:13Z</dcterms:created>
  <dc:creator>Елена</dc:creator>
  <dc:description/>
  <dc:language>en-US</dc:language>
  <cp:lastModifiedBy>1</cp:lastModifiedBy>
  <dcterms:modified xsi:type="dcterms:W3CDTF">2017-05-19T04:48:11Z</dcterms:modified>
  <cp:revision>26</cp:revision>
  <dc:subject/>
  <dc:title>Здоровьесберегающие технологии в школе</dc:title>
</cp:coreProperties>
</file>