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D41-FD13-46FF-8925-F124AAFB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E49-3273-452E-929E-1E3DF303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5E7-8AF9-48F9-932E-A6071F1A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FF2-FFC6-4FA0-B727-0046415A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F183-D3E5-4707-8C51-CD7045F3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A847-E366-40EC-838F-6161E7F9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B97A9-291D-4483-8055-697BD8F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BEC27-96BC-4D1C-A020-53E2B6B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9857-F562-49CF-8B8B-C492DE13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C6A3A-7047-4062-9989-8EEDD7C8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96423-0998-4E21-AC36-EA244E4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295-25D5-40C0-9836-DCAFFEF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BA7EB-29B5-40A5-8FC8-259CE47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20D10-73A4-4FFB-A42D-49987AE6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C04B6-C08A-4CEB-9511-307E44B5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7EAE2-D5C5-41DA-9803-2E67327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98B8-F7E4-4D2A-90F4-2AB1780F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A02-93BD-488A-B7C6-02A84441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E0D-372C-4BDF-B8C6-C0247A4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3CB-0D50-4F11-9EC4-F4AC81CD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247-49D7-4E2E-BF9D-69994DC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AE1-377B-4BD5-A0BD-172378D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11E-D1A1-44B3-8B58-42B24D82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293-34DF-4F7F-A082-0E4895A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894-0B78-4F0C-8D5F-4BFD93EB2F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330-3733-4170-918A-0AAEE7B81C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Животные лес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лядное пособие к уроку «Окружающий 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Охотникова Татьяна Александровна,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ийск, 20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2700360" y="1052640"/>
          <a:ext cx="359892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052640"/>
                    <a:ext cx="359892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Бобр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25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Бобр – самый крупный грызун в России, длиной до 1 метра, весом до 30 кг. Бобры обитают на тихих лесных речках с высокими берегами, поросшими густыми зарослями кустарников, трав. Своими мощными резцами бобры подгрызают стволы деревьев и валят их на землю, затем объедают кору и ветки. Бобры строят прочные плотины, длина которых иногда достигает нескольких десятков метров, в которых прячутся от врагов. Бобры усердно очищают реки от ила. В воде становится больше кислорода, поэтому в бобровых запрудах всегда много ры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971640" y="1413000"/>
            <a:ext cx="7632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РЕГИТЕ ПРИРОДУ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Биология. Энциклопедия для детей. Том 2./Сост. С. Исмаилова, А. Майсурян. – М. : Аванта, 200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Родная природа: Сборник статей о природе Алтая / Сост. М. И. Кондратюк. – Барнаул: Алт. Кн. Изд – во, 1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. Леокум. Детская энциклопедия «Скажи мне, почему?..» / Авторизованный перевод Я. И А. огуреевых. – М.: Джулия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6"/>
          <p:cNvSpPr/>
          <p:nvPr/>
        </p:nvSpPr>
        <p:spPr>
          <a:xfrm>
            <a:off x="611280" y="260280"/>
            <a:ext cx="7848360" cy="6273720"/>
          </a:xfrm>
          <a:prstGeom prst="verticalScroll">
            <a:avLst>
              <a:gd name="adj" fmla="val 18611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14520" y="243000"/>
            <a:ext cx="41734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fab"/>
                </a:solidFill>
                <a:latin typeface="Georgia"/>
              </a:rPr>
              <a:t>Содержа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3640" y="170028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Вол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Лис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За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Ло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Боб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Муравей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e0dc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уравьёв называют «хранителями лесов».   Они имеют тонкую талию-стебелёк,  соединяющую брюшко и грудь. В лесах России встречается рыжий лесной муравей, который устраивает знаменитые муравьиные кучи – муравейники. Главная польза муравьёв – уничтожение вредящих насеко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457200" y="155736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268360" y="40464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Вол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148360" y="1557360"/>
            <a:ext cx="35733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олк-осторожный и  умный зверь.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н похож на немецкую овчарку. Главное отличие от собак – хвост.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Живут волки парами или семьями.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Зимой объединяются в стаи, а весной стаи распадаются.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пят под открытым небом. Питаются мясом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Главная добыча волков олени, лоси, кабаны. Волки выполняют роль санитаров. Они уничтожают больных и слаб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Animal5"/>
          <p:cNvPicPr/>
          <p:nvPr/>
        </p:nvPicPr>
        <p:blipFill>
          <a:blip r:embed="rId1"/>
          <a:stretch/>
        </p:blipFill>
        <p:spPr>
          <a:xfrm>
            <a:off x="304920" y="1773360"/>
            <a:ext cx="45720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Лисица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3edff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Лисица – символ хитрости, изворотливости, ловкости. Зимнюю половину года они живут поодиночке и только на лето образуют семьи. У лисицы пушистый густой мех, который особенно хорош зимой. Тело у неё  очень подвижное, оно может изгибаться и вытягиваться во время бега. Ноги гибкие и тонкие. Хвост во время бега работает как руль. Она лает как молодая собака. Свои норы она делает под корягами и валежником. Пища лисиц разнообразна: они едят мышей, птиц, лягушек, черв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Animal50"/>
          <p:cNvPicPr/>
          <p:nvPr/>
        </p:nvPicPr>
        <p:blipFill>
          <a:blip r:embed="rId1"/>
          <a:stretch/>
        </p:blipFill>
        <p:spPr>
          <a:xfrm>
            <a:off x="611280" y="1484280"/>
            <a:ext cx="39002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Заяц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88000" y="1412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Заяц живёт в лесу. Он питается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орой деревьев. Зимой заяц белый, а летом серый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Длинные задние ноги позволяют зайцу срываться с места и мчаться 3 – 5 – метровыми прыжками. Сон зайца беспокойный: раз по 20 на день он засыпает ненадолго, чтобы потом пробудиться, встать, оглядеться, прислушаться. Только когда убедится, что вокруг все тихо, опять уляжется и прикроет глаз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483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47920" y="40464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Arial"/>
              </a:rPr>
              <a:t>Б</a:t>
            </a: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ел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00720" y="1628640"/>
            <a:ext cx="426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Белка – зверюшка малая, задиристая. Она умеет отвоевать себе место: не задумываясь, займет сорочье гнездо.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елка  устраивает своё гнездо в дуплах деревьев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Внутри дома отделка стен их мха, лишайника, травы. Снаружи гнездо замаскировано листьями. Прыжки белки – это почти полет, управляемый пушистым хвостом.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Бесстрашно перепрыгивает она с дерева на дерево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елка может спрыгнуть с верхушки высокого дерева прямо на зем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11280" y="1555920"/>
            <a:ext cx="34941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Медведь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3881160" cy="4259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едведь – крупный лохматый зверь с короткой толстой шеей. Зубы у него приспособлены к поеданию растений и животных. Поэтому медведи всеядные животные. Любят лакомится ягодами, поедают корни растений, насекомых и их личинок.  Напрасно искать зимой следы медведя на снегу. Прежде чем лечь в берлогу, путает медведь свои следы, как заяц петляет по болотам, по воде, скачет со следа. Он залегает берлогу ещё до появления снега. Сегодня насчитывается более 100 тысяч косолапых обитателей л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Лось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4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упный зверь лесной полосы – лось. Его стройные сильные ноги заканчиваются широкими копытами, благодаря  которым он легко передвигается даже по топким болотистым участкам леса. Питается зверь травой, листьями, молодыми побегами деревьев и кустарников, грибами, ягодами.Труднее ему находить пищу зимой, тогда он ест хвою и кору деревьев, ищет старую засохшую траву.Лоси легко приручаются. Достаточно лосенка 1 раз покормить из бутылочки, и он на всю жизнь привязывается к своей кормили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50-05-23T14:43:29Z</dcterms:created>
  <dc:creator>Alexander</dc:creator>
  <dc:description/>
  <dc:language>en-US</dc:language>
  <cp:lastModifiedBy>Tess</cp:lastModifiedBy>
  <dcterms:modified xsi:type="dcterms:W3CDTF">2017-05-19T14:05:19Z</dcterms:modified>
  <cp:revision>10</cp:revision>
  <dc:subject/>
  <dc:title>Слайд 1</dc:title>
</cp:coreProperties>
</file>