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B0F-CA25-484D-8DA2-9AF7562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93B-4905-4230-B53D-C0ED6BB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10B-6FCE-4A40-A42B-06E9C9C1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9CF-CDDD-493A-B724-7046CC78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32D4E-C311-427A-9D5F-0279090A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78BC9-EE8E-493D-831C-8AB705EA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D774-C3D0-4FDA-AC4C-724096F2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C8D60-20F5-406F-BD68-6AC4FDA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E5777-9849-442E-AD3D-E5E3A5C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67B9-8635-4BF4-B1DF-BCC16CEC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04285-AD14-474A-9582-D9C1D29B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394-AE8A-4C0D-A4A7-60169E67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79131-352B-45DB-A662-F1FF7352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3E950-9631-4E60-9F66-6BA5579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6FD5-174F-430D-811C-1C81622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B56C5-EF90-4B4A-B067-0E6F05DB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B3010-0B5F-48A8-9EEF-6420BA77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5D5-124A-4AF3-9FD4-C09FCF7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B20-E076-4DA2-AF08-7BBB23E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8C6-CD0F-4786-BECD-A21B04E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B35-D36F-4AB7-A0F2-8B6E75A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2DE-08DA-47AA-9C8A-04E7F95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8D5-3CFB-4F9D-885E-54B1D4E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931-1E96-4667-9FCE-16E3B42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4CDF-660D-412C-916A-0E570313D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8CA-2CFE-4F7A-9FF0-E50E12FDA0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Животные лес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лядное пособие к уроку «Окружающи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Охотникова Татьяна Александровна,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ийск, 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700360" y="1052640"/>
          <a:ext cx="359892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052640"/>
                    <a:ext cx="359892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Бобр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25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обр – самый крупный грызун в России, длиной до 1 метра, весом до 30 кг. Бобры обитают на тихих лесных речках с высокими берегами, поросшими густыми зарослями кустарников, трав. Своими мощными резцами бобры подгрызают стволы деревьев и валят их на землю, затем объедают кору и ветки. Бобры строят прочные плотины, длина которых иногда достигает нескольких десятков метров, в которых прячутся от врагов. Бобры усердно очищают реки от ила. В воде становится больше кислорода, поэтому в бобровых запрудах всегда много ры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971640" y="1413000"/>
            <a:ext cx="7632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РЕГИТЕ ПРИРОДУ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Биология. Энциклопедия для детей. Том 2./Сост. С. Исмаилова, А. Майсурян. – М. : Аванта, 200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Родная природа: Сборник статей о природе Алтая / Сост. М. И. Кондратюк. – Барнаул: Алт. Кн. Изд – во, 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А. Леокум. Детская энциклопедия «Скажи мне, почему?..» / Авторизованный перевод Я. И А. огуреевых. – М.: Джулия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6"/>
          <p:cNvSpPr/>
          <p:nvPr/>
        </p:nvSpPr>
        <p:spPr>
          <a:xfrm>
            <a:off x="611280" y="260280"/>
            <a:ext cx="7848360" cy="6273720"/>
          </a:xfrm>
          <a:prstGeom prst="verticalScroll">
            <a:avLst>
              <a:gd name="adj" fmla="val 1861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14520" y="243000"/>
            <a:ext cx="41734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fab"/>
                </a:solidFill>
                <a:latin typeface="Georgia"/>
              </a:rPr>
              <a:t>Содержа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3640" y="170028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Вол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Лис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За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Ло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</a:rPr>
              <a:t>Боб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Муравей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e0dc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уравьёв называют «хранителями лесов».   Они имеют тонкую талию-стебелёк,  соединяющую брюшко и грудь. В лесах России встречается рыжий лесной муравей, который устраивает знаменитые муравьиные кучи – муравейники. Главная польза муравьёв – уничтожение вредящих насеко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457200" y="155736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268360" y="404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Вол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148360" y="1557360"/>
            <a:ext cx="35733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лк-осторожный и  умный зверь.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н похож на немецкую овчарку. Главное отличие от собак – хвост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Живут волки парами или семьями.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имой объединяются в стаи, а весной стаи распадаются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пят под открытым небом. Питаются мясом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Главная добыча волков олени, лоси, кабаны. Волки выполняют роль санитаров. Они уничтожают больных и слаб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Animal5"/>
          <p:cNvPicPr/>
          <p:nvPr/>
        </p:nvPicPr>
        <p:blipFill>
          <a:blip r:embed="rId1"/>
          <a:stretch/>
        </p:blipFill>
        <p:spPr>
          <a:xfrm>
            <a:off x="304920" y="1773360"/>
            <a:ext cx="45720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Лисица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3edff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Лисица – символ хитрости, изворотливости, ловкости. Зимнюю половину года они живут поодиночке и только на лето образуют семьи. У лисицы пушистый густой мех, который особенно хорош зимой. Тело у неё  очень подвижное, оно может изгибаться и вытягиваться во время бега. Ноги гибкие и тонкие. Хвост во время бега работает как руль. Она лает как молодая собака. Свои норы она делает под корягами и валежником. Пища лисиц разнообразна: они едят мышей, птиц, лягушек, черв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Animal50"/>
          <p:cNvPicPr/>
          <p:nvPr/>
        </p:nvPicPr>
        <p:blipFill>
          <a:blip r:embed="rId1"/>
          <a:stretch/>
        </p:blipFill>
        <p:spPr>
          <a:xfrm>
            <a:off x="611280" y="1484280"/>
            <a:ext cx="39002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Заяц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88000" y="1412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Заяц живёт в лесу. Он питается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орой деревьев. Зимой заяц белый, а летом серый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Длинные задние ноги позволяют зайцу срываться с места и мчаться 3 – 5 – метровыми прыжками. Сон зайца беспокойный: раз по 20 на день он засыпает ненадолго, чтобы потом пробудиться, встать, оглядеться, прислушаться. Только когда убедится, что вокруг все тихо, опять уляжется и прикроет глаз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48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47920" y="40464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Arial"/>
              </a:rPr>
              <a:t>Б</a:t>
            </a: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ел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00720" y="162864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елка – зверюшка малая, задиристая. Она умеет отвоевать себе место: не задумываясь, займет сорочье гнездо.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лка  устраивает своё гнездо в дуплах деревьев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Внутри дома отделка стен их мха, лишайника, травы. Снаружи гнездо замаскировано листьями. Прыжки белки – это почти полет, управляемый пушистым хвостом.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Бесстрашно перепрыгивает она с дерева на дерево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лка может спрыгнуть с верхушки высокого дерева прямо на зем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11280" y="1555920"/>
            <a:ext cx="34941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Медведь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3881160" cy="4259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едведь – крупный лохматый зверь с короткой толстой шеей. Зубы у него приспособлены к поеданию растений и животных. Поэтому медведи всеядные животные. Любят лакомится ягодами, поедают корни растений, насекомых и их личинок.  Напрасно искать зимой следы медведя на снегу. Прежде чем лечь в берлогу, путает медведь свои следы, как заяц петляет по болотам, по воде, скачет со следа. Он залегает берлогу ещё до появления снега. Сегодня насчитывается более 100 тысяч косолапых обитателей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33"/>
                </a:solidFill>
                <a:latin typeface="Arial"/>
              </a:rPr>
              <a:t>Лось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упный зверь лесной полосы – лось. Его стройные сильные ноги заканчиваются широкими копытами, благодаря  которым он легко передвигается даже по топким болотистым участкам леса. Питается зверь травой, листьями, молодыми побегами деревьев и кустарников, грибами, ягодами.Труднее ему находить пищу зимой, тогда он ест хвою и кору деревьев, ищет старую засохшую траву.Лоси легко приручаются. Достаточно лосенка 1 раз покормить из бутылочки, и он на всю жизнь привязывается к своей кормили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50-05-23T14:43:29Z</dcterms:created>
  <dc:creator>Alexander</dc:creator>
  <dc:description/>
  <dc:language>en-US</dc:language>
  <cp:lastModifiedBy>Tess</cp:lastModifiedBy>
  <dcterms:modified xsi:type="dcterms:W3CDTF">2017-05-19T14:05:19Z</dcterms:modified>
  <cp:revision>10</cp:revision>
  <dc:subject/>
  <dc:title>Слайд 1</dc:title>
</cp:coreProperties>
</file>