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D9DC-77D4-4BE1-91B6-07E89DDB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DFC1-8652-4452-8F18-71F49D34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C66A-35D0-48F6-BD1A-3C78FF8F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48EC-1626-482B-9E0D-46416DBA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FAD7-F100-486C-B7F3-A627040F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7E42-E015-48B7-9F0D-45C413D6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E19A-9BCA-42ED-9E74-036D43DD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4B08-0692-456D-8E1F-5E2E7CE2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DACE-6223-48BA-8D1C-6D1D2F93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EADB-927E-4C41-A2E8-ACCAA4CC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9F90-9196-44E4-9C33-8CC9FC68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EA12-BB2D-4F70-9350-1CE36469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30CE-AAFA-4D0E-AA71-8D9E47663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hyperlink" Target="http://seshcha-roman.narod.ru/risunki/kr_str.bmp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hyperlink" Target="http://seshcha-roman.narod.ru/risunki/kr_str1.bmp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682560" y="1579680"/>
            <a:ext cx="7785000" cy="2401920"/>
          </a:xfrm>
          <a:prstGeom prst="rect">
            <a:avLst/>
          </a:prstGeom>
          <a:ln w="0">
            <a:noFill/>
          </a:ln>
        </p:spPr>
      </p:pic>
      <p:pic>
        <p:nvPicPr>
          <p:cNvPr id="42" name="Подзаголовок 2" descr=""/>
          <p:cNvPicPr/>
          <p:nvPr/>
        </p:nvPicPr>
        <p:blipFill>
          <a:blip r:embed="rId3"/>
          <a:stretch/>
        </p:blipFill>
        <p:spPr>
          <a:xfrm>
            <a:off x="2139840" y="3932280"/>
            <a:ext cx="641376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http://www.physel.ru/images/stories/physel2/ris441.gif"/>
          <p:cNvPicPr/>
          <p:nvPr/>
        </p:nvPicPr>
        <p:blipFill>
          <a:blip r:embed="rId2"/>
          <a:stretch/>
        </p:blipFill>
        <p:spPr>
          <a:xfrm>
            <a:off x="357120" y="285840"/>
            <a:ext cx="8143920" cy="321444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357120" y="4071960"/>
            <a:ext cx="807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) Брусок АВ, вырезанный определенным образом из большого кристалла льда, положенный на две опоры, при действии на его середину силы F медленно прогибается. б) Такого же размера брусок CD, вырезанный в направлении, перпендикулярном к направлению АВ, при действии той же силы F сохраняет свою форму, а при увеличении силы разрушается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http://www.physel.ru/images/stories/physel2/ris442.gif"/>
          <p:cNvPicPr/>
          <p:nvPr/>
        </p:nvPicPr>
        <p:blipFill>
          <a:blip r:embed="rId2"/>
          <a:stretch/>
        </p:blipFill>
        <p:spPr>
          <a:xfrm>
            <a:off x="0" y="285840"/>
            <a:ext cx="9144000" cy="32526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2"/>
          <p:cNvSpPr/>
          <p:nvPr/>
        </p:nvSpPr>
        <p:spPr>
          <a:xfrm>
            <a:off x="285840" y="392904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) При прикосновении раскаленной иглы к точке О тонкой пластинки на противоположной стороне плавится парафин. б) Пластинка — кристалл гипса; площадь, на которой расплавился парафин, имеет форму эллипса. б) Пластинка стеклянная; площадь имеет форму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уг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http://www.physel.ru/images/stories/physel2/ris443.gif"/>
          <p:cNvPicPr/>
          <p:nvPr/>
        </p:nvPicPr>
        <p:blipFill>
          <a:blip r:embed="rId2"/>
          <a:stretch/>
        </p:blipFill>
        <p:spPr>
          <a:xfrm>
            <a:off x="857160" y="214200"/>
            <a:ext cx="7072560" cy="335772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2"/>
          <p:cNvSpPr/>
          <p:nvPr/>
        </p:nvSpPr>
        <p:spPr>
          <a:xfrm>
            <a:off x="500040" y="435780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оение дерева вблизи сердцевины и вблизи края различ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http://seshcha-roman.narod.ru/risunki/Kr_r.jpg"/>
          <p:cNvPicPr/>
          <p:nvPr/>
        </p:nvPicPr>
        <p:blipFill>
          <a:blip r:embed="rId2"/>
          <a:stretch/>
        </p:blipFill>
        <p:spPr>
          <a:xfrm>
            <a:off x="785880" y="1000080"/>
            <a:ext cx="7358040" cy="47862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2" descr=""/>
          <p:cNvPicPr/>
          <p:nvPr/>
        </p:nvPicPr>
        <p:blipFill>
          <a:blip r:embed="rId3"/>
          <a:stretch/>
        </p:blipFill>
        <p:spPr>
          <a:xfrm>
            <a:off x="633240" y="-237960"/>
            <a:ext cx="73771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920"/>
                            </p:stCondLst>
                            <p:childTnLst>
                              <p:par>
                                <p:cTn id="22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"/>
          <p:cNvPicPr/>
          <p:nvPr/>
        </p:nvPicPr>
        <p:blipFill>
          <a:blip r:embed="rId2"/>
          <a:stretch/>
        </p:blipFill>
        <p:spPr>
          <a:xfrm>
            <a:off x="642960" y="0"/>
            <a:ext cx="7000920" cy="59292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714240" y="600084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Кристаллическая структура сфалерита (слева) и халькопирита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"/>
          <p:cNvPicPr/>
          <p:nvPr/>
        </p:nvPicPr>
        <p:blipFill>
          <a:blip r:embed="rId2"/>
          <a:stretch/>
        </p:blipFill>
        <p:spPr>
          <a:xfrm>
            <a:off x="785880" y="214200"/>
            <a:ext cx="7000920" cy="46436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"/>
          <p:cNvSpPr/>
          <p:nvPr/>
        </p:nvSpPr>
        <p:spPr>
          <a:xfrm>
            <a:off x="630360" y="4974120"/>
            <a:ext cx="7459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PragmaticaKMM"/>
                <a:ea typeface="Times New Roman"/>
                <a:hlinkClick r:id="rId3"/>
              </a:rPr>
              <a:t>Структура каменной соли (а) и алмаза (б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http://www.physel.ru/images/stories/physel2/ris447.gif"/>
          <p:cNvPicPr/>
          <p:nvPr/>
        </p:nvPicPr>
        <p:blipFill>
          <a:blip r:embed="rId2"/>
          <a:stretch/>
        </p:blipFill>
        <p:spPr>
          <a:xfrm>
            <a:off x="1000080" y="0"/>
            <a:ext cx="7286760" cy="44290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"/>
          <p:cNvSpPr/>
          <p:nvPr/>
        </p:nvSpPr>
        <p:spPr>
          <a:xfrm>
            <a:off x="928800" y="4643280"/>
            <a:ext cx="72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кристалле поваренной соли раскалывание происходит легче по плоскостям, параллельным АА или ВВ, чем по любым другим плоскостям, например СС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07204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500040" y="5572080"/>
            <a:ext cx="82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исталлические и Аморфные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571680" y="0"/>
            <a:ext cx="7929360" cy="57816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"/>
          <p:cNvSpPr/>
          <p:nvPr/>
        </p:nvSpPr>
        <p:spPr>
          <a:xfrm>
            <a:off x="1745280" y="5929200"/>
            <a:ext cx="64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исталлические 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морфны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642960" y="571680"/>
            <a:ext cx="7929720" cy="44766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3"/>
          <p:cNvSpPr/>
          <p:nvPr/>
        </p:nvSpPr>
        <p:spPr>
          <a:xfrm>
            <a:off x="1357200" y="5429160"/>
            <a:ext cx="60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ИСТАЛЛИЧЕСКИЕ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МОРФ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385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385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4" dur="385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6" dur="385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385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1" dur="385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3" dur="38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5" dur="38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0" y="214200"/>
            <a:ext cx="8786880" cy="5081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1071000" y="5787000"/>
            <a:ext cx="57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морф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охраняют форму, но не имеют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extBox 5" descr=""/>
          <p:cNvPicPr/>
          <p:nvPr/>
        </p:nvPicPr>
        <p:blipFill>
          <a:blip r:embed="rId2"/>
          <a:stretch/>
        </p:blipFill>
        <p:spPr>
          <a:xfrm>
            <a:off x="1352520" y="1852560"/>
            <a:ext cx="643896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2" descr="http://www.physel.ru/images/stories/physel2/ris450.gif"/>
          <p:cNvPicPr/>
          <p:nvPr/>
        </p:nvPicPr>
        <p:blipFill>
          <a:blip r:embed="rId3"/>
          <a:stretch/>
        </p:blipFill>
        <p:spPr>
          <a:xfrm>
            <a:off x="0" y="1857240"/>
            <a:ext cx="3214800" cy="3929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285840" y="6215040"/>
            <a:ext cx="38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График температуры застывающего нафтал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4" descr="http://www.physel.ru/images/stories/physel2/ris451.gif"/>
          <p:cNvPicPr/>
          <p:nvPr/>
        </p:nvPicPr>
        <p:blipFill>
          <a:blip r:embed="rId4"/>
          <a:stretch/>
        </p:blipFill>
        <p:spPr>
          <a:xfrm>
            <a:off x="4929120" y="1714680"/>
            <a:ext cx="3786120" cy="407160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5500800" y="5929200"/>
            <a:ext cx="335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График температуры застывающей смо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http://www.physel.ru/images/stories/physel2/ris448.gif"/>
          <p:cNvPicPr/>
          <p:nvPr/>
        </p:nvPicPr>
        <p:blipFill>
          <a:blip r:embed="rId2"/>
          <a:stretch/>
        </p:blipFill>
        <p:spPr>
          <a:xfrm>
            <a:off x="285840" y="1571760"/>
            <a:ext cx="2571840" cy="450036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85840" y="6000840"/>
            <a:ext cx="27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4a7b"/>
                </a:solidFill>
                <a:latin typeface="Calibri"/>
              </a:rPr>
              <a:t>Ледяные кристаллы на оконном стек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3" descr="http://www.physel.ru/images/stories/physel2/ris449.gif"/>
          <p:cNvPicPr/>
          <p:nvPr/>
        </p:nvPicPr>
        <p:blipFill>
          <a:blip r:embed="rId3"/>
          <a:stretch/>
        </p:blipFill>
        <p:spPr>
          <a:xfrm>
            <a:off x="5643720" y="1714680"/>
            <a:ext cx="2862000" cy="450036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5583960" y="6286680"/>
            <a:ext cx="32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згонка кристаллов й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Прямоугольник 5" descr=""/>
          <p:cNvPicPr/>
          <p:nvPr/>
        </p:nvPicPr>
        <p:blipFill>
          <a:blip r:embed="rId4"/>
          <a:stretch/>
        </p:blipFill>
        <p:spPr>
          <a:xfrm>
            <a:off x="1279440" y="208080"/>
            <a:ext cx="551196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http://www.physel.ru/images/stories/physel2/ris444.gif"/>
          <p:cNvPicPr/>
          <p:nvPr/>
        </p:nvPicPr>
        <p:blipFill>
          <a:blip r:embed="rId2"/>
          <a:stretch/>
        </p:blipFill>
        <p:spPr>
          <a:xfrm>
            <a:off x="0" y="0"/>
            <a:ext cx="4500720" cy="442908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0" y="4643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хема расположения узлов в пространственной решетке кристалла хлористого натрия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3" descr="http://www.physel.ru/images/stories/physel2/ris445.gif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407196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4572000" y="42861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странственная решетка кристаллов льда: а) вид сверху; б) вид сбоку. Шарики изображают атомы кислорода; положения атомов водорода не показаны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3"/>
          <p:cNvSpPr/>
          <p:nvPr/>
        </p:nvSpPr>
        <p:spPr>
          <a:xfrm>
            <a:off x="571680" y="4071960"/>
            <a:ext cx="8143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) Беспорядочное расположение частиц в жидкости. Любая прямая (ВВ, СС, DD,. . .), проведенная через молекулу А, встречает одинаковое число частиц (они отмечены черными кружками). б) Упорядоченное расположение атомов в кристалле. Различные прямые (ВВ, СС, DD,. . .), проведенные через молекулу А, встречают различное число атомо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4" descr="http://www.physel.ru/images/stories/physel2/ris446.gif"/>
          <p:cNvPicPr/>
          <p:nvPr/>
        </p:nvPicPr>
        <p:blipFill>
          <a:blip r:embed="rId2"/>
          <a:stretch/>
        </p:blipFill>
        <p:spPr>
          <a:xfrm>
            <a:off x="1071720" y="214200"/>
            <a:ext cx="70722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857160" y="214200"/>
            <a:ext cx="7358040" cy="478656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3019320" y="5429160"/>
            <a:ext cx="37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уктурно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морфного сте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1143000" y="357120"/>
            <a:ext cx="564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4a7b"/>
                </a:solidFill>
                <a:latin typeface="Arial"/>
              </a:rPr>
              <a:t>Кристаллические тел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2" descr="http://www.physel.ru/images/stories/physel2/ris439.gif"/>
          <p:cNvPicPr/>
          <p:nvPr/>
        </p:nvPicPr>
        <p:blipFill>
          <a:blip r:embed="rId2"/>
          <a:stretch/>
        </p:blipFill>
        <p:spPr>
          <a:xfrm>
            <a:off x="755640" y="1773360"/>
            <a:ext cx="7286760" cy="258588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714240" y="442908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) Кристаллик льда имеет форму шестиугольной призмы, боковые грани которой образуют углы 120°. б) Кристалл поваренной соли имеет форму куб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250"/>
                            </p:stCondLst>
                            <p:childTnLst>
                              <p:par>
                                <p:cTn id="16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http://www.physel.ru/images/stories/physel2/ris440.gif"/>
          <p:cNvPicPr/>
          <p:nvPr/>
        </p:nvPicPr>
        <p:blipFill>
          <a:blip r:embed="rId2"/>
          <a:stretch/>
        </p:blipFill>
        <p:spPr>
          <a:xfrm>
            <a:off x="357120" y="428760"/>
            <a:ext cx="8072640" cy="41893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357120" y="4786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упный кристалл кварца (горного хрусталя), найденный на Урале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6:34:59Z</dcterms:created>
  <dc:creator>Admin</dc:creator>
  <dc:description/>
  <dc:language>en-US</dc:language>
  <cp:lastModifiedBy>Горина Е.Д.</cp:lastModifiedBy>
  <dcterms:modified xsi:type="dcterms:W3CDTF">2011-03-17T10:15:38Z</dcterms:modified>
  <cp:revision>18</cp:revision>
  <dc:subject/>
  <dc:title>Аморфные тела. Плавление аморфных тел.</dc:title>
</cp:coreProperties>
</file>