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5E5B8-B03E-48C8-A419-356DA6184F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E924D-C9E3-4230-9E02-622F308F26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66DB7-AF31-43B7-93E0-C62382B7C5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317BE-7C03-4B5F-9F85-9713F6DFE5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2FF37-F86B-4BC1-B416-107BD8E424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F2F-2AB5-49BA-AA38-BDFAD751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7D5-1B6E-47A4-9D7C-3AE87873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B1D-B9BF-4CA5-BE11-6507BCF1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0440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452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428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0440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452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746-C3D2-4D07-B982-CFD167A9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77D-6AFB-4717-8BDF-4C3D6605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EB64-EF22-455F-B499-25D6C39E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1921-6ACC-4FB7-A2C1-35A61D1C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CBA3-FD8D-449B-9C59-DFB0A25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723A-606E-4B93-9B77-50DD434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44280" y="671400"/>
            <a:ext cx="8165880" cy="69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915F-77F6-496A-AFDE-4B035F9B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E0C2-BF33-4BFD-9F10-85FC061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2E8-36EE-4DDF-A067-51C007E8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6895-6187-42CA-A1CF-C57A1CA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2067-0375-4356-9A23-A08C66F4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1A95-A0C1-4EED-A380-DF457FA1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F56C-B332-461C-87C3-342740CA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440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6452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4428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0440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6452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4F9D-8566-45A7-B672-E538DE18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FC87-E36D-46F0-A93C-FB40AE09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ACCD-DA31-413B-82AD-B5CB032E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3BAD5-634C-4F5F-8C91-E3759D5A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9346-7ED7-41EC-9D6E-5C50018F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65E9-00E0-4571-9724-1E4331B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C45-E971-40F2-820B-15F75F1A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44280" y="671400"/>
            <a:ext cx="8165880" cy="69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D24E-F2C1-4422-8C17-49EE1C2E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81B4-D835-4B18-A9CF-01D77C4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8DA1-6320-4C1A-8E68-90DEE401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E4B1-B082-4504-B692-04D94D05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D890-2486-4D66-A78C-A6B315B9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9D99-B20C-41F6-A5B1-785B3F04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0440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64520" y="226800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4428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0440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64520" y="4593240"/>
            <a:ext cx="26283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C1F1-3C12-4486-8687-F914829E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B80-A609-4D38-B2C7-6F7EC2E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5FB-07F6-4214-AC7E-02FE1485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4280" y="671400"/>
            <a:ext cx="8165880" cy="69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C44-3DB7-444F-99E5-D917D7C8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EA3-1B81-4D3C-BF96-6A730E5F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7120" y="459324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71C-B199-4E2A-8132-1BAAAB7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428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7120" y="2268000"/>
            <a:ext cx="39834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4280" y="4593240"/>
            <a:ext cx="8163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687-AF92-4950-906C-8EC1755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01600" y="201600"/>
            <a:ext cx="9677520" cy="715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78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6033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8301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01268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44280" y="6860880"/>
            <a:ext cx="19256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65560" y="6860880"/>
            <a:ext cx="39002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13720" y="6860880"/>
            <a:ext cx="1411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6b72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D686AE-5BD6-4EBE-A1AF-537B4FF1ED11}" type="slidenum">
              <a:rPr b="0" lang="ru-RU" sz="1100" spc="-1" strike="noStrike">
                <a:solidFill>
                  <a:srgbClr val="a6b7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01600" y="201600"/>
            <a:ext cx="9677520" cy="71564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636560" y="4116240"/>
            <a:ext cx="68040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78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6033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8301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01268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44280" y="6860880"/>
            <a:ext cx="19256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65560" y="6860880"/>
            <a:ext cx="39002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713720" y="6860880"/>
            <a:ext cx="1411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4373A8-8659-4435-8133-0FC25D9803FD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201600" y="201600"/>
            <a:ext cx="9677520" cy="715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638360" y="4432320"/>
            <a:ext cx="68040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78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6033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83016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01268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012680" indent="-150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44280" y="6860880"/>
            <a:ext cx="19256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265560" y="6860880"/>
            <a:ext cx="39002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713720" y="6860880"/>
            <a:ext cx="1411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6b72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90145B-B346-49FB-B808-564815B0C21E}" type="slidenum">
              <a:rPr b="0" lang="ru-RU" sz="1100" spc="-1" strike="noStrike">
                <a:solidFill>
                  <a:srgbClr val="a6b7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b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152360" y="3076920"/>
            <a:ext cx="7848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727280" y="684360"/>
            <a:ext cx="6553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Monotype Corsiva"/>
                <a:ea typeface="Calibri"/>
              </a:rPr>
              <a:t> </a:t>
            </a:r>
            <a:r>
              <a:rPr b="1" lang="ru-RU" sz="4800" spc="-1" strike="noStrike">
                <a:solidFill>
                  <a:srgbClr val="336600"/>
                </a:solidFill>
                <a:latin typeface="Monotype Corsiva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719280" y="684360"/>
            <a:ext cx="9074160" cy="72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35c13"/>
                </a:solidFill>
                <a:latin typeface="Corbel"/>
              </a:rPr>
              <a:t>Групповые </a:t>
            </a:r>
            <a:r>
              <a:rPr b="1" lang="ru-RU" sz="4000" spc="-1" strike="noStrike">
                <a:solidFill>
                  <a:srgbClr val="535c13"/>
                </a:solidFill>
                <a:latin typeface="Arial"/>
              </a:rPr>
              <a:t>фор</a:t>
            </a:r>
            <a:r>
              <a:rPr b="1" lang="ru-RU" sz="4000" spc="-1" strike="noStrike">
                <a:solidFill>
                  <a:srgbClr val="535c13"/>
                </a:solidFill>
                <a:latin typeface="Corbel"/>
              </a:rPr>
              <a:t>мы работы в  начальной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резентация подготовл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учителем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КОУ СОШ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еснянкиной О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237960" y="1838160"/>
            <a:ext cx="4765680" cy="35751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2"/>
          <a:stretch/>
        </p:blipFill>
        <p:spPr>
          <a:xfrm>
            <a:off x="5076720" y="1820880"/>
            <a:ext cx="4789440" cy="35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258560"/>
            <a:ext cx="8569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rbel"/>
              </a:rPr>
              <a:t>МЕТОДЫ ОБУЧЕНИЯ В ГРУППЕ.</a:t>
            </a:r>
            <a:br>
              <a:rPr sz="4400"/>
            </a:b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12720" y="2124000"/>
            <a:ext cx="7056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Кооперативное обучение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рупповая дискуссия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Мозговой штурм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5294160" y="414828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"/>
          <p:cNvPicPr/>
          <p:nvPr/>
        </p:nvPicPr>
        <p:blipFill>
          <a:blip r:embed="rId2"/>
          <a:stretch/>
        </p:blipFill>
        <p:spPr>
          <a:xfrm>
            <a:off x="252360" y="4170240"/>
            <a:ext cx="45356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2000" y="610920"/>
            <a:ext cx="856944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ru-RU" sz="2900" spc="-1" strike="noStrike">
                <a:solidFill>
                  <a:srgbClr val="7030a0"/>
                </a:solidFill>
                <a:latin typeface="Corbel"/>
              </a:rPr>
              <a:t>КООПЕРАТИВНОЕ ОБУЧЕНИЕ</a:t>
            </a:r>
            <a:r>
              <a:rPr b="1" lang="ru-RU" sz="29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ru-RU" sz="2900" spc="-1" strike="noStrike">
                <a:solidFill>
                  <a:srgbClr val="ffffff"/>
                </a:solidFill>
                <a:latin typeface="Corbel"/>
              </a:rPr>
              <a:t>- ЭТО МЕТОД ВЗАИМОДЕЙСТВИЯ УЧАЩИХСЯ В НЕБОЛЬШИХ ГРУППАХ, ОБЪЕДИНЕННЫХ ДЛЯ РЕШЕНИЯ ОБЩЕЙ ЗАДАЧИ</a:t>
            </a:r>
            <a:endParaRPr b="0" lang="en-US" sz="2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08000" y="3635280"/>
            <a:ext cx="813744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Групповая дискуссия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- это способ организации совместной деятельности учеников под руководством учителя с целью решить групповые задачи или воздействовать на мнения участников в процессе общени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3840" y="1979280"/>
            <a:ext cx="85690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Corbel"/>
              </a:rPr>
              <a:t>МОЗГОВОЙ ШТУРМ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ЛИ СВОБОДНОЕ ВЫРАЖЕНИЕ МЫСЛЕЙ, ПРИВОДИТ К ПОЯВЛЕНИЮ МНОЖЕСТВА ИДЕЙ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12640" y="4265280"/>
            <a:ext cx="72500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ru-RU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89964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ПРАВИЛА ОРГАНИЗАЦИИ ГРУППОВОЙ РАБОТЫ </a:t>
            </a:r>
            <a:br>
              <a:rPr sz="3200"/>
            </a:b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12720" y="1908000"/>
            <a:ext cx="7056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вори  спокойно и ясно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вори  только по делу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вори   по очереди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агируй  жестами и знаками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озражая или соглашаясь, смотри  на говорящего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бедись, что в разговоре участвует каждый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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ращайся  к другу по имени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6620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ПРИНЦИПЫ ФОРМИРОВАНИЯ ГРУПП</a:t>
            </a:r>
            <a:r>
              <a:rPr b="1" lang="ru-RU" sz="6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12720" y="1474920"/>
            <a:ext cx="70567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хийно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 интересам: а) желание (дружба)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) по отношению к проблеме, к предмету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) по уровню познавательной активности: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дноуровневые – разноуровневые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лабые и сильные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Количество людей в группе для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1-2 кл.-2-3 человека,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для 3-4 кл.- 4 человека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826920"/>
            <a:ext cx="90694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Положительные тенденции в использовании групповой работы в начальной школе.</a:t>
            </a:r>
            <a:br>
              <a:rPr sz="3200"/>
            </a:b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2920" y="2266560"/>
            <a:ext cx="90694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Два внешне наблюдаемых критерия: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снижение числа ошибок в тот период обучения, когда индивидуальные работы детей еще пестрят ошибками;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удовольствие партнеров от совместной работы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9280" y="1187280"/>
            <a:ext cx="936144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ОСНОВНЫЕ ПРОТИВОПОКАЗАНИЯ ПРИ ОРГАНИЗАЦИИ ГРУППОВОЙ РАБОТЫ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НЕЛЬЗЯ: </a:t>
            </a:r>
            <a:br>
              <a:rPr sz="3200"/>
            </a:br>
            <a:r>
              <a:rPr b="1" lang="ru-RU" sz="60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2522160"/>
            <a:ext cx="9074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формировать пару из двух слабых учеников;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требовать полной тишины;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нельзя наказывать детей лишением права участвовать в групповой работе;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заниматься работой в группе более 10-15 минут в 1 классе и более половины урока во 2 классе;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4932360" y="96840"/>
            <a:ext cx="215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44280" y="671400"/>
            <a:ext cx="81658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Обучение рефлексии групповой работы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2920" y="2050560"/>
            <a:ext cx="90694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1. Рефлексия</a:t>
            </a:r>
            <a:r>
              <a:rPr b="0" i="1" lang="ru-RU" sz="2800" spc="-1" strike="noStrike">
                <a:solidFill>
                  <a:srgbClr val="a6b727"/>
                </a:solidFill>
                <a:latin typeface="Corbel"/>
              </a:rPr>
              <a:t> - свойство человеческого мышления, которое направлено на осмысление собственной деятельности, критический анализ её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a6b727"/>
                </a:solidFill>
                <a:latin typeface="Corbel"/>
              </a:rPr>
              <a:t>2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Рефлексия</a:t>
            </a:r>
            <a:r>
              <a:rPr b="0" i="1" lang="ru-RU" sz="2800" spc="-1" strike="noStrike">
                <a:solidFill>
                  <a:srgbClr val="a6b727"/>
                </a:solidFill>
                <a:latin typeface="Corbel"/>
              </a:rPr>
              <a:t> – это самосознание в виде размышлений над собственными переживаниями, ощущениями, мыслями, деятельностью)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755640"/>
            <a:ext cx="8569440" cy="59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rbel"/>
              </a:rPr>
              <a:t>ДВА НАПРАВЛЕНИЯ РЕФЛЕКСИИ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- ХОД ИССЛЕДОВАНИЯ РЕШЕНИЯ ПРОБЛЕМЫ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- ДЕЯТЕЛЬНОСТЬ ЧЛЕНОВ ГРУППЫ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Corbel"/>
              </a:rPr>
              <a:t>ЦЕЛИ ОБУЧЕНИЯ РЕФЛЕКСИИ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ПОСОБСТВОВАТЬ ФОРМИРОВАНИЮ ПОНЯТИЯ РЕФЛЕКСИИ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ПОСОБСТВОВАТЬ РАЗВИТИЮ РЕФЛЕКСИВНЫХ УМЕНИЙ УЧАЩИХСЯ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РАЗВИВАТЬ ЧУВСТВЕННОСТЬ, ЭМОЦИОНАЛЬНОСТЬ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РАЗВИВАТЬ КУЛЬТУРУ ОБЩЕНИЯ.</a:t>
            </a:r>
            <a:br>
              <a:rPr sz="3200"/>
            </a:b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41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Обучение рефлексии можно условно разделить на следующие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этапы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02920" y="2771280"/>
            <a:ext cx="906948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1 этап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– анализ своего настроения и анализ своих успехов</a:t>
            </a: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2 этап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– ежедневный самоанализ (ведение рефлексивного дневника)</a:t>
            </a: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3 этап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– анализ работы одноклассников</a:t>
            </a: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orbel"/>
              </a:rPr>
              <a:t>4 этап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– анализ работы группы как своей, так и других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3636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60360" y="-361800"/>
            <a:ext cx="7740360" cy="79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МОИ УЧЕНИКИ БУДУТ УЗНАВАТЬ НОВОЕ НЕ ОТ МЕНЯ;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ОНИ БУДУТ ОТКРЫВАТЬ ЭТО НОВОЕ САМИ.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МОЯ ГЛАВНАЯ ЗАДАЧА - ПОМОЧЬ ИМ РАСКРЫТЬСЯ,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РАЗВИТЬ СОБСТВЕННЫЕ ИДЕИ»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И.Г.ПЕСТАЛОЦЦИ</a:t>
            </a:r>
            <a:br>
              <a:rPr sz="49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1" name="Рисунок 3" descr="C:\Documents and Settings\Елена\Мои документы\Мои рисунки\i.jpg"/>
          <p:cNvPicPr/>
          <p:nvPr/>
        </p:nvPicPr>
        <p:blipFill>
          <a:blip r:embed="rId1"/>
          <a:stretch/>
        </p:blipFill>
        <p:spPr>
          <a:xfrm>
            <a:off x="225360" y="334800"/>
            <a:ext cx="28036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755640"/>
            <a:ext cx="906948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Упражнения  для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развития рефлексивных способностей </a:t>
            </a:r>
            <a:r>
              <a:rPr b="0" lang="ru-RU" sz="29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2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02920" y="2050560"/>
            <a:ext cx="90694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Представь, что ты камень, одуванчик, воздушный шар. Что ты чувствуешь? Сравни свои ощущ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Изобрази, что ты чувствуешь, когда ешь лимон, конфету и т.д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Изобразить различные чувства так, чтобы другие отгадали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Покажи, что чувствует герой произведения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Покажи, что чувствуешь ты. Какое настроение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Изобрази радость, горе, обиду и т.д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3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Corbel"/>
              </a:rPr>
              <a:t>Одним из главных условий качественной</a:t>
            </a:r>
            <a:br>
              <a:rPr sz="3600"/>
            </a:br>
            <a:r>
              <a:rPr b="0" i="1" lang="ru-RU" sz="3600" spc="-1" strike="noStrike">
                <a:solidFill>
                  <a:srgbClr val="7030a0"/>
                </a:solidFill>
                <a:latin typeface="Corbel"/>
              </a:rPr>
              <a:t> работы группы</a:t>
            </a: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2920" y="2916000"/>
            <a:ext cx="9069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50840"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96992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является наличие взаимопонимания между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96992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членами группы, умение разрешать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96992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конфликты и вести грамотный, культурный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89000" indent="-150840"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96992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диалог.</a:t>
            </a:r>
            <a:br>
              <a:rPr sz="3200"/>
            </a:b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0880" y="684360"/>
            <a:ext cx="90694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Формирование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культуры общени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44280" y="2268000"/>
            <a:ext cx="81630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1 этап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- учимся слушать друг друга и    высказывать свою точку зрения, мнение по любому поводу.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2 этап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учимся вести диалог и учимся аргументировать свою версию.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3 этап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учимся задавать вопросы и учимся давать контраргументы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4 этап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учимся разрешать конфликты и совершенствовать умения вести диалог.</a:t>
            </a:r>
            <a:br>
              <a:rPr sz="2800"/>
            </a:b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60000" y="323640"/>
            <a:ext cx="90694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Игры для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сплочения групп </a:t>
            </a: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2920" y="1618920"/>
            <a:ext cx="9069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Восковая палочка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групповая сплочённость, индивидуальная агрессивность, тревожность, напряжённость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363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2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Чувство по рукам»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3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Жмурки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групповое сплочение, тактильные контакты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4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Коллективная сказка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детские конфликты, ожидания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5 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Крепость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агрессия (кто с кем захочет быть в команде)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6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Модифицированное зеркало»</a:t>
            </a:r>
            <a:r>
              <a:rPr b="0" lang="ru-RU" sz="2800" spc="-1" strike="noStrike">
                <a:solidFill>
                  <a:srgbClr val="3366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– упражнения для обратной связи.</a:t>
            </a:r>
            <a:br>
              <a:rPr sz="2800"/>
            </a:b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7. </a:t>
            </a:r>
            <a:r>
              <a:rPr b="0" i="1" lang="ru-RU" sz="2800" spc="-1" strike="noStrike">
                <a:solidFill>
                  <a:srgbClr val="336600"/>
                </a:solidFill>
                <a:latin typeface="Corbel"/>
              </a:rPr>
              <a:t>«Путанка» -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 групповое единство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466200"/>
            <a:ext cx="906948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Критерии групповой работы:</a:t>
            </a:r>
            <a:br>
              <a:rPr sz="3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9280" y="176364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тихо – шумно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дружно (нет ссор)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правильный отве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активность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выбор ролей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слушание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181120" y="2268000"/>
            <a:ext cx="39322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интересно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спор </a:t>
            </a:r>
            <a:r>
              <a:rPr b="0" i="1" lang="ru-RU" sz="3200" spc="-1" strike="noStrike" u="sng">
                <a:solidFill>
                  <a:srgbClr val="a6b727"/>
                </a:solidFill>
                <a:uFillTx/>
                <a:latin typeface="Corbel"/>
              </a:rPr>
              <a:t>я-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понимание задани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нет повторяющихся мыслей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все ли работали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75564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РОЛИ В ГРУППЕ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31280" y="1835280"/>
            <a:ext cx="9217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чтец читает вслух;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екретарь - записывает что-то от лица группы;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докладчик - у доски рассказывает, что решила группа;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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хронометрист следит за временем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611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orbel"/>
              </a:rPr>
              <a:t>КРИТЕРИИ ОЦЕНИВАНИЯ</a:t>
            </a:r>
            <a:endParaRPr b="0" lang="en-US" sz="4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12720" y="2627280"/>
            <a:ext cx="70567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Справились полностью или частично.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Справились самостоятельно или потребовалась помощь(учитель, карточки) 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Выводы: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3280" y="971280"/>
            <a:ext cx="44575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групповые приёмы работы приобщают к важным навыкам жизни; 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учшается успеваемость;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формируется мотивация учения и обучения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научить можно каждого;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облюдается дифференцированный подход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36760" y="1042920"/>
            <a:ext cx="4459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работа в группе помогает ребенку   проявить себя, 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крепляется дружба, 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учшаются межличностные отношения;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станавливается психологический комфорт в коллективе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3280" y="826560"/>
            <a:ext cx="44575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является возможность избежать негативных сторон соревнования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ребята убеждаются в ценности взаимопомощи;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рождает взаимную ответственность, внимательность, формирует интерес к работе товарища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реализуется принцип деятельности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достигается всеобщий и всеохватывающий контроль знаний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13080" y="1403280"/>
            <a:ext cx="445932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учащиеся усваивают больший объем материала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обеспечивается единство воспитания и обучения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между учеником и учителем устанавливаются доверительные отношения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минимальный объем домашнего задания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упрощается процедура проверки работ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539280"/>
            <a:ext cx="8569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АДРЕСНАЯ НАПРАВЛЕННОСТЬ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36720" y="2124000"/>
            <a:ext cx="8207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Опыт работы может быть использован  учителями любого общеобразовательного учреждения на всех уроках по любому предмету и во внеурочной деятельности. Данный опыт могут применять преподаватели, которые используют в своей работе АМО (активные методы обучения).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75528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rbel"/>
              </a:rPr>
              <a:t>ГРУППА 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- ЭТО СОБРАНИЕ ЛЮДЕЙ, ВКЛЮЧЁННЫХ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В ПОЗНАВАТЕЛЬНО-КООРДИНИРОВАННУЮ ДЕЯТЕЛЬНОСТЬ, СОЗНАТЕЛЬНО ИЛИ БЕССОЗНАТЕЛЬНО ПОДЧИНЁННУЮ ОБЩЕЙ ЦЕЛИ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6360" y="1619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НЕОБХОДИМОСТЬ НОВОГО ПОДХОДА К ОБУЧЕНИЮ 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92000" y="4284360"/>
            <a:ext cx="83520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Задача школы сегодня – воспитать ученика, умеющего гибко адаптироваться к изменяющимся условиям жизни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екрет успешности обучения – развитие коммуникативных навыков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50560"/>
            <a:ext cx="8569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АКТУАЛЬНОСТЬ ТЕМЫ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512720" y="1403280"/>
            <a:ext cx="705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Corbel"/>
              </a:rPr>
              <a:t>Групповые приёмы работы формируют базовые компетентности</a:t>
            </a:r>
            <a:r>
              <a:rPr b="0" lang="ru-RU" sz="3600" spc="-1" strike="noStrike">
                <a:solidFill>
                  <a:srgbClr val="7030a0"/>
                </a:solidFill>
                <a:latin typeface="Corbel"/>
              </a:rPr>
              <a:t>: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нформацион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коммуникатив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кооператив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роблем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рефлексивная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611280"/>
            <a:ext cx="8569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НОВИЗНА ОПЫТА.</a:t>
            </a:r>
            <a:endParaRPr b="0" lang="en-US" sz="6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4000" y="1692000"/>
            <a:ext cx="972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лан поэтапного освоения групповой работы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равила работы в группе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Новые виды приёмов работы в группе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Механизм оценивания работы в группе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Выводы о влиянии групповой работы на развитие коммуникативных навыков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324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ЭЛЕМЕНТЫ ГРУППОВОЙ РАБОТЫ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10920" y="1258560"/>
            <a:ext cx="705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ановка познавательной задачи (проблемной ситуации)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дача дидактического материала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ланирование работы в группе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дивидуальное выполнение задания, обсуждение результатов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суждение общего задания группы (замечания, дополнения, уточнения)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общение о результатах работы группы;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a6b727"/>
              </a:buClr>
              <a:buSzPct val="80000"/>
              <a:buFont typeface="Wingdings" charset="2"/>
              <a:buChar char="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щий вывод о работе групп и достижении поставленной задачи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324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АЛГОРИТМ РАБОТЫ В ГРУППЕ.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52360" y="1763280"/>
            <a:ext cx="9576000" cy="914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.Повторение задания для осознанного понима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2. Анализ условий (разграничение границ знаний для нахождения способа решения задачи)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3. Выдвижение версий всеми членами группы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4.Обоснование версий, их проверка, исключение неподходящих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5.Совместное принятие реш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6.Анализ решения. Оформление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7.Проговаривание в группе выступл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8.Представление реш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7640" y="179280"/>
            <a:ext cx="856944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rbel"/>
              </a:rPr>
              <a:t>ОДНОРОДНАЯ ГРУППОВАЯ </a:t>
            </a:r>
            <a:r>
              <a:rPr b="1" i="1" lang="ru-RU" sz="3200" spc="-1" strike="noStrike">
                <a:solidFill>
                  <a:srgbClr val="ffffff"/>
                </a:solidFill>
                <a:latin typeface="Corbel"/>
              </a:rPr>
              <a:t>РАБОТА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 ПРЕДПОЛАГАЕТ ВЫПОЛНЕНИЕ НЕБОЛЬШИМИ ГРУППАМИ УЧАЩИХСЯ ОДИНАКОВОГО ДЛЯ ВСЕХ ЗАДАНИЯ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12720" y="4067280"/>
            <a:ext cx="705672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orbel"/>
              </a:rPr>
              <a:t>Дифференцированная</a:t>
            </a: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 - выполнение различных заданий разными группами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/>
  <dc:description/>
  <dc:language>en-US</dc:language>
  <cp:lastModifiedBy>User</cp:lastModifiedBy>
  <dcterms:modified xsi:type="dcterms:W3CDTF">2006-12-31T21:11:28Z</dcterms:modified>
  <cp:revision>29</cp:revision>
  <dc:subject/>
  <dc:title>Слайд 1</dc:title>
</cp:coreProperties>
</file>