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82CE0-310C-42D1-A1ED-A07DC064BE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B3181-72A4-4DF1-9508-E8B8BEAE31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9B38F-6A5D-48F6-9260-A7EADEE703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130E5-45DA-4EE3-9365-D0FF05FB1E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7B7BD-320A-4E17-8197-BE80817AB2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5BD-6594-442B-B404-182A12F5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400-D649-4DC3-B88E-075ECA85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5DD-5E8D-4DF9-A7D9-A1C333AC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0440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452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428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0440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452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AA5-379E-4C1A-936A-3EB6B6EF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5863-2E16-4FC3-A8C5-AFA2B52C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3160-14B4-4185-870B-17F1D184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26AB-5703-4231-A461-6CF58A2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3FE4-0827-46DD-9161-E955E5FE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CCE-2D5E-4EF6-AA34-718531EC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44280" y="671400"/>
            <a:ext cx="8165880" cy="69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EA5E-47DC-4691-8EA2-941C9B64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144F-5CC1-43FD-8B11-A89F09AA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596-37F6-475E-9AC2-F5ECDFC4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D70A-D0AB-4F73-87FA-8ECE778D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6716-12F5-4188-87DA-56F59CF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ED0B-C160-4C13-831F-30957D96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D23D-DE1D-498A-9F56-9620FD60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0440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6452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4428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0440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6452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5289-1203-4530-A789-285CFC2F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947B-A4CA-41A9-A81E-BECC27D8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C156-8B93-4AE2-A268-77634615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DB6C-9B43-4696-9ECF-959E735C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813C-BA5B-4EA9-BEBC-665D56BD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E0F2-F8CA-44F7-86E6-51DAFFDE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CD0-FE8C-44E6-BE86-04139813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44280" y="671400"/>
            <a:ext cx="8165880" cy="69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10D6-E0C3-44D4-A8FB-78F88AD8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9D9A-150A-4CEE-80CA-CD67AF66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1820-9C10-48C9-AA5D-EEE658E8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B810-425F-4574-B768-AC89A6C3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C60A-0569-4FEF-B473-ABAAA3EF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A431-ED65-4738-8AA0-D1354BB1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0440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6452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4428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0440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6452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0952-5523-4A62-BEA1-F6C2DFA0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FAD-DD88-4885-A919-D7E35730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F99-1672-4DED-BF18-6C27A4DF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44280" y="671400"/>
            <a:ext cx="8165880" cy="69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1BF-C383-4387-8A55-D7F85DCB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A8D-F1AF-45DE-8ED7-3895AB6E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170-902E-4B50-A762-7CB6357F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FEF-E536-4DB4-9575-F3B3B45C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01600" y="201600"/>
            <a:ext cx="9677520" cy="715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78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6033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8301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01268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44280" y="6860880"/>
            <a:ext cx="19256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65560" y="6860880"/>
            <a:ext cx="39002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13720" y="6860880"/>
            <a:ext cx="1411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6b72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8DDD62-3CF4-45D5-92D9-90C635403DBC}" type="slidenum">
              <a:rPr b="0" lang="ru-RU" sz="1100" spc="-1" strike="noStrike">
                <a:solidFill>
                  <a:srgbClr val="a6b7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01600" y="201600"/>
            <a:ext cx="9677520" cy="71564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636560" y="4116240"/>
            <a:ext cx="68040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78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6033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8301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01268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44280" y="6860880"/>
            <a:ext cx="19256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65560" y="6860880"/>
            <a:ext cx="39002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713720" y="6860880"/>
            <a:ext cx="1411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359A67-6892-45FE-B52A-56EFD0500B92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201600" y="201600"/>
            <a:ext cx="9677520" cy="715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638360" y="4432320"/>
            <a:ext cx="68040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78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6033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8301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01268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44280" y="6860880"/>
            <a:ext cx="19256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265560" y="6860880"/>
            <a:ext cx="39002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713720" y="6860880"/>
            <a:ext cx="1411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6b72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FB51D6-4E2C-443F-B4AB-4D52643965DA}" type="slidenum">
              <a:rPr b="0" lang="ru-RU" sz="1100" spc="-1" strike="noStrike">
                <a:solidFill>
                  <a:srgbClr val="a6b7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b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152360" y="3076920"/>
            <a:ext cx="7848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727280" y="684360"/>
            <a:ext cx="6553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Monotype Corsiva"/>
                <a:ea typeface="Calibri"/>
              </a:rPr>
              <a:t> </a:t>
            </a:r>
            <a:r>
              <a:rPr b="1" lang="ru-RU" sz="4800" spc="-1" strike="noStrike">
                <a:solidFill>
                  <a:srgbClr val="336600"/>
                </a:solidFill>
                <a:latin typeface="Monotype Corsiva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719280" y="684360"/>
            <a:ext cx="9074160" cy="72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35c13"/>
                </a:solidFill>
                <a:latin typeface="Corbel"/>
              </a:rPr>
              <a:t>Групповые </a:t>
            </a:r>
            <a:r>
              <a:rPr b="1" lang="ru-RU" sz="4000" spc="-1" strike="noStrike">
                <a:solidFill>
                  <a:srgbClr val="535c13"/>
                </a:solidFill>
                <a:latin typeface="Arial"/>
              </a:rPr>
              <a:t>фор</a:t>
            </a:r>
            <a:r>
              <a:rPr b="1" lang="ru-RU" sz="4000" spc="-1" strike="noStrike">
                <a:solidFill>
                  <a:srgbClr val="535c13"/>
                </a:solidFill>
                <a:latin typeface="Corbel"/>
              </a:rPr>
              <a:t>мы работы в  начальной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резентация подготовл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учителем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КОУ СОШ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еснянкиной О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237960" y="1838160"/>
            <a:ext cx="4765680" cy="35751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2"/>
          <a:stretch/>
        </p:blipFill>
        <p:spPr>
          <a:xfrm>
            <a:off x="5076720" y="1820880"/>
            <a:ext cx="4789440" cy="35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258560"/>
            <a:ext cx="8569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rbel"/>
              </a:rPr>
              <a:t>МЕТОДЫ ОБУЧЕНИЯ В ГРУППЕ.</a:t>
            </a:r>
            <a:br>
              <a:rPr sz="4400"/>
            </a:b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12720" y="2124000"/>
            <a:ext cx="70567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Кооперативное обучение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Групповая дискуссия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Мозговой штурм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5294160" y="414828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"/>
          <p:cNvPicPr/>
          <p:nvPr/>
        </p:nvPicPr>
        <p:blipFill>
          <a:blip r:embed="rId2"/>
          <a:stretch/>
        </p:blipFill>
        <p:spPr>
          <a:xfrm>
            <a:off x="252360" y="4170240"/>
            <a:ext cx="45356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2000" y="610920"/>
            <a:ext cx="856944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i="1" lang="ru-RU" sz="2900" spc="-1" strike="noStrike">
                <a:solidFill>
                  <a:srgbClr val="7030a0"/>
                </a:solidFill>
                <a:latin typeface="Corbel"/>
              </a:rPr>
              <a:t>КООПЕРАТИВНОЕ ОБУЧЕНИЕ</a:t>
            </a:r>
            <a:r>
              <a:rPr b="1" lang="ru-RU" sz="29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ru-RU" sz="2900" spc="-1" strike="noStrike">
                <a:solidFill>
                  <a:srgbClr val="ffffff"/>
                </a:solidFill>
                <a:latin typeface="Corbel"/>
              </a:rPr>
              <a:t>- ЭТО МЕТОД ВЗАИМОДЕЙСТВИЯ УЧАЩИХСЯ В НЕБОЛЬШИХ ГРУППАХ, ОБЪЕДИНЕННЫХ ДЛЯ РЕШЕНИЯ ОБЩЕЙ ЗАДАЧИ</a:t>
            </a:r>
            <a:endParaRPr b="0" lang="en-US" sz="2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08000" y="3635280"/>
            <a:ext cx="813744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Групповая дискуссия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- это способ организации совместной деятельности учеников под руководством учителя с целью решить групповые задачи или воздействовать на мнения участников в процессе общени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3840" y="1979280"/>
            <a:ext cx="85690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Corbel"/>
              </a:rPr>
              <a:t>МОЗГОВОЙ ШТУРМ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ЛИ СВОБОДНОЕ ВЫРАЖЕНИЕ МЫСЛЕЙ, ПРИВОДИТ К ПОЯВЛЕНИЮ МНОЖЕСТВА ИДЕЙ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12640" y="4265280"/>
            <a:ext cx="725004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ru-RU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89964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ПРАВИЛА ОРГАНИЗАЦИИ ГРУППОВОЙ РАБОТЫ </a:t>
            </a:r>
            <a:br>
              <a:rPr sz="3200"/>
            </a:b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12720" y="1908000"/>
            <a:ext cx="7056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вори  спокойно и ясно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вори  только по делу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вори   по очереди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агируй  жестами и знаками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озражая или соглашаясь, смотри  на говорящего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бедись, что в разговоре участвует каждый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ращайся  к другу по имени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6620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ПРИНЦИПЫ ФОРМИРОВАНИЯ ГРУПП</a:t>
            </a:r>
            <a:r>
              <a:rPr b="1" lang="ru-RU" sz="6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12720" y="1474920"/>
            <a:ext cx="70567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хийно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 интересам: а) желание (дружба)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) по отношению к проблеме, к предмету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) по уровню познавательной активности: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дноуровневые – разноуровневые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лабые и сильные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оличество людей в группе для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1-2 кл.-2-3 человека,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для 3-4 кл.- 4 человека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826920"/>
            <a:ext cx="90694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Положительные тенденции в использовании групповой работы в начальной школе.</a:t>
            </a:r>
            <a:br>
              <a:rPr sz="3200"/>
            </a:b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2920" y="2266560"/>
            <a:ext cx="90694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Два внешне наблюдаемых критерия: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снижение числа ошибок в тот период обучения, когда индивидуальные работы детей еще пестрят ошибками;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удовольствие партнеров от совместной работы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9280" y="1187280"/>
            <a:ext cx="936144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ОСНОВНЫЕ ПРОТИВОПОКАЗАНИЯ ПРИ ОРГАНИЗАЦИИ ГРУППОВОЙ РАБОТЫ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НЕЛЬЗЯ: </a:t>
            </a:r>
            <a:br>
              <a:rPr sz="3200"/>
            </a:br>
            <a:r>
              <a:rPr b="1" lang="ru-RU" sz="60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2522160"/>
            <a:ext cx="9074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формировать пару из двух слабых учеников;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требовать полной тишины;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нельзя наказывать детей лишением права участвовать в групповой работе;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заниматься работой в группе более 10-15 минут в 1 классе и более половины урока во 2 классе;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4932360" y="96840"/>
            <a:ext cx="215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Обучение рефлексии групповой работы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2920" y="2050560"/>
            <a:ext cx="90694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1. Рефлексия</a:t>
            </a:r>
            <a:r>
              <a:rPr b="0" i="1" lang="ru-RU" sz="2800" spc="-1" strike="noStrike">
                <a:solidFill>
                  <a:srgbClr val="a6b727"/>
                </a:solidFill>
                <a:latin typeface="Corbel"/>
              </a:rPr>
              <a:t> - свойство человеческого мышления, которое направлено на осмысление собственной деятельности, критический анализ её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a6b727"/>
                </a:solidFill>
                <a:latin typeface="Corbel"/>
              </a:rPr>
              <a:t>2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Рефлексия</a:t>
            </a:r>
            <a:r>
              <a:rPr b="0" i="1" lang="ru-RU" sz="2800" spc="-1" strike="noStrike">
                <a:solidFill>
                  <a:srgbClr val="a6b727"/>
                </a:solidFill>
                <a:latin typeface="Corbel"/>
              </a:rPr>
              <a:t> – это самосознание в виде размышлений над собственными переживаниями, ощущениями, мыслями, деятельностью)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755640"/>
            <a:ext cx="8569440" cy="59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orbel"/>
              </a:rPr>
              <a:t>ДВА НАПРАВЛЕНИЯ РЕФЛЕКСИИ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- ХОД ИССЛЕДОВАНИЯ РЕШЕНИЯ ПРОБЛЕМЫ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- ДЕЯТЕЛЬНОСТЬ ЧЛЕНОВ ГРУППЫ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Corbel"/>
              </a:rPr>
              <a:t>ЦЕЛИ ОБУЧЕНИЯ РЕФЛЕКСИИ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СПОСОБСТВОВАТЬ ФОРМИРОВАНИЮ ПОНЯТИЯ РЕФЛЕКСИИ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СПОСОБСТВОВАТЬ РАЗВИТИЮ РЕФЛЕКСИВНЫХ УМЕНИЙ УЧАЩИХСЯ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РАЗВИВАТЬ ЧУВСТВЕННОСТЬ, ЭМОЦИОНАЛЬНОСТЬ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РАЗВИВАТЬ КУЛЬТУРУ ОБЩЕНИЯ.</a:t>
            </a:r>
            <a:br>
              <a:rPr sz="3200"/>
            </a:b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41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Обучение рефлексии можно условно разделить на следующие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этапы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02920" y="2771280"/>
            <a:ext cx="906948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1 этап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– анализ своего настроения и анализ своих успехов</a:t>
            </a:r>
            <a:br>
              <a:rPr sz="3200"/>
            </a:b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2 этап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– ежедневный самоанализ (ведение рефлексивного дневника)</a:t>
            </a:r>
            <a:br>
              <a:rPr sz="3200"/>
            </a:b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3 этап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– анализ работы одноклассников</a:t>
            </a:r>
            <a:br>
              <a:rPr sz="3200"/>
            </a:b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4 этап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– анализ работы группы как своей, так и других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3636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60360" y="-361800"/>
            <a:ext cx="7740360" cy="79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МОИ УЧЕНИКИ БУДУТ УЗНАВАТЬ НОВОЕ НЕ ОТ МЕНЯ;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ОНИ БУДУТ ОТКРЫВАТЬ ЭТО НОВОЕ САМИ.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МОЯ ГЛАВНАЯ ЗАДАЧА - ПОМОЧЬ ИМ РАСКРЫТЬСЯ,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РАЗВИТЬ СОБСТВЕННЫЕ ИДЕИ»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mbria"/>
                <a:ea typeface="Times New Roman"/>
              </a:rPr>
              <a:t>И.Г.ПЕСТАЛОЦЦИ</a:t>
            </a:r>
            <a:br>
              <a:rPr sz="49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1" name="Рисунок 3" descr="C:\Documents and Settings\Елена\Мои документы\Мои рисунки\i.jpg"/>
          <p:cNvPicPr/>
          <p:nvPr/>
        </p:nvPicPr>
        <p:blipFill>
          <a:blip r:embed="rId1"/>
          <a:stretch/>
        </p:blipFill>
        <p:spPr>
          <a:xfrm>
            <a:off x="225360" y="334800"/>
            <a:ext cx="28036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755640"/>
            <a:ext cx="906948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Упражнения  для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развития рефлексивных способностей </a:t>
            </a:r>
            <a:r>
              <a:rPr b="0" lang="ru-RU" sz="29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2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02920" y="2050560"/>
            <a:ext cx="90694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Представь, что ты камень, одуванчик, воздушный шар. Что ты чувствуешь? Сравни свои ощущ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Изобрази, что ты чувствуешь, когда ешь лимон, конфету и т.д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Изобразить различные чувства так, чтобы другие отгадали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Покажи, что чувствует герой произведения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Покажи, что чувствуешь ты. Какое настроение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Изобрази радость, горе, обиду и т.д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3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Corbel"/>
              </a:rPr>
              <a:t>Одним из главных условий качественной</a:t>
            </a:r>
            <a:br>
              <a:rPr sz="3600"/>
            </a:br>
            <a:r>
              <a:rPr b="0" i="1" lang="ru-RU" sz="3600" spc="-1" strike="noStrike">
                <a:solidFill>
                  <a:srgbClr val="7030a0"/>
                </a:solidFill>
                <a:latin typeface="Corbel"/>
              </a:rPr>
              <a:t> работы группы</a:t>
            </a: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2920" y="2916000"/>
            <a:ext cx="9069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50840"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96992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является наличие взаимопонимания между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96992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членами группы, умение разрешать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96992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конфликты и вести грамотный, культурный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96992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диалог.</a:t>
            </a:r>
            <a:br>
              <a:rPr sz="3200"/>
            </a:b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0880" y="684360"/>
            <a:ext cx="90694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Формирование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культуры общени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1 этап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- учимся слушать друг друга и    высказывать свою точку зрения, мнение по любому поводу.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2 этап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учимся вести диалог и учимся аргументировать свою версию.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3 этап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учимся задавать вопросы и учимся давать контраргументы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4 этап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учимся разрешать конфликты и совершенствовать умения вести диалог.</a:t>
            </a:r>
            <a:br>
              <a:rPr sz="2800"/>
            </a:b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60000" y="323640"/>
            <a:ext cx="90694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Игры для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сплочения групп </a:t>
            </a: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2920" y="1618920"/>
            <a:ext cx="9069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Восковая палочка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групповая сплочённость, индивидуальная агрессивность, тревожность, напряжённость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2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Чувство по рукам»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3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Жмурки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групповое сплочение, тактильные контакты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4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Коллективная сказка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детские конфликты, ожидания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5 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Крепость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агрессия (кто с кем захочет быть в команде)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6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Модифицированное зеркало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упражнения для обратной связи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7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Путанка» -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 групповое единство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466200"/>
            <a:ext cx="906948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Критерии групповой работы:</a:t>
            </a:r>
            <a:br>
              <a:rPr sz="3600"/>
            </a:b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9280" y="176364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тихо – шумно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дружно (нет ссор)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правильный отве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активность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выбор ролей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слушание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181120" y="2268000"/>
            <a:ext cx="39322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интересно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спор </a:t>
            </a:r>
            <a:r>
              <a:rPr b="0" i="1" lang="ru-RU" sz="3200" spc="-1" strike="noStrike" u="sng">
                <a:solidFill>
                  <a:srgbClr val="a6b727"/>
                </a:solidFill>
                <a:uFillTx/>
                <a:latin typeface="Corbel"/>
              </a:rPr>
              <a:t>я-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понимание задани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нет повторяющихся мыслей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все ли работали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75564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РОЛИ В ГРУППЕ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31280" y="1835280"/>
            <a:ext cx="9217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чтец читает вслух;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екретарь - записывает что-то от лица группы;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докладчик - у доски рассказывает, что решила группа;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хронометрист следит за временем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611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orbel"/>
              </a:rPr>
              <a:t>КРИТЕРИИ ОЦЕНИВАНИЯ</a:t>
            </a:r>
            <a:endParaRPr b="0" lang="en-US" sz="4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12720" y="2627280"/>
            <a:ext cx="70567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rbel"/>
              </a:rPr>
              <a:t>Справились полностью или частично.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rbel"/>
              </a:rPr>
              <a:t>Справились самостоятельно или потребовалась помощь(учитель, карточки) 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Выводы: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3280" y="971280"/>
            <a:ext cx="44575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групповые приёмы работы приобщают к важным навыкам жизни; 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учшается успеваемость;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формируется мотивация учения и обучения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научить можно каждого;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облюдается дифференцированный подход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36760" y="1042920"/>
            <a:ext cx="4459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работа в группе помогает ребенку   проявить себя, 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крепляется дружба, 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учшаются межличностные отношения;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станавливается психологический комфорт в коллективе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3280" y="826560"/>
            <a:ext cx="44575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является возможность избежать негативных сторон соревнования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ребята убеждаются в ценности взаимопомощи;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рождает взаимную ответственность, внимательность, формирует интерес к работе товарища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реализуется принцип деятельности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достигается всеобщий и всеохватывающий контроль знаний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13080" y="1403280"/>
            <a:ext cx="445932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учащиеся усваивают больший объем материала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обеспечивается единство воспитания и обучения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между учеником и учителем устанавливаются доверительные отношения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минимальный объем домашнего задания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упрощается процедура проверки работ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539280"/>
            <a:ext cx="8569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АДРЕСНАЯ НАПРАВЛЕННОСТЬ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36720" y="2124000"/>
            <a:ext cx="8207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Опыт работы может быть использован  учителями любого общеобразовательного учреждения на всех уроках по любому предмету и во внеурочной деятельности. Данный опыт могут применять преподаватели, которые используют в своей работе АМО (активные методы обучения).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75528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rbel"/>
              </a:rPr>
              <a:t>ГРУППА 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- ЭТО СОБРАНИЕ ЛЮДЕЙ, ВКЛЮЧЁННЫХ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В ПОЗНАВАТЕЛЬНО-КООРДИНИРОВАННУЮ ДЕЯТЕЛЬНОСТЬ, СОЗНАТЕЛЬНО ИЛИ БЕССОЗНАТЕЛЬНО ПОДЧИНЁННУЮ ОБЩЕЙ ЦЕЛИ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6360" y="1619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НЕОБХОДИМОСТЬ НОВОГО ПОДХОДА К ОБУЧЕНИЮ 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92000" y="4284360"/>
            <a:ext cx="83520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Задача школы сегодня – воспитать ученика, умеющего гибко адаптироваться к изменяющимся условиям жизни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екрет успешности обучения – развитие коммуникативных навыков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250560"/>
            <a:ext cx="8569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АКТУАЛЬНОСТЬ ТЕМЫ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512720" y="1403280"/>
            <a:ext cx="705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Corbel"/>
              </a:rPr>
              <a:t>Групповые приёмы работы формируют базовые компетентности</a:t>
            </a: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: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информацион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коммуникатив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кооператив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роблем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рефлексив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611280"/>
            <a:ext cx="8569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НОВИЗНА ОПЫТА.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4000" y="1692000"/>
            <a:ext cx="972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лан поэтапного освоения групповой работы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равила работы в группе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Новые виды приёмов работы в группе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Механизм оценивания работы в группе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Выводы о влиянии групповой работы на развитие коммуникативных навыков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32400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ЭЛЕМЕНТЫ ГРУППОВОЙ РАБОТЫ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510920" y="1258560"/>
            <a:ext cx="705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ановка познавательной задачи (проблемной ситуации)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дача дидактического материала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ланирование работы в группе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дивидуальное выполнение задания, обсуждение результатов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суждение общего задания группы (замечания, дополнения, уточнения)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общение о результатах работы группы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щий вывод о работе групп и достижении поставленной задачи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32400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АЛГОРИТМ РАБОТЫ В ГРУППЕ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52360" y="1763280"/>
            <a:ext cx="9576000" cy="914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.Повторение задания для осознанного понима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2. Анализ условий (разграничение границ знаний для нахождения способа решения задачи)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3. Выдвижение версий всеми членами группы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4.Обоснование версий, их проверка, исключение неподходящих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5.Совместное принятие реш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6.Анализ решения. Оформление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7.Проговаривание в группе выступл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8.Представление реш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7640" y="179280"/>
            <a:ext cx="856944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orbel"/>
              </a:rPr>
              <a:t>ОДНОРОДНАЯ ГРУППОВАЯ </a:t>
            </a:r>
            <a:r>
              <a:rPr b="1" i="1" lang="ru-RU" sz="3200" spc="-1" strike="noStrike">
                <a:solidFill>
                  <a:srgbClr val="ffffff"/>
                </a:solidFill>
                <a:latin typeface="Corbel"/>
              </a:rPr>
              <a:t>РАБОТА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 ПРЕДПОЛАГАЕТ ВЫПОЛНЕНИЕ НЕБОЛЬШИМИ ГРУППАМИ УЧАЩИХСЯ ОДИНАКОВОГО ДЛЯ ВСЕХ ЗАДАНИЯ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12720" y="4067280"/>
            <a:ext cx="705672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orbel"/>
              </a:rPr>
              <a:t>Дифференцированная</a:t>
            </a:r>
            <a:r>
              <a:rPr b="0" lang="ru-RU" sz="4400" spc="-1" strike="noStrike">
                <a:solidFill>
                  <a:srgbClr val="ffffff"/>
                </a:solidFill>
                <a:latin typeface="Corbel"/>
              </a:rPr>
              <a:t> - выполнение различных заданий разными группами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/>
  <dc:description/>
  <dc:language>en-US</dc:language>
  <cp:lastModifiedBy>User</cp:lastModifiedBy>
  <dcterms:modified xsi:type="dcterms:W3CDTF">2006-12-31T21:11:28Z</dcterms:modified>
  <cp:revision>29</cp:revision>
  <dc:subject/>
  <dc:title>Слайд 1</dc:title>
</cp:coreProperties>
</file>