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532-41A8-49B4-9843-4A966B16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967-3BE6-4F8A-A0A4-CAB4CCC9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B1B-F7C3-4AA1-B4CE-C529DDDD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F62-815D-49AE-AE38-3C4DC9E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1F2-793A-4907-A51F-398650CA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E3C-5AAC-4E8F-BF79-C8857CCD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9C3-D7DB-4757-BAF2-8C0A137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F8B-EF39-4794-9EA9-D35A261F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5F3-DDB9-4920-9918-B173A4A6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348-E624-4066-9619-22C5BB0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DEB-EF4B-49F6-8BDC-3D350C8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B86-659D-409F-B2E2-03B2747F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1F94-5512-4FA5-8250-9AB13A586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5761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Образовательные технологии новых стандартов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Технология АМО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(«активные методы обучения»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24000" y="3819600"/>
            <a:ext cx="521964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Учитель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уракова Виктория Вадим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рисунок"/>
          <p:cNvPicPr/>
          <p:nvPr/>
        </p:nvPicPr>
        <p:blipFill>
          <a:blip r:embed="rId2"/>
          <a:stretch/>
        </p:blipFill>
        <p:spPr>
          <a:xfrm>
            <a:off x="250920" y="3254400"/>
            <a:ext cx="3995640" cy="3603600"/>
          </a:xfrm>
          <a:prstGeom prst="rect">
            <a:avLst/>
          </a:prstGeom>
          <a:ln w="0">
            <a:noFill/>
          </a:ln>
        </p:spPr>
      </p:pic>
      <p:pic>
        <p:nvPicPr>
          <p:cNvPr id="45" name="усатый нян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4166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гра – путь детей к познанию мира, в котором они живу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 который они призваны измен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7632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тобы сохранить инт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ащихся к предмету с первого до последнего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оздать атмосферу поиска и творчества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чтобы учиться было интерес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ему нужно обучать на уроках английского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24000" y="260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Ради чег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67690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Важнейшей задачей стандартов нового поколения является создание инновационной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ult16"/>
          <p:cNvPicPr/>
          <p:nvPr/>
        </p:nvPicPr>
        <p:blipFill>
          <a:blip r:embed="rId2"/>
          <a:stretch/>
        </p:blipFill>
        <p:spPr>
          <a:xfrm>
            <a:off x="6084720" y="3068640"/>
            <a:ext cx="2868840" cy="3789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педагогиче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роц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бучающие, тренировочные, контролирующие, обобщ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знавательные, воспитательные, развив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Твор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офориен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ult9"/>
          <p:cNvPicPr/>
          <p:nvPr/>
        </p:nvPicPr>
        <p:blipFill>
          <a:blip r:embed="rId2"/>
          <a:stretch/>
        </p:blipFill>
        <p:spPr>
          <a:xfrm>
            <a:off x="468360" y="3500280"/>
            <a:ext cx="2427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НУЖНО ВСЕГДА ПОМН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Выбор формы игры должен быть педагогически и дидактически обоснован.Нужно всегда знать ЦЕЛИ использовани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2. В играх должно быть задействовано как можно больш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3. Игры должны соответствовать возрасту и языковым возможностям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. е. быть ДОСТУП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4. Игры служат развитию всех видов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mages 2"/>
          <p:cNvPicPr/>
          <p:nvPr/>
        </p:nvPicPr>
        <p:blipFill>
          <a:blip r:embed="rId2"/>
          <a:stretch/>
        </p:blipFill>
        <p:spPr>
          <a:xfrm>
            <a:off x="6804000" y="3716280"/>
            <a:ext cx="20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Грамма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употреблению речевых образцов, содержащих определенные грамматические тру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здать естественную ситуацию для употребления данного речевого образ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звить речевую активность и самосто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Тренировать учащихся в употреблении лексики в ситуациях, приближенных к естественно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Активизировать речемысли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азвивать речевую реакцию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знакомить учащихся с сочетаемостью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Фоне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ренировать учащихся в произношении английски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громко и отчетливо читать стихотво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ировать навыки фонетического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движн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в качестве физкультминуток, для закрепления лексического и грамматическ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Игры с пальчиками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для развития мелкой моторики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00:12Z</dcterms:created>
  <dc:creator>Customer</dc:creator>
  <dc:description/>
  <dc:language>en-US</dc:language>
  <cp:lastModifiedBy>user</cp:lastModifiedBy>
  <dcterms:modified xsi:type="dcterms:W3CDTF">2017-04-17T15:32:47Z</dcterms:modified>
  <cp:revision>50</cp:revision>
  <dc:subject/>
  <dc:title>Слайд 1</dc:title>
</cp:coreProperties>
</file>