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B7B-BAD3-40E8-BB7B-6AB30E63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52F-2790-4FED-8091-F5CC871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A1A-D9DB-4FF9-A9E1-6EDE087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2D1-3169-411B-B332-2805020B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699-2EFD-44EC-A58D-7E52FA5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288-36E8-4FC7-B62A-B62E5D6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8A1-BD6B-490C-B1D7-369F3ED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544-EC5A-4443-9245-AC2F0647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FE5-A763-4951-9F61-6B3D12F1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5C7-E3AF-40BD-B93E-10AC9D6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79C-1D84-4E89-B6C3-08A24AE8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1D8-1813-459E-B843-7FD5963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F13-FAFF-4268-8EE0-D275600AD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5761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Образовательные технологии новых стандартов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Технология АМО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(«активные методы обучения»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24000" y="3819600"/>
            <a:ext cx="521964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чител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уракова Виктория Вадим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рисунок"/>
          <p:cNvPicPr/>
          <p:nvPr/>
        </p:nvPicPr>
        <p:blipFill>
          <a:blip r:embed="rId2"/>
          <a:stretch/>
        </p:blipFill>
        <p:spPr>
          <a:xfrm>
            <a:off x="250920" y="3254400"/>
            <a:ext cx="3995640" cy="3603600"/>
          </a:xfrm>
          <a:prstGeom prst="rect">
            <a:avLst/>
          </a:prstGeom>
          <a:ln w="0">
            <a:noFill/>
          </a:ln>
        </p:spPr>
      </p:pic>
      <p:pic>
        <p:nvPicPr>
          <p:cNvPr id="45" name="усатый нян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4166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гра – путь детей к познанию мира, в котором они живу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</a:rPr>
              <a:t>и который они призваны измен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7632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тобы сохранить инт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ащихся к предмету с первого до последнего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оздать атмосферу поиска и творчества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Как сделать так, чтобы учиться было интер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Чему нужно обучать на уроках англий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24000" y="26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Ради че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7690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Важнейшей задачей стандартов нового поколения является создание инновационной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ult16"/>
          <p:cNvPicPr/>
          <p:nvPr/>
        </p:nvPicPr>
        <p:blipFill>
          <a:blip r:embed="rId2"/>
          <a:stretch/>
        </p:blipFill>
        <p:spPr>
          <a:xfrm>
            <a:off x="6084720" y="3068640"/>
            <a:ext cx="2868840" cy="378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 характеру педагогиче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роц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бучающие, тренировочные, контролирующие, обобщ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знавательные, воспитательные, развиваю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Твор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офориентацио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ult9"/>
          <p:cNvPicPr/>
          <p:nvPr/>
        </p:nvPicPr>
        <p:blipFill>
          <a:blip r:embed="rId2"/>
          <a:stretch/>
        </p:blipFill>
        <p:spPr>
          <a:xfrm>
            <a:off x="468360" y="3500280"/>
            <a:ext cx="242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НУЖНО ВСЕГДА ПОМН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Выбор формы игры должен быть педагогически и дидактически обоснован.Нужно всегда знать ЦЕЛИ использов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2. В играх должно быть задействовано как можно больш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3. Игры должны соответствовать возрасту и языковым возможностям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. е. быть ДОСТУП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4. Игры служат развитию всех видов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mages 2"/>
          <p:cNvPicPr/>
          <p:nvPr/>
        </p:nvPicPr>
        <p:blipFill>
          <a:blip r:embed="rId2"/>
          <a:stretch/>
        </p:blipFill>
        <p:spPr>
          <a:xfrm>
            <a:off x="6804000" y="3716280"/>
            <a:ext cx="20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Грамма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здать естественную ситуацию для употребления данного речевого образ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звить речевую активность и самосто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Тренировать учащихся в употреблении лексики в ситуациях, приближенных к естестве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Активизировать речемысли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азвивать речевую реакцию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ознакомить учащихся с сочетаемостью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Фоне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ренировать учащихся в произношении английски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учить учащихся громко и отчетливо читать стихотв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ировать навыки фонетического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Подвиж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в качестве физкультминуток, для закрепления лексического и грамматическ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Monotype Corsiva"/>
              </a:rPr>
              <a:t>Игры с пальчиками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спользуются для развития мелкой моторики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00:12Z</dcterms:created>
  <dc:creator>Customer</dc:creator>
  <dc:description/>
  <dc:language>en-US</dc:language>
  <cp:lastModifiedBy>user</cp:lastModifiedBy>
  <dcterms:modified xsi:type="dcterms:W3CDTF">2017-04-17T15:32:47Z</dcterms:modified>
  <cp:revision>50</cp:revision>
  <dc:subject/>
  <dc:title>Слайд 1</dc:title>
</cp:coreProperties>
</file>