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00C-D102-483E-A162-B0951982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229-EED4-499A-BD1E-9166EBB4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99D-AD7D-4A2E-8414-B2734565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F82-3748-42A1-9FF9-92BA97AD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60F7-C356-4B26-B1AA-137B707C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9056-8D1A-484D-B51C-6FCC3AC6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8BB2-7BBF-4FEF-832E-BE341FE9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9904-B546-4F9F-9A03-8C27C3C8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FA80-412E-429F-BD56-CFD5AE13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4D3F-9619-41EB-BDD6-374CADEF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9D85-280E-44B2-A65B-3A9A9304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22F-9158-45F7-9EDB-42538093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1720-3D29-45BE-B43E-B2AC56DB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AAE3-A156-4BEB-AF59-3A534EE3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ACE2-6E97-4989-8F82-23070A1E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FDF4-E422-451B-B078-C9318289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9B85-9B14-4268-B771-D36D1A82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404-3864-4E15-8942-4C1805F5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409-8200-450B-BAE6-B143FDAD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709-43F5-44CF-A135-03CE1837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01D-B65B-40FC-AD50-C306F493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546-5E00-4DB2-99FF-2BBDD759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DDC-D5CC-4FE4-8801-6B8D9454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CF5-442A-4DF8-9E0C-FF631E99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B176-2B4F-45F3-A9B0-4E73FAD5838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FE6D-B5FC-426B-84D0-9D90EF8BEAE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 Black"/>
              </a:rPr>
              <a:t>Литературно-историческое путешествие для малышей </a:t>
            </a:r>
            <a:br>
              <a:rPr sz="2000"/>
            </a:br>
            <a:r>
              <a:rPr b="1" lang="en-US" sz="4400" spc="-1" strike="noStrike">
                <a:solidFill>
                  <a:srgbClr val="66ff33"/>
                </a:solidFill>
                <a:latin typeface="Monotype Corsiva"/>
              </a:rPr>
              <a:t>«ИМ БЫЛА РОССИЯ БЛАГОДАРНА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«Не забудет наш народ доблесть русских воевод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 Black"/>
              </a:rPr>
              <a:t>ИСТОРИЯ И СОВРЕМЕННОСТЬ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амятник                      К.Минину и Д.Пожарскому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5473440" cy="386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ИСТОРИЯ И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66ff33"/>
                </a:solidFill>
                <a:latin typeface="Arial Black"/>
              </a:rPr>
              <a:t>СОВРЕМЕННОСТЬ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Центр Красной Площад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619280" y="25146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ИСТОРИЯ И СОВРЕМЕННОСТЬ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енатская башн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556000" y="2492280"/>
            <a:ext cx="4064040" cy="4365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ИСТОРИЯ И СОВРЕМЕННОСТЬ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Храм Василия Блаженног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689720" cy="4365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ИСТОРИЯ И СОВРЕМЕННОСТЬ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Теплоход имени                  Дмитрия Пожарског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975280" cy="3860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КОНЕЧНАЯ СТАНЦИЯ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ГОРДИТЕСЬ СВОЕЙ СТРАНОЙ,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РОСЛАВЛЯЙТЕ ЕЕ СВОИМИ ДОБРЫМИ И НУЖНЫМИ ДЕЛАМИ,ПОМНИТЕ ИСТОРИЮ СВОЕГО ГОСУДАРСТВА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!!!!!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ДО НОВЫХ ВСТРЕЧЬ,ДРУЗЬЯ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!!!                    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 Black"/>
              </a:rPr>
              <a:t>РОССИЯ - РОДИН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45676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ГОСУДАРСТВО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СА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ЛЕЗНЫЕ ИСКОПАЕМЫ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3948120"/>
            <a:ext cx="2808360" cy="29098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2987640" y="3933720"/>
            <a:ext cx="2952720" cy="2924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92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33"/>
                </a:solidFill>
                <a:latin typeface="Arial Black"/>
              </a:rPr>
              <a:t>НАЧАЛО СМУТНОГО ВРЕМЕНИ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Царь Иван Грозный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Храм Казанской Божьей Матер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2952720" cy="3645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651640" y="3716280"/>
            <a:ext cx="32763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ff33"/>
                </a:solidFill>
                <a:latin typeface="Arial Black"/>
              </a:rPr>
              <a:t>СЫНОВЬЯ ИВАНА ГРОЗНОГО:</a:t>
            </a:r>
            <a:endParaRPr b="0" lang="en-US" sz="3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ФЕДОР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ИВАН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ДМИТРИ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3059280" cy="4221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132000" y="3357720"/>
            <a:ext cx="2448000" cy="3500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796000" y="3716280"/>
            <a:ext cx="3168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ГОРОДА ОТЕЧЕСТВ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Москва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Смоленск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Новгород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3492360" cy="37162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564000" y="3789360"/>
            <a:ext cx="2736720" cy="30686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6372360" y="3789360"/>
            <a:ext cx="2771640" cy="306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ГЕРОИ ПРАЗДНИКА: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КУЗЬМА МИНИН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ДМИТРИЙ ПОЖАРСКИЙ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3851280" cy="3716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364000" y="3068640"/>
            <a:ext cx="3780000" cy="3789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ff33"/>
                </a:solidFill>
                <a:latin typeface="Arial Black"/>
              </a:rPr>
              <a:t>ЧУДОТВОРНЫЙ</a:t>
            </a: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800" spc="-1" strike="noStrike">
                <a:solidFill>
                  <a:srgbClr val="66ff33"/>
                </a:solidFill>
                <a:latin typeface="Arial Black"/>
              </a:rPr>
              <a:t>ОБРАЗ </a:t>
            </a:r>
            <a:br>
              <a:rPr sz="3800"/>
            </a:br>
            <a:r>
              <a:rPr b="0" lang="en-US" sz="3800" spc="-1" strike="noStrike">
                <a:solidFill>
                  <a:srgbClr val="66ff33"/>
                </a:solidFill>
                <a:latin typeface="Arial Black"/>
              </a:rPr>
              <a:t>ПРЕСВЯТОЙ БОГОРОДИЦЫ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«КАЗАНСКАЯ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4105080" cy="436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68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68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68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68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РУССКИЙ НАЦИОНАЛЬНЫЙ ГЕРОЙ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КУЗЬМА МИНИН(?-1616 г.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810320" cy="4365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РУССКИЙ</a:t>
            </a: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 НАЦИОНАЛЬНЫЙ ГЕРОЙ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ДМИТРИЙ ПОЖАРС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(1578-1642 гг.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627280" y="3284640"/>
            <a:ext cx="3529080" cy="3573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6:12:38Z</dcterms:created>
  <dc:creator>XTreme</dc:creator>
  <dc:description/>
  <dc:language>en-US</dc:language>
  <cp:lastModifiedBy>XTreme</cp:lastModifiedBy>
  <dcterms:modified xsi:type="dcterms:W3CDTF">2010-10-28T19:30:38Z</dcterms:modified>
  <cp:revision>8</cp:revision>
  <dc:subject/>
  <dc:title>Слайд 1</dc:title>
</cp:coreProperties>
</file>