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180-CE23-4CD8-9164-65DCD3DB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EE24-0EB5-4125-9689-7AA1D8C9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23C-08EE-47E4-B485-F1B898F8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2C6-AEDA-4E92-9987-9218C196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B9BC-FB1D-4905-995F-28C3A1B5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C39A-233F-404B-9965-767EA31E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DBA0-6D61-4C0D-85A0-BE1EE5ED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E0BC-8D75-40AE-9881-5EF9ACB9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6714-D0EB-40AF-A69F-26E1D79C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F469-B00A-4C09-91EA-1A9F0351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85CC-82CB-4AE9-BCB6-EE8656C5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CE4F-D98C-4C53-8472-528B8717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438A-0484-4900-B195-4B4EA2DE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6410-6FCB-4B17-9053-2AE6CD8E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C3C4-F197-44E6-8101-1509066D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A98C-9311-4D2F-ABFB-C2E50238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E27B-5753-4C07-8B89-94339BA9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78C-F07C-4C9D-8D69-D0BDB367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47EE-74F1-409F-ABF3-B5F50207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831-D3E2-4BE8-9949-B64448AF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853-386B-4693-AA7A-1003B95D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0F4-24AC-4E8A-BDE5-016C7591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B74-1F31-4AAA-B28C-55EDF53B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DA6E-3FA2-4592-A4F3-E13AAA5F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E8F5-DD19-4B72-8D20-77AE5647E87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86F2-B088-44A0-BA5C-7C3136374C8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 Black"/>
              </a:rPr>
              <a:t>Литературно-историческое путешествие для малышей </a:t>
            </a:r>
            <a:br>
              <a:rPr sz="2000"/>
            </a:br>
            <a:r>
              <a:rPr b="1" lang="en-US" sz="4400" spc="-1" strike="noStrike">
                <a:solidFill>
                  <a:srgbClr val="66ff33"/>
                </a:solidFill>
                <a:latin typeface="Monotype Corsiva"/>
              </a:rPr>
              <a:t>«ИМ БЫЛА РОССИЯ БЛАГОДАРНА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«Не забудет наш народ доблесть русских воевод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 Black"/>
              </a:rPr>
              <a:t>ИСТОРИЯ И СОВРЕМЕННОСТЬ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амятник                      К.Минину и Д.Пожарскому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835280" y="2997360"/>
            <a:ext cx="5473440" cy="3860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ИСТОРИЯ И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66ff33"/>
                </a:solidFill>
                <a:latin typeface="Arial Black"/>
              </a:rPr>
              <a:t>СОВРЕМЕННОСТЬ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Центр Красной Площад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619280" y="2514600"/>
            <a:ext cx="6095880" cy="43434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ИСТОРИЯ И СОВРЕМЕННОСТЬ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енатская башня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556000" y="2492280"/>
            <a:ext cx="4064040" cy="4365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ИСТОРИЯ И СОВРЕМЕННОСТЬ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Храм Василия Блаженного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689720" cy="4365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ИСТОРИЯ И СОВРЕМЕННОСТЬ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Теплоход имени                  Дмитрия Пожарского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975280" cy="3860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КОНЕЧНАЯ СТАНЦИЯ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ГОРДИТЕСЬ СВОЕЙ СТРАНОЙ,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РОСЛАВЛЯЙТЕ ЕЕ СВОИМИ ДОБРЫМИ И НУЖНЫМИ ДЕЛАМИ,ПОМНИТЕ ИСТОРИЮ СВОЕГО ГОСУДАРСТВА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!!!!!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ДО НОВЫХ ВСТРЕЧЬ,ДРУЗЬЯ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!!!                        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 Black"/>
              </a:rPr>
              <a:t>РОССИЯ - РОДИН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45676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ГОСУДАРСТВО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ЛЕСА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ЛЕЗНЫЕ ИСКОПАЕМЫ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3948120"/>
            <a:ext cx="2808360" cy="29098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2987640" y="3933720"/>
            <a:ext cx="2952720" cy="2924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6084720" y="3933720"/>
            <a:ext cx="3059280" cy="292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98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ff33"/>
                </a:solidFill>
                <a:latin typeface="Arial Black"/>
              </a:rPr>
              <a:t>НАЧАЛО СМУТНОГО ВРЕМЕНИ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Царь Иван Грозный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Храм Казанской Божьей Матер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2952720" cy="3645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651640" y="3716280"/>
            <a:ext cx="327636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ff33"/>
                </a:solidFill>
                <a:latin typeface="Arial Black"/>
              </a:rPr>
              <a:t>СЫНОВЬЯ ИВАНА ГРОЗНОГО:</a:t>
            </a:r>
            <a:endParaRPr b="0" lang="en-US" sz="3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ФЕДОР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ИВАН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ДМИТРИЙ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3059280" cy="42210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132000" y="3357720"/>
            <a:ext cx="2448000" cy="35002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796000" y="3716280"/>
            <a:ext cx="3168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ГОРОДА ОТЕЧЕСТВ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Москва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Смоленск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Новгород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3141720"/>
            <a:ext cx="3492360" cy="37162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564000" y="3789360"/>
            <a:ext cx="2736720" cy="30686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6372360" y="3789360"/>
            <a:ext cx="2771640" cy="306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3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ГЕРОИ ПРАЗДНИКА: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КУЗЬМА МИНИН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ДМИТРИЙ ПОЖАРСКИЙ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3141720"/>
            <a:ext cx="3851280" cy="37162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364000" y="3068640"/>
            <a:ext cx="3780000" cy="3789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ff33"/>
                </a:solidFill>
                <a:latin typeface="Arial Black"/>
              </a:rPr>
              <a:t>ЧУДОТВОРНЫЙ</a:t>
            </a: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800" spc="-1" strike="noStrike">
                <a:solidFill>
                  <a:srgbClr val="66ff33"/>
                </a:solidFill>
                <a:latin typeface="Arial Black"/>
              </a:rPr>
              <a:t>ОБРАЗ </a:t>
            </a:r>
            <a:br>
              <a:rPr sz="3800"/>
            </a:br>
            <a:r>
              <a:rPr b="0" lang="en-US" sz="3800" spc="-1" strike="noStrike">
                <a:solidFill>
                  <a:srgbClr val="66ff33"/>
                </a:solidFill>
                <a:latin typeface="Arial Black"/>
              </a:rPr>
              <a:t>ПРЕСВЯТОЙ БОГОРОДИЦЫ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«КАЗАНСКАЯ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4105080" cy="436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68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68" fill="hold"/>
                                        <p:tgtEl>
                                          <p:spTgt spid="3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68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68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РУССКИЙ НАЦИОНАЛЬНЫЙ ГЕРОЙ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КУЗЬМА МИНИН(?-1616 г.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810320" cy="4365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РУССКИЙ</a:t>
            </a: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 НАЦИОНАЛЬНЫЙ ГЕРОЙ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ДМИТРИЙ ПОЖАРСКИ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(1578-1642 гг.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627280" y="3284640"/>
            <a:ext cx="3529080" cy="3573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6:12:38Z</dcterms:created>
  <dc:creator>XTreme</dc:creator>
  <dc:description/>
  <dc:language>en-US</dc:language>
  <cp:lastModifiedBy>XTreme</cp:lastModifiedBy>
  <dcterms:modified xsi:type="dcterms:W3CDTF">2010-10-28T19:30:38Z</dcterms:modified>
  <cp:revision>8</cp:revision>
  <dc:subject/>
  <dc:title>Слайд 1</dc:title>
</cp:coreProperties>
</file>