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996-7039-4903-B28F-87FB0DAF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EEC-B557-4BFB-9885-2A48CA44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2F5-F46A-463D-A933-9C8C4A72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BAA-A7C5-4E92-89F6-3BB289F2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44C-B3A7-4DD1-BD5D-2454B62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A3D-2E3B-45BB-855B-308E7D5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7BE-40EC-42CA-AF9F-A085CC6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57D-4617-4E22-AA4B-A22FD9CE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AC7-46FD-4F01-A6F8-B3532F0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E97-47B5-4C76-ADD1-0C26992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352-7560-427C-A10F-FB21D49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FB9-4515-422B-BC65-7B9164F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55A-D8F1-417D-B5DA-BCBC02C20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56bb87a32eda1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Подвиг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uslide.ru/images/9/15618/960/img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g51121.gif"/>
          <p:cNvPicPr/>
          <p:nvPr/>
        </p:nvPicPr>
        <p:blipFill>
          <a:blip r:embed="rId1"/>
          <a:stretch/>
        </p:blipFill>
        <p:spPr>
          <a:xfrm>
            <a:off x="0" y="0"/>
            <a:ext cx="959976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img1.1tv.ru/imgsize640x360/PR20140509190238.JPG"/>
          <p:cNvPicPr/>
          <p:nvPr/>
        </p:nvPicPr>
        <p:blipFill>
          <a:blip r:embed="rId1"/>
          <a:stretch/>
        </p:blipFill>
        <p:spPr>
          <a:xfrm>
            <a:off x="-642960" y="0"/>
            <a:ext cx="11520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инута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56bb87a32eda1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«В жизни всегда есть место подвигу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56bb87a32eda1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Подвиг во имя жизн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9may.jpg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82324415_y_5c4a2ea5.jpg"/>
          <p:cNvPicPr/>
          <p:nvPr/>
        </p:nvPicPr>
        <p:blipFill>
          <a:blip r:embed="rId1"/>
          <a:stretch/>
        </p:blipFill>
        <p:spPr>
          <a:xfrm>
            <a:off x="500040" y="500040"/>
            <a:ext cx="81612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5" descr="tmpqGAM29.jpeg"/>
          <p:cNvPicPr/>
          <p:nvPr/>
        </p:nvPicPr>
        <p:blipFill>
          <a:blip r:embed="rId1"/>
          <a:stretch/>
        </p:blipFill>
        <p:spPr>
          <a:xfrm>
            <a:off x="428760" y="571680"/>
            <a:ext cx="83754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age14293530.jpg"/>
          <p:cNvPicPr/>
          <p:nvPr/>
        </p:nvPicPr>
        <p:blipFill>
          <a:blip r:embed="rId1"/>
          <a:stretch/>
        </p:blipFill>
        <p:spPr>
          <a:xfrm>
            <a:off x="357120" y="500040"/>
            <a:ext cx="83836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1314590734_1314098241_big_759633b82c074f4e2660ad3a610ca83c130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В столярной мастерской Дома пионеров. Подростки изготавливаю.jpg"/>
          <p:cNvPicPr/>
          <p:nvPr/>
        </p:nvPicPr>
        <p:blipFill>
          <a:blip r:embed="rId1"/>
          <a:stretch/>
        </p:blipFill>
        <p:spPr>
          <a:xfrm>
            <a:off x="285840" y="500040"/>
            <a:ext cx="8564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cpacibodedu.ru/uploads/posts/2016-03/4638b3af3d0ddaa9aa3f198a67f735c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6-05-05T17:39:57Z</dcterms:modified>
  <cp:revision>2</cp:revision>
  <dc:subject/>
  <dc:title>Подвиг</dc:title>
</cp:coreProperties>
</file>