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11.gif" ContentType="image/gif"/>
  <Override PartName="/ppt/media/image6.jpeg" ContentType="image/jpeg"/>
  <Override PartName="/ppt/media/image8.png" ContentType="image/png"/>
  <Override PartName="/ppt/media/image7.jpeg" ContentType="image/jpeg"/>
  <Override PartName="/ppt/media/image12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7E1CD-C20F-4785-8FE7-F0085CB83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EDE9F-5BF9-4BAC-84FF-8834EEF6B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77B0A-3910-4F03-8910-A42AF4921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A2752-FEF5-458F-A457-3F356F9FF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CADAE-D425-4006-A3A2-D2C40ABB7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16D55-C7ED-486E-8FAC-F35440BE2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53EED-15EC-43C8-9D92-CCA5CC2DA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F5A05-0535-41FD-A29E-3828BFBFB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3DDFD-ED3A-4F1F-B925-8C856C68C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6F4AD-E86B-48AD-ACCD-87CB61311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9C197-4202-44F2-8FDC-0B8AEDA73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33B29-9722-4820-8346-A8865EE2C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BE5F4-5E24-4C87-BF69-E7C54EA05FF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Содержимое 3" descr="56bb87a32eda1.jpg"/>
          <p:cNvPicPr/>
          <p:nvPr/>
        </p:nvPicPr>
        <p:blipFill>
          <a:blip r:embed="rId1"/>
          <a:stretch/>
        </p:blipFill>
        <p:spPr>
          <a:xfrm>
            <a:off x="-142920" y="0"/>
            <a:ext cx="9286920" cy="68403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2876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000000"/>
                </a:solidFill>
                <a:latin typeface="Monotype Corsiva"/>
              </a:rPr>
              <a:t>Подвиг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" descr="http://uslide.ru/images/9/15618/960/img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Содержимое 3" descr="g51121.gif"/>
          <p:cNvPicPr/>
          <p:nvPr/>
        </p:nvPicPr>
        <p:blipFill>
          <a:blip r:embed="rId1"/>
          <a:stretch/>
        </p:blipFill>
        <p:spPr>
          <a:xfrm>
            <a:off x="0" y="0"/>
            <a:ext cx="9599760" cy="719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4" descr="http://img1.1tv.ru/imgsize640x360/PR20140509190238.JPG"/>
          <p:cNvPicPr/>
          <p:nvPr/>
        </p:nvPicPr>
        <p:blipFill>
          <a:blip r:embed="rId1"/>
          <a:stretch/>
        </p:blipFill>
        <p:spPr>
          <a:xfrm>
            <a:off x="-642960" y="0"/>
            <a:ext cx="1152036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42960" y="571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Monotype Corsiva"/>
              </a:rPr>
              <a:t>Минута памят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Содержимое 3" descr="56bb87a32eda1.jpg"/>
          <p:cNvPicPr/>
          <p:nvPr/>
        </p:nvPicPr>
        <p:blipFill>
          <a:blip r:embed="rId1"/>
          <a:stretch/>
        </p:blipFill>
        <p:spPr>
          <a:xfrm>
            <a:off x="-142920" y="0"/>
            <a:ext cx="9286920" cy="684036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2876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Monotype Corsiva"/>
              </a:rPr>
              <a:t>«В жизни всегда есть место подвигу»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Содержимое 3" descr="56bb87a32eda1.jpg"/>
          <p:cNvPicPr/>
          <p:nvPr/>
        </p:nvPicPr>
        <p:blipFill>
          <a:blip r:embed="rId1"/>
          <a:stretch/>
        </p:blipFill>
        <p:spPr>
          <a:xfrm>
            <a:off x="-142920" y="0"/>
            <a:ext cx="9286920" cy="68403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5712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000000"/>
                </a:solidFill>
                <a:latin typeface="Monotype Corsiva"/>
              </a:rPr>
              <a:t>Подвиг во имя жизни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Содержимое 3" descr="9may.jpg"/>
          <p:cNvPicPr/>
          <p:nvPr/>
        </p:nvPicPr>
        <p:blipFill>
          <a:blip r:embed="rId1"/>
          <a:stretch/>
        </p:blipFill>
        <p:spPr>
          <a:xfrm>
            <a:off x="0" y="0"/>
            <a:ext cx="9207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Содержимое 3" descr="82324415_y_5c4a2ea5.jpg"/>
          <p:cNvPicPr/>
          <p:nvPr/>
        </p:nvPicPr>
        <p:blipFill>
          <a:blip r:embed="rId1"/>
          <a:stretch/>
        </p:blipFill>
        <p:spPr>
          <a:xfrm>
            <a:off x="500040" y="500040"/>
            <a:ext cx="8161200" cy="575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Содержимое 5" descr="tmpqGAM29.jpeg"/>
          <p:cNvPicPr/>
          <p:nvPr/>
        </p:nvPicPr>
        <p:blipFill>
          <a:blip r:embed="rId1"/>
          <a:stretch/>
        </p:blipFill>
        <p:spPr>
          <a:xfrm>
            <a:off x="428760" y="571680"/>
            <a:ext cx="8375400" cy="57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Содержимое 3" descr="image14293530.jpg"/>
          <p:cNvPicPr/>
          <p:nvPr/>
        </p:nvPicPr>
        <p:blipFill>
          <a:blip r:embed="rId1"/>
          <a:stretch/>
        </p:blipFill>
        <p:spPr>
          <a:xfrm>
            <a:off x="357120" y="500040"/>
            <a:ext cx="8383680" cy="575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Содержимое 3" descr="1314590734_1314098241_big_759633b82c074f4e2660ad3a610ca83c130.jpg"/>
          <p:cNvPicPr/>
          <p:nvPr/>
        </p:nvPicPr>
        <p:blipFill>
          <a:blip r:embed="rId1"/>
          <a:stretch/>
        </p:blipFill>
        <p:spPr>
          <a:xfrm>
            <a:off x="0" y="500040"/>
            <a:ext cx="9144000" cy="575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Содержимое 3" descr="В столярной мастерской Дома пионеров. Подростки изготавливаю.jpg"/>
          <p:cNvPicPr/>
          <p:nvPr/>
        </p:nvPicPr>
        <p:blipFill>
          <a:blip r:embed="rId1"/>
          <a:stretch/>
        </p:blipFill>
        <p:spPr>
          <a:xfrm>
            <a:off x="285840" y="500040"/>
            <a:ext cx="8564400" cy="575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" descr="http://cpacibodedu.ru/uploads/posts/2016-03/4638b3af3d0ddaa9aa3f198a67f735cf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XP</cp:lastModifiedBy>
  <dcterms:modified xsi:type="dcterms:W3CDTF">2016-05-05T17:39:57Z</dcterms:modified>
  <cp:revision>2</cp:revision>
  <dc:subject/>
  <dc:title>Подвиг</dc:title>
</cp:coreProperties>
</file>