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78D-159D-4E56-87D8-79536031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026-C846-4FDA-A2CD-E349547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136-9A71-4024-8CCD-A6C77397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107-A6F4-4C64-A42A-31EAD5FB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447-8C03-4F93-B865-FD40799A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4B84-6F55-46A0-987C-39B3BF3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6BC-DF0A-4C70-AA8A-32B418B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6226-A778-4F77-8923-BFAC91D5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0C4E-9CC4-4B71-8F4E-C8AD847D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5D7-6B97-4A13-B428-FD297FA7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1FCC-FCA2-4787-AA32-37AF7F5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EB2-F64D-49B1-A5C4-4F3887A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7B72-3889-434A-B0E0-9988124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D9E2-D7D3-4751-85DF-99A12AFB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9A7D-353A-4108-8C7C-7B44A406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B66F-BFAC-4848-93DC-90E8C143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BABC-3EF8-4A98-8D4D-C1AD9973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DE0-C853-4C82-A431-F862DDC6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C6A-2FF5-4D57-B790-1D414E1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67E-4E31-45E4-B814-B902A2A5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96B-EBFB-4959-AB02-19588EB6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955-98BB-4AFC-A486-FE0DB56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AF5-C6DB-4FD4-A46B-871FCD67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C23-BD8F-404C-8178-85340857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4A1-5081-42BC-B296-3C1FD08A23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BB54-009F-4AC2-B52E-D410D82B6B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Tahoma"/>
              </a:rPr>
              <a:t>          </a:t>
            </a:r>
            <a:r>
              <a:rPr b="0" lang="en-US" sz="5400" spc="-1" strike="noStrike">
                <a:solidFill>
                  <a:srgbClr val="00ffcc"/>
                </a:solidFill>
                <a:latin typeface="Tahoma"/>
              </a:rPr>
              <a:t>ПРАВОВОЙ</a:t>
            </a:r>
            <a:r>
              <a:rPr b="0" lang="en-US" sz="5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00ffcc"/>
                </a:solidFill>
                <a:latin typeface="Tahoma"/>
              </a:rPr>
              <a:t>ЧАС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99"/>
                </a:solidFill>
                <a:latin typeface="Comic Sans MS"/>
              </a:rPr>
              <a:t>«АЗБУКА ПРАВ РЕБЕНК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ВТОРАЯ ГРУППА ПРАВ: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ЗАЩИ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914400" y="160020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914400" y="39625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22"/>
          <p:cNvPicPr/>
          <p:nvPr/>
        </p:nvPicPr>
        <p:blipFill>
          <a:blip r:embed="rId6"/>
          <a:stretch/>
        </p:blipFill>
        <p:spPr>
          <a:xfrm>
            <a:off x="4648320" y="167652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Comic Sans MS"/>
              </a:rPr>
              <a:t>ТРЕТЬЯ ГРУППА ПРАВ:</a:t>
            </a:r>
            <a:br>
              <a:rPr sz="3600"/>
            </a:br>
            <a:r>
              <a:rPr b="1" lang="en-US" sz="3600" spc="-1" strike="noStrike">
                <a:solidFill>
                  <a:srgbClr val="ccff33"/>
                </a:solidFill>
                <a:latin typeface="Comic Sans MS"/>
              </a:rPr>
              <a:t>УЧАСТИ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32"/>
          <p:cNvPicPr/>
          <p:nvPr/>
        </p:nvPicPr>
        <p:blipFill>
          <a:blip r:embed="rId3"/>
          <a:stretch/>
        </p:blipFill>
        <p:spPr>
          <a:xfrm>
            <a:off x="457200" y="1600200"/>
            <a:ext cx="3733920" cy="327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30"/>
          <p:cNvPicPr/>
          <p:nvPr/>
        </p:nvPicPr>
        <p:blipFill>
          <a:blip r:embed="rId4"/>
          <a:stretch/>
        </p:blipFill>
        <p:spPr>
          <a:xfrm>
            <a:off x="4495680" y="2590920"/>
            <a:ext cx="4191120" cy="3581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Comic Sans MS"/>
              </a:rPr>
              <a:t>ПРАВА ЛИТЕРАТУРНЫХ ГЕРОЕ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ПЕСНЯ О ПРАВА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cc"/>
                </a:solidFill>
                <a:latin typeface="Comic Sans MS"/>
              </a:rPr>
              <a:t>НАШИ ПРАВА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имя, отчество и фамилию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знать своих родителей, совместно с ними проживать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заботу и воспитание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общение со своими родителями, бабушками, дедушками, братьями и сёстра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защиту своих прав и законных интересов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общение с обоими родителя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выражать своё мнение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уважение человеческого достоинств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личное имущество, на получение содержания от родителей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ПОМНИТЕ О СВОИХ ПРАВА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ГЛАВНЫЕ 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Что люди могут делать и чего не могу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Что они обязаны делать и чего не обязан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На что они имеют право и на что не имею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4960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Comic Sans MS"/>
              </a:rPr>
              <a:t>ОРГАНИЗАЦИЯ ОБЪЕДИНЕННЫХ НАЦ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omic Sans MS"/>
              </a:rPr>
              <a:t>ГЕНЕРАЛЬНАЯ АССАМБЛЕЯ ООН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1948 год – принята Всеобщая Декларация прав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44492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ГЕНЕРАЛЬНАЯ АССАМБЛЕЯ ООН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1959 год – принята Декларация прав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51460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4197.jpg"/>
          <p:cNvPicPr/>
          <p:nvPr/>
        </p:nvPicPr>
        <p:blipFill>
          <a:blip r:embed="rId2"/>
          <a:stretch/>
        </p:blipFill>
        <p:spPr>
          <a:xfrm>
            <a:off x="5791320" y="2286000"/>
            <a:ext cx="3047760" cy="4214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Comic Sans MS"/>
              </a:rPr>
              <a:t>1989 год – принятие конвенции о правах ребен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Рисунок 3" descr="low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28074.jpg"/>
          <p:cNvPicPr/>
          <p:nvPr/>
        </p:nvPicPr>
        <p:blipFill>
          <a:blip r:embed="rId2"/>
          <a:stretch/>
        </p:blipFill>
        <p:spPr>
          <a:xfrm>
            <a:off x="4343400" y="327672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Comic Sans MS"/>
              </a:rPr>
              <a:t>ПРАВОВОЙ СЛОВАРИ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Tahoma"/>
              </a:rPr>
              <a:t>МЕЖДУНАРОДНЫЕ ДОКУМЕНТЫ О ПРАВАХ РЕБЕНКА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ДЕКЛАРАЦИЯ</a:t>
            </a:r>
            <a:r>
              <a:rPr b="0" lang="en-US" sz="3600" spc="-1" strike="noStrike">
                <a:solidFill>
                  <a:srgbClr val="ccff33"/>
                </a:solidFill>
                <a:latin typeface="Tahoma"/>
              </a:rPr>
              <a:t> – ЭТО РЕКОМЕНДАЦИИ К ВЫПОЛНЕНИЮ ПРАВИ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КОНВЕНЦИЯ </a:t>
            </a:r>
            <a:r>
              <a:rPr b="0" lang="en-US" sz="3600" spc="-1" strike="noStrike">
                <a:solidFill>
                  <a:srgbClr val="ccff33"/>
                </a:solidFill>
                <a:latin typeface="Tahoma"/>
              </a:rPr>
              <a:t>– ЭТО СОГЛАШЕНИЕ, КОТОРОЕ ОБЯЗАТЕЛЬНО ДОЛЖНО ВЫПОЛНЯТЬСЯ СТРАНАМИ УЧАСТНИКА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ЛИЦО ОТ РОЖДЕНИЯ ДО 18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Рисунок 5" descr="n05-07.jpg"/>
          <p:cNvPicPr/>
          <p:nvPr/>
        </p:nvPicPr>
        <p:blipFill>
          <a:blip r:embed="rId1"/>
          <a:stretch/>
        </p:blipFill>
        <p:spPr>
          <a:xfrm>
            <a:off x="1676520" y="2209680"/>
            <a:ext cx="6167160" cy="450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Comic Sans MS"/>
              </a:rPr>
              <a:t>КОГО ПРИЗНАЮТ РЕБЕНКОМ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Comic Sans MS"/>
              </a:rPr>
              <a:t>ПЕРВАЯ ГРУППА ПРАВ:</a:t>
            </a:r>
            <a:br>
              <a:rPr sz="3600"/>
            </a:br>
            <a:r>
              <a:rPr b="1" lang="en-US" sz="3600" spc="-1" strike="noStrike">
                <a:solidFill>
                  <a:srgbClr val="00ffcc"/>
                </a:solidFill>
                <a:latin typeface="Comic Sans MS"/>
              </a:rPr>
              <a:t>ОБЕСПЕЧЕНИ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914400" y="160020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5181480" y="39625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31"/>
          <p:cNvPicPr/>
          <p:nvPr/>
        </p:nvPicPr>
        <p:blipFill>
          <a:blip r:embed="rId8"/>
          <a:stretch/>
        </p:blipFill>
        <p:spPr>
          <a:xfrm>
            <a:off x="914400" y="3962520"/>
            <a:ext cx="2666880" cy="2189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0-11-10T20:03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