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23D-C8CF-43B8-84E8-608B7EBC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1B9-182B-4BCD-B71C-F3E0BF84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D99-E26E-4751-899E-AD9BAA27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D0C-6EEC-417A-B148-A8C94C14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0B1B-C8A2-42A6-97AC-A742BD5D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9936-6E2F-49FF-914C-07FF8755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23C7-FFE3-459A-8A82-F30FD8D2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F414-5A3B-4B3D-A04B-C217BE3C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C02E-193D-4826-BDE7-9E38AE11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44D3-DCE0-42F7-9DC2-9EA55625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DFF6-2401-4C24-808D-95897A96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DF3A-B786-4D05-A0C8-9D3795A8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9BD6-3565-415B-9B4D-8AEAF719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31BE-C94F-4F6C-8FF3-DE0D9A4A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6718-ACE3-48F6-AD74-B079E7D1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A1EB-8892-4FE7-81D1-C59B2902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B8BC-CBB1-4285-AB51-C6725756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3361-5B24-451A-AB46-4509AF58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4E75-7FD2-49AB-89C6-9A896D27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ECEF-502D-48AE-BFB1-0AF49168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D79-7872-4E3A-9EE8-252DA973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F4C-1AAA-4FBD-85AD-2B8A652C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D66-6046-4FA9-A741-F4C8A3B2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CB9-6426-4E77-BBEF-97A96535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CA5C-641B-42F8-BB63-921389AADB5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ECAA-F6C5-401F-944C-63AA959F58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Tahoma"/>
              </a:rPr>
              <a:t>          </a:t>
            </a:r>
            <a:r>
              <a:rPr b="0" lang="en-US" sz="5400" spc="-1" strike="noStrike">
                <a:solidFill>
                  <a:srgbClr val="00ffcc"/>
                </a:solidFill>
                <a:latin typeface="Tahoma"/>
              </a:rPr>
              <a:t>ПРАВОВОЙ</a:t>
            </a:r>
            <a:r>
              <a:rPr b="0" lang="en-US" sz="5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00ffcc"/>
                </a:solidFill>
                <a:latin typeface="Tahoma"/>
              </a:rPr>
              <a:t>ЧАС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99"/>
                </a:solidFill>
                <a:latin typeface="Comic Sans MS"/>
              </a:rPr>
              <a:t>«АЗБУКА ПРАВ РЕБЕНКА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19160" cy="2895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omic Sans MS"/>
              </a:rPr>
              <a:t>ВТОРАЯ ГРУППА ПРАВ:</a:t>
            </a: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Comic Sans MS"/>
              </a:rPr>
              <a:t>ЗАЩИТ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914400" y="1600200"/>
            <a:ext cx="2895480" cy="2209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914400" y="3962520"/>
            <a:ext cx="2895480" cy="2133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22"/>
          <p:cNvPicPr/>
          <p:nvPr/>
        </p:nvPicPr>
        <p:blipFill>
          <a:blip r:embed="rId6"/>
          <a:stretch/>
        </p:blipFill>
        <p:spPr>
          <a:xfrm>
            <a:off x="4648320" y="167652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Comic Sans MS"/>
              </a:rPr>
              <a:t>ТРЕТЬЯ ГРУППА ПРАВ:</a:t>
            </a:r>
            <a:br>
              <a:rPr sz="3600"/>
            </a:br>
            <a:r>
              <a:rPr b="1" lang="en-US" sz="3600" spc="-1" strike="noStrike">
                <a:solidFill>
                  <a:srgbClr val="ccff33"/>
                </a:solidFill>
                <a:latin typeface="Comic Sans MS"/>
              </a:rPr>
              <a:t>УЧАСТИЕ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32"/>
          <p:cNvPicPr/>
          <p:nvPr/>
        </p:nvPicPr>
        <p:blipFill>
          <a:blip r:embed="rId3"/>
          <a:stretch/>
        </p:blipFill>
        <p:spPr>
          <a:xfrm>
            <a:off x="457200" y="1600200"/>
            <a:ext cx="3733920" cy="327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30"/>
          <p:cNvPicPr/>
          <p:nvPr/>
        </p:nvPicPr>
        <p:blipFill>
          <a:blip r:embed="rId4"/>
          <a:stretch/>
        </p:blipFill>
        <p:spPr>
          <a:xfrm>
            <a:off x="4495680" y="2590920"/>
            <a:ext cx="4191120" cy="35812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Comic Sans MS"/>
              </a:rPr>
              <a:t>ПРАВА ЛИТЕРАТУРНЫХ ГЕРОЕ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ПЕСНЯ О ПРАВАХ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cc"/>
                </a:solidFill>
                <a:latin typeface="Comic Sans MS"/>
              </a:rPr>
              <a:t>НАШИ ПРАВА: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на имя, отчество и фамилию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знать своих родителей, совместно с ними проживать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на заботу и воспитание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на общение со своими родителями, бабушками, дедушками, братьями и сёстрам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на защиту своих прав и законных интересов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на общение с обоими родителям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выражать своё мнение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на уважение человеческого достоинства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Tahoma"/>
              </a:rPr>
              <a:t>право на личное имущество, на получение содержания от родителей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Comic Sans MS"/>
              </a:rPr>
              <a:t>ПОМНИТЕ О СВОИХ ПРАВАХ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53280" cy="5333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ГЛАВНЫЕ ВОПРОС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Что люди могут делать и чего не могу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Что они обязаны делать и чего не обязан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На что они имеют право и на что не имею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449604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Comic Sans MS"/>
              </a:rPr>
              <a:t>ОРГАНИЗАЦИЯ ОБЪЕДИНЕННЫХ НАЦИ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038480" y="1981080"/>
            <a:ext cx="449604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Comic Sans MS"/>
              </a:rPr>
              <a:t>ГЕНЕРАЛЬНАЯ АССАМБЛЕЯ ООН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1948 год – принята Всеобщая Декларация прав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44492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ГЕНЕРАЛЬНАЯ АССАМБЛЕЯ ООН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1959 год – принята Декларация прав ребе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2514600" cy="35053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3" descr="4197.jpg"/>
          <p:cNvPicPr/>
          <p:nvPr/>
        </p:nvPicPr>
        <p:blipFill>
          <a:blip r:embed="rId2"/>
          <a:stretch/>
        </p:blipFill>
        <p:spPr>
          <a:xfrm>
            <a:off x="5791320" y="2286000"/>
            <a:ext cx="3047760" cy="4214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Comic Sans MS"/>
              </a:rPr>
              <a:t>1989 год – принятие конвенции о правах ребен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0" name="Рисунок 3" descr="low.jpg"/>
          <p:cNvPicPr/>
          <p:nvPr/>
        </p:nvPicPr>
        <p:blipFill>
          <a:blip r:embed="rId1"/>
          <a:stretch/>
        </p:blipFill>
        <p:spPr>
          <a:xfrm>
            <a:off x="457200" y="1752480"/>
            <a:ext cx="2895480" cy="32767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3" descr="28074.jpg"/>
          <p:cNvPicPr/>
          <p:nvPr/>
        </p:nvPicPr>
        <p:blipFill>
          <a:blip r:embed="rId2"/>
          <a:stretch/>
        </p:blipFill>
        <p:spPr>
          <a:xfrm>
            <a:off x="4343400" y="327672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Comic Sans MS"/>
              </a:rPr>
              <a:t>ПРАВОВОЙ СЛОВАРИК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ff"/>
                </a:solidFill>
                <a:latin typeface="Tahoma"/>
              </a:rPr>
              <a:t>МЕЖДУНАРОДНЫЕ ДОКУМЕНТЫ О ПРАВАХ РЕБЕНКА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ДЕКЛАРАЦИЯ</a:t>
            </a:r>
            <a:r>
              <a:rPr b="0" lang="en-US" sz="3600" spc="-1" strike="noStrike">
                <a:solidFill>
                  <a:srgbClr val="ccff33"/>
                </a:solidFill>
                <a:latin typeface="Tahoma"/>
              </a:rPr>
              <a:t> – ЭТО РЕКОМЕНДАЦИИ К ВЫПОЛНЕНИЮ ПРАВИЛ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КОНВЕНЦИЯ </a:t>
            </a:r>
            <a:r>
              <a:rPr b="0" lang="en-US" sz="3600" spc="-1" strike="noStrike">
                <a:solidFill>
                  <a:srgbClr val="ccff33"/>
                </a:solidFill>
                <a:latin typeface="Tahoma"/>
              </a:rPr>
              <a:t>– ЭТО СОГЛАШЕНИЕ, КОТОРОЕ ОБЯЗАТЕЛЬНО ДОЛЖНО ВЫПОЛНЯТЬСЯ СТРАНАМИ УЧАСТНИКАМ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ЛИЦО ОТ РОЖДЕНИЯ ДО 18 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Рисунок 5" descr="n05-07.jpg"/>
          <p:cNvPicPr/>
          <p:nvPr/>
        </p:nvPicPr>
        <p:blipFill>
          <a:blip r:embed="rId1"/>
          <a:stretch/>
        </p:blipFill>
        <p:spPr>
          <a:xfrm>
            <a:off x="1676520" y="2209680"/>
            <a:ext cx="6167160" cy="4500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Comic Sans MS"/>
              </a:rPr>
              <a:t>КОГО ПРИЗНАЮТ РЕБЕНКОМ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2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Comic Sans MS"/>
              </a:rPr>
              <a:t>ПЕРВАЯ ГРУППА ПРАВ:</a:t>
            </a:r>
            <a:br>
              <a:rPr sz="3600"/>
            </a:br>
            <a:r>
              <a:rPr b="1" lang="en-US" sz="3600" spc="-1" strike="noStrike">
                <a:solidFill>
                  <a:srgbClr val="00ffcc"/>
                </a:solidFill>
                <a:latin typeface="Comic Sans MS"/>
              </a:rPr>
              <a:t>ОБЕСПЕЧЕНИЕ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914400" y="160020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5181480" y="160020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5181480" y="396252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31"/>
          <p:cNvPicPr/>
          <p:nvPr/>
        </p:nvPicPr>
        <p:blipFill>
          <a:blip r:embed="rId8"/>
          <a:stretch/>
        </p:blipFill>
        <p:spPr>
          <a:xfrm>
            <a:off x="914400" y="3962520"/>
            <a:ext cx="2666880" cy="21891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0-11-10T20:03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