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7F0-95AF-444E-A65C-739BCC16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A3B-85FD-4F59-8BBB-8C6C248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C56-DDF3-45A6-8DB3-1D4D2619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C6D-B6E0-489F-9E13-0C4558DB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DC9-98DA-45D5-9439-D8AD249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055-1D65-4E71-8AAF-CB3B75F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8A1-41D2-438C-85D0-CC3C0EAD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A12-8877-419D-B66E-BA59017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F33-7105-4AAB-98F4-B5F6CA7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F0E-4A41-4584-AE39-4497544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B8E-044D-463E-934E-1D3C23F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B61-48A9-4E86-9929-77AEBB9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A3E0-CE93-4C0B-90F0-A18D85727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мятник К.К.Гр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404\Desktop\ГРОТ ФОТО\2lu_a85ebDM.jpg"/>
          <p:cNvPicPr/>
          <p:nvPr/>
        </p:nvPicPr>
        <p:blipFill>
          <a:blip r:embed="rId1"/>
          <a:stretch/>
        </p:blipFill>
        <p:spPr>
          <a:xfrm>
            <a:off x="1908000" y="992160"/>
            <a:ext cx="52912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Антокольс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40-19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840360" cy="9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404\Desktop\ГРОТ ФОТО\Vj1OHtU3tSs.jpg"/>
          <p:cNvPicPr/>
          <p:nvPr/>
        </p:nvPicPr>
        <p:blipFill>
          <a:blip r:embed="rId1"/>
          <a:stretch/>
        </p:blipFill>
        <p:spPr>
          <a:xfrm>
            <a:off x="468360" y="0"/>
            <a:ext cx="8259840" cy="11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404\Desktop\ГРОТ ФОТО\IMG_0822.JPG"/>
          <p:cNvPicPr/>
          <p:nvPr/>
        </p:nvPicPr>
        <p:blipFill>
          <a:blip r:embed="rId1"/>
          <a:stretch/>
        </p:blipFill>
        <p:spPr>
          <a:xfrm>
            <a:off x="826920" y="0"/>
            <a:ext cx="7612200" cy="101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и по запросу школа грота спб"/>
          <p:cNvPicPr/>
          <p:nvPr/>
        </p:nvPicPr>
        <p:blipFill>
          <a:blip r:embed="rId1"/>
          <a:stretch/>
        </p:blipFill>
        <p:spPr>
          <a:xfrm>
            <a:off x="-252360" y="189000"/>
            <a:ext cx="95662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ы на прог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404\Desktop\ГРОТ ФОТО\IMG_0958.JPG"/>
          <p:cNvPicPr/>
          <p:nvPr/>
        </p:nvPicPr>
        <p:blipFill>
          <a:blip r:embed="rId1"/>
          <a:stretch/>
        </p:blipFill>
        <p:spPr>
          <a:xfrm>
            <a:off x="611280" y="568440"/>
            <a:ext cx="79563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404\Desktop\ГРОТ ФОТО\IMG_09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ик 3 «б» клас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а-интернат №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 К.К.Гр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наск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ис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фото автор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404\Desktop\ГРОТ ФОТО\dDhf2dW_0M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ажды на прогулке мы обнаружили на памятнике К.К.Грота  надпис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404\Desktop\ГРОТ ФОТО\Sws4IXllGj4.jpg"/>
          <p:cNvPicPr/>
          <p:nvPr/>
        </p:nvPicPr>
        <p:blipFill>
          <a:blip r:embed="rId2"/>
          <a:stretch/>
        </p:blipFill>
        <p:spPr>
          <a:xfrm>
            <a:off x="395280" y="1123920"/>
            <a:ext cx="8300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дпись на кни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404\Desktop\ГРОТ ФОТО\xWtJNZloRTk.jpg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дпись на спине бю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404\Desktop\ГРОТ ФОТО\eniLep-9Xf8.jpg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тали фотографировать все особенности памятника: надписи,трещины,памятник изну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404\Desktop\ГРОТ ФОТО\IMG_0402.JPG"/>
          <p:cNvPicPr/>
          <p:nvPr/>
        </p:nvPicPr>
        <p:blipFill>
          <a:blip r:embed="rId1"/>
          <a:stretch/>
        </p:blipFill>
        <p:spPr>
          <a:xfrm>
            <a:off x="4956120" y="371628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404\Desktop\ГРОТ ФОТО\L0ZADXNYtB4.jpg"/>
          <p:cNvPicPr/>
          <p:nvPr/>
        </p:nvPicPr>
        <p:blipFill>
          <a:blip r:embed="rId2"/>
          <a:stretch/>
        </p:blipFill>
        <p:spPr>
          <a:xfrm>
            <a:off x="0" y="1052640"/>
            <a:ext cx="4956120" cy="58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404\Desktop\ГРОТ ФОТО\GkwOzBRg96k.jpg"/>
          <p:cNvPicPr/>
          <p:nvPr/>
        </p:nvPicPr>
        <p:blipFill>
          <a:blip r:embed="rId3"/>
          <a:stretch/>
        </p:blipFill>
        <p:spPr>
          <a:xfrm>
            <a:off x="4956120" y="1052640"/>
            <a:ext cx="4187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тобы лучше узнать историю памятника и школы мы обратились в школь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404\Desktop\ГРОТ ФОТО\IMG_0800.JPG"/>
          <p:cNvPicPr/>
          <p:nvPr/>
        </p:nvPicPr>
        <p:blipFill>
          <a:blip r:embed="rId2"/>
          <a:stretch/>
        </p:blipFill>
        <p:spPr>
          <a:xfrm>
            <a:off x="324000" y="1255680"/>
            <a:ext cx="856764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404\Desktop\ГРОТ ФОТО\IMG_08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404\Desktop\ГРОТ ФОТО\IMG_07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14:48:51Z</dcterms:created>
  <dc:creator>404</dc:creator>
  <dc:description/>
  <dc:language>en-US</dc:language>
  <cp:lastModifiedBy>Acer</cp:lastModifiedBy>
  <dcterms:modified xsi:type="dcterms:W3CDTF">2017-05-20T11:20:53Z</dcterms:modified>
  <cp:revision>7</cp:revision>
  <dc:subject/>
  <dc:title>Памятник К.К.Гроту.</dc:title>
</cp:coreProperties>
</file>