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7ED-908E-47E2-8DB4-321EFD1F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F74-A012-4469-A2C5-9C5A6074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06A-5C0A-4020-A6A9-3D7C618F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085-9EBC-474F-84D1-D425247B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045-B8DF-4C2F-930A-2823387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700-1230-4B19-B396-F65C6A1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FE1-A54E-44FD-AA14-98AE083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B61-8979-4772-B4B5-210F3BAF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A2C-98B4-440D-9C62-2A6B0CCD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01A-4291-47FC-8DD7-57EF081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965-7758-464F-958E-A28CD90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F4F-71DF-4EB8-91F0-94E03B9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FDA-2606-4CF8-815A-BBE242848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мятник К.К.Гр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404\Desktop\ГРОТ ФОТО\2lu_a85ebDM.jpg"/>
          <p:cNvPicPr/>
          <p:nvPr/>
        </p:nvPicPr>
        <p:blipFill>
          <a:blip r:embed="rId1"/>
          <a:stretch/>
        </p:blipFill>
        <p:spPr>
          <a:xfrm>
            <a:off x="1908000" y="992160"/>
            <a:ext cx="52912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Антокольс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40-19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840360" cy="9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404\Desktop\ГРОТ ФОТО\Vj1OHtU3tSs.jpg"/>
          <p:cNvPicPr/>
          <p:nvPr/>
        </p:nvPicPr>
        <p:blipFill>
          <a:blip r:embed="rId1"/>
          <a:stretch/>
        </p:blipFill>
        <p:spPr>
          <a:xfrm>
            <a:off x="468360" y="0"/>
            <a:ext cx="8259840" cy="11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404\Desktop\ГРОТ ФОТО\IMG_0822.JPG"/>
          <p:cNvPicPr/>
          <p:nvPr/>
        </p:nvPicPr>
        <p:blipFill>
          <a:blip r:embed="rId1"/>
          <a:stretch/>
        </p:blipFill>
        <p:spPr>
          <a:xfrm>
            <a:off x="826920" y="0"/>
            <a:ext cx="7612200" cy="101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и по запросу школа грота спб"/>
          <p:cNvPicPr/>
          <p:nvPr/>
        </p:nvPicPr>
        <p:blipFill>
          <a:blip r:embed="rId1"/>
          <a:stretch/>
        </p:blipFill>
        <p:spPr>
          <a:xfrm>
            <a:off x="-252360" y="189000"/>
            <a:ext cx="95662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ы на прог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404\Desktop\ГРОТ ФОТО\IMG_0958.JPG"/>
          <p:cNvPicPr/>
          <p:nvPr/>
        </p:nvPicPr>
        <p:blipFill>
          <a:blip r:embed="rId1"/>
          <a:stretch/>
        </p:blipFill>
        <p:spPr>
          <a:xfrm>
            <a:off x="611280" y="568440"/>
            <a:ext cx="79563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404\Desktop\ГРОТ ФОТО\IMG_09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ик 3 «б» клас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а-интернат №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 К.К.Гр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наск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ис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фото автор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404\Desktop\ГРОТ ФОТО\dDhf2dW_0M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ажды на прогулке мы обнаружили на памятнике К.К.Грота  надпис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404\Desktop\ГРОТ ФОТО\Sws4IXllGj4.jpg"/>
          <p:cNvPicPr/>
          <p:nvPr/>
        </p:nvPicPr>
        <p:blipFill>
          <a:blip r:embed="rId2"/>
          <a:stretch/>
        </p:blipFill>
        <p:spPr>
          <a:xfrm>
            <a:off x="395280" y="1123920"/>
            <a:ext cx="8300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дпись на кни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404\Desktop\ГРОТ ФОТО\xWtJNZloRTk.jpg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дпись на спине бю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404\Desktop\ГРОТ ФОТО\eniLep-9Xf8.jpg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тали фотографировать все особенности памятника: надписи,трещины,памятник изну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404\Desktop\ГРОТ ФОТО\IMG_0402.JPG"/>
          <p:cNvPicPr/>
          <p:nvPr/>
        </p:nvPicPr>
        <p:blipFill>
          <a:blip r:embed="rId1"/>
          <a:stretch/>
        </p:blipFill>
        <p:spPr>
          <a:xfrm>
            <a:off x="4956120" y="371628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404\Desktop\ГРОТ ФОТО\L0ZADXNYtB4.jpg"/>
          <p:cNvPicPr/>
          <p:nvPr/>
        </p:nvPicPr>
        <p:blipFill>
          <a:blip r:embed="rId2"/>
          <a:stretch/>
        </p:blipFill>
        <p:spPr>
          <a:xfrm>
            <a:off x="0" y="1052640"/>
            <a:ext cx="4956120" cy="58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404\Desktop\ГРОТ ФОТО\GkwOzBRg96k.jpg"/>
          <p:cNvPicPr/>
          <p:nvPr/>
        </p:nvPicPr>
        <p:blipFill>
          <a:blip r:embed="rId3"/>
          <a:stretch/>
        </p:blipFill>
        <p:spPr>
          <a:xfrm>
            <a:off x="4956120" y="1052640"/>
            <a:ext cx="4187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тобы лучше узнать историю памятника и школы мы обратились в школь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404\Desktop\ГРОТ ФОТО\IMG_0800.JPG"/>
          <p:cNvPicPr/>
          <p:nvPr/>
        </p:nvPicPr>
        <p:blipFill>
          <a:blip r:embed="rId2"/>
          <a:stretch/>
        </p:blipFill>
        <p:spPr>
          <a:xfrm>
            <a:off x="324000" y="1255680"/>
            <a:ext cx="856764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404\Desktop\ГРОТ ФОТО\IMG_08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404\Desktop\ГРОТ ФОТО\IMG_07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14:48:51Z</dcterms:created>
  <dc:creator>404</dc:creator>
  <dc:description/>
  <dc:language>en-US</dc:language>
  <cp:lastModifiedBy>Acer</cp:lastModifiedBy>
  <dcterms:modified xsi:type="dcterms:W3CDTF">2017-05-20T11:20:53Z</dcterms:modified>
  <cp:revision>7</cp:revision>
  <dc:subject/>
  <dc:title>Памятник К.К.Гроту.</dc:title>
</cp:coreProperties>
</file>