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5B13-A4FC-4E1E-967B-AA7BC699A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649B-2FCF-4883-B813-66DA64D9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EC35-E348-493C-90CE-5AA1818E3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82A7-D8A6-4F68-9811-7AED09BAB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1E16-D631-4501-8EC5-FBC9949EB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4F8B-6592-4A7C-B2E1-C8A7B372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9318-2B08-4C98-971E-152676B3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9C93-34EC-446C-8A45-616BA731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CBD2-4A44-4ECD-BC5F-FF1CF580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2FF2-D18F-40A3-AD19-6F524BFB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C576B-2059-4BEB-9AF9-BD7DA339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5F89-0689-4E75-8D2A-B52FF5F2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BA65-4F45-4613-808C-82A837C3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01B98-7474-446D-8259-EBC253A6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29CB-43C1-4F14-A1C0-4F1E0BC7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B0E0-E308-4AE2-A715-1C72C49DB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47F6-89E8-436A-BE28-47337DFDF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E6AD-732F-4C8A-B2B9-C4BC924B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8D7F-87F1-4816-9703-A43D7592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85CF-6A4C-4749-BA1E-0A0E67B05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32A2-2424-4E66-8D31-A6B03B78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3698-7794-4C35-BD25-60A90CE8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E7C1-79FD-474A-A0C3-75ED1E47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2B05-61E9-4529-867C-018B452C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2ADC-C134-4393-835C-26EBB3D85B2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ED88-5D0C-4A9E-AE57-DBDAF9749E5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роблемно – диалогическое  обучение: понятие, технология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Хафизова С. М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иемы  создания  проблемной  ситу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дновременно  предъявить  противоречивые факты, теории, точки зрен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толкнуть  мнения  учеников  вопросом  или  практическим  задание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Дать  практическое  задание, не выполнимое  вообщ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Дать практическое  задание, не  сходное  с  предыдущи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Дать практическое  задание, сходное  с  предыдущим и  доказать, что  задание  учениками  не  выполнено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нажить  житейское  представление  учащихся  вопросом  или  практическим  заданием  «на  ошибку» и предъявить научный  факт сообщением, экспериментом, нагядностью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епроизносимые  согласные  в  корне слова  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Одновременно  предъявить  противоречивые факты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)</a:t>
            </a:r>
            <a:br>
              <a:rPr sz="32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838080" y="2286000"/>
          <a:ext cx="7693200" cy="4797360"/>
        </p:xfrm>
        <a:graphic>
          <a:graphicData uri="http://schemas.openxmlformats.org/drawingml/2006/table">
            <a:tbl>
              <a:tblPr/>
              <a:tblGrid>
                <a:gridCol w="2563920"/>
                <a:gridCol w="2565360"/>
                <a:gridCol w="2563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нализ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читель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ченик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едъявление  первого  факт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очитайте  эти  слова  орфографическ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естник, весть, известие, известный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едъявление  первого  факт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очитайте  эти  слова  орфоэпически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спытывают удивление, возникает проблемная ситуация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буждение  к  осознанию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Что вас удивило?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Что интересного заметили?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езде «т» пишется, но не  везде  произносится.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буждение  к  осознанию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акой же  у вас  возникает  вопрос?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чему в  некоторых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ловах «т» не произносится?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авила переноса (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Столкнуть  мнения  учеников  вопросом  или  практическим  заданием)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838080" y="2362320"/>
          <a:ext cx="7693200" cy="4541760"/>
        </p:xfrm>
        <a:graphic>
          <a:graphicData uri="http://schemas.openxmlformats.org/drawingml/2006/table">
            <a:tbl>
              <a:tblPr/>
              <a:tblGrid>
                <a:gridCol w="2563920"/>
                <a:gridCol w="2565360"/>
                <a:gridCol w="2563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нализ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читель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ченик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1602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актическое  задание на  новый  материал, проверка задания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еобходимо записать на  доске слово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ереза,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о  оно  не  помещается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адо  перенест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6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 что значит перенести?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дну часть  оставить на строке, а  другую перенести  на следующую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16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могите мне перенести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это слово  (работа в парах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ер – еза,бе – реза, бере-за, берез-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Задание было одно, а ответов  много. Почему Что мы не знаем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ак  переносят слова?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епроизносимые  согласные  в корне (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Дать практическое  задание, сходное  с  предыдущим и  доказать, что  задание  учениками  не  выполнено)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2362320"/>
          <a:ext cx="7693200" cy="5008320"/>
        </p:xfrm>
        <a:graphic>
          <a:graphicData uri="http://schemas.openxmlformats.org/drawingml/2006/table">
            <a:tbl>
              <a:tblPr/>
              <a:tblGrid>
                <a:gridCol w="2563920"/>
                <a:gridCol w="2565360"/>
                <a:gridCol w="2563920"/>
              </a:tblGrid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нализ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читель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ченик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4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становка  проблемы (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задание на ошибку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Запишите  слово «грустный»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озможный вариант «грусный»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едъявление научного  факта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оверим написание слова по словарю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грустный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буждение к осознанию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Запишу правильный вариант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грустный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41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буждение к  проблеме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ы сначала как написали?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 как надо ?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Что же это за звук, если он не произносится?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Без «т»,как слышали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3366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 «т»(осознание противоречия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 Непроизносимый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пряжение глаголов (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Дать  практическое  задание, не выполнимое  вообще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38080" y="2362320"/>
          <a:ext cx="7693200" cy="4209840"/>
        </p:xfrm>
        <a:graphic>
          <a:graphicData uri="http://schemas.openxmlformats.org/drawingml/2006/table">
            <a:tbl>
              <a:tblPr/>
              <a:tblGrid>
                <a:gridCol w="2590920"/>
                <a:gridCol w="2538360"/>
                <a:gridCol w="2563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нализ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читель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ченики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210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евыполнимое задание, побуждение к осознанию и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буждение к проблеме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Что такое  склонение?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зменение по падежам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6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акие части речи мы научились склонять?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мена существительные и прилагательные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16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пробуйте просклонять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глагол </a:t>
                      </a:r>
                      <a:r>
                        <a:rPr b="1" i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ыгать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лучилось?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спытывают затруднения, проблемная ситуация</a:t>
                      </a: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Нет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9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3366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 чем затруднение?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 Какой возникает вопрос?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Глаголы не склоняютс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Как изменяются глаголы?(учебная проблема как вопрос)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едложения с прямой речью перед словами автора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 ()</a:t>
            </a: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6666"/>
                </a:solidFill>
                <a:latin typeface="Arial"/>
              </a:rPr>
              <a:t>анализ                                 учитель                                               ученики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38080" y="2362320"/>
          <a:ext cx="7693200" cy="4029120"/>
        </p:xfrm>
        <a:graphic>
          <a:graphicData uri="http://schemas.openxmlformats.org/drawingml/2006/table">
            <a:tbl>
              <a:tblPr/>
              <a:tblGrid>
                <a:gridCol w="2563920"/>
                <a:gridCol w="2565360"/>
                <a:gridCol w="256392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становка проблемы(сходное задание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оставьте схему предложения «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аникулы закончились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»-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просил Олег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«П»- А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оказательство неверного выполнения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смотрите на мою схему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«П»- а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затруднение,возникновение проблемной  ситуации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буждение к осознанию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акое вам было дано задание?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оставить схему предложения с прямой речью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16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буждение к проблеме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Какое правило вы пытались применить?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3366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лучилось?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3366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акая же тема урока?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Знаки препинания  в предложении с прямой речью после слов автора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«Сокращенные» методы  постановки  проблемы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дводящий  к  теме  диало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общение темы с  мотивирующим  приемом (прием «яркое пятно»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дводящий к теме диалог.</a:t>
            </a:r>
            <a:br>
              <a:rPr sz="36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вторение написания заглавной буквы  и разделительного ь в словах.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838080" y="2362320"/>
          <a:ext cx="7693200" cy="4197240"/>
        </p:xfrm>
        <a:graphic>
          <a:graphicData uri="http://schemas.openxmlformats.org/drawingml/2006/table">
            <a:tbl>
              <a:tblPr/>
              <a:tblGrid>
                <a:gridCol w="2590920"/>
                <a:gridCol w="2538360"/>
                <a:gridCol w="2563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нализ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читель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ченик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218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дводящий к теме диалог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очитайте слова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Что они означают?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арья, Софья, Илья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7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Что вам надо помнить при написании имен?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ишем их с заглавной  буквы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41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Что общего есть в этих словах?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 В каких случаях пишется разделительный ь?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Разделительный ь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 В середине слова между согласной и гласной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 Какая же будет тема урока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вторения написания заглавной буквы в именах и разделительного ь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ообщение темы с  мотивирующим  приемом.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- Сегодня мы познакомимся с  падежом, про который Лежебокин, герой стихотворения Г.Граубина, сказал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Такой падеж как-----------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Я с детства не терплю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Давать, делиться чем-нибудь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 друзьями не люблю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то догадался, о каком падеже идет речь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-   Назовите тему нашего урок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обуждающий к гипотезам диалог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.(поиск решения проблемы)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буждение к выдвижению  гипотез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(какие есть гипотезы, предположения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инятие выдвигаемых учениками гипотез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(учителю на гипотезы  реагировать следует эмоционально  неокрашенно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буждение к проверке гипотез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(проверка гипотезы- устная, посредством рассуждения или практическая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инятие предлагаемых учениками проверо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облемное    учение -эт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учебно –познавательная  деятельность учащихся по  усвоению  знаний  и  способов  деятельности  путем  восприятия  объяснения  нового  знания учителем  в  условиях  проблемной  ситуации,  самостоятельного  анализа  этой проблемной  ситуации, формулировки  проблем и  их  решения посредством  выдвижения  предположений, гипотез, их  обоснования   и  доказательства, а также  путем проверки правильности их решения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епроизносимые согласные в корне слова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(продолжение урока; поиск решения проблемы)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38080" y="2362320"/>
          <a:ext cx="7693200" cy="4481280"/>
        </p:xfrm>
        <a:graphic>
          <a:graphicData uri="http://schemas.openxmlformats.org/drawingml/2006/table">
            <a:tbl>
              <a:tblPr/>
              <a:tblGrid>
                <a:gridCol w="2563920"/>
                <a:gridCol w="2565360"/>
                <a:gridCol w="256392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буждение к выдвижению гипотезы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пробуем ответить на этот вопрос. Посмотрите на наши слова. Какие  есть гипотезы?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«т» не произносится в словах с приставкой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7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буждение к проверке гипотезы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ы с этой гипотезой согласны?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лово </a:t>
                      </a:r>
                      <a:r>
                        <a:rPr b="1" i="1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звестие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тоже  с приставко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1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буждение к проверке гипотезы(подсказка к контраргументу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 Значит дело не в приставке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«т» не произносится в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илагательных (известный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6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буждение к проверке гипотезы (подсказка к решающей гипотезе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ы с этой гипотезой согласны ? Может посмотрим на существительные?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Значит не в частях речи дело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лово  </a:t>
                      </a:r>
                      <a:r>
                        <a:rPr b="1" i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естник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епроизносимые согласные в корне слова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(продолжение урока; поиск решения проблемы)    </a:t>
            </a:r>
            <a:r>
              <a:rPr b="0" i="1" lang="ru-RU" sz="2400" spc="-1" strike="noStrike">
                <a:solidFill>
                  <a:srgbClr val="006666"/>
                </a:solidFill>
                <a:latin typeface="Arial"/>
              </a:rPr>
              <a:t>продолжение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838080" y="2362320"/>
          <a:ext cx="7693200" cy="3882960"/>
        </p:xfrm>
        <a:graphic>
          <a:graphicData uri="http://schemas.openxmlformats.org/drawingml/2006/table">
            <a:tbl>
              <a:tblPr/>
              <a:tblGrid>
                <a:gridCol w="2563920"/>
                <a:gridCol w="2565360"/>
                <a:gridCol w="25639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буждение к проверке гипотезы (подсказка к плану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 где же стоит непроизносимый согласный «т»?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ежду  согласными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инятие предлагаемой проверки учениками (план проверки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Как нам проверить эту  гипотезу?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 Как можно поработать с этими словами?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ожно выписать слова в два столбика(где произносится и где не произносится) и подчеркнуть  буквы между которыми стоит «т»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744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3366"/>
                </a:solidFill>
                <a:latin typeface="Arial"/>
              </a:rPr>
              <a:t>Спасибо     за                   </a:t>
            </a:r>
            <a:endParaRPr b="0" lang="en-US" sz="8000" spc="-1" strike="noStrike">
              <a:solidFill>
                <a:srgbClr val="003366"/>
              </a:solidFill>
              <a:latin typeface="Arial"/>
            </a:endParaRPr>
          </a:p>
          <a:p>
            <a:pPr marL="4744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3366"/>
                </a:solidFill>
                <a:latin typeface="Arial"/>
              </a:rPr>
              <a:t>внимание!</a:t>
            </a:r>
            <a:endParaRPr b="0" lang="en-US" sz="8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Типы  проблемных  ситуаций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роблемная  ситуация  возникает  при  условии, если  уч-ся не знают  способа решения поставленной задачи, не могут  ответить  на  проблемный вопрос, дать объяснение  новому факту, т.е. определяется  недостаточность  прежних знаний для  объяснения нового факт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роблемная  ситуация  возникает  при столкновении учащихся  с необходимостью  использовать  ранее  усвоенные  знания в  новых  практических  условиях, однако  очевиден факт недостаточности  этих  знаний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роблемная  ситуация  возникает в том  случае, если имеется  противоречие между  теоретически возможным путем решения задачи и практической  неосуществимостью избранного  способ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роблемная  ситуация возникает  тогда, когда имеется противоречие между практически достигнутым результатом выполнения учебного  задания и отсутствием у  учащихся знаний для  его  теоретического  обосновани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собенности  проблемного  обучения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пецифическая  интеллектуальная  деятельность  ученика по самостоятельному  усвоению  новых  понятий путем решения учебных задач. новое осознание теоретических основ педагогической науки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роблемное обучение- наиболее  эффективное  средство формирования мировоззрения (складываются черты  критического, творческого и диалектического  мышления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истематическое  применение учителем наиболее эффективного сочетания разнообразных  типов и  видов  самостоятельной  деятельности учащихс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ысокая  активность ученика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иды  проблемного  обуче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«научное»  творчество - теоретическое  исследование, т.е. поиск и открытие  нового  правил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«практическое» творчество- поиск практического решения, т.е. поиск  способа применения известного  знания в  новой  ситуации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«художественное»творчество -художественное отображение  действительности на  основе  творческого     воображе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облемно – диалогическое  обучени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становка  учебной  проблемы - это этап формулирования  темы  урока  или  вопроса  для  исследова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иск  решения учебной  проблемы – это этап формулирования  нового  зна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«Классические»     методы постановки     проблем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Учитель лично  заостряет противоречие  проблемной  ситуации и  сообщает  проблем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(учитель выдвигает  и проверяет  гипотезу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Ученик  сам  осознает  противоречие и  формулирует  проблему (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ученик выдвигает и проверяет гипотезу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Учитель  диалогом  побуждает  учеников  осознать  противоречие и сформулировать  проблему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(учитель диалогом побуждает учеников  выдвигать и проверять гипотезы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«Сокращенные» методы  постановки  проблем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дводящий  к  теме  диало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общение  темы с мотивирующим  приемом (прием «яркое  пятно»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910440" y="83412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буждающий от проблемной  ситуации  диалог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оздание  проблемной  ситуаци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буждение  к  осознанию противоречия  проблемной  ситуаци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буждение к  формулированию  учебной  проблем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инятие  ученических  формулировок  учебной  проблем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3T13:25:54Z</dcterms:created>
  <dc:creator>Я</dc:creator>
  <dc:description/>
  <dc:language>en-US</dc:language>
  <cp:lastModifiedBy>Я</cp:lastModifiedBy>
  <dcterms:modified xsi:type="dcterms:W3CDTF">2017-05-20T13:08:59Z</dcterms:modified>
  <cp:revision>5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