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CEE-BC7A-436D-807E-AD7B1230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5EE-A042-4034-9101-6886C0F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F5E-05F3-4084-B7DD-8C9B4FE4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7DD-6737-452C-B0EB-1D601B92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7F80-2567-4DE8-82B6-783659FE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729C-F102-42AE-B567-934EFEF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409-F468-4965-8C8D-F3B6583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85E8-D066-497C-B2E2-EE66712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7DF9-6F95-4488-A08B-B0E76ED6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C46-1658-4E6D-A99F-621A627C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747-F64A-4DB1-A2D1-FB54989F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321-085D-4E04-B5E9-E50CBFC6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B497-8E5F-4B23-A6C8-09DF7A0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988-4C38-436A-A81F-3C07B4D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FA3-BCB6-4B80-92D5-E06253CD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658-8BD8-4390-A856-7C1A8FE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17F8-0AE5-4899-96DB-85D2E89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1B5-11FB-402A-8BB6-6E8AB3B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CE2-F5C8-4981-B749-BF31C00C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171-7D84-4E5A-91F7-14E9ADE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9AC-8158-41C8-AF4F-CBE9AEA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982-62E4-4C1B-A9B7-1D0F5BC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72F-BF8E-4530-9D91-B2B6575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2DF-1836-4BEF-8EC2-95780E6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BB8-C2E0-4815-ACE0-9B7E551EB62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B47-0975-46EA-96C3-32BE8A83523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облемно – диалогическое  обучение: понятие, техно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Хафизова С. М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емы  создания  проблемной  ситу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овременно  предъявить  противоречивые факты, теории, точки зр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олкнуть  мнения  учеников  вопросом  или  практическим  задание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 практическое  задание, не выполнимое  вообщ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практическое  задание, не  сходное  с  предыдущ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практическое  задание, сходное  с  предыдущим и  доказать, что  задание  учениками  не  выполнен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нажить  житейское  представление  учащихся  вопросом  или  практическим  заданием  «на  ошибку» и предъявить научный  факт сообщением, экспериментом, нагяднос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 согласные  в  корне слова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дновременно  предъявить  противоречивые факты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286000"/>
          <a:ext cx="7693200" cy="47973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 первого  фак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 эти  слова  орфографическ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тник, весть, известие, известный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 первого  фак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 эти  слова  орфоэпическ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ытывают удивление, возникает проблемная ситуац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 к  осознани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вас удивило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интересного заметили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зде «т» пишется, но не  везде  произносится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 к  осознани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ой же  у вас  возникает  вопрос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чему в  некоторых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ах «т» не произносится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а переноса 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толкнуть  мнения  учеников  вопросом  или  практическим  заданием)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362320"/>
          <a:ext cx="7693200" cy="45417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0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актическое  задание на  новый  материал, проверка задания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записать на  доске слово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реза,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  оно  не  помещаетс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до  перене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что значит перенести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дну часть  оставить на строке, а  другую перенести  на следующу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могите мне перене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о слово  (работа в парах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р – еза,бе – реза, бере-за, берез-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было одно, а ответов  много. Почему Что мы не знае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  переносят слова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 согласные  в корне 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ать практическое  задание, сходное  с  предыдущим и  доказать, что  задание  учениками  не  выполнено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500832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 проблемы (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на ошибку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ишите  слово «грустны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зможный вариант «грусны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научного  факт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верим написание слова по словар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устны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осознани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ишу правильный вариан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устны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 проблем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начала как написали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как надо 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же это за звук, если он не произносится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Без «т»,как слышал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 «т»(осознание противоречия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Непроизносимы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ряжение глаголов (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ать  практическое  задание, не выполнимое  вообще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4209840"/>
        </p:xfrm>
        <a:graphic>
          <a:graphicData uri="http://schemas.openxmlformats.org/drawingml/2006/table">
            <a:tbl>
              <a:tblPr/>
              <a:tblGrid>
                <a:gridCol w="2590920"/>
                <a:gridCol w="2538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1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выполнимое задание, побуждение к осознанию 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блем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такое  склоне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менение по падежа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ие части речи мы научились склонят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мена существительные и прилагательны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пробуйте просклоня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гол </a:t>
                      </a: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ыгать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училось?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ытывают затруднения, проблемная ситуация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Не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чем затрудне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ой возникает вопрос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голы не склоняют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 изменяются глаголы?(учебная проблема как вопрос)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едложения с прямой речью перед словами автор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()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анализ                                 учитель                                               ученики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362320"/>
          <a:ext cx="7693200" cy="402912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проблемы(сходное задание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ьте схему предложения «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никулы закончились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-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росил Олег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П»- 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казательство неверного выполн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мотрите на мою схем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П»- 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труднение,возникновение проблемной  ситуации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осознани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ое вам было дано зада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ить схему предложения с прямой речь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блем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ое правило вы пытались применит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училос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ая же тема урока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ки препинания  в предложении с прямой речью после слов автор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Сокращенные» методы  постановки  пробле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одящий  к  теме  диало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общение темы с  мотивирующим  приемом (прием «яркое пятно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ящий к теме диалог.</a:t>
            </a:r>
            <a:br>
              <a:rPr sz="36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вторение написания заглавной буквы  и разделительного ь в словах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2362320"/>
          <a:ext cx="7693200" cy="4197240"/>
        </p:xfrm>
        <a:graphic>
          <a:graphicData uri="http://schemas.openxmlformats.org/drawingml/2006/table">
            <a:tbl>
              <a:tblPr/>
              <a:tblGrid>
                <a:gridCol w="2590920"/>
                <a:gridCol w="2538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1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дводящий к теме диало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сло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они означают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рья, Софья, Иль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вам надо помнить при написании имен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ишем их с заглавной  букв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Что общего есть в этих словах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 каких случаях пишется разделительный 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зделительный 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 середине слова между согласной и гласно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ая же будет тема уро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вторения написания заглавной буквы в именах и разделительного ь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общение темы с  мотивирующим  приемом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Сегодня мы познакомимся с  падежом, про который Лежебокин, герой стихотворения Г.Граубина, сказал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ой падеж как-----------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 с детства не терплю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вать, делиться чем-нибуд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друзьями не любл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то догадался, о каком падеже идет реч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  Назовите тему нашего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буждающий к гипотезам диалог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(поиск решения проблем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выдвижению 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какие есть гипотезы, предполо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выдвигаемых учениками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учителю на гипотезы  реагировать следует эмоционально  неокрашенно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проверке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оверка гипотезы- устная, посредством рассуждения или практическа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предлагаемых учениками провер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блемное    учение -э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бно –познавательная  деятельность учащихся по  усвоению  знаний  и  способов  деятельности  путем  восприятия  объяснения  нового  знания учителем  в  условиях  проблемной  ситуации,  самостоятельного  анализа  этой проблемной  ситуации, формулировки  проблем и  их  решения посредством  выдвижения  предположений, гипотез, их  обоснования   и  доказательства, а также  путем проверки правильности их решения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согласные в корне слов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родолжение урока; поиск решения проблем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2362320"/>
          <a:ext cx="7693200" cy="44812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выдвижению гипотез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пробуем ответить на этот вопрос. Посмотрите на наши слова. Какие  есть гипотезы?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т» не произносится в словах с приставко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 этой гипотезой согласн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о </a:t>
                      </a:r>
                      <a:r>
                        <a:rPr b="1" i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вестие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оже  с приставко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(подсказка к контраргументу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Значит дело не в приставк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т» не произносится 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лагательных (известный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 (подсказка к решающей гипотезе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 этой гипотезой согласны ? Может посмотрим на существительны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чит не в частях речи дело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о  </a:t>
                      </a: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тни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согласные в корне слов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родолжение урока; поиск решения проблемы)    </a:t>
            </a: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2362320"/>
          <a:ext cx="7693200" cy="38829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 (подсказка к плану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где же стоит непроизносимый согласный «т»?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жду  согласны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нятие предлагаемой проверки учениками (план проверк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 нам проверить эту  гипотезу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 можно поработать с этими словами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жно выписать слова в два столбика(где произносится и где не произносится) и подчеркнуть  буквы между которыми стоит «т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Arial"/>
              </a:rPr>
              <a:t>Спасибо     за                  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474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3366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ипы  проблемных  ситуаци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 при  условии, если  уч-ся не знают  способа решения поставленной задачи, не могут  ответить  на  проблемный вопрос, дать объяснение  новому факту, т.е. определяется  недостаточность  прежних знаний для  объяснения нового фа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 при столкновении учащихся  с необходимостью  использовать  ранее  усвоенные  знания в  новых  практических  условиях, однако  очевиден факт недостаточности  этих  зна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в том  случае, если имеется  противоречие между  теоретически возможным путем решения задачи и практической  неосуществимостью избранного  способ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возникает  тогда, когда имеется противоречие между практически достигнутым результатом выполнения учебного  задания и отсутствием у  учащихся знаний для  его  теоретического  обоснов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 проблемного  обуче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ецифическая  интеллектуальная  деятельность  ученика по самостоятельному  усвоению  новых  понятий путем решения учебных задач. новое осознание теоретических основ педагогической нау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ое обучение- наиболее  эффективное  средство формирования мировоззрения (складываются черты  критического, творческого и диалектического  мышл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истематическое  применение учителем наиболее эффективного сочетания разнообразных  типов и  видов  самостоятельной  деятельности учащих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сокая  активность ученик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 проблемного  обуч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научное»  творчество - теоретическое  исследование, т.е. поиск и открытие  нового  прави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практическое» творчество- поиск практического решения, т.е. поиск  способа применения известного  знания в  новой  ситу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художественное»творчество -художественное отображение  действительности на  основе  творческого     воображ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блемно – диалогическое  обуч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новка  учебной  проблемы - это этап формулирования  темы  урока  или  вопроса  для  иссл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иск  решения учебной  проблемы – это этап формулирования  нового 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Классические»     методы постановки     пробл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итель лично  заостряет противоречие  проблемной  ситуации и  сообщает  пробле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учитель выдвигает  и проверяет  гипотезу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ник  сам  осознает  противоречие и  формулирует  проблему (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ник выдвигает и проверяет гипотезу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итель  диалогом  побуждает  учеников  осознать  противоречие и сформулировать  проблем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учитель диалогом побуждает учеников  выдвигать и проверять гипотез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Сокращенные» методы  постановки  пробл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одящий  к  теме  диало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общение  темы с мотивирующим  приемом (прием «яркое  пятно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буждающий от проблемной  ситуации  диа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 проблемной  ситу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 к  осознанию противоречия  проблемной  ситу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 формулированию  учебной  пробл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 ученических  формулировок  учебной  пробл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3:25:54Z</dcterms:created>
  <dc:creator>Я</dc:creator>
  <dc:description/>
  <dc:language>en-US</dc:language>
  <cp:lastModifiedBy>Я</cp:lastModifiedBy>
  <dcterms:modified xsi:type="dcterms:W3CDTF">2017-05-20T13:08:5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