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4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23.png" ContentType="image/png"/>
  <Override PartName="/ppt/media/image13.jpeg" ContentType="image/jpeg"/>
  <Override PartName="/ppt/media/image24.png" ContentType="image/png"/>
  <Override PartName="/ppt/media/image1.png" ContentType="image/pn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F8BD-5BAD-4EF5-9A0A-02150E2954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1B9F-A7B1-45B1-959D-B22FA4E52D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0DC6-2075-42EC-8A2C-975676FE17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89C2-FA4C-4EC4-BF80-D932AFF670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DE27-7825-4A0B-BC5A-B7E03A319F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DA93-8D02-4958-92F0-71374196D0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32A6-AFCD-4F84-98D2-AB59634D94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354B-B332-486B-B77E-0E9D6F0265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AB92-EF8D-43FA-AD52-CEB20E5F8A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17F4-AFB6-44EB-863F-C5BBBB7F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987-7AC5-4C2C-A2DE-AF37B986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5D3B-2624-4B0B-9E0F-83DF349E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A198-01BF-4655-915F-8C67D65A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19F7-9CDA-4460-B0C1-21C7392F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88AE-5A00-489F-BAD8-654C0264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3190-17D2-4742-8B00-7C59F410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A0F1-EE22-40A7-8110-EE9B29CE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E429-7044-4553-A131-12730663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1E69-7B01-4120-8BD0-1D258C49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0D52-E281-4FDA-9F13-A3C1D862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9CDB-D204-4D48-A6E4-D240E239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4E3F-4FCC-4290-BD17-76B17CBB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E370-E65F-46DF-8DB4-829282B4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01B4-4132-46BC-99A4-30C0A1C4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E9FF-1C62-4EE4-8252-E8A3B116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75DC-DC27-4223-930C-9E87CDDF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3FB13-A0A0-49CA-88A4-985B7D1A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43D87-47CC-4720-B644-A0EE520C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B8697-3941-4F09-8CFF-B1316834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8CED6-E369-4620-889E-E44124D3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C3F82-AFA0-4DBE-B39A-E36529EB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EC3-E951-49C6-A7CE-6B06F463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5DF14-402E-4C6E-A056-DF919FA5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BA89E-7D40-46BD-86C0-1114B124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23BB0-76EF-4EAB-95BC-21CFF661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BB0A7-B8DA-4CDF-9EBA-0D5ED8C1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FE421-8DD5-43FE-884B-8E38A66D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1FAE4-EFD4-48BA-9438-E441ABC9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A7C17-7956-4063-AE6F-8F45648F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49CEE-4B67-488E-9645-BC53970A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9245E-B66C-43C7-9F22-6F10270B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11DE4-8DFF-4F8A-89E0-B75766D8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138F-D76B-40D8-BE4F-FAE18545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43A4C-AD61-42C3-8D6A-E87072D5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4B282-34CE-448D-ADBE-D2A21546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3B9B0-BB95-4318-A27A-3B4DBEC9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8FF37-39EB-44A3-A4B3-0D7ACC62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83934-7C09-4690-B1DD-59F52AD4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AE7AE-E9D3-4283-A6A7-70B33F32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E1E33-48C3-4AF2-81A7-4B39B5D4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38FA0-02F2-4EC8-AD6E-CCFDBF01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1DD0F-BAA5-46EC-89E5-C52EA1D7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FFF66-2D80-48C0-BC34-F8FF4EBD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D1CA-038B-4FDB-9A88-73EF7E32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A4BE9-09D6-4215-893B-1F7B1159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FA675-6869-469A-8808-12422FCC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53468-56AF-4911-BD24-60016A10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47E91-7788-4076-9601-F2614A3A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33292-A309-4D53-9583-CDF0B5B3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1436E-6B8B-4415-9884-B0B3B04F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6AD24-E35C-458E-8ED8-611EBB67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C0937-81F3-4FC6-B704-6E333388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68905-FF41-4AA5-B955-0AF29318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80006-E18A-49F3-8512-FBCD8A2D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E19C-5D45-4155-97DA-830CCD10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505A4-C0CF-4A79-9E07-10557544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385-CA8A-404B-B22D-65534B4B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9E6-197A-443B-9CAC-39141B38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C955-9D22-42E0-8038-400D947C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E3AB-29AD-4B36-9432-E20BB9F2521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A661-398E-4206-B457-BB5880988C3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DDCC-6C27-4232-AF3D-218B17D9079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7696-5402-43BD-A419-4D4AB3AA60E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FB71-4D5F-4D66-9B60-316B98BD6C9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slide" Target="slide4.xml"/><Relationship Id="rId6" Type="http://schemas.openxmlformats.org/officeDocument/2006/relationships/image" Target="../media/image7.jpeg"/><Relationship Id="rId7" Type="http://schemas.openxmlformats.org/officeDocument/2006/relationships/slide" Target="slide3.xml"/><Relationship Id="rId8" Type="http://schemas.openxmlformats.org/officeDocument/2006/relationships/image" Target="../media/image8.jpeg"/><Relationship Id="rId9" Type="http://schemas.openxmlformats.org/officeDocument/2006/relationships/slide" Target="slide3.xml"/><Relationship Id="rId10" Type="http://schemas.openxmlformats.org/officeDocument/2006/relationships/image" Target="../media/image9.jpe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jpeg"/><Relationship Id="rId3" Type="http://schemas.openxmlformats.org/officeDocument/2006/relationships/slide" Target="slide4.xm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extBox 3" descr=""/>
          <p:cNvPicPr/>
          <p:nvPr/>
        </p:nvPicPr>
        <p:blipFill>
          <a:blip r:embed="rId1"/>
          <a:stretch/>
        </p:blipFill>
        <p:spPr>
          <a:xfrm>
            <a:off x="841320" y="1152360"/>
            <a:ext cx="7596360" cy="1919520"/>
          </a:xfrm>
          <a:prstGeom prst="rect">
            <a:avLst/>
          </a:prstGeom>
          <a:ln w="0">
            <a:noFill/>
          </a:ln>
        </p:spPr>
      </p:pic>
      <p:pic>
        <p:nvPicPr>
          <p:cNvPr id="228" name="TextBox 4" descr=""/>
          <p:cNvPicPr/>
          <p:nvPr/>
        </p:nvPicPr>
        <p:blipFill>
          <a:blip r:embed="rId2"/>
          <a:stretch/>
        </p:blipFill>
        <p:spPr>
          <a:xfrm>
            <a:off x="1944720" y="3395520"/>
            <a:ext cx="5572080" cy="408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072200" y="4572000"/>
            <a:ext cx="1022400" cy="1409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214280" y="4143240"/>
            <a:ext cx="1001880" cy="1414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286080" y="4714920"/>
            <a:ext cx="965160" cy="1332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16480" y="4143240"/>
            <a:ext cx="995400" cy="14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857160" y="1071720"/>
            <a:ext cx="76438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д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д тобой четыре перепутанных  картин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вязанных  одним сюже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ебе необходимо разложить картиночки по порядк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что за чем ид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жми на нужную картинку левой кнопкой мы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29120" y="928800"/>
            <a:ext cx="1844640" cy="2546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857680" y="928800"/>
            <a:ext cx="1812600" cy="2557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5"/>
          <a:stretch/>
        </p:blipFill>
        <p:spPr>
          <a:xfrm>
            <a:off x="611280" y="928800"/>
            <a:ext cx="1922400" cy="2652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6"/>
          <a:stretch/>
        </p:blipFill>
        <p:spPr>
          <a:xfrm>
            <a:off x="6858000" y="928800"/>
            <a:ext cx="1857240" cy="26175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6"/>
          <p:cNvSpPr/>
          <p:nvPr/>
        </p:nvSpPr>
        <p:spPr>
          <a:xfrm>
            <a:off x="1098000" y="41432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7527240" y="407196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5455800" y="41432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3384000" y="41432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0"/>
          <p:cNvSpPr/>
          <p:nvPr/>
        </p:nvSpPr>
        <p:spPr>
          <a:xfrm>
            <a:off x="118944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340416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554724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3"/>
          <p:cNvSpPr/>
          <p:nvPr/>
        </p:nvSpPr>
        <p:spPr>
          <a:xfrm>
            <a:off x="761868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929120" y="928800"/>
            <a:ext cx="1844640" cy="2546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611280" y="928800"/>
            <a:ext cx="1922400" cy="2652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3"/>
          <a:stretch/>
        </p:blipFill>
        <p:spPr>
          <a:xfrm>
            <a:off x="6858000" y="928800"/>
            <a:ext cx="1857240" cy="2617560"/>
          </a:xfrm>
          <a:prstGeom prst="rect">
            <a:avLst/>
          </a:prstGeom>
          <a:ln w="0">
            <a:noFill/>
          </a:ln>
        </p:spPr>
      </p:pic>
      <p:sp>
        <p:nvSpPr>
          <p:cNvPr id="249" name="TextBox 6"/>
          <p:cNvSpPr/>
          <p:nvPr/>
        </p:nvSpPr>
        <p:spPr>
          <a:xfrm>
            <a:off x="1098000" y="41432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7527240" y="407196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5455800" y="41432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9"/>
          <p:cNvSpPr/>
          <p:nvPr/>
        </p:nvSpPr>
        <p:spPr>
          <a:xfrm>
            <a:off x="3384000" y="41432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0"/>
          <p:cNvSpPr/>
          <p:nvPr/>
        </p:nvSpPr>
        <p:spPr>
          <a:xfrm>
            <a:off x="118944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1"/>
          <p:cNvSpPr/>
          <p:nvPr/>
        </p:nvSpPr>
        <p:spPr>
          <a:xfrm>
            <a:off x="340416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2"/>
          <p:cNvSpPr/>
          <p:nvPr/>
        </p:nvSpPr>
        <p:spPr>
          <a:xfrm>
            <a:off x="554724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761868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4"/>
          <a:stretch/>
        </p:blipFill>
        <p:spPr>
          <a:xfrm>
            <a:off x="785880" y="4929120"/>
            <a:ext cx="1170000" cy="16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611280" y="928800"/>
            <a:ext cx="1922400" cy="2652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"/>
          <p:cNvPicPr/>
          <p:nvPr/>
        </p:nvPicPr>
        <p:blipFill>
          <a:blip r:embed="rId2"/>
          <a:stretch/>
        </p:blipFill>
        <p:spPr>
          <a:xfrm>
            <a:off x="6858000" y="928800"/>
            <a:ext cx="1857240" cy="26175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6"/>
          <p:cNvSpPr/>
          <p:nvPr/>
        </p:nvSpPr>
        <p:spPr>
          <a:xfrm>
            <a:off x="1098000" y="41432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7527240" y="407196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8"/>
          <p:cNvSpPr/>
          <p:nvPr/>
        </p:nvSpPr>
        <p:spPr>
          <a:xfrm>
            <a:off x="5455800" y="41432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3384000" y="41432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118944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2"/>
          <p:cNvSpPr/>
          <p:nvPr/>
        </p:nvSpPr>
        <p:spPr>
          <a:xfrm>
            <a:off x="554724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3"/>
          <p:cNvSpPr/>
          <p:nvPr/>
        </p:nvSpPr>
        <p:spPr>
          <a:xfrm>
            <a:off x="761868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3"/>
          <a:stretch/>
        </p:blipFill>
        <p:spPr>
          <a:xfrm>
            <a:off x="735120" y="4857840"/>
            <a:ext cx="1220760" cy="172080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1"/>
          <p:cNvSpPr/>
          <p:nvPr/>
        </p:nvSpPr>
        <p:spPr>
          <a:xfrm>
            <a:off x="3261240" y="521496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4"/>
          <a:stretch/>
        </p:blipFill>
        <p:spPr>
          <a:xfrm>
            <a:off x="3032280" y="4857840"/>
            <a:ext cx="1241280" cy="17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611280" y="928800"/>
            <a:ext cx="1922400" cy="26524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6"/>
          <p:cNvSpPr/>
          <p:nvPr/>
        </p:nvSpPr>
        <p:spPr>
          <a:xfrm>
            <a:off x="1098000" y="41432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7527240" y="407196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8"/>
          <p:cNvSpPr/>
          <p:nvPr/>
        </p:nvSpPr>
        <p:spPr>
          <a:xfrm>
            <a:off x="5455800" y="41432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3384000" y="41432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0"/>
          <p:cNvSpPr/>
          <p:nvPr/>
        </p:nvSpPr>
        <p:spPr>
          <a:xfrm>
            <a:off x="118944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2"/>
          <p:cNvSpPr/>
          <p:nvPr/>
        </p:nvSpPr>
        <p:spPr>
          <a:xfrm>
            <a:off x="554724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3"/>
          <p:cNvSpPr/>
          <p:nvPr/>
        </p:nvSpPr>
        <p:spPr>
          <a:xfrm>
            <a:off x="761868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2"/>
          <a:stretch/>
        </p:blipFill>
        <p:spPr>
          <a:xfrm>
            <a:off x="735120" y="4857840"/>
            <a:ext cx="1220760" cy="17208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1"/>
          <p:cNvSpPr/>
          <p:nvPr/>
        </p:nvSpPr>
        <p:spPr>
          <a:xfrm>
            <a:off x="3261240" y="521496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3"/>
          <a:stretch/>
        </p:blipFill>
        <p:spPr>
          <a:xfrm>
            <a:off x="3032280" y="4857840"/>
            <a:ext cx="1241280" cy="1712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"/>
          <p:cNvPicPr/>
          <p:nvPr/>
        </p:nvPicPr>
        <p:blipFill>
          <a:blip r:embed="rId4"/>
          <a:stretch/>
        </p:blipFill>
        <p:spPr>
          <a:xfrm>
            <a:off x="5194440" y="4857840"/>
            <a:ext cx="1163520" cy="164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6"/>
          <p:cNvSpPr/>
          <p:nvPr/>
        </p:nvSpPr>
        <p:spPr>
          <a:xfrm>
            <a:off x="1098000" y="271476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7455960" y="26431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8"/>
          <p:cNvSpPr/>
          <p:nvPr/>
        </p:nvSpPr>
        <p:spPr>
          <a:xfrm>
            <a:off x="5384160" y="271476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9"/>
          <p:cNvSpPr/>
          <p:nvPr/>
        </p:nvSpPr>
        <p:spPr>
          <a:xfrm>
            <a:off x="3312720" y="271476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0"/>
          <p:cNvSpPr/>
          <p:nvPr/>
        </p:nvSpPr>
        <p:spPr>
          <a:xfrm>
            <a:off x="118944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2"/>
          <p:cNvSpPr/>
          <p:nvPr/>
        </p:nvSpPr>
        <p:spPr>
          <a:xfrm>
            <a:off x="554724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3"/>
          <p:cNvSpPr/>
          <p:nvPr/>
        </p:nvSpPr>
        <p:spPr>
          <a:xfrm>
            <a:off x="761868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357120" y="3571920"/>
            <a:ext cx="1974960" cy="2786040"/>
          </a:xfrm>
          <a:prstGeom prst="rect">
            <a:avLst/>
          </a:prstGeom>
          <a:ln w="0">
            <a:noFill/>
          </a:ln>
        </p:spPr>
      </p:pic>
      <p:sp>
        <p:nvSpPr>
          <p:cNvPr id="290" name="TextBox 11"/>
          <p:cNvSpPr/>
          <p:nvPr/>
        </p:nvSpPr>
        <p:spPr>
          <a:xfrm>
            <a:off x="3261240" y="521496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2"/>
          <a:stretch/>
        </p:blipFill>
        <p:spPr>
          <a:xfrm>
            <a:off x="2428920" y="3500280"/>
            <a:ext cx="2070000" cy="28562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"/>
          <p:cNvPicPr/>
          <p:nvPr/>
        </p:nvPicPr>
        <p:blipFill>
          <a:blip r:embed="rId3"/>
          <a:stretch/>
        </p:blipFill>
        <p:spPr>
          <a:xfrm>
            <a:off x="4429080" y="3500280"/>
            <a:ext cx="2127240" cy="29988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"/>
          <p:cNvPicPr/>
          <p:nvPr/>
        </p:nvPicPr>
        <p:blipFill>
          <a:blip r:embed="rId4"/>
          <a:stretch/>
        </p:blipFill>
        <p:spPr>
          <a:xfrm>
            <a:off x="6572160" y="3571920"/>
            <a:ext cx="2141640" cy="2954160"/>
          </a:xfrm>
          <a:prstGeom prst="rect">
            <a:avLst/>
          </a:prstGeom>
          <a:ln w="0">
            <a:noFill/>
          </a:ln>
        </p:spPr>
      </p:pic>
      <p:pic>
        <p:nvPicPr>
          <p:cNvPr id="294" name="TextBox 14" descr=""/>
          <p:cNvPicPr/>
          <p:nvPr/>
        </p:nvPicPr>
        <p:blipFill>
          <a:blip r:embed="rId5"/>
          <a:stretch/>
        </p:blipFill>
        <p:spPr>
          <a:xfrm>
            <a:off x="1249200" y="646200"/>
            <a:ext cx="6864480" cy="1609560"/>
          </a:xfrm>
          <a:prstGeom prst="rect">
            <a:avLst/>
          </a:prstGeom>
          <a:ln w="0">
            <a:noFill/>
          </a:ln>
        </p:spPr>
      </p:pic>
      <p:pic>
        <p:nvPicPr>
          <p:cNvPr id="295" name="j0214098.wav" descr=""/>
          <p:cNvPicPr/>
          <p:nvPr/>
        </p:nvPicPr>
        <p:blipFill>
          <a:blip r:embed="rId6"/>
          <a:stretch/>
        </p:blipFill>
        <p:spPr>
          <a:xfrm>
            <a:off x="4714920" y="2071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4745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TextBox 1" descr=""/>
          <p:cNvPicPr/>
          <p:nvPr/>
        </p:nvPicPr>
        <p:blipFill>
          <a:blip r:embed="rId1"/>
          <a:stretch/>
        </p:blipFill>
        <p:spPr>
          <a:xfrm>
            <a:off x="1901880" y="944640"/>
            <a:ext cx="5280120" cy="159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3:48:03Z</dcterms:created>
  <dc:creator>ОЕМ</dc:creator>
  <dc:description/>
  <dc:language>en-US</dc:language>
  <cp:lastModifiedBy>Admin</cp:lastModifiedBy>
  <dcterms:modified xsi:type="dcterms:W3CDTF">2014-09-21T14:31:35Z</dcterms:modified>
  <cp:revision>6</cp:revision>
  <dc:subject/>
  <dc:title>Слайд 1</dc:title>
</cp:coreProperties>
</file>