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4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70D4-ED47-471D-A972-99CDD588C9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A9A7-B94A-4CE2-91C6-AB7AFA2BA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16C9-33E9-4AFA-9892-D566533D7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EF8F-4AE6-48B3-8998-A806F71F9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79E6-2C45-477A-A8FB-AD9F15124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9BA6-F405-4A6B-8750-1114AF52F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8918-E431-4C39-A9FE-426EFB05B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7D4C-D78E-4B76-85A3-F30D39F0AF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B048-297A-4257-B964-003D10F76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E39-95EB-48BD-A80C-F8FBC138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4CE-4C7E-4BB4-900A-AA125698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211-257C-4E8B-B6D1-572CF8B9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087-1F84-4F74-AD07-A890EA66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733B-6E9A-4B24-B23E-62DAF523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BF73-CCA3-48F5-A064-6A8968A6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3322-FD76-479F-8EE6-A18E58D9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1C3A-12E1-454A-A134-1E320F7B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0AFB-1519-4AAD-9A16-6C8B6EE1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CA95-E502-4E38-A7F3-263CFA46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8B75-689A-4A44-B03D-FBD471AF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D62-CE70-4891-B2D3-7A51BA1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DC55-90E1-43B7-9574-C7536B61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B69F-CA5F-44F7-8C2E-E9F1DEAD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2F19-84B2-4B6F-96A6-BC5AAA04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90C5-C1FE-433D-8351-CDCCC78F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E35D-14AF-4565-A30E-C0BE95DB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87BF-854A-4C28-BC66-C59C91CC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4509-865E-4792-A269-B8AB678C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A05F-6823-447E-965E-2CA98AB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341A-4E66-4FB2-8886-43053FA3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E24F-8EEE-44A9-ACAD-CBDF368F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ABC-C973-4C4F-8238-0A77B22E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0E15-3733-47E4-9369-8153D2FE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628F-3307-49B8-BB55-5F7DD6BC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E9D34-1AC4-4307-BFEA-5751D5E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6FF2-5078-44E5-99DD-9F72A89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7FD3-6445-4A42-BEAE-02FFCB4C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5B85-3C70-4FD9-92AB-8F0DD6C2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8F98-3FBB-4B1F-A475-BF495C4C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EB6C-EA9C-4289-A418-9C7E9FC3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052FA-5C35-499E-B6DB-4927465F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9E265-BC33-4243-B92C-9C12D788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E00-1A87-4272-8AB7-584F6DC8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1142-BB5B-4E16-81CB-7BCEAD8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64495-9E10-4AB8-85B0-55345A3A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FC6A0-2B2C-4A76-9653-325C8425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F1B80-676F-4FFD-B28E-0B23EF1B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3FAB9-1A86-4AF2-B70F-547CD6C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0B93-A12D-42FB-B152-7FA206CB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C4B5-504E-4FD0-9880-3CBFEFEA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2EA7-EE1D-4DE6-B709-56568C98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3BA3-DF9F-4515-A4D7-89FD7ACF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266A-B2FE-4C9A-A2EE-6D5979F8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A97-18C9-47C7-92EA-17C83FB1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2B4D4-2B12-4035-922E-8453B08F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9A9F-40BE-4A27-8A8D-BD3079E2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A8B02-3AF5-4BFE-9799-C98CD477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ECAE4-0375-4E8C-BB24-39335C9D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D0BE-F3AD-4BF2-97D9-825DA711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31C1B-EDFA-4E29-A17C-52FE05C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B4A59-52B0-49F9-A5B2-BB9EEF2D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A51FA-02AC-4A06-8A34-9EE5F1D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7BA5D-F18F-4AF3-89A6-6DB6D3CC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2944-87AD-466B-88AB-6CE687B6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D96-D62C-4908-A018-EE3503F6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3016-173A-49A7-A51F-8D422AB6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AED-75AF-4BB2-BC80-5BFCC29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FA9-10D1-4F54-935A-CD38B792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0DD-AC62-42A6-BDCB-6F60AF1F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5065-4D92-47E8-9576-C3BF6900842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233C-B483-41EA-9495-65A95CD4F0F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7942-D39A-43AA-BFC6-5DAAB858373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9156-CAB7-4D66-91AE-053E94D47C0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D435-2DC3-4084-B8FD-A8A97672909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" Target="slide4.xml"/><Relationship Id="rId6" Type="http://schemas.openxmlformats.org/officeDocument/2006/relationships/image" Target="../media/image7.jpeg"/><Relationship Id="rId7" Type="http://schemas.openxmlformats.org/officeDocument/2006/relationships/slide" Target="slide3.xml"/><Relationship Id="rId8" Type="http://schemas.openxmlformats.org/officeDocument/2006/relationships/image" Target="../media/image8.jpeg"/><Relationship Id="rId9" Type="http://schemas.openxmlformats.org/officeDocument/2006/relationships/slide" Target="slide3.xml"/><Relationship Id="rId10" Type="http://schemas.openxmlformats.org/officeDocument/2006/relationships/image" Target="../media/image9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jpeg"/><Relationship Id="rId3" Type="http://schemas.openxmlformats.org/officeDocument/2006/relationships/slide" Target="slide4.xm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extBox 3" descr=""/>
          <p:cNvPicPr/>
          <p:nvPr/>
        </p:nvPicPr>
        <p:blipFill>
          <a:blip r:embed="rId1"/>
          <a:stretch/>
        </p:blipFill>
        <p:spPr>
          <a:xfrm>
            <a:off x="841320" y="1152360"/>
            <a:ext cx="7596360" cy="191952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4" descr=""/>
          <p:cNvPicPr/>
          <p:nvPr/>
        </p:nvPicPr>
        <p:blipFill>
          <a:blip r:embed="rId2"/>
          <a:stretch/>
        </p:blipFill>
        <p:spPr>
          <a:xfrm>
            <a:off x="1944720" y="3395520"/>
            <a:ext cx="5572080" cy="408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72200" y="4572000"/>
            <a:ext cx="1022400" cy="14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214280" y="4143240"/>
            <a:ext cx="1001880" cy="1414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86080" y="4714920"/>
            <a:ext cx="965160" cy="133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16480" y="4143240"/>
            <a:ext cx="99540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857160" y="1071720"/>
            <a:ext cx="76438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д тобой четыре перепутанных  карти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вязанных  одним сюже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ебе необходимо разложить картиночки по порядк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что за чем ид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жми на нужную картинку левой кнопкой мы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29120" y="928800"/>
            <a:ext cx="1844640" cy="254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57680" y="928800"/>
            <a:ext cx="1812600" cy="2557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5"/>
          <a:stretch/>
        </p:blipFill>
        <p:spPr>
          <a:xfrm>
            <a:off x="611280" y="928800"/>
            <a:ext cx="1922400" cy="26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6"/>
          <a:stretch/>
        </p:blipFill>
        <p:spPr>
          <a:xfrm>
            <a:off x="6858000" y="928800"/>
            <a:ext cx="1857240" cy="2617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1098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7527240" y="407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54558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384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40416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1844640" cy="2546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611280" y="928800"/>
            <a:ext cx="1922400" cy="2652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6858000" y="928800"/>
            <a:ext cx="1857240" cy="26175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1098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7527240" y="407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54558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384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340416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4"/>
          <a:stretch/>
        </p:blipFill>
        <p:spPr>
          <a:xfrm>
            <a:off x="785880" y="4929120"/>
            <a:ext cx="1170000" cy="16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611280" y="928800"/>
            <a:ext cx="1922400" cy="2652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6858000" y="928800"/>
            <a:ext cx="1857240" cy="2617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1098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7527240" y="407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54558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3384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3"/>
          <a:stretch/>
        </p:blipFill>
        <p:spPr>
          <a:xfrm>
            <a:off x="735120" y="4857840"/>
            <a:ext cx="1220760" cy="17208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1"/>
          <p:cNvSpPr/>
          <p:nvPr/>
        </p:nvSpPr>
        <p:spPr>
          <a:xfrm>
            <a:off x="3261240" y="5214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4"/>
          <a:stretch/>
        </p:blipFill>
        <p:spPr>
          <a:xfrm>
            <a:off x="3032280" y="4857840"/>
            <a:ext cx="124128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611280" y="928800"/>
            <a:ext cx="1922400" cy="2652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098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7527240" y="407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54558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3384000" y="41432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735120" y="4857840"/>
            <a:ext cx="1220760" cy="17208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1"/>
          <p:cNvSpPr/>
          <p:nvPr/>
        </p:nvSpPr>
        <p:spPr>
          <a:xfrm>
            <a:off x="3261240" y="5214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3"/>
          <a:stretch/>
        </p:blipFill>
        <p:spPr>
          <a:xfrm>
            <a:off x="3032280" y="4857840"/>
            <a:ext cx="1241280" cy="1712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4"/>
          <a:stretch/>
        </p:blipFill>
        <p:spPr>
          <a:xfrm>
            <a:off x="5194440" y="4857840"/>
            <a:ext cx="1163520" cy="164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6"/>
          <p:cNvSpPr/>
          <p:nvPr/>
        </p:nvSpPr>
        <p:spPr>
          <a:xfrm>
            <a:off x="1098000" y="27147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7455960" y="26431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5384160" y="27147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3312720" y="27147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7f09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11894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554724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7618680" y="528624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57120" y="3571920"/>
            <a:ext cx="1974960" cy="27860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1"/>
          <p:cNvSpPr/>
          <p:nvPr/>
        </p:nvSpPr>
        <p:spPr>
          <a:xfrm>
            <a:off x="3261240" y="521496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2428920" y="3500280"/>
            <a:ext cx="2070000" cy="2856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3"/>
          <a:stretch/>
        </p:blipFill>
        <p:spPr>
          <a:xfrm>
            <a:off x="4429080" y="3500280"/>
            <a:ext cx="2127240" cy="2998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2141640" cy="295416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14" descr=""/>
          <p:cNvPicPr/>
          <p:nvPr/>
        </p:nvPicPr>
        <p:blipFill>
          <a:blip r:embed="rId5"/>
          <a:stretch/>
        </p:blipFill>
        <p:spPr>
          <a:xfrm>
            <a:off x="1249200" y="646200"/>
            <a:ext cx="6864480" cy="1609560"/>
          </a:xfrm>
          <a:prstGeom prst="rect">
            <a:avLst/>
          </a:prstGeom>
          <a:ln w="0">
            <a:noFill/>
          </a:ln>
        </p:spPr>
      </p:pic>
      <p:pic>
        <p:nvPicPr>
          <p:cNvPr id="295" name="j0214098.wav" descr=""/>
          <p:cNvPicPr/>
          <p:nvPr/>
        </p:nvPicPr>
        <p:blipFill>
          <a:blip r:embed="rId6"/>
          <a:stretch/>
        </p:blipFill>
        <p:spPr>
          <a:xfrm>
            <a:off x="4714920" y="2071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745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extBox 1" descr=""/>
          <p:cNvPicPr/>
          <p:nvPr/>
        </p:nvPicPr>
        <p:blipFill>
          <a:blip r:embed="rId1"/>
          <a:stretch/>
        </p:blipFill>
        <p:spPr>
          <a:xfrm>
            <a:off x="1901880" y="944640"/>
            <a:ext cx="5280120" cy="159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48:03Z</dcterms:created>
  <dc:creator>ОЕМ</dc:creator>
  <dc:description/>
  <dc:language>en-US</dc:language>
  <cp:lastModifiedBy>Admin</cp:lastModifiedBy>
  <dcterms:modified xsi:type="dcterms:W3CDTF">2014-09-21T14:31:35Z</dcterms:modified>
  <cp:revision>6</cp:revision>
  <dc:subject/>
  <dc:title>Слайд 1</dc:title>
</cp:coreProperties>
</file>