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DF9-BCC1-405A-B0C8-22852FE6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CC1-92C7-4D1F-B84D-2F22BB23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FC7-FA2E-412F-AA71-50EA2B5F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44A-7DB6-439A-AB26-2B0AF9FA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FFE-F3DB-4576-9E0E-FE97EE5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351-59BE-47CD-A6FF-2328C71A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6D4-9068-483A-966F-3E041E6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BFD-DC24-42D7-B7E4-483C206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E35-C780-46E5-AABD-7D79516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D26-6326-4122-B34F-A2F7954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64B-8784-45BF-84EF-3D2DCA42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75C-1201-4597-98DE-08397E9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7DE7-0F76-4634-AB9F-45E3B6538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f.ru/application/public/news/621/6e0c9eac23a5b09442fb002e8791e93f_big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чество с древнейших времен владело знанием о том, что отдельные участки нашего тела взаимодействуют с другими участками тела и всем организмом, и использовало это в целях диагностики и лечения болезней с помощью иглоукалывания, точечного массажа, прогревания, прижигания точек и т.д. Вспомним диагностику по радужке глаза или лечение по точкам ушной рако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ферический речевой аппарат состоит из лёгких с бронхами и трахеей, гортани с находящимися в ней голосовыми связками, глотки, носоглотки, ротовой и нос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1197000"/>
            <a:ext cx="5832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муляцию лечебных точек и зон соответствия можно проводить при помощи, специальных диагностических палочек с закруглённым концом, массажеров,  и других искусственных стимуля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"/>
          <p:cNvPicPr/>
          <p:nvPr/>
        </p:nvPicPr>
        <p:blipFill>
          <a:blip r:embed="rId2"/>
          <a:stretch/>
        </p:blipFill>
        <p:spPr>
          <a:xfrm>
            <a:off x="250920" y="0"/>
            <a:ext cx="6121440" cy="459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"/>
          <p:cNvPicPr/>
          <p:nvPr/>
        </p:nvPicPr>
        <p:blipFill>
          <a:blip r:embed="rId3"/>
          <a:stretch/>
        </p:blipFill>
        <p:spPr>
          <a:xfrm>
            <a:off x="3635280" y="2720880"/>
            <a:ext cx="5508720" cy="413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7908-1"/>
          <p:cNvPicPr/>
          <p:nvPr/>
        </p:nvPicPr>
        <p:blipFill>
          <a:blip r:embed="rId4"/>
          <a:stretch/>
        </p:blipFill>
        <p:spPr>
          <a:xfrm>
            <a:off x="539640" y="2205000"/>
            <a:ext cx="4608720" cy="378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6"/>
          <p:cNvPicPr/>
          <p:nvPr/>
        </p:nvPicPr>
        <p:blipFill>
          <a:blip r:embed="rId5"/>
          <a:stretch/>
        </p:blipFill>
        <p:spPr>
          <a:xfrm>
            <a:off x="1979640" y="1484280"/>
            <a:ext cx="6578640" cy="4940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39640" y="1052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на растений - это тоже очень удобный инструмент для проведения пальцетерапии. В дополнение к механической стимуляции они оказывают на точку уникальное биоэнерге тическое воз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2471760"/>
            <a:ext cx="3389400" cy="3273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60"/>
          <p:cNvPicPr/>
          <p:nvPr/>
        </p:nvPicPr>
        <p:blipFill>
          <a:blip r:embed="rId2"/>
          <a:stretch/>
        </p:blipFill>
        <p:spPr>
          <a:xfrm>
            <a:off x="611280" y="189000"/>
            <a:ext cx="5292720" cy="397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43"/>
          <p:cNvPicPr/>
          <p:nvPr/>
        </p:nvPicPr>
        <p:blipFill>
          <a:blip r:embed="rId3"/>
          <a:stretch/>
        </p:blipFill>
        <p:spPr>
          <a:xfrm>
            <a:off x="3635280" y="2708280"/>
            <a:ext cx="5160960" cy="387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47"/>
          <p:cNvPicPr/>
          <p:nvPr/>
        </p:nvPicPr>
        <p:blipFill>
          <a:blip r:embed="rId4"/>
          <a:stretch/>
        </p:blipFill>
        <p:spPr>
          <a:xfrm>
            <a:off x="1968480" y="1479600"/>
            <a:ext cx="5207040" cy="389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цвета так же эффективно  в воздействии на точки соответствия.  Для применения цветолечения нужно точки или области соответствия выкрасить фломастером соответствующего цв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огопедической практике целесообразно использование красного цвета или в случае  со срединной линией каждого из пальцев, которая является меридианом головы, оранжев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92"/>
          <p:cNvPicPr/>
          <p:nvPr/>
        </p:nvPicPr>
        <p:blipFill>
          <a:blip r:embed="rId2"/>
          <a:stretch/>
        </p:blipFill>
        <p:spPr>
          <a:xfrm>
            <a:off x="900000" y="1628640"/>
            <a:ext cx="3492720" cy="446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95"/>
          <p:cNvPicPr/>
          <p:nvPr/>
        </p:nvPicPr>
        <p:blipFill>
          <a:blip r:embed="rId3"/>
          <a:stretch/>
        </p:blipFill>
        <p:spPr>
          <a:xfrm>
            <a:off x="4788000" y="1628640"/>
            <a:ext cx="3408120" cy="453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пальцах кистей и стоп присутствуют две системы соответствия голове: система «тип человека» (рассмотренная выше) и система «тип животного»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посмотреть на палец со стороны ногтя, то при некотором воображении можно увидеть там лицо человека с широко раскрытым ртом (ногте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>
            <a:biLevel thresh="50000"/>
            <a:lum bright="-12000"/>
          </a:blip>
          <a:stretch/>
        </p:blipFill>
        <p:spPr>
          <a:xfrm>
            <a:off x="2195640" y="260280"/>
            <a:ext cx="3971880" cy="16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>
            <a:biLevel thresh="50000"/>
            <a:lum contrast="6000"/>
          </a:blip>
          <a:stretch/>
        </p:blipFill>
        <p:spPr>
          <a:xfrm>
            <a:off x="1835280" y="2565360"/>
            <a:ext cx="471492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>
            <a:biLevel thresh="50000"/>
            <a:lum bright="-18000"/>
          </a:blip>
          <a:stretch/>
        </p:blipFill>
        <p:spPr>
          <a:xfrm>
            <a:off x="2050920" y="4149720"/>
            <a:ext cx="4145040" cy="2066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omoncl_f9_b1"/>
          <p:cNvPicPr/>
          <p:nvPr/>
        </p:nvPicPr>
        <p:blipFill>
          <a:blip r:embed="rId1"/>
          <a:stretch/>
        </p:blipFill>
        <p:spPr>
          <a:xfrm>
            <a:off x="2556000" y="404640"/>
            <a:ext cx="3965400" cy="59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рать за основу работы систему животного, то в красный цвет нужно окрасить ноготь, который является в этой системе ртом. А также точки соответствия речевым зонам. Как я уже упоминала ранее это лобная часть головы и височ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с2"/>
          <p:cNvPicPr/>
          <p:nvPr/>
        </p:nvPicPr>
        <p:blipFill>
          <a:blip r:embed="rId2"/>
          <a:stretch/>
        </p:blipFill>
        <p:spPr>
          <a:xfrm>
            <a:off x="1619280" y="1628640"/>
            <a:ext cx="5904000" cy="413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тимулировать несколько точек одновременно. Зная  где находятся зоны соответствия органов принимающих участие в  актречеобразования, окрашиваем эти точки в красн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с3"/>
          <p:cNvPicPr/>
          <p:nvPr/>
        </p:nvPicPr>
        <p:blipFill>
          <a:blip r:embed="rId2"/>
          <a:stretch/>
        </p:blipFill>
        <p:spPr>
          <a:xfrm>
            <a:off x="1619280" y="1700280"/>
            <a:ext cx="5832360" cy="43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и полностью закрасить красным цветом область на пальце, соответствующую области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с6"/>
          <p:cNvPicPr/>
          <p:nvPr/>
        </p:nvPicPr>
        <p:blipFill>
          <a:blip r:embed="rId2"/>
          <a:stretch/>
        </p:blipFill>
        <p:spPr>
          <a:xfrm>
            <a:off x="2627280" y="1700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присутствует назализация речи из-за отёков носа, аденоидов, то нужно закрасить зону  соответствия носа в синий или зелёный цвет (носу соответствует завиток на верхней фалан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с7"/>
          <p:cNvPicPr/>
          <p:nvPr/>
        </p:nvPicPr>
        <p:blipFill>
          <a:blip r:embed="rId2"/>
          <a:stretch/>
        </p:blipFill>
        <p:spPr>
          <a:xfrm>
            <a:off x="2556000" y="1757520"/>
            <a:ext cx="3995640" cy="484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ный шарик  и металлические кольца используются для  стимуляции поверхностей пальцев и всей ладони в целом. Нужно выполнять с ребёнком упражнения, в которых будет задействована вся ладонь, а также каждый пале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2"/>
          <a:stretch/>
        </p:blipFill>
        <p:spPr>
          <a:xfrm>
            <a:off x="395280" y="260280"/>
            <a:ext cx="5786280" cy="434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2"/>
          <p:cNvPicPr/>
          <p:nvPr/>
        </p:nvPicPr>
        <p:blipFill>
          <a:blip r:embed="rId3"/>
          <a:stretch/>
        </p:blipFill>
        <p:spPr>
          <a:xfrm>
            <a:off x="755640" y="620640"/>
            <a:ext cx="5977080" cy="4486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30"/>
          <p:cNvPicPr/>
          <p:nvPr/>
        </p:nvPicPr>
        <p:blipFill>
          <a:blip r:embed="rId4"/>
          <a:stretch/>
        </p:blipFill>
        <p:spPr>
          <a:xfrm>
            <a:off x="1116000" y="981000"/>
            <a:ext cx="5929200" cy="44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31"/>
          <p:cNvPicPr/>
          <p:nvPr/>
        </p:nvPicPr>
        <p:blipFill>
          <a:blip r:embed="rId5"/>
          <a:stretch/>
        </p:blipFill>
        <p:spPr>
          <a:xfrm>
            <a:off x="1619280" y="1268280"/>
            <a:ext cx="5932440" cy="445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36"/>
          <p:cNvPicPr/>
          <p:nvPr/>
        </p:nvPicPr>
        <p:blipFill>
          <a:blip r:embed="rId6"/>
          <a:stretch/>
        </p:blipFill>
        <p:spPr>
          <a:xfrm>
            <a:off x="2124000" y="1628640"/>
            <a:ext cx="5905440" cy="443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33"/>
          <p:cNvPicPr/>
          <p:nvPr/>
        </p:nvPicPr>
        <p:blipFill>
          <a:blip r:embed="rId7"/>
          <a:stretch/>
        </p:blipFill>
        <p:spPr>
          <a:xfrm>
            <a:off x="2700360" y="1933560"/>
            <a:ext cx="6024600" cy="45244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ь стимуляцию био-энергетических точек можно в начале логопедического занятия, в процессе занятия, а также независимо от занятия. К СуДжок терапии нужно стараться привлекать родител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 методы воздействия можно использовать как каждый по отдельности так и в совокуп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10920" y="3016080"/>
            <a:ext cx="504036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Февраль 141"/>
          <p:cNvPicPr/>
          <p:nvPr/>
        </p:nvPicPr>
        <p:blipFill>
          <a:blip r:embed="rId2"/>
          <a:stretch/>
        </p:blipFill>
        <p:spPr>
          <a:xfrm>
            <a:off x="611280" y="476280"/>
            <a:ext cx="7939080" cy="595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86321234"/>
          <p:cNvPicPr/>
          <p:nvPr/>
        </p:nvPicPr>
        <p:blipFill>
          <a:blip r:embed="rId1"/>
          <a:stretch/>
        </p:blipFill>
        <p:spPr>
          <a:xfrm>
            <a:off x="1258920" y="1484280"/>
            <a:ext cx="6480000" cy="430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цы кистей и стоп активнее всех других частей тела контактируют с внешней средой и с наибольшей вероятностью могут быть случайно простимулированы. Именно через пальцы можно оказать на тело самое быстрое и сильное воздейств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74368_image_large"/>
          <p:cNvPicPr/>
          <p:nvPr/>
        </p:nvPicPr>
        <p:blipFill>
          <a:blip r:embed="rId2"/>
          <a:stretch/>
        </p:blipFill>
        <p:spPr>
          <a:xfrm>
            <a:off x="0" y="0"/>
            <a:ext cx="3851280" cy="486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64463240_8-Accupuncture-Massager-Set-2-5-10-15-35-3--761-http"/>
          <p:cNvPicPr/>
          <p:nvPr/>
        </p:nvPicPr>
        <p:blipFill>
          <a:blip r:embed="rId3"/>
          <a:stretch/>
        </p:blipFill>
        <p:spPr>
          <a:xfrm>
            <a:off x="4067280" y="3573360"/>
            <a:ext cx="5076720" cy="328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о человека состоит из туловища и как бы отходящих от него пяти лучей — головы и четырех конечностей. Если мы посмотрим на свою кисть, то можем заметить, что она по строению напоминает наше тело. Действительно, кисть состоит из ладони и отходящих от нее, как лучи, пяти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84000" y="119700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ласти верхней височной извилины  находится зона Вернике, которая отвечает за сенсорную  или импрессивную речь. Т.е. эта зона отвечает за восприятие речи. Различают  и моторную зону, отвечающую за  экспрессивную речь произнесение звуков самим человеком. Эта зона- зона Брока, находится в области второй и третей лобной извилины. У правшей  в левом полушарии мозга, а у левшей, в большинстве случаев в прав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0:33:29Z</dcterms:created>
  <dc:creator>Artem</dc:creator>
  <dc:description/>
  <dc:language>en-US</dc:language>
  <cp:lastModifiedBy>Олечка</cp:lastModifiedBy>
  <dcterms:modified xsi:type="dcterms:W3CDTF">2017-05-20T15:38:14Z</dcterms:modified>
  <cp:revision>19</cp:revision>
  <dc:subject/>
  <dc:title>Слайд 1</dc:title>
</cp:coreProperties>
</file>