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0B06-737C-41F2-98BD-10D301CD7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BC23-4294-4142-A81F-67EEFCE1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0C1B-B880-4FD5-A67A-A0586C429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DA1A-0893-40BD-A03D-CEF0CD346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1BF8-94D9-41BC-8689-1AA72364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03CA-9E1A-411B-820A-3626A31B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FD03-471C-41AC-8641-A088E333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D020-D883-444B-9F08-568B1FBB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33D6-E2E0-4F3B-B19C-7C89649C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DA7F-AB4D-40EF-A140-B6717A0F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756C-691E-4683-9A85-508B5B2A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D2CF-3832-4AE9-AB64-3611AC25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07EC-AAF8-4415-AC93-F58319F2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1DDF-68A4-4B37-8568-CAE6CE87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34B2-FFAA-4F5C-8B81-AA2BD2C4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BB55-80EA-449F-A341-41AAC1E15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1BC3-AC46-490D-88C7-353A20936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2BE3-CA21-468F-9B96-B3264989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0D2B-E2E7-4558-B079-9FDBD990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BA57-B4F5-4D2C-BBA7-6C7D820B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0F40-FAF9-4035-8E99-FC2B45DA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E46B-E627-4848-9267-A0B1FC98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FA71-28C8-406A-BF30-692DA9B2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A8EF-3222-4A96-8622-FE76850B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21C2-7575-4284-8130-01D1B5C538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2DCB-A1D4-437C-B9C7-575E0EF3E1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752120" y="3124080"/>
            <a:ext cx="5867640" cy="23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«История олимпийских игр»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труктор по физической Культуре: Алиева И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838080" y="1219320"/>
            <a:ext cx="76201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ИКТОРИНА</a:t>
            </a:r>
            <a:endParaRPr b="0" lang="en-US" sz="1800" spc="1" strike="noStrike">
              <a:ln w="0">
                <a:noFill/>
              </a:ln>
              <a:solidFill>
                <a:srgbClr val="3366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Медаль за высшее спортивное достижение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Золота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еребряна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ронзовая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3276720" y="5638680"/>
            <a:ext cx="2514600" cy="106704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9" descr="9"/>
          <p:cNvPicPr/>
          <p:nvPr/>
        </p:nvPicPr>
        <p:blipFill>
          <a:blip r:embed="rId1"/>
          <a:stretch/>
        </p:blipFill>
        <p:spPr>
          <a:xfrm>
            <a:off x="4495680" y="2057400"/>
            <a:ext cx="4114800" cy="304812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В каком году советские спортсмены впервые приняли участие в Олимпийских играх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48 г., X Олимпийские игр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56 г., XII Олимпийские игры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52 г, XI  Олимпийские игр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3124080" y="556272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10"/>
          <p:cNvPicPr/>
          <p:nvPr/>
        </p:nvPicPr>
        <p:blipFill>
          <a:blip r:embed="rId1"/>
          <a:stretch/>
        </p:blipFill>
        <p:spPr>
          <a:xfrm>
            <a:off x="4724280" y="2209680"/>
            <a:ext cx="3772080" cy="244476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Когда впервые в Олимпийских играх приняли участие женщины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52 г, XI  Олимпийские игр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00 г, II Олимпийские игр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48 г., X Олимпийские игр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3429000" y="556272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11"/>
          <p:cNvPicPr/>
          <p:nvPr/>
        </p:nvPicPr>
        <p:blipFill>
          <a:blip r:embed="rId1"/>
          <a:stretch/>
        </p:blipFill>
        <p:spPr>
          <a:xfrm>
            <a:off x="4724280" y="2362320"/>
            <a:ext cx="3772080" cy="228600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4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07696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Когда в честь побед Россиян впервые на Олимпийских играх поднялось трёхцветное знамя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1992 г., Барселона, Испа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1984 г., Лос-Анжелес, СШ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1972 г., Мюнхен, Германия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3200400" y="5638680"/>
            <a:ext cx="2514600" cy="106704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12"/>
          <p:cNvPicPr/>
          <p:nvPr/>
        </p:nvPicPr>
        <p:blipFill>
          <a:blip r:embed="rId1"/>
          <a:stretch/>
        </p:blipFill>
        <p:spPr>
          <a:xfrm>
            <a:off x="4724280" y="2362320"/>
            <a:ext cx="3772080" cy="212220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Кто был первым российским олимпийским чемпионом, фигуристом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ндрей Миненков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лександр Горшков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.Панин-Коломенски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3200400" y="548640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13"/>
          <p:cNvPicPr/>
          <p:nvPr/>
        </p:nvPicPr>
        <p:blipFill>
          <a:blip r:embed="rId1"/>
          <a:stretch/>
        </p:blipFill>
        <p:spPr>
          <a:xfrm>
            <a:off x="4724280" y="2286000"/>
            <a:ext cx="3772080" cy="279720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Кто из гимнастов имеет 18 олимпийских медалей, из них 9 – золотых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Лариса Латынин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иколай Андрианов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италий Щербо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3200400" y="556272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14"/>
          <p:cNvPicPr/>
          <p:nvPr/>
        </p:nvPicPr>
        <p:blipFill>
          <a:blip r:embed="rId1"/>
          <a:stretch/>
        </p:blipFill>
        <p:spPr>
          <a:xfrm>
            <a:off x="4800600" y="2133720"/>
            <a:ext cx="3772080" cy="307800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В каком году впервые в Олимпиаде победили советские хоккеисты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60 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56 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52 г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3124080" y="556272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15"/>
          <p:cNvPicPr/>
          <p:nvPr/>
        </p:nvPicPr>
        <p:blipFill>
          <a:blip r:embed="rId1"/>
          <a:stretch/>
        </p:blipFill>
        <p:spPr>
          <a:xfrm>
            <a:off x="4495680" y="2133720"/>
            <a:ext cx="3772080" cy="25160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4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Главными словами знаменитой «Оды спорта» Пьера де Кубертена являются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«Быстрее, выше, сильнее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«Главное не победа, а участие»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«О спорт, ты – мир!»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3352680" y="548640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16"/>
          <p:cNvPicPr/>
          <p:nvPr/>
        </p:nvPicPr>
        <p:blipFill>
          <a:blip r:embed="rId1"/>
          <a:stretch/>
        </p:blipFill>
        <p:spPr>
          <a:xfrm>
            <a:off x="5519880" y="1905120"/>
            <a:ext cx="3205080" cy="342900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0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Как называется организация, возглавляющая олимпийское движение в России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МОК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ФИФ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БА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3124080" y="548640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17"/>
          <p:cNvPicPr/>
          <p:nvPr/>
        </p:nvPicPr>
        <p:blipFill>
          <a:blip r:embed="rId1"/>
          <a:stretch/>
        </p:blipFill>
        <p:spPr>
          <a:xfrm>
            <a:off x="4572000" y="2209680"/>
            <a:ext cx="3772080" cy="241488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Трёхкратная советская олимпийская чемпионка в парном фигурном катании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Людмила Пахомов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Людмила Белоусова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Ирина Роднин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3276720" y="548640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" descr="18"/>
          <p:cNvPicPr/>
          <p:nvPr/>
        </p:nvPicPr>
        <p:blipFill>
          <a:blip r:embed="rId1"/>
          <a:stretch/>
        </p:blipFill>
        <p:spPr>
          <a:xfrm>
            <a:off x="4648320" y="2666880"/>
            <a:ext cx="3771720" cy="247500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6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"/>
              </a:rPr>
              <a:t>В каком году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состоялись первые Олимпийские игр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776 г. до н.э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772 г. до н.э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770 г. до н.э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3429000" y="548640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1"/>
          <p:cNvPicPr/>
          <p:nvPr/>
        </p:nvPicPr>
        <p:blipFill>
          <a:blip r:embed="rId1"/>
          <a:stretch/>
        </p:blipFill>
        <p:spPr>
          <a:xfrm>
            <a:off x="4686480" y="2644920"/>
            <a:ext cx="3771720" cy="255888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В каком городе находится штаб-квартира МОК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Лозанна, Швейцар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фины, Грец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ариж, Франция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3429000" y="548640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7" descr="19"/>
          <p:cNvPicPr/>
          <p:nvPr/>
        </p:nvPicPr>
        <p:blipFill>
          <a:blip r:embed="rId1"/>
          <a:stretch/>
        </p:blipFill>
        <p:spPr>
          <a:xfrm>
            <a:off x="5181480" y="2362320"/>
            <a:ext cx="3429000" cy="241452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Какие Олимпийские игры состоялись без участия советских спортсменов по политическим мотивам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XXII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Летние Олимпийские игры в 1980 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XXIII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Летние Олимпийские игры в 1984 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XXIV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Летние Олимпийские игры в 1986 г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4114800" y="548640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20"/>
          <p:cNvPicPr/>
          <p:nvPr/>
        </p:nvPicPr>
        <p:blipFill>
          <a:blip r:embed="rId1"/>
          <a:stretch/>
        </p:blipFill>
        <p:spPr>
          <a:xfrm>
            <a:off x="5029200" y="2133720"/>
            <a:ext cx="3657600" cy="247320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2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Над каким городом впервые был поднят олимпийский флаг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нтверпен, Бельг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фины, Грец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ариж, Франция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3200400" y="548640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7" descr="21"/>
          <p:cNvPicPr/>
          <p:nvPr/>
        </p:nvPicPr>
        <p:blipFill>
          <a:blip r:embed="rId1"/>
          <a:stretch/>
        </p:blipFill>
        <p:spPr>
          <a:xfrm>
            <a:off x="4686480" y="2668680"/>
            <a:ext cx="3771720" cy="251136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В каком году в Москве состоялись XXI Летние Олимпийские игры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84 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76 г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80 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3276720" y="556272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22"/>
          <p:cNvPicPr/>
          <p:nvPr/>
        </p:nvPicPr>
        <p:blipFill>
          <a:blip r:embed="rId1"/>
          <a:stretch/>
        </p:blipFill>
        <p:spPr>
          <a:xfrm>
            <a:off x="4572000" y="2057400"/>
            <a:ext cx="3772080" cy="25844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Назовите талисман Олимпийских игр в Москве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Медвежонок Миш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Орлёнок Сэ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Енот Рон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3276720" y="548640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7" descr="23"/>
          <p:cNvPicPr/>
          <p:nvPr/>
        </p:nvPicPr>
        <p:blipFill>
          <a:blip r:embed="rId1"/>
          <a:stretch/>
        </p:blipFill>
        <p:spPr>
          <a:xfrm>
            <a:off x="4724280" y="2286000"/>
            <a:ext cx="3772080" cy="25448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Клуб, воспитавший победителей Олимпиад – фехтовальщиков, хоккеистов, баскетболистов, волейболистов и т.д. 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Динамо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партак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ЦСК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3200400" y="556272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7" descr="24"/>
          <p:cNvPicPr/>
          <p:nvPr/>
        </p:nvPicPr>
        <p:blipFill>
          <a:blip r:embed="rId1"/>
          <a:stretch/>
        </p:blipFill>
        <p:spPr>
          <a:xfrm>
            <a:off x="4648320" y="2362320"/>
            <a:ext cx="3771720" cy="282888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4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4"/>
          <p:cNvSpPr txBox="1"/>
          <p:nvPr/>
        </p:nvSpPr>
        <p:spPr>
          <a:xfrm>
            <a:off x="838080" y="2438280"/>
            <a:ext cx="7772400" cy="171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 за игру!</a:t>
            </a:r>
            <a:endParaRPr b="0" lang="en-US" sz="1800" spc="1" strike="noStrike">
              <a:ln w="0">
                <a:noFill/>
              </a:ln>
              <a:solidFill>
                <a:srgbClr val="3366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В чью честь проводились Олимпийские Игр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честь Аполлон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честь Зевс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честь Аида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2895480" y="556272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2"/>
          <p:cNvPicPr/>
          <p:nvPr/>
        </p:nvPicPr>
        <p:blipFill>
          <a:blip r:embed="rId1"/>
          <a:stretch/>
        </p:blipFill>
        <p:spPr>
          <a:xfrm>
            <a:off x="4686480" y="2658960"/>
            <a:ext cx="3771720" cy="25304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Чем награждали победителей Олимпийский игр в Древней Греции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Медалью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Грамотой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енком из листьев лавр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3276720" y="548640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6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3 и 5"/>
          <p:cNvPicPr/>
          <p:nvPr/>
        </p:nvPicPr>
        <p:blipFill>
          <a:blip r:embed="rId1"/>
          <a:stretch/>
        </p:blipFill>
        <p:spPr>
          <a:xfrm>
            <a:off x="4952880" y="2459160"/>
            <a:ext cx="3581640" cy="263520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Как называли победителя Олимпийских игр в Древней Греции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Чемпио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Олимпионик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Рекордсмен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3352680" y="5334120"/>
            <a:ext cx="2438640" cy="91440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">
            <a:hlinkClick r:id="" action="ppaction://hlinkshowjump?jump=nextslide"/>
          </p:cNvPr>
          <p:cNvSpPr/>
          <p:nvPr/>
        </p:nvSpPr>
        <p:spPr>
          <a:xfrm>
            <a:off x="609480" y="5181480"/>
            <a:ext cx="838440" cy="83844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4"/>
          <p:cNvPicPr/>
          <p:nvPr/>
        </p:nvPicPr>
        <p:blipFill>
          <a:blip r:embed="rId1"/>
          <a:stretch/>
        </p:blipFill>
        <p:spPr>
          <a:xfrm>
            <a:off x="4648320" y="2133720"/>
            <a:ext cx="3771720" cy="299376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Во время Олимпийских игр объявлялось военное перемирие, но однажды в Древней Греции оно было нарушено. Когда это произошло</a:t>
            </a: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40 г. до н.э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44 г. до н.э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36 году до н.э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3505320" y="548640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3 и 5"/>
          <p:cNvPicPr/>
          <p:nvPr/>
        </p:nvPicPr>
        <p:blipFill>
          <a:blip r:embed="rId1"/>
          <a:stretch/>
        </p:blipFill>
        <p:spPr>
          <a:xfrm>
            <a:off x="4572000" y="2133720"/>
            <a:ext cx="3809880" cy="280332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Когда и где были проведены первые Олимпийские игры современности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1896 г., Афины, Грец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1900 г. Париж, Франц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1906, Афины, Греция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3276720" y="548640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6"/>
          <p:cNvPicPr/>
          <p:nvPr/>
        </p:nvPicPr>
        <p:blipFill>
          <a:blip r:embed="rId1"/>
          <a:stretch/>
        </p:blipFill>
        <p:spPr>
          <a:xfrm>
            <a:off x="4572000" y="2286000"/>
            <a:ext cx="3772080" cy="259380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В каком году прошли I Зимние Олимпийские игр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20 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30 г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24 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3352680" y="556272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7"/>
          <p:cNvPicPr/>
          <p:nvPr/>
        </p:nvPicPr>
        <p:blipFill>
          <a:blip r:embed="rId1"/>
          <a:stretch/>
        </p:blipFill>
        <p:spPr>
          <a:xfrm>
            <a:off x="4686480" y="2532240"/>
            <a:ext cx="3771720" cy="27842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Назовите девиз Олимпийских игр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«О спорт, ты – мир!»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«Быстрее, выше, сильнее»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«Главное не победа, а участие»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2895480" y="556272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9" descr="8"/>
          <p:cNvPicPr/>
          <p:nvPr/>
        </p:nvPicPr>
        <p:blipFill>
          <a:blip r:embed="rId1"/>
          <a:stretch/>
        </p:blipFill>
        <p:spPr>
          <a:xfrm>
            <a:off x="4724280" y="2286000"/>
            <a:ext cx="3772080" cy="249552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5:33:15Z</dcterms:created>
  <dc:creator>Александр</dc:creator>
  <dc:description/>
  <dc:language>en-US</dc:language>
  <cp:lastModifiedBy>Админ</cp:lastModifiedBy>
  <dcterms:modified xsi:type="dcterms:W3CDTF">2001-12-31T20:30:3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