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DC6-E0B3-44A0-8639-7459E920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A7D-840F-42D3-B2FD-1C6F38E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B01-0E0E-477D-8B22-1AEADDFF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1C5-83D2-4C79-A018-9C7D6851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0F0-6D77-4765-B1F1-0E3DBD0C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209-B29D-43EF-8E74-C4CC0383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D72-183E-42BF-9E20-EE9F0000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6DDE-E02F-4A40-BA45-933F387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7DD-6AC7-4D08-B75D-2D4163CA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40CE-DF36-47C2-A8AB-BD03222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FCD-7F80-44A4-A85B-B5E82B9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11C-81F3-4946-83B6-DCD78562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F0D8-5E5D-43D1-A315-EC9E7EA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D21-1146-4B4B-988F-DD3EB5F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163D-4CE2-4E53-8924-50C08BE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54FE-3CB6-426B-9ADD-AFE6AF29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29CC-778A-4712-850D-DCC0BBFA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C4D-8912-4450-BB63-D0333165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127-D807-40D7-95FF-6402D1BF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45D-C96B-4F2F-BDE6-8C918A5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F22-F2D8-4F8B-8A92-6AB2B8B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C43-21A0-48C3-A733-3D8DB97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13E-2362-40C4-8DC5-AD6C0C2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838-A359-4F25-B4E4-0A183BB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53B-7278-46EA-BD97-1E1EB243E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6D9-1F66-4B51-850C-1DB69A426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124080"/>
            <a:ext cx="5867640" cy="23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История олимпийских игр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: Али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838080" y="121932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даль за высшее спортивное достижени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олот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ебрян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ронзова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27672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9"/>
          <p:cNvPicPr/>
          <p:nvPr/>
        </p:nvPicPr>
        <p:blipFill>
          <a:blip r:embed="rId1"/>
          <a:stretch/>
        </p:blipFill>
        <p:spPr>
          <a:xfrm>
            <a:off x="4495680" y="2057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В каком году советские спортсмены впервые приняли участие в Олимпийских играх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, XII Олимпийские игр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10"/>
          <p:cNvPicPr/>
          <p:nvPr/>
        </p:nvPicPr>
        <p:blipFill>
          <a:blip r:embed="rId1"/>
          <a:stretch/>
        </p:blipFill>
        <p:spPr>
          <a:xfrm>
            <a:off x="4724280" y="2209680"/>
            <a:ext cx="3772080" cy="2444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впервые в Олимпийских играх приняли участие женщин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00 г, II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4290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11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гда в честь побед Россиян впервые на Олимпийских играх поднялось трёхцветное знам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92 г., Барселона,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84 г., Лос-Анжелес, С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72 г., Мюнхен, Герм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20040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2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122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был первым российским олимпийским чемпионом, фигуристом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дрей Миненк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ександр Горшк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.Панин-Коломен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1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из гимнастов имеет 18 олимпийских медалей, из них 9 – золотых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ариса Латы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иколай Андриа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лий Щерб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14"/>
          <p:cNvPicPr/>
          <p:nvPr/>
        </p:nvPicPr>
        <p:blipFill>
          <a:blip r:embed="rId1"/>
          <a:stretch/>
        </p:blipFill>
        <p:spPr>
          <a:xfrm>
            <a:off x="4800600" y="2133720"/>
            <a:ext cx="3772080" cy="3078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первые в Олимпиаде победили советские хоккеист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6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15"/>
          <p:cNvPicPr/>
          <p:nvPr/>
        </p:nvPicPr>
        <p:blipFill>
          <a:blip r:embed="rId1"/>
          <a:stretch/>
        </p:blipFill>
        <p:spPr>
          <a:xfrm>
            <a:off x="4495680" y="2133720"/>
            <a:ext cx="3772080" cy="2516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Главными словами знаменитой «Оды спорта» Пьера де Кубертена являютс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16"/>
          <p:cNvPicPr/>
          <p:nvPr/>
        </p:nvPicPr>
        <p:blipFill>
          <a:blip r:embed="rId1"/>
          <a:stretch/>
        </p:blipFill>
        <p:spPr>
          <a:xfrm>
            <a:off x="5519880" y="1905120"/>
            <a:ext cx="320508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 называется организация, возглавляющая олимпийское движение в Росси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Ф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Б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1240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17"/>
          <p:cNvPicPr/>
          <p:nvPr/>
        </p:nvPicPr>
        <p:blipFill>
          <a:blip r:embed="rId1"/>
          <a:stretch/>
        </p:blipFill>
        <p:spPr>
          <a:xfrm>
            <a:off x="4572000" y="2209680"/>
            <a:ext cx="3772080" cy="2414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Трёхкратная советская олимпийская чемпионка в парном фигурном катании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Пахомо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Белоусо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рина Род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18"/>
          <p:cNvPicPr/>
          <p:nvPr/>
        </p:nvPicPr>
        <p:blipFill>
          <a:blip r:embed="rId1"/>
          <a:stretch/>
        </p:blipFill>
        <p:spPr>
          <a:xfrm>
            <a:off x="4648320" y="2666880"/>
            <a:ext cx="3771720" cy="2475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"/>
              </a:rPr>
              <a:t>В каком году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состоялись первые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6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2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0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4686480" y="2644920"/>
            <a:ext cx="3771720" cy="255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роде находится штаб-квартира МОК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озанна, Швейца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19"/>
          <p:cNvPicPr/>
          <p:nvPr/>
        </p:nvPicPr>
        <p:blipFill>
          <a:blip r:embed="rId1"/>
          <a:stretch/>
        </p:blipFill>
        <p:spPr>
          <a:xfrm>
            <a:off x="5181480" y="2362320"/>
            <a:ext cx="34290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ие Олимпийские игры состоялись без участия советских спортсменов по политическим мотивам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1148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20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2473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д каким городом впервые был поднят олимпийский фла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тверпен, Бельг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21"/>
          <p:cNvPicPr/>
          <p:nvPr/>
        </p:nvPicPr>
        <p:blipFill>
          <a:blip r:embed="rId1"/>
          <a:stretch/>
        </p:blipFill>
        <p:spPr>
          <a:xfrm>
            <a:off x="4686480" y="2668680"/>
            <a:ext cx="3771720" cy="2511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 Москве состоялись XXI Летние Олимпийские игр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7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7672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22"/>
          <p:cNvPicPr/>
          <p:nvPr/>
        </p:nvPicPr>
        <p:blipFill>
          <a:blip r:embed="rId1"/>
          <a:stretch/>
        </p:blipFill>
        <p:spPr>
          <a:xfrm>
            <a:off x="4572000" y="2057400"/>
            <a:ext cx="3772080" cy="258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талисман Олимпийских игр в Москв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вежонок Ми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лёнок Сэ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нот Ро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2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544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луб, воспитавший победителей Олимпиад – фехтовальщиков, хоккеистов, баскетболистов, волейболистов и т.д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инам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арта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С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24"/>
          <p:cNvPicPr/>
          <p:nvPr/>
        </p:nvPicPr>
        <p:blipFill>
          <a:blip r:embed="rId1"/>
          <a:stretch/>
        </p:blipFill>
        <p:spPr>
          <a:xfrm>
            <a:off x="4648320" y="23623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838080" y="2438280"/>
            <a:ext cx="777240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чью честь проводились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полл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Зев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ид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2"/>
          <p:cNvPicPr/>
          <p:nvPr/>
        </p:nvPicPr>
        <p:blipFill>
          <a:blip r:embed="rId1"/>
          <a:stretch/>
        </p:blipFill>
        <p:spPr>
          <a:xfrm>
            <a:off x="4686480" y="2658960"/>
            <a:ext cx="3771720" cy="2530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ем награждали победителей Олимпийский игр в Древней Греци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аль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мо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енком из листьев лав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3 и 5"/>
          <p:cNvPicPr/>
          <p:nvPr/>
        </p:nvPicPr>
        <p:blipFill>
          <a:blip r:embed="rId1"/>
          <a:stretch/>
        </p:blipFill>
        <p:spPr>
          <a:xfrm>
            <a:off x="4952880" y="2459160"/>
            <a:ext cx="3581640" cy="2635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называли победителя Олимпийских игр в Древней Греци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пи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лимпио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кордсме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352680" y="5334120"/>
            <a:ext cx="2438640" cy="91440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>
            <a:hlinkClick r:id="" action="ppaction://hlinkshowjump?jump=nextslide"/>
          </p:cNvPr>
          <p:cNvSpPr/>
          <p:nvPr/>
        </p:nvSpPr>
        <p:spPr>
          <a:xfrm>
            <a:off x="609480" y="5181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4"/>
          <p:cNvPicPr/>
          <p:nvPr/>
        </p:nvPicPr>
        <p:blipFill>
          <a:blip r:embed="rId1"/>
          <a:stretch/>
        </p:blipFill>
        <p:spPr>
          <a:xfrm>
            <a:off x="4648320" y="2133720"/>
            <a:ext cx="3771720" cy="2993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о время Олимпийских игр объявлялось военное перемирие, но однажды в Древней Греции оно было нарушено. Когда это произошло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0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4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36 году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5053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3 и 5"/>
          <p:cNvPicPr/>
          <p:nvPr/>
        </p:nvPicPr>
        <p:blipFill>
          <a:blip r:embed="rId1"/>
          <a:stretch/>
        </p:blipFill>
        <p:spPr>
          <a:xfrm>
            <a:off x="4572000" y="2133720"/>
            <a:ext cx="3809880" cy="2803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и где были проведены первые Олимпийские игры современности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896 г., 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0 г. Париж, Фран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6, Афины, Гре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6"/>
          <p:cNvPicPr/>
          <p:nvPr/>
        </p:nvPicPr>
        <p:blipFill>
          <a:blip r:embed="rId1"/>
          <a:stretch/>
        </p:blipFill>
        <p:spPr>
          <a:xfrm>
            <a:off x="4572000" y="2286000"/>
            <a:ext cx="3772080" cy="25938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прошли I Зимние Олимпийские иг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30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3526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7"/>
          <p:cNvPicPr/>
          <p:nvPr/>
        </p:nvPicPr>
        <p:blipFill>
          <a:blip r:embed="rId1"/>
          <a:stretch/>
        </p:blipFill>
        <p:spPr>
          <a:xfrm>
            <a:off x="4686480" y="2532240"/>
            <a:ext cx="3771720" cy="2784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девиз Олимпийских иг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8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495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5:33:15Z</dcterms:created>
  <dc:creator>Александр</dc:creator>
  <dc:description/>
  <dc:language>en-US</dc:language>
  <cp:lastModifiedBy>Админ</cp:lastModifiedBy>
  <dcterms:modified xsi:type="dcterms:W3CDTF">2001-12-31T20:30:3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