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3FC-F60B-4100-B25F-4D9AAE0685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2C1F-DA38-472C-92F9-9D2ED3C9959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235-6770-45BB-A07D-19594DEF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8E4-5E4B-4A1B-A84D-55E78D2D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C18-5BAC-4F92-96E3-D93B9392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AA7-1F49-4C5F-A9DA-70C83CF4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3E0-D96E-48A6-AF44-2CD1C09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F4B-8AE5-4E14-AF12-D6223C57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F07-10FA-4013-A7BC-4D330F7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6C8-6E9E-4F30-AA0D-8F659D40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457-C3E0-40BD-A472-4F49985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043-881F-44ED-8E78-DDB03666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02E-FB0B-4ECF-BB6E-2A338F2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45B-6FD6-4562-A2C3-F1C57D4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8DC7-7597-4073-A278-0297510B0A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«Мы правнуки твои, Победа!»</a:t>
            </a:r>
            <a:br>
              <a:rPr sz="4400"/>
            </a:br>
            <a:r>
              <a:rPr b="1" i="1" lang="ru-RU" sz="2800" spc="-1" strike="noStrike">
                <a:solidFill>
                  <a:srgbClr val="820000"/>
                </a:solidFill>
                <a:latin typeface="Times New Roman"/>
              </a:rPr>
              <a:t>книга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бойтесь испугать жестокой правд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 это знать и помнить над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сть ваша память к ним в сердца сту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. Вер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готовила воспит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уппы «Солнечные лучик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БДОУ д/сад №28 «Колос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. Ессен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именко Т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961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4465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здоминов Иван Никонович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09 -1972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адедушка Фидюкина Паш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здоминов Иван Никонович родился в 1909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. Дербетовка Апанасенков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вропольского края. В период революции его семья была высл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. Медведевскую Краснодарского края. Здесь в дальнейшем Иван Никонович работал бригадиром в колхозе.  В 1938г. Нездоминов И.Н.   был призван в армию , а  в 1941г. был уже командиром развед. роты.  В период ВОВ освобождал многие города России, в том  числе и Украину, где получил ранение в плеч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иска из фронтовой газеты « …его серые глаза светились юмором и добродушием –,,Пришлось поработать, разминировали Одр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рнулся Иван Никонович  с войны в 1945г в звании майор.  Имеет « Орден  Славы», «Орден Красной звезды», «Орден за отвагу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р  Нездоминов Иван Никонович 22.02.1972г в с. Дербетовка  Апанасенковского района Ставропольского кр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одном селе был создан музей боевой славы, в нем хранятся все его награды и меда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539640" y="439560"/>
            <a:ext cx="187164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378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0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Я горжусь своим прадедом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901800" y="134136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4425840" y="1554120"/>
            <a:ext cx="3876840" cy="4419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3"/>
          <a:stretch/>
        </p:blipFill>
        <p:spPr>
          <a:xfrm>
            <a:off x="969840" y="3767040"/>
            <a:ext cx="28101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0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Есть события и даты, которые глубоко отпечатались в истории всего человечества. О них пишут книги, сочиняют стихи и музыку. Главное же - о них помнят. И эта память передается из поколения в поколение и не дает померкнуть далеким дням и событиям. Одним из таких событий стала Великая Отечественная война нашего народа против фашисткой Германии. Память о ней должен сохранить каждый россиянин. 9 Мая! Великий праздник для нашего народа. В этот праздник мы поздравляем ветеранов и чтим память погибших воинов. 72 года  эта традиция передается из поколения к поколению. И вот сейчас поздравляют ветеранов уже их 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авнуки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116000" y="4438800"/>
            <a:ext cx="1487520" cy="1485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6156360" y="4290840"/>
            <a:ext cx="191448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3"/>
          <a:stretch/>
        </p:blipFill>
        <p:spPr>
          <a:xfrm>
            <a:off x="4572000" y="4260960"/>
            <a:ext cx="1444680" cy="1914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4"/>
          <a:stretch/>
        </p:blipFill>
        <p:spPr>
          <a:xfrm>
            <a:off x="2914560" y="4290840"/>
            <a:ext cx="128592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патриотизма с детства, желание быть защитником, знание и почитание памяти предков очень актуальны сегодня. Считаем очень важным изучение не только истории Великой отечественной войны и победы вообще, хотя это тоже очень важно, но и прежде всего - рассказа в семье о прадедушке или прабабушке, которые воевали, об их судьб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этой целью мы предложили семьям наших дошкольников принести фотографии прадедушек и небольшие рассказы  о них   для Книги памяти воинов Великой Отечественной войны, чтобы узнать, знают ли сегодня в молодых семьях о судьбе своих прадедов, защитивших страну от немецких захватчиков, помнят ли, имя деда, который не вернулся с фро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 своих рассказах  ребята и их родители вспомнили тех, кто копал окопы за городом, был в немецких лагерях, или тяжело работал во время войны на шахте, заводе для Побе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я в наших детях уважение к прошлому, мы обеспечиваем его «бессмертность» к подвигам наших праде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ов Иван  Ипатье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Черепановой Саш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уков Иван Ипатьевич  был призв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яды Красной  армии   осенью 1941год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ужил в пехоте и получил звание старши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з пол года после ухода на войну, у него родился 4-й ребен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чь, которую он никогда так и не увидел. Письма и открытк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ые прапрадед присылал своим детям хранятся с семье 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ей де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обороне Ленинграда он был тяжело ранен в голову. Иван Ипатьевич был переправлен в госпиталь в Псковскую область в деревню Лапьева гора, где от полученных ран скончался. Струков Иван Ипатьевич был похоронен в братской могил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ы очень гордимся тем, что в нашей семье были участники той страшной войны, что наши прадедушки сделали всё что могли, чтобы защитить нашу Родину. В наших сердцах всегда  будет жить память о них и о всех ветеранах  и тружениках В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57360" y="701640"/>
            <a:ext cx="1969920" cy="2922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20024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4321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лютин Павел Петрович</a:t>
            </a: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адедушка Переверзевой Даш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07.1909 – 26.03.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6228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лютин Павел Петрович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одился 15 июля 1909 г. в д. Петров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льшереченского района Западно-Сибирского кра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4 ноября 1935 г. был призван в кадровый состав РККА на должность среднего начальствующего соста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одил службу в частях Дальневосточного фрон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ник 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ставе 16-й армии Дальневосточного фронта принимал участие в  Южно-Сахалинской наступательной операции и Маньчжурской наступательной опера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окончания Великой Отечественной войны продолжил службу в рядах Советской Арм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увольнения в запас переехал с семьей на постоянное место жительства в г. Ессентуки Ставропольского кра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 время прохождения службы был награжден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рденом «Красного Знамени», орденом «Красной звезды», медалями «За боевые заслуги», «За победу над Германией в Великой Отечественной Войне 1941-1945 гг.», «За победу над Японией» и многими юбилейными медаля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р Павел Петрович Милюти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6 марта 1982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асибо прадеду за победу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1511280" cy="1959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6907320" y="549360"/>
            <a:ext cx="1681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561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епокуров Богдан и его прад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дратьев Владимир Василье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 07.04.1911 – 19.09.198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жант , связист,  воевал на Кавказских перевал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гражден: Орденом 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тепен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далью «За Победу над Германией в ВОВ 1941 – 1945гг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далью «За оборону Кавказа», Медалью «За отвагу».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онин Илья Никифорович ( 18.08.1911 – 11.07.196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зван в Красную армию в октябре 1941года в г. Ессентуки в 966 стрелков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к 296 стрелковой  дивизии 37 Армии. Числился убитым в бою п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. Яковлевка Сталинской   области ( в настоящее время Донецкая область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3 марта 1942года был тяжело  ранен и считался похороненным. На сам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е, после тяжелого ранения под с. Яковлевка был эвакуирован в г. Тбилис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проходил лечение в госпитал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ья Никифорович принимал участие в обороне Кавказских Хребтов, с 15 марта  1944года присвоено звание старший сержант , командир отделения 43 горно – вьючной р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592200" y="1268280"/>
            <a:ext cx="1538280" cy="2202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1644840" cy="2016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"/>
          <p:cNvPicPr/>
          <p:nvPr/>
        </p:nvPicPr>
        <p:blipFill>
          <a:blip r:embed="rId3"/>
          <a:stretch/>
        </p:blipFill>
        <p:spPr>
          <a:xfrm>
            <a:off x="7020000" y="476280"/>
            <a:ext cx="1492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вченко Яков Викторо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Панасенко Ани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07.1916 –24.08.1995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ков Викторович с сентября  1938 по февраль 1941 г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ужил во Владивостоке рядовым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Февраля 1941 по апрель 1942 года воевал на Юго Западном фронте рядовым 16 стрелкового пол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октября 1942г. по март 1943г. воевал на Сталинградском фронте, был ранен при защите Дома Павлова. С марта 1943 по ноябрь 1943г. находился на излечении в эвакогоспитале в Свердловской области, город Прав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ноября 1943 по март 1944 воевал 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елорусском фронте рядовым танкового пока. С марта 1944г по декабрь 1945г стал командиром отделения  15 краснознаменного кавалерийского полка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войны жил и работал в  Боргустане  в тракторной бригаде – трактористом. С1964 года работал плотником на консервном завод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л следующие ордена и меда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Медаль за оборону Сталинграда, Медаль за взятие Берлина, Медаль за освобождение  Варшавы, Орден Красной звез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амять о нем живет по сей день. Его правнуки знают о нем и знают,  что он защищал нашу Родину во время войны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49364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7524720" y="446040"/>
            <a:ext cx="11206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12720" y="449280"/>
            <a:ext cx="46069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касов Илья Денисо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Чучко Яросла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25  – 1995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й прадед – Черкасов Илья Денисович, родился на  хуторе гут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нераловодского района 7 декабря 1925г. в семье Георгиев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валера Черкасова Дениса Васильевич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2г., когда ему  исполнилось 17 лет, был призван в ряды действующей Красной Армии. Воевал на Кавказе, служил в пехотных войсках стрелком ПТР. Однажды ,проявив солдатскую смекалку, сбил вражеский самолет-разведч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3г. был ранен в левую руку и списан по состоянию здоровь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ет награды: Орден Отечественной войны 3-й степени, 8 Юбилейных медалей. До окончания войны работал на шахте. В последствии работал в совхозе «Доброжеланный» бухгалтером. В сентябре 1995г. ушел из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95280" y="449280"/>
            <a:ext cx="2017800" cy="2663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1635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00360" y="475920"/>
            <a:ext cx="4175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ов Леонтий Киряко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Шейранова Авраама</a:t>
            </a: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23 -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2401560"/>
            <a:ext cx="8147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зьмов Леонтий Кирякович жил в Груз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 лет был отправлен на вой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чала воевал на западе стра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ем воевал в Венг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шел до Берлина. Ушел из жизни в 2004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шли десятилетия, годы после Великой Победы, но память и гордость о проявленном героизме и самоотверженной борьбе против фашизма должна храниться в каждом доме, в каждой семье, в каждом последующем поколении. Поэтому очень важно , развивать в каждом детском сердечке чувство гордости и понимания значимости этого всенародного празд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303640" cy="3024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7020000" y="479520"/>
            <a:ext cx="15206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cp:lastPrinted>2017-05-19T08:22:46Z</cp:lastPrinted>
  <dcterms:modified xsi:type="dcterms:W3CDTF">2017-05-21T14:57:35Z</dcterms:modified>
  <cp:revision>42</cp:revision>
  <dc:subject/>
  <dc:title>Слайд 1</dc:title>
</cp:coreProperties>
</file>