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F7D9-F2BC-4286-B983-29B81F1C70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7A75-3CB1-4C5A-8A63-C4FD4D6DD0E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CA5-58CB-49FC-8E8F-D591C925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F3D-3466-4401-92C1-4CB467F6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115-3E56-4F19-8D91-2003CF30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F1E-0D1B-4016-B404-30D3B624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FFE-7C13-47A9-8FCC-614B7CF7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FF5-675D-4C6E-A945-BFBA4337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D56-36B4-4729-B8E3-4D282B83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607-C884-45A8-8E4B-55EE6A07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338-577C-491E-B45C-2507CCA2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295-411D-4801-A637-3D31F340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24B-1EE3-420C-A494-6070857D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548-0FF9-47FF-9665-582D3019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6035-0598-407D-9C67-47A79F9D97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06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«Мы правнуки твои, Победа!»</a:t>
            </a:r>
            <a:br>
              <a:rPr sz="4400"/>
            </a:br>
            <a:r>
              <a:rPr b="1" i="1" lang="ru-RU" sz="2800" spc="-1" strike="noStrike">
                <a:solidFill>
                  <a:srgbClr val="820000"/>
                </a:solidFill>
                <a:latin typeface="Times New Roman"/>
              </a:rPr>
              <a:t>книга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сказывайте детям о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бойтесь испугать жестокой правд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сказывайте детям о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 это знать и помнить над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сказывайте детям о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сть ваша память к ним в сердца сту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сказывайте детям о войн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. Вер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готовила воспит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уппы «Солнечные лучик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БДОУ д/сад №28 «Колос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. Ессен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именко Т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961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26920" y="549360"/>
            <a:ext cx="4465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здоминов Иван Никонович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09 -1972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адедушка Фидюкина Паш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здоминов Иван Никонович родился в 1909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. Дербетовка Апанасенков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вропольского края. В период революции его семья была высл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. Медведевскую Краснодарского края. Здесь в дальнейшем Иван Никонович работал бригадиром в колхозе.  В 1938г. Нездоминов И.Н.   был призван в армию , а  в 1941г. был уже командиром развед. роты.  В период ВОВ освобождал многие города России, в том  числе и Украину, где получил ранение в плеч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иска из фронтовой газеты « …его серые глаза светились юмором и добродушием –,,Пришлось поработать, разминировали Одр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рнулся Иван Никонович  с войны в 1945г в звании майор.  Имеет « Орден  Славы», «Орден Красной звезды», «Орден за отвагу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ер  Нездоминов Иван Никонович 22.02.1972г в с. Дербетовка  Апанасенковского района Ставропольского кра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одном селе был создан музей боевой славы, в нем хранятся все его награды и меда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539640" y="439560"/>
            <a:ext cx="1871640" cy="2465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1378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0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Я горжусь своим прадедом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901800" y="134136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2"/>
          <a:stretch/>
        </p:blipFill>
        <p:spPr>
          <a:xfrm>
            <a:off x="4425840" y="1554120"/>
            <a:ext cx="3876840" cy="4419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"/>
          <p:cNvPicPr/>
          <p:nvPr/>
        </p:nvPicPr>
        <p:blipFill>
          <a:blip r:embed="rId3"/>
          <a:stretch/>
        </p:blipFill>
        <p:spPr>
          <a:xfrm>
            <a:off x="969840" y="3767040"/>
            <a:ext cx="28101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0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Есть события и даты, которые глубоко отпечатались в истории всего человечества. О них пишут книги, сочиняют стихи и музыку. Главное же - о них помнят. И эта память передается из поколения в поколение и не дает померкнуть далеким дням и событиям. Одним из таких событий стала Великая Отечественная война нашего народа против фашисткой Германии. Память о ней должен сохранить каждый россиянин. 9 Мая! Великий праздник для нашего народа. В этот праздник мы поздравляем ветеранов и чтим память погибших воинов. 72 года  эта традиция передается из поколения к поколению. И вот сейчас поздравляют ветеранов уже их 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равнуки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116000" y="4438800"/>
            <a:ext cx="1487520" cy="1485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6156360" y="4290840"/>
            <a:ext cx="191448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3"/>
          <a:stretch/>
        </p:blipFill>
        <p:spPr>
          <a:xfrm>
            <a:off x="4572000" y="4260960"/>
            <a:ext cx="1444680" cy="1914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4"/>
          <a:stretch/>
        </p:blipFill>
        <p:spPr>
          <a:xfrm>
            <a:off x="2914560" y="4290840"/>
            <a:ext cx="128592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е патриотизма с детства, желание быть защитником, знание и почитание памяти предков очень актуальны сегодня. Считаем очень важным изучение не только истории Великой отечественной войны и победы вообще, хотя это тоже очень важно, но и прежде всего - рассказа в семье о прадедушке или прабабушке, которые воевали, об их судьб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этой целью мы предложили семьям наших дошкольников принести фотографии прадедушек и небольшие рассказы  о них   для Книги памяти воинов Великой Отечественной войны, чтобы узнать, знают ли сегодня в молодых семьях о судьбе своих прадедов, защитивших страну от немецких захватчиков, помнят ли, имя деда, который не вернулся с фро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 своих рассказах  ребята и их родители вспомнили тех, кто копал окопы за городом, был в немецких лагерях, или тяжело работал во время войны на шахте, заводе для Побе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ывая в наших детях уважение к прошлому, мы обеспечиваем его «бессмертность» к подвигам наших праде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640" y="27432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ов Иван  Ипатьевич</a:t>
            </a: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адедушка Черепановой Саш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руков Иван Ипатьевич  был призв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яды Красной  армии   осенью 1941год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ужил в пехоте и получил звание старши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рез пол года после ухода на войну, у него родился 4-й ребен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чь, которую он никогда так и не увидел. Письма и открытк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торые прапрадед присылал своим детям хранятся с семье 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ей ден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обороне Ленинграда он был тяжело ранен в голову. Иван Ипатьевич был переправлен в госпиталь в Псковскую область в деревню Лапьева гора, где от полученных ран скончался. Струков Иван Ипатьевич был похоронен в братской могил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ы очень гордимся тем, что в нашей семье были участники той страшной войны, что наши прадедушки сделали всё что могли, чтобы защитить нашу Родину. В наших сердцах всегда  будет жить память о них и о всех ветеранах  и тружениках В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57360" y="701640"/>
            <a:ext cx="1969920" cy="2922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7308720" y="476280"/>
            <a:ext cx="120024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43210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лютин Павел Петрович</a:t>
            </a:r>
            <a:br>
              <a:rPr sz="20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адедушка Переверзевой Даш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.07.1909 – 26.03.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86228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лютин Павел Петрович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одился 15 июля 1909 г. в д. Петровк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льшереченского района Западно-Сибирского кра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4 ноября 1935 г. был призван в кадровый состав РККА на должность среднего начальствующего соста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одил службу в частях Дальневосточного фрон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ник Великой Отечественной войн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ставе 16-й армии Дальневосточного фронта принимал участие в  Южно-Сахалинской наступательной операции и Маньчжурской наступательной опера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 окончания Великой Отечественной войны продолжил службу в рядах Советской Арм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 увольнения в запас переехал с семьей на постоянное место жительства в г. Ессентуки Ставропольского кра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 время прохождения службы был награжден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рденом «Красного Знамени», орденом «Красной звезды», медалями «За боевые заслуги», «За победу над Германией в Великой Отечественной Войне 1941-1945 гг.», «За победу над Японией» и многими юбилейными медаля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ер Павел Петрович Милюти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6 марта 1982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асибо прадеду за победу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1511280" cy="1959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6907320" y="549360"/>
            <a:ext cx="1681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1640" y="476280"/>
            <a:ext cx="561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епокуров Богдан и его прад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дратьев Владимир Василье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 07.04.1911 – 19.09.1989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жант , связист,  воевал на Кавказских перевал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гражден: Орденом Отечественной войн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тепен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далью «За Победу над Германией в ВОВ 1941 – 1945гг»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далью «За оборону Кавказа», Медалью «За отвагу».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онин Илья Никифорович ( 18.08.1911 – 11.07.196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зван в Красную армию в октябре 1941года в г. Ессентуки в 966 стрелков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к 296 стрелковой  дивизии 37 Армии. Числился убитым в бою п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. Яковлевка Сталинской   области ( в настоящее время Донецкая область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3 марта 1942года был тяжело  ранен и считался похороненным. На сам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е, после тяжелого ранения под с. Яковлевка был эвакуирован в г. Тбилис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проходил лечение в госпитал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лья Никифорович принимал участие в обороне Кавказских Хребтов, с 15 марта  1944года присвоено звание старший сержант , командир отделения 43 горно – вьючной р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7" descr=""/>
          <p:cNvPicPr/>
          <p:nvPr/>
        </p:nvPicPr>
        <p:blipFill>
          <a:blip r:embed="rId1"/>
          <a:stretch/>
        </p:blipFill>
        <p:spPr>
          <a:xfrm>
            <a:off x="592200" y="1268280"/>
            <a:ext cx="1538280" cy="2202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1644840" cy="2016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"/>
          <p:cNvPicPr/>
          <p:nvPr/>
        </p:nvPicPr>
        <p:blipFill>
          <a:blip r:embed="rId3"/>
          <a:stretch/>
        </p:blipFill>
        <p:spPr>
          <a:xfrm>
            <a:off x="7020000" y="476280"/>
            <a:ext cx="14922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вченко Яков Викторович</a:t>
            </a: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адедушка Панасенко Ани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5.07.1916 –24.08.1995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762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ков Викторович с сентября  1938 по февраль 1941 г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ужил во Владивостоке рядовым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Февраля 1941 по апрель 1942 года воевал на Юго Западном фронте рядовым 16 стрелкового пол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октября 1942г. по март 1943г. воевал на Сталинградском фронте, был ранен при защите Дома Павлова. С марта 1943 по ноябрь 1943г. находился на излечении в эвакогоспитале в Свердловской области, город Прав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ноября 1943 по март 1944 воевал н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елорусском фронте рядовым танкового пока. С марта 1944г по декабрь 1945г стал командиром отделения  15 краснознаменного кавалерийского полка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войны жил и работал в  Боргустане  в тракторной бригаде – трактористом. С1964 года работал плотником на консервном завод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л следующие ордена и медал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Медаль за оборону Сталинграда, Медаль за взятие Берлина, Медаль за освобождение  Варшавы, Орден Красной звез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амять о нем живет по сей день. Его правнуки знают о нем и знают,  что он защищал нашу Родину во время войны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49364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7524720" y="446040"/>
            <a:ext cx="11206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12720" y="449280"/>
            <a:ext cx="46069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касов Илья Денисович</a:t>
            </a: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адедушка Чучко Яросла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25  – 1995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й прадед – Черкасов Илья Денисович, родился на  хуторе гут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нераловодского района 7 декабря 1925г. в семье Георгиев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валера Черкасова Дениса Васильевич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42г., когда ему  исполнилось 17 лет, был призван в ряды действующей Красной Армии. Воевал на Кавказе, служил в пехотных войсках стрелком ПТР. Однажды ,проявив солдатскую смекалку, сбил вражеский самолет-разведч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43г. был ранен в левую руку и списан по состоянию здоровь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ет награды: Орден Отечественной войны 3-й степени, 8 Юбилейных медалей. До окончания войны работал на шахте. В последствии работал в совхозе «Доброжеланный» бухгалтером. В сентябре 1995г. ушел из жи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95280" y="449280"/>
            <a:ext cx="2017800" cy="2663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1635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00360" y="475920"/>
            <a:ext cx="41752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ов Леонтий Кирякович</a:t>
            </a:r>
            <a:br>
              <a:rPr sz="20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адедушка Шейранова Авраама</a:t>
            </a: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23 -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2401560"/>
            <a:ext cx="8147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зьмов Леонтий Кирякович жил в Груз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8 лет был отправлен на вой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ачала воевал на западе стра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тем воевал в Венг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шел до Берлина. Ушел из жизни в 2004го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шли десятилетия, годы после Великой Победы, но память и гордость о проявленном героизме и самоотверженной борьбе против фашизма должна храниться в каждом доме, в каждой семье, в каждом последующем поколении. Поэтому очень важно , развивать в каждом детском сердечке чувство гордости и понимания значимости этого всенародного празд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303640" cy="3024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tretch/>
        </p:blipFill>
        <p:spPr>
          <a:xfrm>
            <a:off x="7020000" y="479520"/>
            <a:ext cx="15206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cp:lastPrinted>2017-05-19T08:22:46Z</cp:lastPrinted>
  <dcterms:modified xsi:type="dcterms:W3CDTF">2017-05-21T14:57:35Z</dcterms:modified>
  <cp:revision>42</cp:revision>
  <dc:subject/>
  <dc:title>Слайд 1</dc:title>
</cp:coreProperties>
</file>