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1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D306E7A-67DD-4AC7-A932-AD29226F4D4D}" type="doc">
      <dgm:prSet loTypeId="urn:microsoft.com/office/officeart/2005/8/layout/radial1" loCatId="cycle" qsTypeId="urn:microsoft.com/office/officeart/2005/8/quickstyle/simple3" qsCatId="simple" csTypeId="urn:microsoft.com/office/officeart/2005/8/colors/accent1_2#1" csCatId="accent1" phldr="1"/>
      <dgm:spPr/>
      <dgm:t>
        <a:bodyPr/>
        <a:lstStyle/>
        <a:p>
          <a:endParaRPr lang="ru-RU"/>
        </a:p>
      </dgm:t>
    </dgm:pt>
    <dgm:pt modelId="{24D08626-CE15-434F-8F1B-DA2C158EAE61}">
      <dgm:prSet custT="1"/>
      <dgm:spPr/>
      <dgm:t>
        <a:bodyPr/>
        <a:lstStyle/>
        <a:p>
          <a:r>
            <a:rPr lang="ru-RU" sz="2000" dirty="0" smtClean="0">
              <a:solidFill>
                <a:schemeClr val="tx1"/>
              </a:solidFill>
            </a:rPr>
            <a:t>Практика показывает, что наиболее уязвимым местом в области физического воспитания дошкольников является развитие самостоятельности. Дети должны освоить и правильно выполнять разучиваемые в каждой возрастной группе движения. Педагогу необходимо формировать у детей способность самостоятельно оценивать качество выполнения движений товарищей и своих собственных. На таких занятиях надо не только проявить интерес и в свободной деятельности использовать полученный двигательный опыт, но и творчески развить его, внести своё</a:t>
          </a:r>
          <a:r>
            <a:rPr lang="ru-RU" sz="1900" dirty="0" smtClean="0"/>
            <a:t>. </a:t>
          </a:r>
          <a:endParaRPr lang="ru-RU" sz="1900" dirty="0"/>
        </a:p>
      </dgm:t>
    </dgm:pt>
    <dgm:pt modelId="{A945E9EE-0A70-488B-8DB7-2F5E9C411DDC}" type="parTrans" cxnId="{E8020D86-A0A8-4ED5-B0A2-5FAD1E5A3167}">
      <dgm:prSet/>
      <dgm:spPr/>
      <dgm:t>
        <a:bodyPr/>
        <a:lstStyle/>
        <a:p>
          <a:endParaRPr lang="ru-RU"/>
        </a:p>
      </dgm:t>
    </dgm:pt>
    <dgm:pt modelId="{7A844156-630C-4380-AE47-0494D6EA2062}" type="sibTrans" cxnId="{E8020D86-A0A8-4ED5-B0A2-5FAD1E5A3167}">
      <dgm:prSet/>
      <dgm:spPr/>
      <dgm:t>
        <a:bodyPr/>
        <a:lstStyle/>
        <a:p>
          <a:endParaRPr lang="ru-RU"/>
        </a:p>
      </dgm:t>
    </dgm:pt>
    <dgm:pt modelId="{CE349E3A-A1AD-428A-87ED-D36AA2058341}" type="pres">
      <dgm:prSet presAssocID="{3D306E7A-67DD-4AC7-A932-AD29226F4D4D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E770998-09C8-44C1-BE82-15C8AD7B9562}" type="pres">
      <dgm:prSet presAssocID="{24D08626-CE15-434F-8F1B-DA2C158EAE61}" presName="centerShape" presStyleLbl="node0" presStyleIdx="0" presStyleCnt="1" custScaleX="139510" custLinFactNeighborX="101" custLinFactNeighborY="-316"/>
      <dgm:spPr/>
      <dgm:t>
        <a:bodyPr/>
        <a:lstStyle/>
        <a:p>
          <a:endParaRPr lang="ru-RU"/>
        </a:p>
      </dgm:t>
    </dgm:pt>
  </dgm:ptLst>
  <dgm:cxnLst>
    <dgm:cxn modelId="{E8020D86-A0A8-4ED5-B0A2-5FAD1E5A3167}" srcId="{3D306E7A-67DD-4AC7-A932-AD29226F4D4D}" destId="{24D08626-CE15-434F-8F1B-DA2C158EAE61}" srcOrd="0" destOrd="0" parTransId="{A945E9EE-0A70-488B-8DB7-2F5E9C411DDC}" sibTransId="{7A844156-630C-4380-AE47-0494D6EA2062}"/>
    <dgm:cxn modelId="{26DCF7D9-646A-449A-A324-9E00FD7DB6E9}" type="presOf" srcId="{3D306E7A-67DD-4AC7-A932-AD29226F4D4D}" destId="{CE349E3A-A1AD-428A-87ED-D36AA2058341}" srcOrd="0" destOrd="0" presId="urn:microsoft.com/office/officeart/2005/8/layout/radial1"/>
    <dgm:cxn modelId="{F3904924-918D-4569-AC95-E5D0EE4E5D09}" type="presOf" srcId="{24D08626-CE15-434F-8F1B-DA2C158EAE61}" destId="{BE770998-09C8-44C1-BE82-15C8AD7B9562}" srcOrd="0" destOrd="0" presId="urn:microsoft.com/office/officeart/2005/8/layout/radial1"/>
    <dgm:cxn modelId="{A459E49B-A901-41CE-B147-0D8ACA5E032E}" type="presParOf" srcId="{CE349E3A-A1AD-428A-87ED-D36AA2058341}" destId="{BE770998-09C8-44C1-BE82-15C8AD7B9562}" srcOrd="0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EF701FC-4288-41E9-A95A-7DAD48A6E4DB}">
      <dsp:nvSpPr>
        <dsp:cNvPr id="0" name=""/>
        <dsp:cNvSpPr/>
      </dsp:nvSpPr>
      <dsp:spPr>
        <a:xfrm>
          <a:off x="2408793" y="2207879"/>
          <a:ext cx="2245128" cy="2173973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Участники проекта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2408793" y="2207879"/>
        <a:ext cx="2245128" cy="2173973"/>
      </dsp:txXfrm>
    </dsp:sp>
    <dsp:sp modelId="{8A3C9BE0-8F98-483D-96EA-AE9D7619A3FB}">
      <dsp:nvSpPr>
        <dsp:cNvPr id="0" name=""/>
        <dsp:cNvSpPr/>
      </dsp:nvSpPr>
      <dsp:spPr>
        <a:xfrm rot="16171609">
          <a:off x="3240321" y="1904280"/>
          <a:ext cx="559498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559498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6171609">
        <a:off x="3506083" y="1914186"/>
        <a:ext cx="27974" cy="27974"/>
      </dsp:txXfrm>
    </dsp:sp>
    <dsp:sp modelId="{DCEB8804-75B8-4F4E-BF95-44B4B9F15CCF}">
      <dsp:nvSpPr>
        <dsp:cNvPr id="0" name=""/>
        <dsp:cNvSpPr/>
      </dsp:nvSpPr>
      <dsp:spPr>
        <a:xfrm>
          <a:off x="2643560" y="-36168"/>
          <a:ext cx="1734487" cy="168462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Дети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643560" y="-36168"/>
        <a:ext cx="1734487" cy="1684629"/>
      </dsp:txXfrm>
    </dsp:sp>
    <dsp:sp modelId="{6C09E07B-CF58-42C9-ABB2-275146959513}">
      <dsp:nvSpPr>
        <dsp:cNvPr id="0" name=""/>
        <dsp:cNvSpPr/>
      </dsp:nvSpPr>
      <dsp:spPr>
        <a:xfrm rot="1793235">
          <a:off x="4487299" y="3860954"/>
          <a:ext cx="14119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14119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793235">
        <a:off x="4554367" y="3881318"/>
        <a:ext cx="7059" cy="7059"/>
      </dsp:txXfrm>
    </dsp:sp>
    <dsp:sp modelId="{ABEC386C-5CF8-42C1-B034-70EE21B42B85}">
      <dsp:nvSpPr>
        <dsp:cNvPr id="0" name=""/>
        <dsp:cNvSpPr/>
      </dsp:nvSpPr>
      <dsp:spPr>
        <a:xfrm>
          <a:off x="4433107" y="3353651"/>
          <a:ext cx="2526744" cy="237114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Воспитатель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4433107" y="3353651"/>
        <a:ext cx="2526744" cy="2371149"/>
      </dsp:txXfrm>
    </dsp:sp>
    <dsp:sp modelId="{4E629753-E9A1-4B3C-830C-2845945C77A7}">
      <dsp:nvSpPr>
        <dsp:cNvPr id="0" name=""/>
        <dsp:cNvSpPr/>
      </dsp:nvSpPr>
      <dsp:spPr>
        <a:xfrm rot="8996472">
          <a:off x="2254811" y="3912647"/>
          <a:ext cx="33552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33552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8996472">
        <a:off x="2414185" y="3928152"/>
        <a:ext cx="16776" cy="16776"/>
      </dsp:txXfrm>
    </dsp:sp>
    <dsp:sp modelId="{7FC289BD-9B63-4355-B3AA-4254CE012723}">
      <dsp:nvSpPr>
        <dsp:cNvPr id="0" name=""/>
        <dsp:cNvSpPr/>
      </dsp:nvSpPr>
      <dsp:spPr>
        <a:xfrm>
          <a:off x="198031" y="3531471"/>
          <a:ext cx="2250576" cy="208245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Родители</a:t>
          </a:r>
          <a:endParaRPr lang="ru-RU" sz="1400" b="1" i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198031" y="3531471"/>
        <a:ext cx="2250576" cy="20824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634-4B13-4211-A3E3-217E8E90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E2B-FFCC-43D5-94AB-BDACCC7C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CFF-77BF-420B-B2CE-F629EA96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436-CCA1-4327-8880-FE2FF45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475F-1496-4071-8B3C-CACE514A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71B-0B7C-4DD2-B743-4B16DDB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B301-0C0A-4B96-8D8D-352C577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AB9D-D525-4A09-99EB-136E29F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071-2E8F-4DD8-A5B8-F00F3D40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B4DE-A786-4C54-BD39-EFA0F902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CF8E-DC9B-4015-BDC3-C258624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C62-3C77-4CA1-9628-A2E7888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8C9-64D4-4C65-9FD4-1C0F9728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00A-E5F2-4F13-BEF0-F8E3761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BAD-F7E8-422A-BFBB-E4BEA33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C8E-BAA5-4B4A-B5EC-9214CE78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661-82FD-4E47-A9AE-6AD186F3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15C5-80BF-41DC-954F-259A2B78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07D3-B075-4759-997B-8FDFF78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4D12-D166-4967-B8C3-BE2ABB6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605A-FB87-444A-A5CF-22520DF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C535A-57D9-4815-A4F4-9B7D9F7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024-05E4-46E2-B7CC-5E44CBD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476D-9C19-46EA-AEDD-322E86CD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2D19-45A8-4833-BE47-A54111C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E594-013C-4A25-8757-C603915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7E0D-1B61-42C9-835E-C7C787C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BCEA-85FB-4E66-9481-0AC018B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B9C5-BF4E-4ED0-BA28-1CA5DA02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8BA8-07D6-45C4-9498-72896A22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B625-AE87-41D4-AE73-B252E28E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2416-2422-401B-B3C7-50A8CE0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4DA0-EEF5-4FE2-A5F6-CA4FB98A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9EE-AC8C-472D-92C0-B1FF524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F294-1864-4EE8-81FE-846D0ED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0073-2158-4F1C-B548-C9F46E4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F5D9-5800-49D1-A25B-96FC272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5F81-CCFB-4ADA-96C2-3D773AF7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4974-7D32-4B3D-8CBD-A8C4644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564C-4FF7-4D71-9670-9A2FB87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AE30-76BE-4567-854F-05F39611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03AE-773B-4068-A7FD-18E81CD4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5CB6-8538-494F-B7B1-AB97D11C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719-E380-44F8-9998-9CDFB3F6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729-B90F-4D1A-9B9D-388ABE5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122-1A19-4562-897C-7C5A32B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18A-DE53-4FDD-B5ED-DFC95B6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EE1-4C99-41CE-B64E-C962CB6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3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4CDE08-2219-4A0B-84CF-27EB029C92F8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4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08B2315-2359-4F65-862F-425C07226419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31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31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1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31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32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32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33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4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4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35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36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36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37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37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38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38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38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39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39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40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40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41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41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42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7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9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32A6C77-0143-4457-8953-6D7C7BDCDCFB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46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46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46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47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47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48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48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49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49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49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50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51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1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2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52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53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53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54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54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54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55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55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56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56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57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57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9" name="PlaceHolder 1"/>
          <p:cNvSpPr>
            <a:spLocks noGrp="1"/>
          </p:cNvSpPr>
          <p:nvPr>
            <p:ph type="dt" idx="10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2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95773A1-32D3-46E4-A02A-68C4132B248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1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999880" cy="2707200"/>
          </a:xfrm>
          <a:prstGeom prst="rect">
            <a:avLst/>
          </a:prstGeom>
          <a:ln w="9525">
            <a:noFill/>
          </a:ln>
        </p:spPr>
      </p:pic>
      <p:sp>
        <p:nvSpPr>
          <p:cNvPr id="621" name="TextBox 7"/>
          <p:cNvSpPr/>
          <p:nvPr/>
        </p:nvSpPr>
        <p:spPr>
          <a:xfrm>
            <a:off x="1785960" y="785880"/>
            <a:ext cx="62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-карточки, используемые на занятиях  по физической культуре по методу круговой тренировки со старши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3714840" y="3857760"/>
            <a:ext cx="47145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пос. Лен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р. Красноармейский д.с.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варина серафим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Третья станция. Упражнения в прыжках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571464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Четвертая станция.  Упражнения на гимнастической стенке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21468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лазань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3268080" cy="4095360"/>
          </a:xfrm>
          <a:prstGeom prst="rect">
            <a:avLst/>
          </a:prstGeom>
          <a:ln w="9525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4618080" y="2286000"/>
            <a:ext cx="302544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9800" y="0"/>
            <a:ext cx="712440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мячом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2214720" y="1071720"/>
            <a:ext cx="6500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0" y="1857240"/>
            <a:ext cx="1940400" cy="25714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прыжках в длину с места, с разбега, в высоту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571480" cy="3285720"/>
          </a:xfrm>
          <a:prstGeom prst="rect">
            <a:avLst/>
          </a:prstGeom>
          <a:ln w="9525">
            <a:noFill/>
          </a:ln>
        </p:spPr>
      </p:pic>
      <p:pic>
        <p:nvPicPr>
          <p:cNvPr id="651" name="Picture 3" descr=""/>
          <p:cNvPicPr/>
          <p:nvPr/>
        </p:nvPicPr>
        <p:blipFill>
          <a:blip r:embed="rId2"/>
          <a:stretch/>
        </p:blipFill>
        <p:spPr>
          <a:xfrm>
            <a:off x="5786280" y="1428840"/>
            <a:ext cx="2966040" cy="3722400"/>
          </a:xfrm>
          <a:prstGeom prst="rect">
            <a:avLst/>
          </a:prstGeom>
          <a:ln w="9525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3"/>
          <a:stretch/>
        </p:blipFill>
        <p:spPr>
          <a:xfrm>
            <a:off x="3000240" y="2571840"/>
            <a:ext cx="271440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метанье .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928680" cy="4221360"/>
          </a:xfrm>
          <a:prstGeom prst="rect">
            <a:avLst/>
          </a:prstGeom>
          <a:ln w="9525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2"/>
          <a:stretch/>
        </p:blipFill>
        <p:spPr>
          <a:xfrm>
            <a:off x="5000760" y="1928880"/>
            <a:ext cx="3428640" cy="40716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равновесии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142880" cy="400572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на снарядах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77560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3429000" y="1928880"/>
            <a:ext cx="2214360" cy="3714480"/>
          </a:xfrm>
          <a:prstGeom prst="rect">
            <a:avLst/>
          </a:prstGeom>
          <a:ln w="9525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6143760" y="1928880"/>
            <a:ext cx="249984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6"/>
          <p:cNvSpPr/>
          <p:nvPr/>
        </p:nvSpPr>
        <p:spPr>
          <a:xfrm>
            <a:off x="1870920" y="785880"/>
            <a:ext cx="39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робатические упр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286680" y="2357280"/>
            <a:ext cx="246636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3500280" y="2286000"/>
            <a:ext cx="249984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285840" y="2286000"/>
            <a:ext cx="271440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обручем и скакалко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26672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8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4266720" cy="38574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692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Цель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632360" cy="23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ть детей умению «считывать» задание-рисунок, схему, пользоваться карточками, ориентироваться по ним. </a:t>
            </a: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Ожидаемые результат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гащение двигательного опыта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сноровки, внимания, ловкости,  умения быть в коллективе;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вышение самооценки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режное обращение с пособиями, применение  их творчески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выки самостоятельной двигательной активности  при использовании схем-карточек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42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Дальнейшие перспективы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09800" y="1052640"/>
            <a:ext cx="7124400" cy="48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работу по формированию двигательной активности детей с использованием схем-карточек на утренней гимнастике, с детьми младше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оснащать картотеку схемами для разно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676440"/>
            <a:ext cx="7776720" cy="318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9800" y="1341360"/>
            <a:ext cx="7738560" cy="5016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ть у детей способность самостоятельно организовать и выполнять игровые движения, схематично обозначенные на специальных карточках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 детей способность к прогнозированию своих действий, к проявлению настойчивости, направленной на достижение своей цел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облюдать правила, точно выполнять действия. Развивать у детей способность к быстроте и ловкост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инициативу у каждого ребёнка, желание как можно лучше выполнить задание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ировать детей на двигательную активность, через использование нетрадиционного оборудования в самостоятельных видах деятельности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115920"/>
            <a:ext cx="6802200" cy="64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Актуальност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94934820"/>
              </p:ext>
            </p:extLst>
          </p:nvPr>
        </p:nvGraphicFramePr>
        <p:xfrm>
          <a:off x="827640" y="1214280"/>
          <a:ext cx="7200360" cy="51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advTm="1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Применение схем-карточек в целях совершенствования физического развития детей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848360" cy="37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физкультурных занятий я использую карточки, на которых схематично изображены общеразвивающие упражнения, основные виды движений, элементы хождения на лыжах, и других подвижных игр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карточками позволяет детям использовать накопленный двигательный опыт в самостоятельной деятельности, учит организовывать соревнования со сверстниками, подчиняться правилам. Критерием подготовки детей к самостоятельной организации двигательного досуга является их умение выполнять игровые движения, схематично обозначенные на специальных карточках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rebuchet MS"/>
              </a:rPr>
              <a:t>Эффективность и значимость  использования схем –карт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85840" y="571320"/>
            <a:ext cx="8857800" cy="628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качества, как самостоятельность, умение ориентироваться в окружающей обстановке, оценивать свои физические качества развиваются при проведении физкультурных занятий по принципу круговой тренировки. Эффективность и значимость таких занятий определяется: моторной плотностью, формированием умений и навыков, развитием физических качеств, стимулированием индивидуальных особенностей, самостоятельности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оведении таких занятий используются карты-схемы. Они перед началом работы «читаются» всеми детьми. На карте схематично изображены спортивные снаряды, порядок выполнения, темп, количество выполнений. Дети изучают карту и по сигналу инструктора идут на первый этап. Выполняют упражнение и по сигналу делают переход к следующему снаряду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09800" y="500040"/>
            <a:ext cx="7124400" cy="535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чки-схемы применяются не только на занятиях по принципу круговой тренировки, но и как приём в сюжетных, игровых занятиях, занятиях - соревнованиях. Карточки очень помогают и при обучении основным видам движений. Если ребёнок плохо овладевает, например, прыжком в высоту способом перешагивания, то ему даётся карточка с изображением подводящего упражнения. Или же наоборот, сильный физически ребёнок получает индивидуальную карточку и работает самостоятельн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133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Первая станция. Упражнения с мячом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57180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1428840" y="428760"/>
            <a:ext cx="5786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станция. Упражнения на лаза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578628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theme/theme1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5028</TotalTime>
  <Application>LibreOffice/7.4.7.2$Linux_X86_64 LibreOffice_project/40$Build-2</Application>
  <AppVersion>15.0000</AppVersion>
  <Words>45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06:00Z</dcterms:created>
  <dc:creator>Елена</dc:creator>
  <dc:description/>
  <dc:language>en-US</dc:language>
  <cp:lastModifiedBy>Админ</cp:lastModifiedBy>
  <dcterms:modified xsi:type="dcterms:W3CDTF">2017-01-31T16:31:29Z</dcterms:modified>
  <cp:revision>504</cp:revision>
  <dc:subject/>
  <dc:title>Муниципальное бюджетное дошкольное образовательное учреждение  комбинированного вида детский сад №5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