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#1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D306E7A-67DD-4AC7-A932-AD29226F4D4D}" type="doc">
      <dgm:prSet loTypeId="urn:microsoft.com/office/officeart/2005/8/layout/radial1" loCatId="cycle" qsTypeId="urn:microsoft.com/office/officeart/2005/8/quickstyle/simple3" qsCatId="simple" csTypeId="urn:microsoft.com/office/officeart/2005/8/colors/accent1_2#1" csCatId="accent1" phldr="1"/>
      <dgm:spPr/>
      <dgm:t>
        <a:bodyPr/>
        <a:lstStyle/>
        <a:p>
          <a:endParaRPr lang="ru-RU"/>
        </a:p>
      </dgm:t>
    </dgm:pt>
    <dgm:pt modelId="{24D08626-CE15-434F-8F1B-DA2C158EAE61}">
      <dgm:prSet custT="1"/>
      <dgm:spPr/>
      <dgm:t>
        <a:bodyPr/>
        <a:lstStyle/>
        <a:p>
          <a:r>
            <a:rPr lang="ru-RU" sz="2000" dirty="0" smtClean="0">
              <a:solidFill>
                <a:schemeClr val="tx1"/>
              </a:solidFill>
            </a:rPr>
            <a:t>Практика показывает, что наиболее уязвимым местом в области физического воспитания дошкольников является развитие самостоятельности. Дети должны освоить и правильно выполнять разучиваемые в каждой возрастной группе движения. Педагогу необходимо формировать у детей способность самостоятельно оценивать качество выполнения движений товарищей и своих собственных. На таких занятиях надо не только проявить интерес и в свободной деятельности использовать полученный двигательный опыт, но и творчески развить его, внести своё</a:t>
          </a:r>
          <a:r>
            <a:rPr lang="ru-RU" sz="1900" dirty="0" smtClean="0"/>
            <a:t>. </a:t>
          </a:r>
          <a:endParaRPr lang="ru-RU" sz="1900" dirty="0"/>
        </a:p>
      </dgm:t>
    </dgm:pt>
    <dgm:pt modelId="{A945E9EE-0A70-488B-8DB7-2F5E9C411DDC}" type="parTrans" cxnId="{E8020D86-A0A8-4ED5-B0A2-5FAD1E5A3167}">
      <dgm:prSet/>
      <dgm:spPr/>
      <dgm:t>
        <a:bodyPr/>
        <a:lstStyle/>
        <a:p>
          <a:endParaRPr lang="ru-RU"/>
        </a:p>
      </dgm:t>
    </dgm:pt>
    <dgm:pt modelId="{7A844156-630C-4380-AE47-0494D6EA2062}" type="sibTrans" cxnId="{E8020D86-A0A8-4ED5-B0A2-5FAD1E5A3167}">
      <dgm:prSet/>
      <dgm:spPr/>
      <dgm:t>
        <a:bodyPr/>
        <a:lstStyle/>
        <a:p>
          <a:endParaRPr lang="ru-RU"/>
        </a:p>
      </dgm:t>
    </dgm:pt>
    <dgm:pt modelId="{CE349E3A-A1AD-428A-87ED-D36AA2058341}" type="pres">
      <dgm:prSet presAssocID="{3D306E7A-67DD-4AC7-A932-AD29226F4D4D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E770998-09C8-44C1-BE82-15C8AD7B9562}" type="pres">
      <dgm:prSet presAssocID="{24D08626-CE15-434F-8F1B-DA2C158EAE61}" presName="centerShape" presStyleLbl="node0" presStyleIdx="0" presStyleCnt="1" custScaleX="139510" custLinFactNeighborX="101" custLinFactNeighborY="-316"/>
      <dgm:spPr/>
      <dgm:t>
        <a:bodyPr/>
        <a:lstStyle/>
        <a:p>
          <a:endParaRPr lang="ru-RU"/>
        </a:p>
      </dgm:t>
    </dgm:pt>
  </dgm:ptLst>
  <dgm:cxnLst>
    <dgm:cxn modelId="{E8020D86-A0A8-4ED5-B0A2-5FAD1E5A3167}" srcId="{3D306E7A-67DD-4AC7-A932-AD29226F4D4D}" destId="{24D08626-CE15-434F-8F1B-DA2C158EAE61}" srcOrd="0" destOrd="0" parTransId="{A945E9EE-0A70-488B-8DB7-2F5E9C411DDC}" sibTransId="{7A844156-630C-4380-AE47-0494D6EA2062}"/>
    <dgm:cxn modelId="{26DCF7D9-646A-449A-A324-9E00FD7DB6E9}" type="presOf" srcId="{3D306E7A-67DD-4AC7-A932-AD29226F4D4D}" destId="{CE349E3A-A1AD-428A-87ED-D36AA2058341}" srcOrd="0" destOrd="0" presId="urn:microsoft.com/office/officeart/2005/8/layout/radial1"/>
    <dgm:cxn modelId="{F3904924-918D-4569-AC95-E5D0EE4E5D09}" type="presOf" srcId="{24D08626-CE15-434F-8F1B-DA2C158EAE61}" destId="{BE770998-09C8-44C1-BE82-15C8AD7B9562}" srcOrd="0" destOrd="0" presId="urn:microsoft.com/office/officeart/2005/8/layout/radial1"/>
    <dgm:cxn modelId="{A459E49B-A901-41CE-B147-0D8ACA5E032E}" type="presParOf" srcId="{CE349E3A-A1AD-428A-87ED-D36AA2058341}" destId="{BE770998-09C8-44C1-BE82-15C8AD7B9562}" srcOrd="0" destOrd="0" presId="urn:microsoft.com/office/officeart/2005/8/layout/radial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6EF701FC-4288-41E9-A95A-7DAD48A6E4DB}">
      <dsp:nvSpPr>
        <dsp:cNvPr id="0" name=""/>
        <dsp:cNvSpPr/>
      </dsp:nvSpPr>
      <dsp:spPr>
        <a:xfrm>
          <a:off x="2408793" y="2207879"/>
          <a:ext cx="2245128" cy="2173973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1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1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1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latin typeface="Times New Roman" pitchFamily="18" charset="0"/>
              <a:cs typeface="Times New Roman" pitchFamily="18" charset="0"/>
            </a:rPr>
            <a:t>Участники проекта</a:t>
          </a:r>
          <a:endParaRPr lang="ru-RU" sz="2000" b="1" i="1" kern="1200" dirty="0">
            <a:latin typeface="Times New Roman" pitchFamily="18" charset="0"/>
            <a:cs typeface="Times New Roman" pitchFamily="18" charset="0"/>
          </a:endParaRPr>
        </a:p>
      </dsp:txBody>
      <dsp:txXfrm>
        <a:off x="2408793" y="2207879"/>
        <a:ext cx="2245128" cy="2173973"/>
      </dsp:txXfrm>
    </dsp:sp>
    <dsp:sp modelId="{8A3C9BE0-8F98-483D-96EA-AE9D7619A3FB}">
      <dsp:nvSpPr>
        <dsp:cNvPr id="0" name=""/>
        <dsp:cNvSpPr/>
      </dsp:nvSpPr>
      <dsp:spPr>
        <a:xfrm rot="16171609">
          <a:off x="3240321" y="1904280"/>
          <a:ext cx="559498" cy="47787"/>
        </a:xfrm>
        <a:custGeom>
          <a:avLst/>
          <a:gdLst/>
          <a:ahLst/>
          <a:cxnLst/>
          <a:rect l="0" t="0" r="0" b="0"/>
          <a:pathLst>
            <a:path>
              <a:moveTo>
                <a:pt x="0" y="23893"/>
              </a:moveTo>
              <a:lnTo>
                <a:pt x="559498" y="23893"/>
              </a:lnTo>
            </a:path>
          </a:pathLst>
        </a:custGeom>
        <a:noFill/>
        <a:ln w="25400" cap="flat" cmpd="sng" algn="ctr">
          <a:solidFill>
            <a:schemeClr val="tx1"/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 dirty="0"/>
        </a:p>
      </dsp:txBody>
      <dsp:txXfrm rot="16171609">
        <a:off x="3506083" y="1914186"/>
        <a:ext cx="27974" cy="27974"/>
      </dsp:txXfrm>
    </dsp:sp>
    <dsp:sp modelId="{DCEB8804-75B8-4F4E-BF95-44B4B9F15CCF}">
      <dsp:nvSpPr>
        <dsp:cNvPr id="0" name=""/>
        <dsp:cNvSpPr/>
      </dsp:nvSpPr>
      <dsp:spPr>
        <a:xfrm>
          <a:off x="2643560" y="-36168"/>
          <a:ext cx="1734487" cy="1684629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1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1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1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latin typeface="Times New Roman" pitchFamily="18" charset="0"/>
              <a:cs typeface="Times New Roman" pitchFamily="18" charset="0"/>
            </a:rPr>
            <a:t>Дети</a:t>
          </a: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 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2643560" y="-36168"/>
        <a:ext cx="1734487" cy="1684629"/>
      </dsp:txXfrm>
    </dsp:sp>
    <dsp:sp modelId="{6C09E07B-CF58-42C9-ABB2-275146959513}">
      <dsp:nvSpPr>
        <dsp:cNvPr id="0" name=""/>
        <dsp:cNvSpPr/>
      </dsp:nvSpPr>
      <dsp:spPr>
        <a:xfrm rot="1793235">
          <a:off x="4487299" y="3860954"/>
          <a:ext cx="141195" cy="47787"/>
        </a:xfrm>
        <a:custGeom>
          <a:avLst/>
          <a:gdLst/>
          <a:ahLst/>
          <a:cxnLst/>
          <a:rect l="0" t="0" r="0" b="0"/>
          <a:pathLst>
            <a:path>
              <a:moveTo>
                <a:pt x="0" y="23893"/>
              </a:moveTo>
              <a:lnTo>
                <a:pt x="141195" y="23893"/>
              </a:lnTo>
            </a:path>
          </a:pathLst>
        </a:custGeom>
        <a:noFill/>
        <a:ln w="25400" cap="flat" cmpd="sng" algn="ctr">
          <a:solidFill>
            <a:schemeClr val="tx1"/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 dirty="0"/>
        </a:p>
      </dsp:txBody>
      <dsp:txXfrm rot="1793235">
        <a:off x="4554367" y="3881318"/>
        <a:ext cx="7059" cy="7059"/>
      </dsp:txXfrm>
    </dsp:sp>
    <dsp:sp modelId="{ABEC386C-5CF8-42C1-B034-70EE21B42B85}">
      <dsp:nvSpPr>
        <dsp:cNvPr id="0" name=""/>
        <dsp:cNvSpPr/>
      </dsp:nvSpPr>
      <dsp:spPr>
        <a:xfrm>
          <a:off x="4433107" y="3353651"/>
          <a:ext cx="2526744" cy="2371149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1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1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1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latin typeface="Times New Roman" pitchFamily="18" charset="0"/>
              <a:cs typeface="Times New Roman" pitchFamily="18" charset="0"/>
            </a:rPr>
            <a:t>Воспитатель</a:t>
          </a:r>
          <a:endParaRPr lang="ru-RU" sz="2000" b="1" i="1" kern="1200" dirty="0">
            <a:latin typeface="Times New Roman" pitchFamily="18" charset="0"/>
            <a:cs typeface="Times New Roman" pitchFamily="18" charset="0"/>
          </a:endParaRPr>
        </a:p>
      </dsp:txBody>
      <dsp:txXfrm>
        <a:off x="4433107" y="3353651"/>
        <a:ext cx="2526744" cy="2371149"/>
      </dsp:txXfrm>
    </dsp:sp>
    <dsp:sp modelId="{4E629753-E9A1-4B3C-830C-2845945C77A7}">
      <dsp:nvSpPr>
        <dsp:cNvPr id="0" name=""/>
        <dsp:cNvSpPr/>
      </dsp:nvSpPr>
      <dsp:spPr>
        <a:xfrm rot="8996472">
          <a:off x="2254811" y="3912647"/>
          <a:ext cx="335525" cy="47787"/>
        </a:xfrm>
        <a:custGeom>
          <a:avLst/>
          <a:gdLst/>
          <a:ahLst/>
          <a:cxnLst/>
          <a:rect l="0" t="0" r="0" b="0"/>
          <a:pathLst>
            <a:path>
              <a:moveTo>
                <a:pt x="0" y="23893"/>
              </a:moveTo>
              <a:lnTo>
                <a:pt x="335525" y="23893"/>
              </a:lnTo>
            </a:path>
          </a:pathLst>
        </a:custGeom>
        <a:noFill/>
        <a:ln w="25400" cap="flat" cmpd="sng" algn="ctr">
          <a:solidFill>
            <a:schemeClr val="tx1"/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 dirty="0"/>
        </a:p>
      </dsp:txBody>
      <dsp:txXfrm rot="8996472">
        <a:off x="2414185" y="3928152"/>
        <a:ext cx="16776" cy="16776"/>
      </dsp:txXfrm>
    </dsp:sp>
    <dsp:sp modelId="{7FC289BD-9B63-4355-B3AA-4254CE012723}">
      <dsp:nvSpPr>
        <dsp:cNvPr id="0" name=""/>
        <dsp:cNvSpPr/>
      </dsp:nvSpPr>
      <dsp:spPr>
        <a:xfrm>
          <a:off x="198031" y="3531471"/>
          <a:ext cx="2250576" cy="2082459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1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1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1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latin typeface="Times New Roman" pitchFamily="18" charset="0"/>
              <a:cs typeface="Times New Roman" pitchFamily="18" charset="0"/>
            </a:rPr>
            <a:t>Родители</a:t>
          </a:r>
          <a:endParaRPr lang="ru-RU" sz="1400" b="1" i="1" kern="1200" dirty="0" smtClean="0">
            <a:latin typeface="Times New Roman" pitchFamily="18" charset="0"/>
            <a:cs typeface="Times New Roman" pitchFamily="18" charset="0"/>
          </a:endParaRPr>
        </a:p>
      </dsp:txBody>
      <dsp:txXfrm>
        <a:off x="198031" y="3531471"/>
        <a:ext cx="2250576" cy="208245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radial1">
  <dgm:title val=""/>
  <dgm:desc val=""/>
  <dgm:catLst>
    <dgm:cat type="relationship" pri="22000"/>
    <dgm:cat type="cycle" pri="1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90"/>
              <dgm:param type="spanAng" val="360"/>
              <dgm:param type="ctrShpMap" val="fNode"/>
            </dgm:alg>
          </dgm:if>
          <dgm:else name="Name4">
            <dgm:alg type="cycle">
              <dgm:param type="stAng" val="0"/>
              <dgm:param type="spanAng" val="360"/>
              <dgm:param type="ctrShpMap" val="fNode"/>
            </dgm:alg>
          </dgm:else>
        </dgm:choose>
      </dgm:if>
      <dgm:else name="Name5">
        <dgm:alg type="cycle">
          <dgm:param type="stAng" val="0"/>
          <dgm:param type="spanAng" val="-360"/>
          <dgm:param type="ctrShpMap" val="fNode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op="equ"/>
      <dgm:constr type="sp" refType="w" refFor="ch" refForName="node" fact="0.3"/>
      <dgm:constr type="sibSp" refType="w" refFor="ch" refForName="node" fact="0.3"/>
      <dgm:constr type="primFontSz" for="ch" forName="centerShape" val="65"/>
      <dgm:constr type="primFontSz" for="des" forName="node" op="equ" val="65"/>
      <dgm:constr type="primFontSz" for="des" forName="connTx" val="55"/>
      <dgm:constr type="primFontSz" for="des" forName="connTx" refType="primFontSz" refFor="ch" refForName="centerShape" op="lte" fact="0.8"/>
    </dgm:constrLst>
    <dgm:ruleLst/>
    <dgm:forEach name="Name6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h" refType="w"/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</dgm:constrLst>
        <dgm:ruleLst>
          <dgm:rule type="primFontSz" val="5" fact="NaN" max="NaN"/>
        </dgm:ruleLst>
      </dgm:layoutNode>
      <dgm:forEach name="Name7" axis="ch">
        <dgm:forEach name="Name8" axis="self" ptType="parTrans">
          <dgm:layoutNode name="Name9">
            <dgm:alg type="conn">
              <dgm:param type="dim" val="1D"/>
              <dgm:param type="begPts" val="auto"/>
              <dgm:param type="endPts" val="auto"/>
              <dgm:param type="begSty" val="noArr"/>
              <dgm:param type="endSty" val="no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connDist"/>
              <dgm:constr type="userA" for="ch" refType="connDist"/>
              <dgm:constr type="w" val="1"/>
              <dgm:constr type="h" val="5"/>
              <dgm:constr type="begPad"/>
              <dgm:constr type="endPad"/>
            </dgm:constrLst>
            <dgm:ruleLst/>
            <dgm:layoutNode name="connTx">
              <dgm:alg type="tx">
                <dgm:param type="autoTxRot" val="grav"/>
              </dgm:alg>
              <dgm:shape xmlns:r="http://schemas.openxmlformats.org/officeDocument/2006/relationships" type="rect" r:blip="" hideGeom="1">
                <dgm:adjLst/>
              </dgm:shape>
              <dgm:presOf axis="self"/>
              <dgm:constrLst>
                <dgm:constr type="userA"/>
                <dgm:constr type="w" refType="userA" fact="0.05"/>
                <dgm:constr type="h" refType="userA" fact="0.05"/>
                <dgm:constr type="lMarg" val="1"/>
                <dgm:constr type="rMarg" val="1"/>
                <dgm:constr type="tMarg"/>
                <dgm:constr type="bMarg"/>
              </dgm:constrLst>
              <dgm:ruleLst>
                <dgm:rule type="w" val="NaN" fact="0.8" max="NaN"/>
                <dgm:rule type="h" val="NaN" fact="1" max="NaN"/>
                <dgm:rule type="primFontSz" val="5" fact="NaN" max="NaN"/>
              </dgm:ruleLst>
            </dgm:layoutNode>
          </dgm:layoutNode>
        </dgm:forEach>
        <dgm:forEach name="Name10" axis="self" ptType="node">
          <dgm:layoutNode name="node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presOf axis="desOrSelf" ptType="node"/>
            <dgm:constrLst>
              <dgm:constr type="h" refType="w"/>
              <dgm:constr type="tMarg" refType="primFontSz" fact="0.05"/>
              <dgm:constr type="bMarg" refType="primFontSz" fact="0.05"/>
              <dgm:constr type="lMarg" refType="primFontSz" fact="0.05"/>
              <dgm:constr type="rMarg" refType="primFontSz" fact="0.0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1DD-C727-45AA-A1D0-62E5FEC7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B17-7D3E-4289-8453-C052B1DC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04F-3528-4EC2-AD6A-51F31FFE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05B-85DE-46CA-B516-17094803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D768-A1B8-48B7-8025-10A4784E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FDD0-C71C-4BB8-89AF-53476411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2522-5FE6-4A43-A025-6D2E4A2A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18E4-E5AB-4416-9E70-6413661D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31D6-F124-42F2-9043-70DB9A95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D889-8F82-4644-8837-7EEE4FA5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4FE6-6DB0-4AE4-B29A-766CDCC0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0005-0B3C-4BE6-8CEA-FD587111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11A3-ECEF-4665-8C48-E12835B7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FF25-F675-4A05-A0A8-55106263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CBE9-895D-4B80-8211-F69C6B7C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0951-0AA1-497F-9466-A6365005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526D-FB29-41BF-AB2E-69F0717D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306F8-99BA-46ED-8562-05CF0FD1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AFB95-BCD9-44B1-82AD-AF09EB89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06D00-F101-4147-AAF5-E3FD2A3D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3D168-1B35-4568-B17D-3EE57822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DDFD-CD60-4499-9B85-FB90FC92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A19-CC8D-4FAE-A0E5-56AD6EF8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996A0-54F6-4233-9510-B9F8220B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7ED6-98C7-431F-94B8-C7469382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DFA6E-FACB-4C7F-9583-F124416C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3494D-80DD-467B-830E-6A9B2F28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BD36B-7981-416A-B63E-C2BA70D2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F714-3041-46C1-9833-BEC4E5D2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DFC2E-AB14-4C46-A623-59527DB6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34F7B-F378-4AAD-873C-2231FCD5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6289D-AFB3-4721-AE46-DC12658B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EB8F5-EDB0-4AE3-AE56-8CFAC466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347-9E10-4081-A23A-0E31463C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3D321-E0C0-4C11-A380-6D62399A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9470-2762-4879-9E33-8E48F18E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B505B-1C80-41F4-955E-B5750B96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6AADE-510C-4485-90F9-FC7DEA5E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5C571-8DE9-4B9D-9AFD-A73DAE34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E4E91-EDC9-449D-9A7B-B0A5AE22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D7211-9F86-40D6-900A-A04CEF6D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C2E97-DAB3-4EBD-BDCB-078CC467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57482-21F8-4E9C-9F4A-E824A320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18D-1653-4B75-92E3-377FAA91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E7F-A07E-4E69-A990-548AAA79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BCE-3931-46B1-A250-2F78A66A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7B6-901E-4616-B664-6347AA9A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E09-5A4F-4C10-858F-FDA3BA81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2000">
              <a:srgbClr val="81ad3c"/>
            </a:gs>
            <a:gs pos="100000">
              <a:srgbClr val="beed6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-140400" y="0"/>
            <a:ext cx="9426600" cy="6857640"/>
            <a:chOff x="-140400" y="0"/>
            <a:chExt cx="9426600" cy="6857640"/>
          </a:xfrm>
        </p:grpSpPr>
        <p:grpSp>
          <p:nvGrpSpPr>
            <p:cNvPr id="1" name="Group 638"/>
            <p:cNvGrpSpPr/>
            <p:nvPr/>
          </p:nvGrpSpPr>
          <p:grpSpPr>
            <a:xfrm>
              <a:off x="-140400" y="146520"/>
              <a:ext cx="9426600" cy="6439320"/>
              <a:chOff x="-140400" y="146520"/>
              <a:chExt cx="9426600" cy="6439320"/>
            </a:xfrm>
          </p:grpSpPr>
          <p:grpSp>
            <p:nvGrpSpPr>
              <p:cNvPr id="2" name="Group 121"/>
              <p:cNvGrpSpPr/>
              <p:nvPr/>
            </p:nvGrpSpPr>
            <p:grpSpPr>
              <a:xfrm>
                <a:off x="-140400" y="185760"/>
                <a:ext cx="1426320" cy="1398240"/>
                <a:chOff x="-140400" y="185760"/>
                <a:chExt cx="1426320" cy="1398240"/>
              </a:xfrm>
            </p:grpSpPr>
            <p:sp>
              <p:nvSpPr>
                <p:cNvPr id="3" name="Freeform 72"/>
                <p:cNvSpPr/>
                <p:nvPr/>
              </p:nvSpPr>
              <p:spPr>
                <a:xfrm rot="2429400">
                  <a:off x="783000" y="602280"/>
                  <a:ext cx="144720" cy="21564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Freeform 73"/>
                <p:cNvSpPr/>
                <p:nvPr/>
              </p:nvSpPr>
              <p:spPr>
                <a:xfrm rot="2429400">
                  <a:off x="837720" y="844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74"/>
                <p:cNvSpPr/>
                <p:nvPr/>
              </p:nvSpPr>
              <p:spPr>
                <a:xfrm rot="2429400">
                  <a:off x="901080" y="703440"/>
                  <a:ext cx="145440" cy="21564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Freeform 75"/>
                <p:cNvSpPr/>
                <p:nvPr/>
              </p:nvSpPr>
              <p:spPr>
                <a:xfrm rot="2429400">
                  <a:off x="8640" y="446760"/>
                  <a:ext cx="1127880" cy="875520"/>
                </a:xfrm>
                <a:custGeom>
                  <a:avLst/>
                  <a:gdLst>
                    <a:gd name="textAreaLeft" fmla="*/ 0 w 1127880"/>
                    <a:gd name="textAreaRight" fmla="*/ 1128240 w 1127880"/>
                    <a:gd name="textAreaTop" fmla="*/ 0 h 875520"/>
                    <a:gd name="textAreaBottom" fmla="*/ 875880 h 8755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" name="Group 142"/>
              <p:cNvGrpSpPr/>
              <p:nvPr/>
            </p:nvGrpSpPr>
            <p:grpSpPr>
              <a:xfrm>
                <a:off x="210240" y="1460520"/>
                <a:ext cx="1279440" cy="1236240"/>
                <a:chOff x="210240" y="1460520"/>
                <a:chExt cx="1279440" cy="1236240"/>
              </a:xfrm>
            </p:grpSpPr>
            <p:sp>
              <p:nvSpPr>
                <p:cNvPr id="8" name="Freeform 79"/>
                <p:cNvSpPr/>
                <p:nvPr/>
              </p:nvSpPr>
              <p:spPr>
                <a:xfrm rot="19493400">
                  <a:off x="620280" y="18500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Freeform 80"/>
                <p:cNvSpPr/>
                <p:nvPr/>
              </p:nvSpPr>
              <p:spPr>
                <a:xfrm rot="19493400">
                  <a:off x="771120" y="1969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Freeform 81"/>
                <p:cNvSpPr/>
                <p:nvPr/>
              </p:nvSpPr>
              <p:spPr>
                <a:xfrm rot="19493400">
                  <a:off x="717120" y="17816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82"/>
                <p:cNvSpPr/>
                <p:nvPr/>
              </p:nvSpPr>
              <p:spPr>
                <a:xfrm rot="19493400">
                  <a:off x="353880" y="1671480"/>
                  <a:ext cx="992160" cy="813600"/>
                </a:xfrm>
                <a:custGeom>
                  <a:avLst/>
                  <a:gdLst>
                    <a:gd name="textAreaLeft" fmla="*/ 0 w 992160"/>
                    <a:gd name="textAreaRight" fmla="*/ 992520 w 992160"/>
                    <a:gd name="textAreaTop" fmla="*/ 0 h 813600"/>
                    <a:gd name="textAreaBottom" fmla="*/ 813960 h 8136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Group 147"/>
              <p:cNvGrpSpPr/>
              <p:nvPr/>
            </p:nvGrpSpPr>
            <p:grpSpPr>
              <a:xfrm>
                <a:off x="228600" y="4343400"/>
                <a:ext cx="1421280" cy="1367640"/>
                <a:chOff x="228600" y="4343400"/>
                <a:chExt cx="1421280" cy="1367640"/>
              </a:xfrm>
            </p:grpSpPr>
            <p:sp>
              <p:nvSpPr>
                <p:cNvPr id="13" name="Freeform 86"/>
                <p:cNvSpPr/>
                <p:nvPr/>
              </p:nvSpPr>
              <p:spPr>
                <a:xfrm rot="19711200">
                  <a:off x="680040" y="4746240"/>
                  <a:ext cx="131760" cy="1962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87"/>
                <p:cNvSpPr/>
                <p:nvPr/>
              </p:nvSpPr>
              <p:spPr>
                <a:xfrm rot="19711200">
                  <a:off x="856440" y="489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88"/>
                <p:cNvSpPr/>
                <p:nvPr/>
              </p:nvSpPr>
              <p:spPr>
                <a:xfrm rot="19711200">
                  <a:off x="801000" y="4672440"/>
                  <a:ext cx="130680" cy="1962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89"/>
                <p:cNvSpPr/>
                <p:nvPr/>
              </p:nvSpPr>
              <p:spPr>
                <a:xfrm rot="19711200">
                  <a:off x="391680" y="4560480"/>
                  <a:ext cx="1094760" cy="93348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" name="Group 172"/>
              <p:cNvGrpSpPr/>
              <p:nvPr/>
            </p:nvGrpSpPr>
            <p:grpSpPr>
              <a:xfrm>
                <a:off x="7499520" y="146520"/>
                <a:ext cx="1786680" cy="1719360"/>
                <a:chOff x="7499520" y="146520"/>
                <a:chExt cx="1786680" cy="1719360"/>
              </a:xfrm>
            </p:grpSpPr>
            <p:sp>
              <p:nvSpPr>
                <p:cNvPr id="18" name="Freeform 86"/>
                <p:cNvSpPr/>
                <p:nvPr/>
              </p:nvSpPr>
              <p:spPr>
                <a:xfrm rot="19711200">
                  <a:off x="8067600" y="652320"/>
                  <a:ext cx="165960" cy="2469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87"/>
                <p:cNvSpPr/>
                <p:nvPr/>
              </p:nvSpPr>
              <p:spPr>
                <a:xfrm rot="19711200">
                  <a:off x="8289000" y="8424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88"/>
                <p:cNvSpPr/>
                <p:nvPr/>
              </p:nvSpPr>
              <p:spPr>
                <a:xfrm rot="19711200">
                  <a:off x="8219520" y="559800"/>
                  <a:ext cx="164520" cy="24696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89"/>
                <p:cNvSpPr/>
                <p:nvPr/>
              </p:nvSpPr>
              <p:spPr>
                <a:xfrm rot="19711200">
                  <a:off x="7704360" y="419040"/>
                  <a:ext cx="1376280" cy="1173600"/>
                </a:xfrm>
                <a:custGeom>
                  <a:avLst/>
                  <a:gdLst>
                    <a:gd name="textAreaLeft" fmla="*/ 0 w 1376280"/>
                    <a:gd name="textAreaRight" fmla="*/ 1376640 w 1376280"/>
                    <a:gd name="textAreaTop" fmla="*/ 0 h 1173600"/>
                    <a:gd name="textAreaBottom" fmla="*/ 1173960 h 117360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Group 177"/>
              <p:cNvGrpSpPr/>
              <p:nvPr/>
            </p:nvGrpSpPr>
            <p:grpSpPr>
              <a:xfrm>
                <a:off x="7129440" y="3505320"/>
                <a:ext cx="1861560" cy="1824840"/>
                <a:chOff x="7129440" y="3505320"/>
                <a:chExt cx="1861560" cy="1824840"/>
              </a:xfrm>
            </p:grpSpPr>
            <p:sp>
              <p:nvSpPr>
                <p:cNvPr id="23" name="Freeform 72"/>
                <p:cNvSpPr/>
                <p:nvPr/>
              </p:nvSpPr>
              <p:spPr>
                <a:xfrm rot="2429400">
                  <a:off x="8007480" y="4073400"/>
                  <a:ext cx="188640" cy="2811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73"/>
                <p:cNvSpPr/>
                <p:nvPr/>
              </p:nvSpPr>
              <p:spPr>
                <a:xfrm rot="2429400">
                  <a:off x="8078760" y="438876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74"/>
                <p:cNvSpPr/>
                <p:nvPr/>
              </p:nvSpPr>
              <p:spPr>
                <a:xfrm rot="2429400">
                  <a:off x="8161920" y="4205520"/>
                  <a:ext cx="190080" cy="2811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75"/>
                <p:cNvSpPr/>
                <p:nvPr/>
              </p:nvSpPr>
              <p:spPr>
                <a:xfrm rot="2429400">
                  <a:off x="7323840" y="3846240"/>
                  <a:ext cx="1472040" cy="11426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2640"/>
                    <a:gd name="textAreaBottom" fmla="*/ 1143000 h 1142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Group 182"/>
              <p:cNvGrpSpPr/>
              <p:nvPr/>
            </p:nvGrpSpPr>
            <p:grpSpPr>
              <a:xfrm>
                <a:off x="7610760" y="5105520"/>
                <a:ext cx="1532160" cy="1480320"/>
                <a:chOff x="7610760" y="5105520"/>
                <a:chExt cx="1532160" cy="1480320"/>
              </a:xfrm>
            </p:grpSpPr>
            <p:sp>
              <p:nvSpPr>
                <p:cNvPr id="28" name="Freeform 79"/>
                <p:cNvSpPr/>
                <p:nvPr/>
              </p:nvSpPr>
              <p:spPr>
                <a:xfrm rot="19493400">
                  <a:off x="8101800" y="557172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80"/>
                <p:cNvSpPr/>
                <p:nvPr/>
              </p:nvSpPr>
              <p:spPr>
                <a:xfrm rot="19493400">
                  <a:off x="8282520" y="5715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81"/>
                <p:cNvSpPr/>
                <p:nvPr/>
              </p:nvSpPr>
              <p:spPr>
                <a:xfrm rot="19493400">
                  <a:off x="821808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82"/>
                <p:cNvSpPr/>
                <p:nvPr/>
              </p:nvSpPr>
              <p:spPr>
                <a:xfrm rot="19493400">
                  <a:off x="7782480" y="5358240"/>
                  <a:ext cx="1188000" cy="97416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974160"/>
                    <a:gd name="textAreaBottom" fmla="*/ 974520 h 9741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Group 669"/>
            <p:cNvGrpSpPr/>
            <p:nvPr/>
          </p:nvGrpSpPr>
          <p:grpSpPr>
            <a:xfrm>
              <a:off x="0" y="57960"/>
              <a:ext cx="9183600" cy="6799680"/>
              <a:chOff x="0" y="57960"/>
              <a:chExt cx="9183600" cy="6799680"/>
            </a:xfrm>
          </p:grpSpPr>
          <p:grpSp>
            <p:nvGrpSpPr>
              <p:cNvPr id="33" name="Group 32"/>
              <p:cNvGrpSpPr/>
              <p:nvPr/>
            </p:nvGrpSpPr>
            <p:grpSpPr>
              <a:xfrm>
                <a:off x="72000" y="57960"/>
                <a:ext cx="1895040" cy="1689120"/>
                <a:chOff x="72000" y="57960"/>
                <a:chExt cx="1895040" cy="1689120"/>
              </a:xfrm>
            </p:grpSpPr>
            <p:sp>
              <p:nvSpPr>
                <p:cNvPr id="34" name="Freeform 79"/>
                <p:cNvSpPr/>
                <p:nvPr/>
              </p:nvSpPr>
              <p:spPr>
                <a:xfrm rot="20059800">
                  <a:off x="762120" y="59220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80"/>
                <p:cNvSpPr/>
                <p:nvPr/>
              </p:nvSpPr>
              <p:spPr>
                <a:xfrm rot="20059800">
                  <a:off x="1022040" y="837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81"/>
                <p:cNvSpPr/>
                <p:nvPr/>
              </p:nvSpPr>
              <p:spPr>
                <a:xfrm rot="20059800">
                  <a:off x="956160" y="49896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2"/>
                <p:cNvSpPr/>
                <p:nvPr/>
              </p:nvSpPr>
              <p:spPr>
                <a:xfrm rot="20710200">
                  <a:off x="214200" y="241920"/>
                  <a:ext cx="1610640" cy="1320840"/>
                </a:xfrm>
                <a:custGeom>
                  <a:avLst/>
                  <a:gdLst>
                    <a:gd name="textAreaLeft" fmla="*/ 0 w 1610640"/>
                    <a:gd name="textAreaRight" fmla="*/ 1611000 w 1610640"/>
                    <a:gd name="textAreaTop" fmla="*/ 0 h 1320840"/>
                    <a:gd name="textAreaBottom" fmla="*/ 1321200 h 13208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" name="Group 48"/>
              <p:cNvGrpSpPr/>
              <p:nvPr/>
            </p:nvGrpSpPr>
            <p:grpSpPr>
              <a:xfrm>
                <a:off x="7238880" y="457200"/>
                <a:ext cx="1316520" cy="1236960"/>
                <a:chOff x="7238880" y="457200"/>
                <a:chExt cx="1316520" cy="1236960"/>
              </a:xfrm>
            </p:grpSpPr>
            <p:sp>
              <p:nvSpPr>
                <p:cNvPr id="39" name="Freeform 86"/>
                <p:cNvSpPr/>
                <p:nvPr/>
              </p:nvSpPr>
              <p:spPr>
                <a:xfrm rot="1420200">
                  <a:off x="7872120" y="730800"/>
                  <a:ext cx="126000" cy="18756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87"/>
                <p:cNvSpPr/>
                <p:nvPr/>
              </p:nvSpPr>
              <p:spPr>
                <a:xfrm rot="1420200">
                  <a:off x="7953480" y="9399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88"/>
                <p:cNvSpPr/>
                <p:nvPr/>
              </p:nvSpPr>
              <p:spPr>
                <a:xfrm rot="1420200">
                  <a:off x="7996320" y="784800"/>
                  <a:ext cx="124920" cy="18756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89"/>
                <p:cNvSpPr/>
                <p:nvPr/>
              </p:nvSpPr>
              <p:spPr>
                <a:xfrm rot="1420200">
                  <a:off x="7373880" y="629640"/>
                  <a:ext cx="1046160" cy="89208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" name="Freeform 73"/>
              <p:cNvSpPr/>
              <p:nvPr/>
            </p:nvSpPr>
            <p:spPr>
              <a:xfrm rot="1542600">
                <a:off x="7058160" y="3703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8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" name="Group 63"/>
              <p:cNvGrpSpPr/>
              <p:nvPr/>
            </p:nvGrpSpPr>
            <p:grpSpPr>
              <a:xfrm>
                <a:off x="7832880" y="4216320"/>
                <a:ext cx="1350720" cy="1223640"/>
                <a:chOff x="7832880" y="4216320"/>
                <a:chExt cx="1350720" cy="1223640"/>
              </a:xfrm>
            </p:grpSpPr>
            <p:sp>
              <p:nvSpPr>
                <p:cNvPr id="45" name="Freeform 79"/>
                <p:cNvSpPr/>
                <p:nvPr/>
              </p:nvSpPr>
              <p:spPr>
                <a:xfrm rot="1645200">
                  <a:off x="8359920" y="488556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80"/>
                <p:cNvSpPr/>
                <p:nvPr/>
              </p:nvSpPr>
              <p:spPr>
                <a:xfrm rot="1645200">
                  <a:off x="8433000" y="5093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81"/>
                <p:cNvSpPr/>
                <p:nvPr/>
              </p:nvSpPr>
              <p:spPr>
                <a:xfrm rot="1645200">
                  <a:off x="8478720" y="494712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82"/>
                <p:cNvSpPr/>
                <p:nvPr/>
              </p:nvSpPr>
              <p:spPr>
                <a:xfrm rot="20491200">
                  <a:off x="7949160" y="4369680"/>
                  <a:ext cx="1117800" cy="916560"/>
                </a:xfrm>
                <a:custGeom>
                  <a:avLst/>
                  <a:gdLst>
                    <a:gd name="textAreaLeft" fmla="*/ 0 w 1117800"/>
                    <a:gd name="textAreaRight" fmla="*/ 1118160 w 1117800"/>
                    <a:gd name="textAreaTop" fmla="*/ 0 h 916560"/>
                    <a:gd name="textAreaBottom" fmla="*/ 916920 h 9165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Group 87"/>
              <p:cNvGrpSpPr/>
              <p:nvPr/>
            </p:nvGrpSpPr>
            <p:grpSpPr>
              <a:xfrm>
                <a:off x="0" y="5334120"/>
                <a:ext cx="1188000" cy="1523520"/>
                <a:chOff x="0" y="5334120"/>
                <a:chExt cx="1188000" cy="1523520"/>
              </a:xfrm>
            </p:grpSpPr>
            <p:sp>
              <p:nvSpPr>
                <p:cNvPr id="50" name="Freeform 21"/>
                <p:cNvSpPr/>
                <p:nvPr/>
              </p:nvSpPr>
              <p:spPr>
                <a:xfrm>
                  <a:off x="374040" y="5703840"/>
                  <a:ext cx="21600" cy="3052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5280"/>
                    <a:gd name="textAreaBottom" fmla="*/ 305640 h 30528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22"/>
                <p:cNvSpPr/>
                <p:nvPr/>
              </p:nvSpPr>
              <p:spPr>
                <a:xfrm>
                  <a:off x="392040" y="60156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23"/>
                <p:cNvSpPr/>
                <p:nvPr/>
              </p:nvSpPr>
              <p:spPr>
                <a:xfrm>
                  <a:off x="406080" y="5882760"/>
                  <a:ext cx="277200" cy="134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4"/>
                <p:cNvSpPr/>
                <p:nvPr/>
              </p:nvSpPr>
              <p:spPr>
                <a:xfrm>
                  <a:off x="0" y="5334120"/>
                  <a:ext cx="1188000" cy="152352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520"/>
                    <a:gd name="textAreaBottom" fmla="*/ 1523880 h 152352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92"/>
              <p:cNvGrpSpPr/>
              <p:nvPr/>
            </p:nvGrpSpPr>
            <p:grpSpPr>
              <a:xfrm>
                <a:off x="0" y="2846520"/>
                <a:ext cx="930240" cy="1301400"/>
                <a:chOff x="0" y="2846520"/>
                <a:chExt cx="930240" cy="1301400"/>
              </a:xfrm>
            </p:grpSpPr>
            <p:sp>
              <p:nvSpPr>
                <p:cNvPr id="55" name="Freeform 49"/>
                <p:cNvSpPr/>
                <p:nvPr/>
              </p:nvSpPr>
              <p:spPr>
                <a:xfrm>
                  <a:off x="0" y="3446280"/>
                  <a:ext cx="84240" cy="13140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0"/>
                <p:cNvSpPr/>
                <p:nvPr/>
              </p:nvSpPr>
              <p:spPr>
                <a:xfrm>
                  <a:off x="87120" y="3585240"/>
                  <a:ext cx="360" cy="21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51"/>
                <p:cNvSpPr/>
                <p:nvPr/>
              </p:nvSpPr>
              <p:spPr>
                <a:xfrm>
                  <a:off x="101160" y="3256200"/>
                  <a:ext cx="215640" cy="32148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52"/>
                <p:cNvSpPr/>
                <p:nvPr/>
              </p:nvSpPr>
              <p:spPr>
                <a:xfrm>
                  <a:off x="0" y="2846520"/>
                  <a:ext cx="930240" cy="130140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400"/>
                    <a:gd name="textAreaBottom" fmla="*/ 1301760 h 13014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4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16000"/>
                    </a:srgbClr>
                  </a:solidFill>
                  <a:round/>
                </a:ln>
                <a:effectLst>
                  <a:glow rad="63360">
                    <a:srgbClr val="d8f2ab">
                      <a:alpha val="1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Group 97"/>
              <p:cNvGrpSpPr/>
              <p:nvPr/>
            </p:nvGrpSpPr>
            <p:grpSpPr>
              <a:xfrm>
                <a:off x="4876560" y="5704560"/>
                <a:ext cx="1752120" cy="1153080"/>
                <a:chOff x="4876560" y="5704560"/>
                <a:chExt cx="1752120" cy="1153080"/>
              </a:xfrm>
            </p:grpSpPr>
            <p:sp>
              <p:nvSpPr>
                <p:cNvPr id="60" name="Freeform 28"/>
                <p:cNvSpPr/>
                <p:nvPr/>
              </p:nvSpPr>
              <p:spPr>
                <a:xfrm>
                  <a:off x="5598720" y="6247800"/>
                  <a:ext cx="15120" cy="3841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9"/>
                <p:cNvSpPr/>
                <p:nvPr/>
              </p:nvSpPr>
              <p:spPr>
                <a:xfrm>
                  <a:off x="5609880" y="6641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30"/>
                <p:cNvSpPr/>
                <p:nvPr/>
              </p:nvSpPr>
              <p:spPr>
                <a:xfrm>
                  <a:off x="5627520" y="6482520"/>
                  <a:ext cx="352800" cy="160560"/>
                </a:xfrm>
                <a:custGeom>
                  <a:avLst/>
                  <a:gdLst>
                    <a:gd name="textAreaLeft" fmla="*/ 0 w 352800"/>
                    <a:gd name="textAreaRight" fmla="*/ 353160 w 352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31"/>
                <p:cNvSpPr/>
                <p:nvPr/>
              </p:nvSpPr>
              <p:spPr>
                <a:xfrm>
                  <a:off x="4876560" y="5704560"/>
                  <a:ext cx="1752120" cy="1153080"/>
                </a:xfrm>
                <a:custGeom>
                  <a:avLst/>
                  <a:gdLst>
                    <a:gd name="textAreaLeft" fmla="*/ 0 w 1752120"/>
                    <a:gd name="textAreaRight" fmla="*/ 1752480 w 1752120"/>
                    <a:gd name="textAreaTop" fmla="*/ 0 h 1153080"/>
                    <a:gd name="textAreaBottom" fmla="*/ 1153440 h 115308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9000"/>
                  </a:schemeClr>
                </a:solidFill>
                <a:ln w="9525">
                  <a:solidFill>
                    <a:srgbClr val="feffff">
                      <a:alpha val="12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Group 102"/>
              <p:cNvGrpSpPr/>
              <p:nvPr/>
            </p:nvGrpSpPr>
            <p:grpSpPr>
              <a:xfrm>
                <a:off x="7848360" y="1523880"/>
                <a:ext cx="1294920" cy="1685160"/>
                <a:chOff x="7848360" y="1523880"/>
                <a:chExt cx="1294920" cy="1685160"/>
              </a:xfrm>
            </p:grpSpPr>
            <p:sp>
              <p:nvSpPr>
                <p:cNvPr id="65" name="Freeform 70"/>
                <p:cNvSpPr/>
                <p:nvPr/>
              </p:nvSpPr>
              <p:spPr>
                <a:xfrm>
                  <a:off x="8456760" y="1992240"/>
                  <a:ext cx="296280" cy="19476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71"/>
                <p:cNvSpPr/>
                <p:nvPr/>
              </p:nvSpPr>
              <p:spPr>
                <a:xfrm>
                  <a:off x="8757360" y="2195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72"/>
                <p:cNvSpPr/>
                <p:nvPr/>
              </p:nvSpPr>
              <p:spPr>
                <a:xfrm>
                  <a:off x="8768880" y="1832400"/>
                  <a:ext cx="65880" cy="35064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3"/>
                <p:cNvSpPr/>
                <p:nvPr/>
              </p:nvSpPr>
              <p:spPr>
                <a:xfrm>
                  <a:off x="7848360" y="1523880"/>
                  <a:ext cx="1294920" cy="1685160"/>
                </a:xfrm>
                <a:custGeom>
                  <a:avLst/>
                  <a:gdLst>
                    <a:gd name="textAreaLeft" fmla="*/ 0 w 1294920"/>
                    <a:gd name="textAreaRight" fmla="*/ 1295280 w 129492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112"/>
              <p:cNvGrpSpPr/>
              <p:nvPr/>
            </p:nvGrpSpPr>
            <p:grpSpPr>
              <a:xfrm>
                <a:off x="7679160" y="5943600"/>
                <a:ext cx="1331280" cy="914040"/>
                <a:chOff x="7679160" y="5943600"/>
                <a:chExt cx="1331280" cy="914040"/>
              </a:xfrm>
            </p:grpSpPr>
            <p:sp>
              <p:nvSpPr>
                <p:cNvPr id="70" name="Freeform 35"/>
                <p:cNvSpPr/>
                <p:nvPr/>
              </p:nvSpPr>
              <p:spPr>
                <a:xfrm>
                  <a:off x="7679160" y="6346080"/>
                  <a:ext cx="201960" cy="9504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6"/>
                <p:cNvSpPr/>
                <p:nvPr/>
              </p:nvSpPr>
              <p:spPr>
                <a:xfrm>
                  <a:off x="7884000" y="6446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7"/>
                <p:cNvSpPr/>
                <p:nvPr/>
              </p:nvSpPr>
              <p:spPr>
                <a:xfrm>
                  <a:off x="7888680" y="6215040"/>
                  <a:ext cx="14040" cy="221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8"/>
                <p:cNvSpPr/>
                <p:nvPr/>
              </p:nvSpPr>
              <p:spPr>
                <a:xfrm>
                  <a:off x="7920360" y="5943600"/>
                  <a:ext cx="1090080" cy="914040"/>
                </a:xfrm>
                <a:custGeom>
                  <a:avLst/>
                  <a:gdLst>
                    <a:gd name="textAreaLeft" fmla="*/ 0 w 1090080"/>
                    <a:gd name="textAreaRight" fmla="*/ 1090440 w 1090080"/>
                    <a:gd name="textAreaTop" fmla="*/ 0 h 914040"/>
                    <a:gd name="textAreaBottom" fmla="*/ 914400 h 9140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" name="Group 715"/>
            <p:cNvGrpSpPr/>
            <p:nvPr/>
          </p:nvGrpSpPr>
          <p:grpSpPr>
            <a:xfrm>
              <a:off x="0" y="0"/>
              <a:ext cx="9211320" cy="6828840"/>
              <a:chOff x="0" y="0"/>
              <a:chExt cx="9211320" cy="6828840"/>
            </a:xfrm>
          </p:grpSpPr>
          <p:grpSp>
            <p:nvGrpSpPr>
              <p:cNvPr id="75" name="Group 129"/>
              <p:cNvGrpSpPr/>
              <p:nvPr/>
            </p:nvGrpSpPr>
            <p:grpSpPr>
              <a:xfrm>
                <a:off x="7695720" y="2819880"/>
                <a:ext cx="1404360" cy="3467880"/>
                <a:chOff x="7695720" y="2819880"/>
                <a:chExt cx="1404360" cy="3467880"/>
              </a:xfrm>
            </p:grpSpPr>
            <p:sp>
              <p:nvSpPr>
                <p:cNvPr id="76" name="Freeform 86"/>
                <p:cNvSpPr/>
                <p:nvPr/>
              </p:nvSpPr>
              <p:spPr>
                <a:xfrm rot="20119200">
                  <a:off x="8078400" y="3112920"/>
                  <a:ext cx="110520" cy="16452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87"/>
                <p:cNvSpPr/>
                <p:nvPr/>
              </p:nvSpPr>
              <p:spPr>
                <a:xfrm rot="20119200">
                  <a:off x="822024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8"/>
                <p:cNvSpPr/>
                <p:nvPr/>
              </p:nvSpPr>
              <p:spPr>
                <a:xfrm rot="20119200">
                  <a:off x="8186760" y="3063240"/>
                  <a:ext cx="109440" cy="16452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9"/>
                <p:cNvSpPr/>
                <p:nvPr/>
              </p:nvSpPr>
              <p:spPr>
                <a:xfrm rot="20119200">
                  <a:off x="7817040" y="2975400"/>
                  <a:ext cx="917640" cy="78264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21000"/>
                  </a:schemeClr>
                </a:solidFill>
                <a:ln w="9525">
                  <a:noFill/>
                </a:ln>
                <a:effectLst>
                  <a:glow rad="50760">
                    <a:srgbClr val="d8f2ab">
                      <a:alpha val="33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9"/>
                <p:cNvSpPr/>
                <p:nvPr/>
              </p:nvSpPr>
              <p:spPr>
                <a:xfrm rot="823200">
                  <a:off x="7924680" y="5250240"/>
                  <a:ext cx="1081440" cy="922320"/>
                </a:xfrm>
                <a:custGeom>
                  <a:avLst/>
                  <a:gdLst>
                    <a:gd name="textAreaLeft" fmla="*/ 0 w 1081440"/>
                    <a:gd name="textAreaRight" fmla="*/ 1081800 w 108144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134"/>
              <p:cNvGrpSpPr/>
              <p:nvPr/>
            </p:nvGrpSpPr>
            <p:grpSpPr>
              <a:xfrm>
                <a:off x="6854760" y="5524920"/>
                <a:ext cx="1110600" cy="1303920"/>
                <a:chOff x="6854760" y="5524920"/>
                <a:chExt cx="1110600" cy="1303920"/>
              </a:xfrm>
            </p:grpSpPr>
            <p:sp>
              <p:nvSpPr>
                <p:cNvPr id="82" name="Freeform 80"/>
                <p:cNvSpPr/>
                <p:nvPr/>
              </p:nvSpPr>
              <p:spPr>
                <a:xfrm rot="1992600">
                  <a:off x="7715520" y="55249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2"/>
                <p:cNvSpPr/>
                <p:nvPr/>
              </p:nvSpPr>
              <p:spPr>
                <a:xfrm rot="592800">
                  <a:off x="6916680" y="5941080"/>
                  <a:ext cx="986400" cy="808920"/>
                </a:xfrm>
                <a:custGeom>
                  <a:avLst/>
                  <a:gdLst>
                    <a:gd name="textAreaLeft" fmla="*/ 0 w 986400"/>
                    <a:gd name="textAreaRight" fmla="*/ 986760 w 986400"/>
                    <a:gd name="textAreaTop" fmla="*/ 0 h 808920"/>
                    <a:gd name="textAreaBottom" fmla="*/ 809280 h 808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tx2">
                    <a:lumMod val="60000"/>
                    <a:lumOff val="40000"/>
                    <a:alpha val="10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abcb6a">
                      <a:alpha val="2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154"/>
              <p:cNvGrpSpPr/>
              <p:nvPr/>
            </p:nvGrpSpPr>
            <p:grpSpPr>
              <a:xfrm>
                <a:off x="6317640" y="1055160"/>
                <a:ext cx="1839960" cy="1753200"/>
                <a:chOff x="6317640" y="1055160"/>
                <a:chExt cx="1839960" cy="1753200"/>
              </a:xfrm>
            </p:grpSpPr>
            <p:sp>
              <p:nvSpPr>
                <p:cNvPr id="85" name="Freeform 72"/>
                <p:cNvSpPr/>
                <p:nvPr/>
              </p:nvSpPr>
              <p:spPr>
                <a:xfrm rot="2047800">
                  <a:off x="7162920" y="1588320"/>
                  <a:ext cx="186840" cy="27828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73"/>
                <p:cNvSpPr/>
                <p:nvPr/>
              </p:nvSpPr>
              <p:spPr>
                <a:xfrm rot="2047800">
                  <a:off x="7252920" y="190188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74"/>
                <p:cNvSpPr/>
                <p:nvPr/>
              </p:nvSpPr>
              <p:spPr>
                <a:xfrm rot="2047800">
                  <a:off x="7329240" y="1701360"/>
                  <a:ext cx="188280" cy="2782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75"/>
                <p:cNvSpPr/>
                <p:nvPr/>
              </p:nvSpPr>
              <p:spPr>
                <a:xfrm rot="2047800">
                  <a:off x="6509160" y="1366200"/>
                  <a:ext cx="1456560" cy="1130760"/>
                </a:xfrm>
                <a:custGeom>
                  <a:avLst/>
                  <a:gdLst>
                    <a:gd name="textAreaLeft" fmla="*/ 0 w 1456560"/>
                    <a:gd name="textAreaRight" fmla="*/ 1456920 w 1456560"/>
                    <a:gd name="textAreaTop" fmla="*/ 0 h 1130760"/>
                    <a:gd name="textAreaBottom" fmla="*/ 1131120 h 11307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solidFill>
                    <a:srgbClr val="beea73">
                      <a:lumMod val="60000"/>
                      <a:lumOff val="40000"/>
                      <a:alpha val="19000"/>
                    </a:srgbClr>
                  </a:solidFill>
                  <a:round/>
                </a:ln>
                <a:effectLst>
                  <a:glow rad="63360">
                    <a:srgbClr val="d8f2ab">
                      <a:alpha val="1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164"/>
              <p:cNvGrpSpPr/>
              <p:nvPr/>
            </p:nvGrpSpPr>
            <p:grpSpPr>
              <a:xfrm>
                <a:off x="8125920" y="3738240"/>
                <a:ext cx="1085400" cy="915840"/>
                <a:chOff x="8125920" y="3738240"/>
                <a:chExt cx="1085400" cy="915840"/>
              </a:xfrm>
            </p:grpSpPr>
            <p:sp>
              <p:nvSpPr>
                <p:cNvPr id="90" name="Freeform 72"/>
                <p:cNvSpPr/>
                <p:nvPr/>
              </p:nvSpPr>
              <p:spPr>
                <a:xfrm rot="20119800">
                  <a:off x="8497800" y="4024080"/>
                  <a:ext cx="123120" cy="1832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73"/>
                <p:cNvSpPr/>
                <p:nvPr/>
              </p:nvSpPr>
              <p:spPr>
                <a:xfrm rot="20119800">
                  <a:off x="8656920" y="417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74"/>
                <p:cNvSpPr/>
                <p:nvPr/>
              </p:nvSpPr>
              <p:spPr>
                <a:xfrm rot="20119800">
                  <a:off x="8618040" y="3968640"/>
                  <a:ext cx="123840" cy="183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75"/>
                <p:cNvSpPr/>
                <p:nvPr/>
              </p:nvSpPr>
              <p:spPr>
                <a:xfrm rot="20933400">
                  <a:off x="8188560" y="3823560"/>
                  <a:ext cx="959760" cy="74484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4840"/>
                    <a:gd name="textAreaBottom" fmla="*/ 745200 h 7448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95" name="Freeform 42"/>
                <p:cNvSpPr/>
                <p:nvPr/>
              </p:nvSpPr>
              <p:spPr>
                <a:xfrm>
                  <a:off x="388080" y="1443960"/>
                  <a:ext cx="356040" cy="192600"/>
                </a:xfrm>
                <a:custGeom>
                  <a:avLst/>
                  <a:gdLst>
                    <a:gd name="textAreaLeft" fmla="*/ 0 w 356040"/>
                    <a:gd name="textAreaRight" fmla="*/ 356400 w 3560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3"/>
                <p:cNvSpPr/>
                <p:nvPr/>
              </p:nvSpPr>
              <p:spPr>
                <a:xfrm>
                  <a:off x="751320" y="16412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4"/>
                <p:cNvSpPr/>
                <p:nvPr/>
              </p:nvSpPr>
              <p:spPr>
                <a:xfrm>
                  <a:off x="760320" y="122580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53"/>
              <p:cNvGrpSpPr/>
              <p:nvPr/>
            </p:nvGrpSpPr>
            <p:grpSpPr>
              <a:xfrm>
                <a:off x="0" y="4273560"/>
                <a:ext cx="1192320" cy="1364760"/>
                <a:chOff x="0" y="4273560"/>
                <a:chExt cx="1192320" cy="1364760"/>
              </a:xfrm>
            </p:grpSpPr>
            <p:sp>
              <p:nvSpPr>
                <p:cNvPr id="100" name="Freeform 56"/>
                <p:cNvSpPr/>
                <p:nvPr/>
              </p:nvSpPr>
              <p:spPr>
                <a:xfrm>
                  <a:off x="399960" y="4638960"/>
                  <a:ext cx="13320" cy="36072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60720"/>
                    <a:gd name="textAreaBottom" fmla="*/ 361080 h 36072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57"/>
                <p:cNvSpPr/>
                <p:nvPr/>
              </p:nvSpPr>
              <p:spPr>
                <a:xfrm>
                  <a:off x="439200" y="4930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58"/>
                <p:cNvSpPr/>
                <p:nvPr/>
              </p:nvSpPr>
              <p:spPr>
                <a:xfrm>
                  <a:off x="416160" y="4871160"/>
                  <a:ext cx="335160" cy="1400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59"/>
                <p:cNvSpPr/>
                <p:nvPr/>
              </p:nvSpPr>
              <p:spPr>
                <a:xfrm>
                  <a:off x="0" y="4273560"/>
                  <a:ext cx="1192320" cy="136476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4760"/>
                    <a:gd name="textAreaBottom" fmla="*/ 1365120 h 136476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58"/>
              <p:cNvGrpSpPr/>
              <p:nvPr/>
            </p:nvGrpSpPr>
            <p:grpSpPr>
              <a:xfrm>
                <a:off x="7366320" y="0"/>
                <a:ext cx="1266120" cy="990360"/>
                <a:chOff x="7366320" y="0"/>
                <a:chExt cx="1266120" cy="990360"/>
              </a:xfrm>
            </p:grpSpPr>
            <p:sp>
              <p:nvSpPr>
                <p:cNvPr id="105" name="Freeform 63"/>
                <p:cNvSpPr/>
                <p:nvPr/>
              </p:nvSpPr>
              <p:spPr>
                <a:xfrm>
                  <a:off x="7698960" y="0"/>
                  <a:ext cx="185400" cy="18792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64"/>
                <p:cNvSpPr/>
                <p:nvPr/>
              </p:nvSpPr>
              <p:spPr>
                <a:xfrm>
                  <a:off x="7887240" y="1933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65"/>
                <p:cNvSpPr/>
                <p:nvPr/>
              </p:nvSpPr>
              <p:spPr>
                <a:xfrm>
                  <a:off x="7895160" y="0"/>
                  <a:ext cx="84600" cy="185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66"/>
                <p:cNvSpPr/>
                <p:nvPr/>
              </p:nvSpPr>
              <p:spPr>
                <a:xfrm>
                  <a:off x="7366320" y="0"/>
                  <a:ext cx="1266120" cy="990360"/>
                </a:xfrm>
                <a:custGeom>
                  <a:avLst/>
                  <a:gdLst>
                    <a:gd name="textAreaLeft" fmla="*/ 0 w 1266120"/>
                    <a:gd name="textAreaRight" fmla="*/ 1266480 w 126612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Group 63"/>
              <p:cNvGrpSpPr/>
              <p:nvPr/>
            </p:nvGrpSpPr>
            <p:grpSpPr>
              <a:xfrm>
                <a:off x="8323920" y="990720"/>
                <a:ext cx="819360" cy="1066320"/>
                <a:chOff x="8323920" y="990720"/>
                <a:chExt cx="819360" cy="1066320"/>
              </a:xfrm>
            </p:grpSpPr>
            <p:sp>
              <p:nvSpPr>
                <p:cNvPr id="110" name="Freeform 70"/>
                <p:cNvSpPr/>
                <p:nvPr/>
              </p:nvSpPr>
              <p:spPr>
                <a:xfrm>
                  <a:off x="8709120" y="1287000"/>
                  <a:ext cx="187200" cy="123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71"/>
                <p:cNvSpPr/>
                <p:nvPr/>
              </p:nvSpPr>
              <p:spPr>
                <a:xfrm>
                  <a:off x="8899200" y="1415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72"/>
                <p:cNvSpPr/>
                <p:nvPr/>
              </p:nvSpPr>
              <p:spPr>
                <a:xfrm>
                  <a:off x="8906400" y="1185840"/>
                  <a:ext cx="41760" cy="221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73"/>
                <p:cNvSpPr/>
                <p:nvPr/>
              </p:nvSpPr>
              <p:spPr>
                <a:xfrm>
                  <a:off x="8323920" y="990720"/>
                  <a:ext cx="819360" cy="1066320"/>
                </a:xfrm>
                <a:custGeom>
                  <a:avLst/>
                  <a:gdLst>
                    <a:gd name="textAreaLeft" fmla="*/ 0 w 819360"/>
                    <a:gd name="textAreaRight" fmla="*/ 819720 w 81936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440" y="3307320"/>
            <a:ext cx="71168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04040"/>
                </a:solidFill>
                <a:latin typeface="Arial"/>
                <a:ea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1"/>
          </p:nvPr>
        </p:nvSpPr>
        <p:spPr>
          <a:xfrm>
            <a:off x="6437160" y="5951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3"/>
          </p:nvPr>
        </p:nvSpPr>
        <p:spPr>
          <a:xfrm>
            <a:off x="573120" y="5951520"/>
            <a:ext cx="60768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D509AFB-C1A0-4175-86C7-35C4A81C66B8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2000">
              <a:srgbClr val="81ad3c"/>
            </a:gs>
            <a:gs pos="100000">
              <a:srgbClr val="beed6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34"/>
          <p:cNvGrpSpPr/>
          <p:nvPr/>
        </p:nvGrpSpPr>
        <p:grpSpPr>
          <a:xfrm>
            <a:off x="-140400" y="0"/>
            <a:ext cx="9426600" cy="6857640"/>
            <a:chOff x="-140400" y="0"/>
            <a:chExt cx="9426600" cy="6857640"/>
          </a:xfrm>
        </p:grpSpPr>
        <p:grpSp>
          <p:nvGrpSpPr>
            <p:cNvPr id="156" name="Group 638"/>
            <p:cNvGrpSpPr/>
            <p:nvPr/>
          </p:nvGrpSpPr>
          <p:grpSpPr>
            <a:xfrm>
              <a:off x="-140400" y="146520"/>
              <a:ext cx="9426600" cy="6439320"/>
              <a:chOff x="-140400" y="146520"/>
              <a:chExt cx="9426600" cy="6439320"/>
            </a:xfrm>
          </p:grpSpPr>
          <p:grpSp>
            <p:nvGrpSpPr>
              <p:cNvPr id="157" name="Group 121"/>
              <p:cNvGrpSpPr/>
              <p:nvPr/>
            </p:nvGrpSpPr>
            <p:grpSpPr>
              <a:xfrm>
                <a:off x="-140400" y="185760"/>
                <a:ext cx="1426320" cy="1398240"/>
                <a:chOff x="-140400" y="185760"/>
                <a:chExt cx="1426320" cy="1398240"/>
              </a:xfrm>
            </p:grpSpPr>
            <p:sp>
              <p:nvSpPr>
                <p:cNvPr id="158" name="Freeform 72"/>
                <p:cNvSpPr/>
                <p:nvPr/>
              </p:nvSpPr>
              <p:spPr>
                <a:xfrm rot="2429400">
                  <a:off x="783000" y="602280"/>
                  <a:ext cx="144720" cy="21564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73"/>
                <p:cNvSpPr/>
                <p:nvPr/>
              </p:nvSpPr>
              <p:spPr>
                <a:xfrm rot="2429400">
                  <a:off x="837720" y="844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4"/>
                <p:cNvSpPr/>
                <p:nvPr/>
              </p:nvSpPr>
              <p:spPr>
                <a:xfrm rot="2429400">
                  <a:off x="901080" y="703440"/>
                  <a:ext cx="145440" cy="21564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5"/>
                <p:cNvSpPr/>
                <p:nvPr/>
              </p:nvSpPr>
              <p:spPr>
                <a:xfrm rot="2429400">
                  <a:off x="8640" y="446760"/>
                  <a:ext cx="1127880" cy="875520"/>
                </a:xfrm>
                <a:custGeom>
                  <a:avLst/>
                  <a:gdLst>
                    <a:gd name="textAreaLeft" fmla="*/ 0 w 1127880"/>
                    <a:gd name="textAreaRight" fmla="*/ 1128240 w 1127880"/>
                    <a:gd name="textAreaTop" fmla="*/ 0 h 875520"/>
                    <a:gd name="textAreaBottom" fmla="*/ 875880 h 8755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142"/>
              <p:cNvGrpSpPr/>
              <p:nvPr/>
            </p:nvGrpSpPr>
            <p:grpSpPr>
              <a:xfrm>
                <a:off x="210240" y="1460520"/>
                <a:ext cx="1279440" cy="1236240"/>
                <a:chOff x="210240" y="1460520"/>
                <a:chExt cx="1279440" cy="1236240"/>
              </a:xfrm>
            </p:grpSpPr>
            <p:sp>
              <p:nvSpPr>
                <p:cNvPr id="163" name="Freeform 79"/>
                <p:cNvSpPr/>
                <p:nvPr/>
              </p:nvSpPr>
              <p:spPr>
                <a:xfrm rot="19493400">
                  <a:off x="620280" y="18500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80"/>
                <p:cNvSpPr/>
                <p:nvPr/>
              </p:nvSpPr>
              <p:spPr>
                <a:xfrm rot="19493400">
                  <a:off x="771120" y="1969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81"/>
                <p:cNvSpPr/>
                <p:nvPr/>
              </p:nvSpPr>
              <p:spPr>
                <a:xfrm rot="19493400">
                  <a:off x="717120" y="17816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82"/>
                <p:cNvSpPr/>
                <p:nvPr/>
              </p:nvSpPr>
              <p:spPr>
                <a:xfrm rot="19493400">
                  <a:off x="353880" y="1671480"/>
                  <a:ext cx="992160" cy="813600"/>
                </a:xfrm>
                <a:custGeom>
                  <a:avLst/>
                  <a:gdLst>
                    <a:gd name="textAreaLeft" fmla="*/ 0 w 992160"/>
                    <a:gd name="textAreaRight" fmla="*/ 992520 w 992160"/>
                    <a:gd name="textAreaTop" fmla="*/ 0 h 813600"/>
                    <a:gd name="textAreaBottom" fmla="*/ 813960 h 8136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147"/>
              <p:cNvGrpSpPr/>
              <p:nvPr/>
            </p:nvGrpSpPr>
            <p:grpSpPr>
              <a:xfrm>
                <a:off x="228600" y="4343400"/>
                <a:ext cx="1421280" cy="1367640"/>
                <a:chOff x="228600" y="4343400"/>
                <a:chExt cx="1421280" cy="1367640"/>
              </a:xfrm>
            </p:grpSpPr>
            <p:sp>
              <p:nvSpPr>
                <p:cNvPr id="168" name="Freeform 86"/>
                <p:cNvSpPr/>
                <p:nvPr/>
              </p:nvSpPr>
              <p:spPr>
                <a:xfrm rot="19711200">
                  <a:off x="680040" y="4746240"/>
                  <a:ext cx="131760" cy="1962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87"/>
                <p:cNvSpPr/>
                <p:nvPr/>
              </p:nvSpPr>
              <p:spPr>
                <a:xfrm rot="19711200">
                  <a:off x="856440" y="489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88"/>
                <p:cNvSpPr/>
                <p:nvPr/>
              </p:nvSpPr>
              <p:spPr>
                <a:xfrm rot="19711200">
                  <a:off x="801000" y="4672440"/>
                  <a:ext cx="130680" cy="1962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89"/>
                <p:cNvSpPr/>
                <p:nvPr/>
              </p:nvSpPr>
              <p:spPr>
                <a:xfrm rot="19711200">
                  <a:off x="391680" y="4560480"/>
                  <a:ext cx="1094760" cy="93348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72"/>
              <p:cNvGrpSpPr/>
              <p:nvPr/>
            </p:nvGrpSpPr>
            <p:grpSpPr>
              <a:xfrm>
                <a:off x="7499520" y="146520"/>
                <a:ext cx="1786680" cy="1719360"/>
                <a:chOff x="7499520" y="146520"/>
                <a:chExt cx="1786680" cy="1719360"/>
              </a:xfrm>
            </p:grpSpPr>
            <p:sp>
              <p:nvSpPr>
                <p:cNvPr id="173" name="Freeform 86"/>
                <p:cNvSpPr/>
                <p:nvPr/>
              </p:nvSpPr>
              <p:spPr>
                <a:xfrm rot="19711200">
                  <a:off x="8067600" y="652320"/>
                  <a:ext cx="165960" cy="2469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87"/>
                <p:cNvSpPr/>
                <p:nvPr/>
              </p:nvSpPr>
              <p:spPr>
                <a:xfrm rot="19711200">
                  <a:off x="8289000" y="8424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88"/>
                <p:cNvSpPr/>
                <p:nvPr/>
              </p:nvSpPr>
              <p:spPr>
                <a:xfrm rot="19711200">
                  <a:off x="8219520" y="559800"/>
                  <a:ext cx="164520" cy="24696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89"/>
                <p:cNvSpPr/>
                <p:nvPr/>
              </p:nvSpPr>
              <p:spPr>
                <a:xfrm rot="19711200">
                  <a:off x="7704360" y="419040"/>
                  <a:ext cx="1376280" cy="1173600"/>
                </a:xfrm>
                <a:custGeom>
                  <a:avLst/>
                  <a:gdLst>
                    <a:gd name="textAreaLeft" fmla="*/ 0 w 1376280"/>
                    <a:gd name="textAreaRight" fmla="*/ 1376640 w 1376280"/>
                    <a:gd name="textAreaTop" fmla="*/ 0 h 1173600"/>
                    <a:gd name="textAreaBottom" fmla="*/ 1173960 h 117360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77"/>
              <p:cNvGrpSpPr/>
              <p:nvPr/>
            </p:nvGrpSpPr>
            <p:grpSpPr>
              <a:xfrm>
                <a:off x="7129440" y="3505320"/>
                <a:ext cx="1861560" cy="1824840"/>
                <a:chOff x="7129440" y="3505320"/>
                <a:chExt cx="1861560" cy="1824840"/>
              </a:xfrm>
            </p:grpSpPr>
            <p:sp>
              <p:nvSpPr>
                <p:cNvPr id="178" name="Freeform 72"/>
                <p:cNvSpPr/>
                <p:nvPr/>
              </p:nvSpPr>
              <p:spPr>
                <a:xfrm rot="2429400">
                  <a:off x="8007480" y="4073400"/>
                  <a:ext cx="188640" cy="2811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3"/>
                <p:cNvSpPr/>
                <p:nvPr/>
              </p:nvSpPr>
              <p:spPr>
                <a:xfrm rot="2429400">
                  <a:off x="8078760" y="438876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74"/>
                <p:cNvSpPr/>
                <p:nvPr/>
              </p:nvSpPr>
              <p:spPr>
                <a:xfrm rot="2429400">
                  <a:off x="8161920" y="4205520"/>
                  <a:ext cx="190080" cy="2811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75"/>
                <p:cNvSpPr/>
                <p:nvPr/>
              </p:nvSpPr>
              <p:spPr>
                <a:xfrm rot="2429400">
                  <a:off x="7323840" y="3846240"/>
                  <a:ext cx="1472040" cy="11426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2640"/>
                    <a:gd name="textAreaBottom" fmla="*/ 1143000 h 1142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82"/>
              <p:cNvGrpSpPr/>
              <p:nvPr/>
            </p:nvGrpSpPr>
            <p:grpSpPr>
              <a:xfrm>
                <a:off x="7610760" y="5105520"/>
                <a:ext cx="1532160" cy="1480320"/>
                <a:chOff x="7610760" y="5105520"/>
                <a:chExt cx="1532160" cy="1480320"/>
              </a:xfrm>
            </p:grpSpPr>
            <p:sp>
              <p:nvSpPr>
                <p:cNvPr id="183" name="Freeform 79"/>
                <p:cNvSpPr/>
                <p:nvPr/>
              </p:nvSpPr>
              <p:spPr>
                <a:xfrm rot="19493400">
                  <a:off x="8101800" y="557172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80"/>
                <p:cNvSpPr/>
                <p:nvPr/>
              </p:nvSpPr>
              <p:spPr>
                <a:xfrm rot="19493400">
                  <a:off x="8282520" y="5715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81"/>
                <p:cNvSpPr/>
                <p:nvPr/>
              </p:nvSpPr>
              <p:spPr>
                <a:xfrm rot="19493400">
                  <a:off x="821808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82"/>
                <p:cNvSpPr/>
                <p:nvPr/>
              </p:nvSpPr>
              <p:spPr>
                <a:xfrm rot="19493400">
                  <a:off x="7782480" y="5358240"/>
                  <a:ext cx="1188000" cy="97416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974160"/>
                    <a:gd name="textAreaBottom" fmla="*/ 974520 h 9741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" name="Group 669"/>
            <p:cNvGrpSpPr/>
            <p:nvPr/>
          </p:nvGrpSpPr>
          <p:grpSpPr>
            <a:xfrm>
              <a:off x="0" y="57960"/>
              <a:ext cx="9183600" cy="6799680"/>
              <a:chOff x="0" y="57960"/>
              <a:chExt cx="9183600" cy="6799680"/>
            </a:xfrm>
          </p:grpSpPr>
          <p:grpSp>
            <p:nvGrpSpPr>
              <p:cNvPr id="188" name="Group 32"/>
              <p:cNvGrpSpPr/>
              <p:nvPr/>
            </p:nvGrpSpPr>
            <p:grpSpPr>
              <a:xfrm>
                <a:off x="72000" y="57960"/>
                <a:ext cx="1895040" cy="1689120"/>
                <a:chOff x="72000" y="57960"/>
                <a:chExt cx="1895040" cy="1689120"/>
              </a:xfrm>
            </p:grpSpPr>
            <p:sp>
              <p:nvSpPr>
                <p:cNvPr id="189" name="Freeform 79"/>
                <p:cNvSpPr/>
                <p:nvPr/>
              </p:nvSpPr>
              <p:spPr>
                <a:xfrm rot="20059800">
                  <a:off x="762120" y="59220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80"/>
                <p:cNvSpPr/>
                <p:nvPr/>
              </p:nvSpPr>
              <p:spPr>
                <a:xfrm rot="20059800">
                  <a:off x="1022040" y="837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81"/>
                <p:cNvSpPr/>
                <p:nvPr/>
              </p:nvSpPr>
              <p:spPr>
                <a:xfrm rot="20059800">
                  <a:off x="956160" y="49896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82"/>
                <p:cNvSpPr/>
                <p:nvPr/>
              </p:nvSpPr>
              <p:spPr>
                <a:xfrm rot="20710200">
                  <a:off x="214200" y="241920"/>
                  <a:ext cx="1610640" cy="1320840"/>
                </a:xfrm>
                <a:custGeom>
                  <a:avLst/>
                  <a:gdLst>
                    <a:gd name="textAreaLeft" fmla="*/ 0 w 1610640"/>
                    <a:gd name="textAreaRight" fmla="*/ 1611000 w 1610640"/>
                    <a:gd name="textAreaTop" fmla="*/ 0 h 1320840"/>
                    <a:gd name="textAreaBottom" fmla="*/ 1321200 h 13208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48"/>
              <p:cNvGrpSpPr/>
              <p:nvPr/>
            </p:nvGrpSpPr>
            <p:grpSpPr>
              <a:xfrm>
                <a:off x="7238880" y="457200"/>
                <a:ext cx="1316520" cy="1236960"/>
                <a:chOff x="7238880" y="457200"/>
                <a:chExt cx="1316520" cy="1236960"/>
              </a:xfrm>
            </p:grpSpPr>
            <p:sp>
              <p:nvSpPr>
                <p:cNvPr id="194" name="Freeform 86"/>
                <p:cNvSpPr/>
                <p:nvPr/>
              </p:nvSpPr>
              <p:spPr>
                <a:xfrm rot="1420200">
                  <a:off x="7872120" y="730800"/>
                  <a:ext cx="126000" cy="18756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87"/>
                <p:cNvSpPr/>
                <p:nvPr/>
              </p:nvSpPr>
              <p:spPr>
                <a:xfrm rot="1420200">
                  <a:off x="7953480" y="9399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88"/>
                <p:cNvSpPr/>
                <p:nvPr/>
              </p:nvSpPr>
              <p:spPr>
                <a:xfrm rot="1420200">
                  <a:off x="7996320" y="784800"/>
                  <a:ext cx="124920" cy="18756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89"/>
                <p:cNvSpPr/>
                <p:nvPr/>
              </p:nvSpPr>
              <p:spPr>
                <a:xfrm rot="1420200">
                  <a:off x="7373880" y="629640"/>
                  <a:ext cx="1046160" cy="89208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Freeform 73"/>
              <p:cNvSpPr/>
              <p:nvPr/>
            </p:nvSpPr>
            <p:spPr>
              <a:xfrm rot="1542600">
                <a:off x="7058160" y="3703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8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63"/>
              <p:cNvGrpSpPr/>
              <p:nvPr/>
            </p:nvGrpSpPr>
            <p:grpSpPr>
              <a:xfrm>
                <a:off x="7832880" y="4216320"/>
                <a:ext cx="1350720" cy="1223640"/>
                <a:chOff x="7832880" y="4216320"/>
                <a:chExt cx="1350720" cy="1223640"/>
              </a:xfrm>
            </p:grpSpPr>
            <p:sp>
              <p:nvSpPr>
                <p:cNvPr id="200" name="Freeform 79"/>
                <p:cNvSpPr/>
                <p:nvPr/>
              </p:nvSpPr>
              <p:spPr>
                <a:xfrm rot="1645200">
                  <a:off x="8359920" y="488556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80"/>
                <p:cNvSpPr/>
                <p:nvPr/>
              </p:nvSpPr>
              <p:spPr>
                <a:xfrm rot="1645200">
                  <a:off x="8433000" y="5093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81"/>
                <p:cNvSpPr/>
                <p:nvPr/>
              </p:nvSpPr>
              <p:spPr>
                <a:xfrm rot="1645200">
                  <a:off x="8478720" y="494712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82"/>
                <p:cNvSpPr/>
                <p:nvPr/>
              </p:nvSpPr>
              <p:spPr>
                <a:xfrm rot="20491200">
                  <a:off x="7949160" y="4369680"/>
                  <a:ext cx="1117800" cy="916560"/>
                </a:xfrm>
                <a:custGeom>
                  <a:avLst/>
                  <a:gdLst>
                    <a:gd name="textAreaLeft" fmla="*/ 0 w 1117800"/>
                    <a:gd name="textAreaRight" fmla="*/ 1118160 w 1117800"/>
                    <a:gd name="textAreaTop" fmla="*/ 0 h 916560"/>
                    <a:gd name="textAreaBottom" fmla="*/ 916920 h 9165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Group 87"/>
              <p:cNvGrpSpPr/>
              <p:nvPr/>
            </p:nvGrpSpPr>
            <p:grpSpPr>
              <a:xfrm>
                <a:off x="0" y="5334120"/>
                <a:ext cx="1188000" cy="1523520"/>
                <a:chOff x="0" y="5334120"/>
                <a:chExt cx="1188000" cy="1523520"/>
              </a:xfrm>
            </p:grpSpPr>
            <p:sp>
              <p:nvSpPr>
                <p:cNvPr id="205" name="Freeform 21"/>
                <p:cNvSpPr/>
                <p:nvPr/>
              </p:nvSpPr>
              <p:spPr>
                <a:xfrm>
                  <a:off x="374040" y="5703840"/>
                  <a:ext cx="21600" cy="3052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5280"/>
                    <a:gd name="textAreaBottom" fmla="*/ 305640 h 30528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2"/>
                <p:cNvSpPr/>
                <p:nvPr/>
              </p:nvSpPr>
              <p:spPr>
                <a:xfrm>
                  <a:off x="392040" y="60156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23"/>
                <p:cNvSpPr/>
                <p:nvPr/>
              </p:nvSpPr>
              <p:spPr>
                <a:xfrm>
                  <a:off x="406080" y="5882760"/>
                  <a:ext cx="277200" cy="134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24"/>
                <p:cNvSpPr/>
                <p:nvPr/>
              </p:nvSpPr>
              <p:spPr>
                <a:xfrm>
                  <a:off x="0" y="5334120"/>
                  <a:ext cx="1188000" cy="152352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520"/>
                    <a:gd name="textAreaBottom" fmla="*/ 1523880 h 152352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Group 92"/>
              <p:cNvGrpSpPr/>
              <p:nvPr/>
            </p:nvGrpSpPr>
            <p:grpSpPr>
              <a:xfrm>
                <a:off x="0" y="2846520"/>
                <a:ext cx="930240" cy="1301400"/>
                <a:chOff x="0" y="2846520"/>
                <a:chExt cx="930240" cy="1301400"/>
              </a:xfrm>
            </p:grpSpPr>
            <p:sp>
              <p:nvSpPr>
                <p:cNvPr id="210" name="Freeform 49"/>
                <p:cNvSpPr/>
                <p:nvPr/>
              </p:nvSpPr>
              <p:spPr>
                <a:xfrm>
                  <a:off x="0" y="3446280"/>
                  <a:ext cx="84240" cy="13140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50"/>
                <p:cNvSpPr/>
                <p:nvPr/>
              </p:nvSpPr>
              <p:spPr>
                <a:xfrm>
                  <a:off x="87120" y="3585240"/>
                  <a:ext cx="360" cy="21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51"/>
                <p:cNvSpPr/>
                <p:nvPr/>
              </p:nvSpPr>
              <p:spPr>
                <a:xfrm>
                  <a:off x="101160" y="3256200"/>
                  <a:ext cx="215640" cy="32148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52"/>
                <p:cNvSpPr/>
                <p:nvPr/>
              </p:nvSpPr>
              <p:spPr>
                <a:xfrm>
                  <a:off x="0" y="2846520"/>
                  <a:ext cx="930240" cy="130140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400"/>
                    <a:gd name="textAreaBottom" fmla="*/ 1301760 h 13014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4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16000"/>
                    </a:srgbClr>
                  </a:solidFill>
                  <a:round/>
                </a:ln>
                <a:effectLst>
                  <a:glow rad="63360">
                    <a:srgbClr val="d8f2ab">
                      <a:alpha val="1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97"/>
              <p:cNvGrpSpPr/>
              <p:nvPr/>
            </p:nvGrpSpPr>
            <p:grpSpPr>
              <a:xfrm>
                <a:off x="4876560" y="5704560"/>
                <a:ext cx="1752120" cy="1153080"/>
                <a:chOff x="4876560" y="5704560"/>
                <a:chExt cx="1752120" cy="1153080"/>
              </a:xfrm>
            </p:grpSpPr>
            <p:sp>
              <p:nvSpPr>
                <p:cNvPr id="215" name="Freeform 28"/>
                <p:cNvSpPr/>
                <p:nvPr/>
              </p:nvSpPr>
              <p:spPr>
                <a:xfrm>
                  <a:off x="5598720" y="6247800"/>
                  <a:ext cx="15120" cy="3841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29"/>
                <p:cNvSpPr/>
                <p:nvPr/>
              </p:nvSpPr>
              <p:spPr>
                <a:xfrm>
                  <a:off x="5609880" y="6641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0"/>
                <p:cNvSpPr/>
                <p:nvPr/>
              </p:nvSpPr>
              <p:spPr>
                <a:xfrm>
                  <a:off x="5627520" y="6482520"/>
                  <a:ext cx="352800" cy="160560"/>
                </a:xfrm>
                <a:custGeom>
                  <a:avLst/>
                  <a:gdLst>
                    <a:gd name="textAreaLeft" fmla="*/ 0 w 352800"/>
                    <a:gd name="textAreaRight" fmla="*/ 353160 w 352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1"/>
                <p:cNvSpPr/>
                <p:nvPr/>
              </p:nvSpPr>
              <p:spPr>
                <a:xfrm>
                  <a:off x="4876560" y="5704560"/>
                  <a:ext cx="1752120" cy="1153080"/>
                </a:xfrm>
                <a:custGeom>
                  <a:avLst/>
                  <a:gdLst>
                    <a:gd name="textAreaLeft" fmla="*/ 0 w 1752120"/>
                    <a:gd name="textAreaRight" fmla="*/ 1752480 w 1752120"/>
                    <a:gd name="textAreaTop" fmla="*/ 0 h 1153080"/>
                    <a:gd name="textAreaBottom" fmla="*/ 1153440 h 115308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9000"/>
                  </a:schemeClr>
                </a:solidFill>
                <a:ln w="9525">
                  <a:solidFill>
                    <a:srgbClr val="feffff">
                      <a:alpha val="12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Group 102"/>
              <p:cNvGrpSpPr/>
              <p:nvPr/>
            </p:nvGrpSpPr>
            <p:grpSpPr>
              <a:xfrm>
                <a:off x="7848360" y="1523880"/>
                <a:ext cx="1294920" cy="1685160"/>
                <a:chOff x="7848360" y="1523880"/>
                <a:chExt cx="1294920" cy="1685160"/>
              </a:xfrm>
            </p:grpSpPr>
            <p:sp>
              <p:nvSpPr>
                <p:cNvPr id="220" name="Freeform 70"/>
                <p:cNvSpPr/>
                <p:nvPr/>
              </p:nvSpPr>
              <p:spPr>
                <a:xfrm>
                  <a:off x="8456760" y="1992240"/>
                  <a:ext cx="296280" cy="19476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1"/>
                <p:cNvSpPr/>
                <p:nvPr/>
              </p:nvSpPr>
              <p:spPr>
                <a:xfrm>
                  <a:off x="8757360" y="2195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72"/>
                <p:cNvSpPr/>
                <p:nvPr/>
              </p:nvSpPr>
              <p:spPr>
                <a:xfrm>
                  <a:off x="8768880" y="1832400"/>
                  <a:ext cx="65880" cy="35064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848360" y="1523880"/>
                  <a:ext cx="1294920" cy="1685160"/>
                </a:xfrm>
                <a:custGeom>
                  <a:avLst/>
                  <a:gdLst>
                    <a:gd name="textAreaLeft" fmla="*/ 0 w 1294920"/>
                    <a:gd name="textAreaRight" fmla="*/ 1295280 w 129492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112"/>
              <p:cNvGrpSpPr/>
              <p:nvPr/>
            </p:nvGrpSpPr>
            <p:grpSpPr>
              <a:xfrm>
                <a:off x="7679160" y="5943600"/>
                <a:ext cx="1331280" cy="914040"/>
                <a:chOff x="7679160" y="5943600"/>
                <a:chExt cx="1331280" cy="914040"/>
              </a:xfrm>
            </p:grpSpPr>
            <p:sp>
              <p:nvSpPr>
                <p:cNvPr id="225" name="Freeform 35"/>
                <p:cNvSpPr/>
                <p:nvPr/>
              </p:nvSpPr>
              <p:spPr>
                <a:xfrm>
                  <a:off x="7679160" y="6346080"/>
                  <a:ext cx="201960" cy="9504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7884000" y="6446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37"/>
                <p:cNvSpPr/>
                <p:nvPr/>
              </p:nvSpPr>
              <p:spPr>
                <a:xfrm>
                  <a:off x="7888680" y="6215040"/>
                  <a:ext cx="14040" cy="221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38"/>
                <p:cNvSpPr/>
                <p:nvPr/>
              </p:nvSpPr>
              <p:spPr>
                <a:xfrm>
                  <a:off x="7920360" y="5943600"/>
                  <a:ext cx="1090080" cy="914040"/>
                </a:xfrm>
                <a:custGeom>
                  <a:avLst/>
                  <a:gdLst>
                    <a:gd name="textAreaLeft" fmla="*/ 0 w 1090080"/>
                    <a:gd name="textAreaRight" fmla="*/ 1090440 w 1090080"/>
                    <a:gd name="textAreaTop" fmla="*/ 0 h 914040"/>
                    <a:gd name="textAreaBottom" fmla="*/ 914400 h 9140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9" name="Group 715"/>
            <p:cNvGrpSpPr/>
            <p:nvPr/>
          </p:nvGrpSpPr>
          <p:grpSpPr>
            <a:xfrm>
              <a:off x="0" y="0"/>
              <a:ext cx="9211320" cy="6828840"/>
              <a:chOff x="0" y="0"/>
              <a:chExt cx="9211320" cy="6828840"/>
            </a:xfrm>
          </p:grpSpPr>
          <p:grpSp>
            <p:nvGrpSpPr>
              <p:cNvPr id="230" name="Group 129"/>
              <p:cNvGrpSpPr/>
              <p:nvPr/>
            </p:nvGrpSpPr>
            <p:grpSpPr>
              <a:xfrm>
                <a:off x="7695720" y="2819880"/>
                <a:ext cx="1404360" cy="3467880"/>
                <a:chOff x="7695720" y="2819880"/>
                <a:chExt cx="1404360" cy="3467880"/>
              </a:xfrm>
            </p:grpSpPr>
            <p:sp>
              <p:nvSpPr>
                <p:cNvPr id="231" name="Freeform 86"/>
                <p:cNvSpPr/>
                <p:nvPr/>
              </p:nvSpPr>
              <p:spPr>
                <a:xfrm rot="20119200">
                  <a:off x="8078400" y="3112920"/>
                  <a:ext cx="110520" cy="16452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7"/>
                <p:cNvSpPr/>
                <p:nvPr/>
              </p:nvSpPr>
              <p:spPr>
                <a:xfrm rot="20119200">
                  <a:off x="822024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8"/>
                <p:cNvSpPr/>
                <p:nvPr/>
              </p:nvSpPr>
              <p:spPr>
                <a:xfrm rot="20119200">
                  <a:off x="8186760" y="3063240"/>
                  <a:ext cx="109440" cy="16452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9"/>
                <p:cNvSpPr/>
                <p:nvPr/>
              </p:nvSpPr>
              <p:spPr>
                <a:xfrm rot="20119200">
                  <a:off x="7817040" y="2975400"/>
                  <a:ext cx="917640" cy="78264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21000"/>
                  </a:schemeClr>
                </a:solidFill>
                <a:ln w="9525">
                  <a:noFill/>
                </a:ln>
                <a:effectLst>
                  <a:glow rad="50760">
                    <a:srgbClr val="d8f2ab">
                      <a:alpha val="33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9"/>
                <p:cNvSpPr/>
                <p:nvPr/>
              </p:nvSpPr>
              <p:spPr>
                <a:xfrm rot="823200">
                  <a:off x="7924680" y="5250240"/>
                  <a:ext cx="1081440" cy="922320"/>
                </a:xfrm>
                <a:custGeom>
                  <a:avLst/>
                  <a:gdLst>
                    <a:gd name="textAreaLeft" fmla="*/ 0 w 1081440"/>
                    <a:gd name="textAreaRight" fmla="*/ 1081800 w 108144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134"/>
              <p:cNvGrpSpPr/>
              <p:nvPr/>
            </p:nvGrpSpPr>
            <p:grpSpPr>
              <a:xfrm>
                <a:off x="6854760" y="5524920"/>
                <a:ext cx="1110600" cy="1303920"/>
                <a:chOff x="6854760" y="5524920"/>
                <a:chExt cx="1110600" cy="1303920"/>
              </a:xfrm>
            </p:grpSpPr>
            <p:sp>
              <p:nvSpPr>
                <p:cNvPr id="237" name="Freeform 80"/>
                <p:cNvSpPr/>
                <p:nvPr/>
              </p:nvSpPr>
              <p:spPr>
                <a:xfrm rot="1992600">
                  <a:off x="7715520" y="55249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82"/>
                <p:cNvSpPr/>
                <p:nvPr/>
              </p:nvSpPr>
              <p:spPr>
                <a:xfrm rot="592800">
                  <a:off x="6916680" y="5941080"/>
                  <a:ext cx="986400" cy="808920"/>
                </a:xfrm>
                <a:custGeom>
                  <a:avLst/>
                  <a:gdLst>
                    <a:gd name="textAreaLeft" fmla="*/ 0 w 986400"/>
                    <a:gd name="textAreaRight" fmla="*/ 986760 w 986400"/>
                    <a:gd name="textAreaTop" fmla="*/ 0 h 808920"/>
                    <a:gd name="textAreaBottom" fmla="*/ 809280 h 808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tx2">
                    <a:lumMod val="60000"/>
                    <a:lumOff val="40000"/>
                    <a:alpha val="10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abcb6a">
                      <a:alpha val="2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154"/>
              <p:cNvGrpSpPr/>
              <p:nvPr/>
            </p:nvGrpSpPr>
            <p:grpSpPr>
              <a:xfrm>
                <a:off x="6317640" y="1055160"/>
                <a:ext cx="1839960" cy="1753200"/>
                <a:chOff x="6317640" y="1055160"/>
                <a:chExt cx="1839960" cy="1753200"/>
              </a:xfrm>
            </p:grpSpPr>
            <p:sp>
              <p:nvSpPr>
                <p:cNvPr id="240" name="Freeform 72"/>
                <p:cNvSpPr/>
                <p:nvPr/>
              </p:nvSpPr>
              <p:spPr>
                <a:xfrm rot="2047800">
                  <a:off x="7162920" y="1588320"/>
                  <a:ext cx="186840" cy="27828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3"/>
                <p:cNvSpPr/>
                <p:nvPr/>
              </p:nvSpPr>
              <p:spPr>
                <a:xfrm rot="2047800">
                  <a:off x="7252920" y="190188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74"/>
                <p:cNvSpPr/>
                <p:nvPr/>
              </p:nvSpPr>
              <p:spPr>
                <a:xfrm rot="2047800">
                  <a:off x="7329240" y="1701360"/>
                  <a:ext cx="188280" cy="2782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75"/>
                <p:cNvSpPr/>
                <p:nvPr/>
              </p:nvSpPr>
              <p:spPr>
                <a:xfrm rot="2047800">
                  <a:off x="6509160" y="1366200"/>
                  <a:ext cx="1456560" cy="1130760"/>
                </a:xfrm>
                <a:custGeom>
                  <a:avLst/>
                  <a:gdLst>
                    <a:gd name="textAreaLeft" fmla="*/ 0 w 1456560"/>
                    <a:gd name="textAreaRight" fmla="*/ 1456920 w 1456560"/>
                    <a:gd name="textAreaTop" fmla="*/ 0 h 1130760"/>
                    <a:gd name="textAreaBottom" fmla="*/ 1131120 h 11307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solidFill>
                    <a:srgbClr val="beea73">
                      <a:lumMod val="60000"/>
                      <a:lumOff val="40000"/>
                      <a:alpha val="19000"/>
                    </a:srgbClr>
                  </a:solidFill>
                  <a:round/>
                </a:ln>
                <a:effectLst>
                  <a:glow rad="63360">
                    <a:srgbClr val="d8f2ab">
                      <a:alpha val="1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164"/>
              <p:cNvGrpSpPr/>
              <p:nvPr/>
            </p:nvGrpSpPr>
            <p:grpSpPr>
              <a:xfrm>
                <a:off x="8125920" y="3738240"/>
                <a:ext cx="1085400" cy="915840"/>
                <a:chOff x="8125920" y="3738240"/>
                <a:chExt cx="1085400" cy="915840"/>
              </a:xfrm>
            </p:grpSpPr>
            <p:sp>
              <p:nvSpPr>
                <p:cNvPr id="245" name="Freeform 72"/>
                <p:cNvSpPr/>
                <p:nvPr/>
              </p:nvSpPr>
              <p:spPr>
                <a:xfrm rot="20119800">
                  <a:off x="8497800" y="4024080"/>
                  <a:ext cx="123120" cy="1832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73"/>
                <p:cNvSpPr/>
                <p:nvPr/>
              </p:nvSpPr>
              <p:spPr>
                <a:xfrm rot="20119800">
                  <a:off x="8656920" y="417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74"/>
                <p:cNvSpPr/>
                <p:nvPr/>
              </p:nvSpPr>
              <p:spPr>
                <a:xfrm rot="20119800">
                  <a:off x="8618040" y="3968640"/>
                  <a:ext cx="123840" cy="183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5"/>
                <p:cNvSpPr/>
                <p:nvPr/>
              </p:nvSpPr>
              <p:spPr>
                <a:xfrm rot="20933400">
                  <a:off x="8188560" y="3823560"/>
                  <a:ext cx="959760" cy="74484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4840"/>
                    <a:gd name="textAreaBottom" fmla="*/ 745200 h 7448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250" name="Freeform 42"/>
                <p:cNvSpPr/>
                <p:nvPr/>
              </p:nvSpPr>
              <p:spPr>
                <a:xfrm>
                  <a:off x="388080" y="1443960"/>
                  <a:ext cx="356040" cy="192600"/>
                </a:xfrm>
                <a:custGeom>
                  <a:avLst/>
                  <a:gdLst>
                    <a:gd name="textAreaLeft" fmla="*/ 0 w 356040"/>
                    <a:gd name="textAreaRight" fmla="*/ 356400 w 3560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43"/>
                <p:cNvSpPr/>
                <p:nvPr/>
              </p:nvSpPr>
              <p:spPr>
                <a:xfrm>
                  <a:off x="751320" y="16412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44"/>
                <p:cNvSpPr/>
                <p:nvPr/>
              </p:nvSpPr>
              <p:spPr>
                <a:xfrm>
                  <a:off x="760320" y="122580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53"/>
              <p:cNvGrpSpPr/>
              <p:nvPr/>
            </p:nvGrpSpPr>
            <p:grpSpPr>
              <a:xfrm>
                <a:off x="0" y="4273560"/>
                <a:ext cx="1192320" cy="1364760"/>
                <a:chOff x="0" y="4273560"/>
                <a:chExt cx="1192320" cy="1364760"/>
              </a:xfrm>
            </p:grpSpPr>
            <p:sp>
              <p:nvSpPr>
                <p:cNvPr id="255" name="Freeform 56"/>
                <p:cNvSpPr/>
                <p:nvPr/>
              </p:nvSpPr>
              <p:spPr>
                <a:xfrm>
                  <a:off x="399960" y="4638960"/>
                  <a:ext cx="13320" cy="36072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60720"/>
                    <a:gd name="textAreaBottom" fmla="*/ 361080 h 36072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57"/>
                <p:cNvSpPr/>
                <p:nvPr/>
              </p:nvSpPr>
              <p:spPr>
                <a:xfrm>
                  <a:off x="439200" y="4930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58"/>
                <p:cNvSpPr/>
                <p:nvPr/>
              </p:nvSpPr>
              <p:spPr>
                <a:xfrm>
                  <a:off x="416160" y="4871160"/>
                  <a:ext cx="335160" cy="1400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59"/>
                <p:cNvSpPr/>
                <p:nvPr/>
              </p:nvSpPr>
              <p:spPr>
                <a:xfrm>
                  <a:off x="0" y="4273560"/>
                  <a:ext cx="1192320" cy="136476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4760"/>
                    <a:gd name="textAreaBottom" fmla="*/ 1365120 h 136476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58"/>
              <p:cNvGrpSpPr/>
              <p:nvPr/>
            </p:nvGrpSpPr>
            <p:grpSpPr>
              <a:xfrm>
                <a:off x="7366320" y="0"/>
                <a:ext cx="1266120" cy="990360"/>
                <a:chOff x="7366320" y="0"/>
                <a:chExt cx="1266120" cy="990360"/>
              </a:xfrm>
            </p:grpSpPr>
            <p:sp>
              <p:nvSpPr>
                <p:cNvPr id="260" name="Freeform 63"/>
                <p:cNvSpPr/>
                <p:nvPr/>
              </p:nvSpPr>
              <p:spPr>
                <a:xfrm>
                  <a:off x="7698960" y="0"/>
                  <a:ext cx="185400" cy="18792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64"/>
                <p:cNvSpPr/>
                <p:nvPr/>
              </p:nvSpPr>
              <p:spPr>
                <a:xfrm>
                  <a:off x="7887240" y="1933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65"/>
                <p:cNvSpPr/>
                <p:nvPr/>
              </p:nvSpPr>
              <p:spPr>
                <a:xfrm>
                  <a:off x="7895160" y="0"/>
                  <a:ext cx="84600" cy="185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66"/>
                <p:cNvSpPr/>
                <p:nvPr/>
              </p:nvSpPr>
              <p:spPr>
                <a:xfrm>
                  <a:off x="7366320" y="0"/>
                  <a:ext cx="1266120" cy="990360"/>
                </a:xfrm>
                <a:custGeom>
                  <a:avLst/>
                  <a:gdLst>
                    <a:gd name="textAreaLeft" fmla="*/ 0 w 1266120"/>
                    <a:gd name="textAreaRight" fmla="*/ 1266480 w 126612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Group 63"/>
              <p:cNvGrpSpPr/>
              <p:nvPr/>
            </p:nvGrpSpPr>
            <p:grpSpPr>
              <a:xfrm>
                <a:off x="8323920" y="990720"/>
                <a:ext cx="819360" cy="1066320"/>
                <a:chOff x="8323920" y="990720"/>
                <a:chExt cx="819360" cy="1066320"/>
              </a:xfrm>
            </p:grpSpPr>
            <p:sp>
              <p:nvSpPr>
                <p:cNvPr id="265" name="Freeform 70"/>
                <p:cNvSpPr/>
                <p:nvPr/>
              </p:nvSpPr>
              <p:spPr>
                <a:xfrm>
                  <a:off x="8709120" y="1287000"/>
                  <a:ext cx="187200" cy="123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71"/>
                <p:cNvSpPr/>
                <p:nvPr/>
              </p:nvSpPr>
              <p:spPr>
                <a:xfrm>
                  <a:off x="8899200" y="1415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72"/>
                <p:cNvSpPr/>
                <p:nvPr/>
              </p:nvSpPr>
              <p:spPr>
                <a:xfrm>
                  <a:off x="8906400" y="1185840"/>
                  <a:ext cx="41760" cy="221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73"/>
                <p:cNvSpPr/>
                <p:nvPr/>
              </p:nvSpPr>
              <p:spPr>
                <a:xfrm>
                  <a:off x="8323920" y="990720"/>
                  <a:ext cx="819360" cy="1066320"/>
                </a:xfrm>
                <a:custGeom>
                  <a:avLst/>
                  <a:gdLst>
                    <a:gd name="textAreaLeft" fmla="*/ 0 w 819360"/>
                    <a:gd name="textAreaRight" fmla="*/ 819720 w 81936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  <a:ea typeface="Trebuchet MS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4"/>
          </p:nvPr>
        </p:nvSpPr>
        <p:spPr>
          <a:xfrm>
            <a:off x="6437160" y="5951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6"/>
          </p:nvPr>
        </p:nvSpPr>
        <p:spPr>
          <a:xfrm>
            <a:off x="573120" y="5951520"/>
            <a:ext cx="60768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317F303-6313-4B54-B751-93006D348E5C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2000">
              <a:srgbClr val="81ad3c"/>
            </a:gs>
            <a:gs pos="100000">
              <a:srgbClr val="beed6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134"/>
          <p:cNvGrpSpPr/>
          <p:nvPr/>
        </p:nvGrpSpPr>
        <p:grpSpPr>
          <a:xfrm>
            <a:off x="-140400" y="0"/>
            <a:ext cx="9426600" cy="6857640"/>
            <a:chOff x="-140400" y="0"/>
            <a:chExt cx="9426600" cy="6857640"/>
          </a:xfrm>
        </p:grpSpPr>
        <p:grpSp>
          <p:nvGrpSpPr>
            <p:cNvPr id="311" name="Group 638"/>
            <p:cNvGrpSpPr/>
            <p:nvPr/>
          </p:nvGrpSpPr>
          <p:grpSpPr>
            <a:xfrm>
              <a:off x="-140400" y="146520"/>
              <a:ext cx="9426600" cy="6439320"/>
              <a:chOff x="-140400" y="146520"/>
              <a:chExt cx="9426600" cy="6439320"/>
            </a:xfrm>
          </p:grpSpPr>
          <p:grpSp>
            <p:nvGrpSpPr>
              <p:cNvPr id="312" name="Group 121"/>
              <p:cNvGrpSpPr/>
              <p:nvPr/>
            </p:nvGrpSpPr>
            <p:grpSpPr>
              <a:xfrm>
                <a:off x="-140400" y="185760"/>
                <a:ext cx="1426320" cy="1398240"/>
                <a:chOff x="-140400" y="185760"/>
                <a:chExt cx="1426320" cy="1398240"/>
              </a:xfrm>
            </p:grpSpPr>
            <p:sp>
              <p:nvSpPr>
                <p:cNvPr id="313" name="Freeform 72"/>
                <p:cNvSpPr/>
                <p:nvPr/>
              </p:nvSpPr>
              <p:spPr>
                <a:xfrm rot="2429400">
                  <a:off x="783000" y="602280"/>
                  <a:ext cx="144720" cy="21564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73"/>
                <p:cNvSpPr/>
                <p:nvPr/>
              </p:nvSpPr>
              <p:spPr>
                <a:xfrm rot="2429400">
                  <a:off x="837720" y="844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74"/>
                <p:cNvSpPr/>
                <p:nvPr/>
              </p:nvSpPr>
              <p:spPr>
                <a:xfrm rot="2429400">
                  <a:off x="901080" y="703440"/>
                  <a:ext cx="145440" cy="21564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75"/>
                <p:cNvSpPr/>
                <p:nvPr/>
              </p:nvSpPr>
              <p:spPr>
                <a:xfrm rot="2429400">
                  <a:off x="8640" y="446760"/>
                  <a:ext cx="1127880" cy="875520"/>
                </a:xfrm>
                <a:custGeom>
                  <a:avLst/>
                  <a:gdLst>
                    <a:gd name="textAreaLeft" fmla="*/ 0 w 1127880"/>
                    <a:gd name="textAreaRight" fmla="*/ 1128240 w 1127880"/>
                    <a:gd name="textAreaTop" fmla="*/ 0 h 875520"/>
                    <a:gd name="textAreaBottom" fmla="*/ 875880 h 8755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142"/>
              <p:cNvGrpSpPr/>
              <p:nvPr/>
            </p:nvGrpSpPr>
            <p:grpSpPr>
              <a:xfrm>
                <a:off x="210240" y="1460520"/>
                <a:ext cx="1279440" cy="1236240"/>
                <a:chOff x="210240" y="1460520"/>
                <a:chExt cx="1279440" cy="1236240"/>
              </a:xfrm>
            </p:grpSpPr>
            <p:sp>
              <p:nvSpPr>
                <p:cNvPr id="318" name="Freeform 79"/>
                <p:cNvSpPr/>
                <p:nvPr/>
              </p:nvSpPr>
              <p:spPr>
                <a:xfrm rot="19493400">
                  <a:off x="620280" y="18500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80"/>
                <p:cNvSpPr/>
                <p:nvPr/>
              </p:nvSpPr>
              <p:spPr>
                <a:xfrm rot="19493400">
                  <a:off x="771120" y="1969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81"/>
                <p:cNvSpPr/>
                <p:nvPr/>
              </p:nvSpPr>
              <p:spPr>
                <a:xfrm rot="19493400">
                  <a:off x="717120" y="17816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82"/>
                <p:cNvSpPr/>
                <p:nvPr/>
              </p:nvSpPr>
              <p:spPr>
                <a:xfrm rot="19493400">
                  <a:off x="353880" y="1671480"/>
                  <a:ext cx="992160" cy="813600"/>
                </a:xfrm>
                <a:custGeom>
                  <a:avLst/>
                  <a:gdLst>
                    <a:gd name="textAreaLeft" fmla="*/ 0 w 992160"/>
                    <a:gd name="textAreaRight" fmla="*/ 992520 w 992160"/>
                    <a:gd name="textAreaTop" fmla="*/ 0 h 813600"/>
                    <a:gd name="textAreaBottom" fmla="*/ 813960 h 8136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147"/>
              <p:cNvGrpSpPr/>
              <p:nvPr/>
            </p:nvGrpSpPr>
            <p:grpSpPr>
              <a:xfrm>
                <a:off x="228600" y="4343400"/>
                <a:ext cx="1421280" cy="1367640"/>
                <a:chOff x="228600" y="4343400"/>
                <a:chExt cx="1421280" cy="1367640"/>
              </a:xfrm>
            </p:grpSpPr>
            <p:sp>
              <p:nvSpPr>
                <p:cNvPr id="323" name="Freeform 86"/>
                <p:cNvSpPr/>
                <p:nvPr/>
              </p:nvSpPr>
              <p:spPr>
                <a:xfrm rot="19711200">
                  <a:off x="680040" y="4746240"/>
                  <a:ext cx="131760" cy="1962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87"/>
                <p:cNvSpPr/>
                <p:nvPr/>
              </p:nvSpPr>
              <p:spPr>
                <a:xfrm rot="19711200">
                  <a:off x="856440" y="489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88"/>
                <p:cNvSpPr/>
                <p:nvPr/>
              </p:nvSpPr>
              <p:spPr>
                <a:xfrm rot="19711200">
                  <a:off x="801000" y="4672440"/>
                  <a:ext cx="130680" cy="1962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89"/>
                <p:cNvSpPr/>
                <p:nvPr/>
              </p:nvSpPr>
              <p:spPr>
                <a:xfrm rot="19711200">
                  <a:off x="391680" y="4560480"/>
                  <a:ext cx="1094760" cy="93348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oup 172"/>
              <p:cNvGrpSpPr/>
              <p:nvPr/>
            </p:nvGrpSpPr>
            <p:grpSpPr>
              <a:xfrm>
                <a:off x="7499520" y="146520"/>
                <a:ext cx="1786680" cy="1719360"/>
                <a:chOff x="7499520" y="146520"/>
                <a:chExt cx="1786680" cy="1719360"/>
              </a:xfrm>
            </p:grpSpPr>
            <p:sp>
              <p:nvSpPr>
                <p:cNvPr id="328" name="Freeform 86"/>
                <p:cNvSpPr/>
                <p:nvPr/>
              </p:nvSpPr>
              <p:spPr>
                <a:xfrm rot="19711200">
                  <a:off x="8067600" y="652320"/>
                  <a:ext cx="165960" cy="2469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87"/>
                <p:cNvSpPr/>
                <p:nvPr/>
              </p:nvSpPr>
              <p:spPr>
                <a:xfrm rot="19711200">
                  <a:off x="8289000" y="8424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88"/>
                <p:cNvSpPr/>
                <p:nvPr/>
              </p:nvSpPr>
              <p:spPr>
                <a:xfrm rot="19711200">
                  <a:off x="8219520" y="559800"/>
                  <a:ext cx="164520" cy="24696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89"/>
                <p:cNvSpPr/>
                <p:nvPr/>
              </p:nvSpPr>
              <p:spPr>
                <a:xfrm rot="19711200">
                  <a:off x="7704360" y="419040"/>
                  <a:ext cx="1376280" cy="1173600"/>
                </a:xfrm>
                <a:custGeom>
                  <a:avLst/>
                  <a:gdLst>
                    <a:gd name="textAreaLeft" fmla="*/ 0 w 1376280"/>
                    <a:gd name="textAreaRight" fmla="*/ 1376640 w 1376280"/>
                    <a:gd name="textAreaTop" fmla="*/ 0 h 1173600"/>
                    <a:gd name="textAreaBottom" fmla="*/ 1173960 h 117360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177"/>
              <p:cNvGrpSpPr/>
              <p:nvPr/>
            </p:nvGrpSpPr>
            <p:grpSpPr>
              <a:xfrm>
                <a:off x="7129440" y="3505320"/>
                <a:ext cx="1861560" cy="1824840"/>
                <a:chOff x="7129440" y="3505320"/>
                <a:chExt cx="1861560" cy="1824840"/>
              </a:xfrm>
            </p:grpSpPr>
            <p:sp>
              <p:nvSpPr>
                <p:cNvPr id="333" name="Freeform 72"/>
                <p:cNvSpPr/>
                <p:nvPr/>
              </p:nvSpPr>
              <p:spPr>
                <a:xfrm rot="2429400">
                  <a:off x="8007480" y="4073400"/>
                  <a:ext cx="188640" cy="2811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73"/>
                <p:cNvSpPr/>
                <p:nvPr/>
              </p:nvSpPr>
              <p:spPr>
                <a:xfrm rot="2429400">
                  <a:off x="8078760" y="438876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74"/>
                <p:cNvSpPr/>
                <p:nvPr/>
              </p:nvSpPr>
              <p:spPr>
                <a:xfrm rot="2429400">
                  <a:off x="8161920" y="4205520"/>
                  <a:ext cx="190080" cy="2811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75"/>
                <p:cNvSpPr/>
                <p:nvPr/>
              </p:nvSpPr>
              <p:spPr>
                <a:xfrm rot="2429400">
                  <a:off x="7323840" y="3846240"/>
                  <a:ext cx="1472040" cy="11426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2640"/>
                    <a:gd name="textAreaBottom" fmla="*/ 1143000 h 1142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182"/>
              <p:cNvGrpSpPr/>
              <p:nvPr/>
            </p:nvGrpSpPr>
            <p:grpSpPr>
              <a:xfrm>
                <a:off x="7610760" y="5105520"/>
                <a:ext cx="1532160" cy="1480320"/>
                <a:chOff x="7610760" y="5105520"/>
                <a:chExt cx="1532160" cy="1480320"/>
              </a:xfrm>
            </p:grpSpPr>
            <p:sp>
              <p:nvSpPr>
                <p:cNvPr id="338" name="Freeform 79"/>
                <p:cNvSpPr/>
                <p:nvPr/>
              </p:nvSpPr>
              <p:spPr>
                <a:xfrm rot="19493400">
                  <a:off x="8101800" y="557172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80"/>
                <p:cNvSpPr/>
                <p:nvPr/>
              </p:nvSpPr>
              <p:spPr>
                <a:xfrm rot="19493400">
                  <a:off x="8282520" y="5715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81"/>
                <p:cNvSpPr/>
                <p:nvPr/>
              </p:nvSpPr>
              <p:spPr>
                <a:xfrm rot="19493400">
                  <a:off x="821808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82"/>
                <p:cNvSpPr/>
                <p:nvPr/>
              </p:nvSpPr>
              <p:spPr>
                <a:xfrm rot="19493400">
                  <a:off x="7782480" y="5358240"/>
                  <a:ext cx="1188000" cy="97416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974160"/>
                    <a:gd name="textAreaBottom" fmla="*/ 974520 h 9741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669"/>
            <p:cNvGrpSpPr/>
            <p:nvPr/>
          </p:nvGrpSpPr>
          <p:grpSpPr>
            <a:xfrm>
              <a:off x="0" y="57960"/>
              <a:ext cx="9183600" cy="6799680"/>
              <a:chOff x="0" y="57960"/>
              <a:chExt cx="9183600" cy="6799680"/>
            </a:xfrm>
          </p:grpSpPr>
          <p:grpSp>
            <p:nvGrpSpPr>
              <p:cNvPr id="343" name="Group 32"/>
              <p:cNvGrpSpPr/>
              <p:nvPr/>
            </p:nvGrpSpPr>
            <p:grpSpPr>
              <a:xfrm>
                <a:off x="72000" y="57960"/>
                <a:ext cx="1895040" cy="1689120"/>
                <a:chOff x="72000" y="57960"/>
                <a:chExt cx="1895040" cy="1689120"/>
              </a:xfrm>
            </p:grpSpPr>
            <p:sp>
              <p:nvSpPr>
                <p:cNvPr id="344" name="Freeform 79"/>
                <p:cNvSpPr/>
                <p:nvPr/>
              </p:nvSpPr>
              <p:spPr>
                <a:xfrm rot="20059800">
                  <a:off x="762120" y="59220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80"/>
                <p:cNvSpPr/>
                <p:nvPr/>
              </p:nvSpPr>
              <p:spPr>
                <a:xfrm rot="20059800">
                  <a:off x="1022040" y="837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81"/>
                <p:cNvSpPr/>
                <p:nvPr/>
              </p:nvSpPr>
              <p:spPr>
                <a:xfrm rot="20059800">
                  <a:off x="956160" y="49896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82"/>
                <p:cNvSpPr/>
                <p:nvPr/>
              </p:nvSpPr>
              <p:spPr>
                <a:xfrm rot="20710200">
                  <a:off x="214200" y="241920"/>
                  <a:ext cx="1610640" cy="1320840"/>
                </a:xfrm>
                <a:custGeom>
                  <a:avLst/>
                  <a:gdLst>
                    <a:gd name="textAreaLeft" fmla="*/ 0 w 1610640"/>
                    <a:gd name="textAreaRight" fmla="*/ 1611000 w 1610640"/>
                    <a:gd name="textAreaTop" fmla="*/ 0 h 1320840"/>
                    <a:gd name="textAreaBottom" fmla="*/ 1321200 h 13208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48"/>
              <p:cNvGrpSpPr/>
              <p:nvPr/>
            </p:nvGrpSpPr>
            <p:grpSpPr>
              <a:xfrm>
                <a:off x="7238880" y="457200"/>
                <a:ext cx="1316520" cy="1236960"/>
                <a:chOff x="7238880" y="457200"/>
                <a:chExt cx="1316520" cy="1236960"/>
              </a:xfrm>
            </p:grpSpPr>
            <p:sp>
              <p:nvSpPr>
                <p:cNvPr id="349" name="Freeform 86"/>
                <p:cNvSpPr/>
                <p:nvPr/>
              </p:nvSpPr>
              <p:spPr>
                <a:xfrm rot="1420200">
                  <a:off x="7872120" y="730800"/>
                  <a:ext cx="126000" cy="18756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87"/>
                <p:cNvSpPr/>
                <p:nvPr/>
              </p:nvSpPr>
              <p:spPr>
                <a:xfrm rot="1420200">
                  <a:off x="7953480" y="9399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88"/>
                <p:cNvSpPr/>
                <p:nvPr/>
              </p:nvSpPr>
              <p:spPr>
                <a:xfrm rot="1420200">
                  <a:off x="7996320" y="784800"/>
                  <a:ext cx="124920" cy="18756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89"/>
                <p:cNvSpPr/>
                <p:nvPr/>
              </p:nvSpPr>
              <p:spPr>
                <a:xfrm rot="1420200">
                  <a:off x="7373880" y="629640"/>
                  <a:ext cx="1046160" cy="89208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Freeform 73"/>
              <p:cNvSpPr/>
              <p:nvPr/>
            </p:nvSpPr>
            <p:spPr>
              <a:xfrm rot="1542600">
                <a:off x="7058160" y="3703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8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Group 63"/>
              <p:cNvGrpSpPr/>
              <p:nvPr/>
            </p:nvGrpSpPr>
            <p:grpSpPr>
              <a:xfrm>
                <a:off x="7832880" y="4216320"/>
                <a:ext cx="1350720" cy="1223640"/>
                <a:chOff x="7832880" y="4216320"/>
                <a:chExt cx="1350720" cy="1223640"/>
              </a:xfrm>
            </p:grpSpPr>
            <p:sp>
              <p:nvSpPr>
                <p:cNvPr id="355" name="Freeform 79"/>
                <p:cNvSpPr/>
                <p:nvPr/>
              </p:nvSpPr>
              <p:spPr>
                <a:xfrm rot="1645200">
                  <a:off x="8359920" y="488556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80"/>
                <p:cNvSpPr/>
                <p:nvPr/>
              </p:nvSpPr>
              <p:spPr>
                <a:xfrm rot="1645200">
                  <a:off x="8433000" y="5093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81"/>
                <p:cNvSpPr/>
                <p:nvPr/>
              </p:nvSpPr>
              <p:spPr>
                <a:xfrm rot="1645200">
                  <a:off x="8478720" y="494712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82"/>
                <p:cNvSpPr/>
                <p:nvPr/>
              </p:nvSpPr>
              <p:spPr>
                <a:xfrm rot="20491200">
                  <a:off x="7949160" y="4369680"/>
                  <a:ext cx="1117800" cy="916560"/>
                </a:xfrm>
                <a:custGeom>
                  <a:avLst/>
                  <a:gdLst>
                    <a:gd name="textAreaLeft" fmla="*/ 0 w 1117800"/>
                    <a:gd name="textAreaRight" fmla="*/ 1118160 w 1117800"/>
                    <a:gd name="textAreaTop" fmla="*/ 0 h 916560"/>
                    <a:gd name="textAreaBottom" fmla="*/ 916920 h 9165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87"/>
              <p:cNvGrpSpPr/>
              <p:nvPr/>
            </p:nvGrpSpPr>
            <p:grpSpPr>
              <a:xfrm>
                <a:off x="0" y="5334120"/>
                <a:ext cx="1188000" cy="1523520"/>
                <a:chOff x="0" y="5334120"/>
                <a:chExt cx="1188000" cy="1523520"/>
              </a:xfrm>
            </p:grpSpPr>
            <p:sp>
              <p:nvSpPr>
                <p:cNvPr id="360" name="Freeform 21"/>
                <p:cNvSpPr/>
                <p:nvPr/>
              </p:nvSpPr>
              <p:spPr>
                <a:xfrm>
                  <a:off x="374040" y="5703840"/>
                  <a:ext cx="21600" cy="3052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5280"/>
                    <a:gd name="textAreaBottom" fmla="*/ 305640 h 30528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22"/>
                <p:cNvSpPr/>
                <p:nvPr/>
              </p:nvSpPr>
              <p:spPr>
                <a:xfrm>
                  <a:off x="392040" y="60156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23"/>
                <p:cNvSpPr/>
                <p:nvPr/>
              </p:nvSpPr>
              <p:spPr>
                <a:xfrm>
                  <a:off x="406080" y="5882760"/>
                  <a:ext cx="277200" cy="134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4"/>
                <p:cNvSpPr/>
                <p:nvPr/>
              </p:nvSpPr>
              <p:spPr>
                <a:xfrm>
                  <a:off x="0" y="5334120"/>
                  <a:ext cx="1188000" cy="152352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520"/>
                    <a:gd name="textAreaBottom" fmla="*/ 1523880 h 152352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Group 92"/>
              <p:cNvGrpSpPr/>
              <p:nvPr/>
            </p:nvGrpSpPr>
            <p:grpSpPr>
              <a:xfrm>
                <a:off x="0" y="2846520"/>
                <a:ext cx="930240" cy="1301400"/>
                <a:chOff x="0" y="2846520"/>
                <a:chExt cx="930240" cy="1301400"/>
              </a:xfrm>
            </p:grpSpPr>
            <p:sp>
              <p:nvSpPr>
                <p:cNvPr id="365" name="Freeform 49"/>
                <p:cNvSpPr/>
                <p:nvPr/>
              </p:nvSpPr>
              <p:spPr>
                <a:xfrm>
                  <a:off x="0" y="3446280"/>
                  <a:ext cx="84240" cy="13140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50"/>
                <p:cNvSpPr/>
                <p:nvPr/>
              </p:nvSpPr>
              <p:spPr>
                <a:xfrm>
                  <a:off x="87120" y="3585240"/>
                  <a:ext cx="360" cy="21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51"/>
                <p:cNvSpPr/>
                <p:nvPr/>
              </p:nvSpPr>
              <p:spPr>
                <a:xfrm>
                  <a:off x="101160" y="3256200"/>
                  <a:ext cx="215640" cy="32148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52"/>
                <p:cNvSpPr/>
                <p:nvPr/>
              </p:nvSpPr>
              <p:spPr>
                <a:xfrm>
                  <a:off x="0" y="2846520"/>
                  <a:ext cx="930240" cy="130140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400"/>
                    <a:gd name="textAreaBottom" fmla="*/ 1301760 h 13014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4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16000"/>
                    </a:srgbClr>
                  </a:solidFill>
                  <a:round/>
                </a:ln>
                <a:effectLst>
                  <a:glow rad="63360">
                    <a:srgbClr val="d8f2ab">
                      <a:alpha val="1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97"/>
              <p:cNvGrpSpPr/>
              <p:nvPr/>
            </p:nvGrpSpPr>
            <p:grpSpPr>
              <a:xfrm>
                <a:off x="4876560" y="5704560"/>
                <a:ext cx="1752120" cy="1153080"/>
                <a:chOff x="4876560" y="5704560"/>
                <a:chExt cx="1752120" cy="1153080"/>
              </a:xfrm>
            </p:grpSpPr>
            <p:sp>
              <p:nvSpPr>
                <p:cNvPr id="370" name="Freeform 28"/>
                <p:cNvSpPr/>
                <p:nvPr/>
              </p:nvSpPr>
              <p:spPr>
                <a:xfrm>
                  <a:off x="5598720" y="6247800"/>
                  <a:ext cx="15120" cy="3841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29"/>
                <p:cNvSpPr/>
                <p:nvPr/>
              </p:nvSpPr>
              <p:spPr>
                <a:xfrm>
                  <a:off x="5609880" y="6641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0"/>
                <p:cNvSpPr/>
                <p:nvPr/>
              </p:nvSpPr>
              <p:spPr>
                <a:xfrm>
                  <a:off x="5627520" y="6482520"/>
                  <a:ext cx="352800" cy="160560"/>
                </a:xfrm>
                <a:custGeom>
                  <a:avLst/>
                  <a:gdLst>
                    <a:gd name="textAreaLeft" fmla="*/ 0 w 352800"/>
                    <a:gd name="textAreaRight" fmla="*/ 353160 w 352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1"/>
                <p:cNvSpPr/>
                <p:nvPr/>
              </p:nvSpPr>
              <p:spPr>
                <a:xfrm>
                  <a:off x="4876560" y="5704560"/>
                  <a:ext cx="1752120" cy="1153080"/>
                </a:xfrm>
                <a:custGeom>
                  <a:avLst/>
                  <a:gdLst>
                    <a:gd name="textAreaLeft" fmla="*/ 0 w 1752120"/>
                    <a:gd name="textAreaRight" fmla="*/ 1752480 w 1752120"/>
                    <a:gd name="textAreaTop" fmla="*/ 0 h 1153080"/>
                    <a:gd name="textAreaBottom" fmla="*/ 1153440 h 115308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9000"/>
                  </a:schemeClr>
                </a:solidFill>
                <a:ln w="9525">
                  <a:solidFill>
                    <a:srgbClr val="feffff">
                      <a:alpha val="12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102"/>
              <p:cNvGrpSpPr/>
              <p:nvPr/>
            </p:nvGrpSpPr>
            <p:grpSpPr>
              <a:xfrm>
                <a:off x="7848360" y="1523880"/>
                <a:ext cx="1294920" cy="1685160"/>
                <a:chOff x="7848360" y="1523880"/>
                <a:chExt cx="1294920" cy="1685160"/>
              </a:xfrm>
            </p:grpSpPr>
            <p:sp>
              <p:nvSpPr>
                <p:cNvPr id="375" name="Freeform 70"/>
                <p:cNvSpPr/>
                <p:nvPr/>
              </p:nvSpPr>
              <p:spPr>
                <a:xfrm>
                  <a:off x="8456760" y="1992240"/>
                  <a:ext cx="296280" cy="19476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71"/>
                <p:cNvSpPr/>
                <p:nvPr/>
              </p:nvSpPr>
              <p:spPr>
                <a:xfrm>
                  <a:off x="8757360" y="2195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72"/>
                <p:cNvSpPr/>
                <p:nvPr/>
              </p:nvSpPr>
              <p:spPr>
                <a:xfrm>
                  <a:off x="8768880" y="1832400"/>
                  <a:ext cx="65880" cy="35064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73"/>
                <p:cNvSpPr/>
                <p:nvPr/>
              </p:nvSpPr>
              <p:spPr>
                <a:xfrm>
                  <a:off x="7848360" y="1523880"/>
                  <a:ext cx="1294920" cy="1685160"/>
                </a:xfrm>
                <a:custGeom>
                  <a:avLst/>
                  <a:gdLst>
                    <a:gd name="textAreaLeft" fmla="*/ 0 w 1294920"/>
                    <a:gd name="textAreaRight" fmla="*/ 1295280 w 129492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Group 112"/>
              <p:cNvGrpSpPr/>
              <p:nvPr/>
            </p:nvGrpSpPr>
            <p:grpSpPr>
              <a:xfrm>
                <a:off x="7679160" y="5943600"/>
                <a:ext cx="1331280" cy="914040"/>
                <a:chOff x="7679160" y="5943600"/>
                <a:chExt cx="1331280" cy="914040"/>
              </a:xfrm>
            </p:grpSpPr>
            <p:sp>
              <p:nvSpPr>
                <p:cNvPr id="380" name="Freeform 35"/>
                <p:cNvSpPr/>
                <p:nvPr/>
              </p:nvSpPr>
              <p:spPr>
                <a:xfrm>
                  <a:off x="7679160" y="6346080"/>
                  <a:ext cx="201960" cy="9504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36"/>
                <p:cNvSpPr/>
                <p:nvPr/>
              </p:nvSpPr>
              <p:spPr>
                <a:xfrm>
                  <a:off x="7884000" y="6446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37"/>
                <p:cNvSpPr/>
                <p:nvPr/>
              </p:nvSpPr>
              <p:spPr>
                <a:xfrm>
                  <a:off x="7888680" y="6215040"/>
                  <a:ext cx="14040" cy="221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38"/>
                <p:cNvSpPr/>
                <p:nvPr/>
              </p:nvSpPr>
              <p:spPr>
                <a:xfrm>
                  <a:off x="7920360" y="5943600"/>
                  <a:ext cx="1090080" cy="914040"/>
                </a:xfrm>
                <a:custGeom>
                  <a:avLst/>
                  <a:gdLst>
                    <a:gd name="textAreaLeft" fmla="*/ 0 w 1090080"/>
                    <a:gd name="textAreaRight" fmla="*/ 1090440 w 1090080"/>
                    <a:gd name="textAreaTop" fmla="*/ 0 h 914040"/>
                    <a:gd name="textAreaBottom" fmla="*/ 914400 h 9140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4" name="Group 715"/>
            <p:cNvGrpSpPr/>
            <p:nvPr/>
          </p:nvGrpSpPr>
          <p:grpSpPr>
            <a:xfrm>
              <a:off x="0" y="0"/>
              <a:ext cx="9211320" cy="6828840"/>
              <a:chOff x="0" y="0"/>
              <a:chExt cx="9211320" cy="6828840"/>
            </a:xfrm>
          </p:grpSpPr>
          <p:grpSp>
            <p:nvGrpSpPr>
              <p:cNvPr id="385" name="Group 129"/>
              <p:cNvGrpSpPr/>
              <p:nvPr/>
            </p:nvGrpSpPr>
            <p:grpSpPr>
              <a:xfrm>
                <a:off x="7695720" y="2819880"/>
                <a:ext cx="1404360" cy="3467880"/>
                <a:chOff x="7695720" y="2819880"/>
                <a:chExt cx="1404360" cy="3467880"/>
              </a:xfrm>
            </p:grpSpPr>
            <p:sp>
              <p:nvSpPr>
                <p:cNvPr id="386" name="Freeform 86"/>
                <p:cNvSpPr/>
                <p:nvPr/>
              </p:nvSpPr>
              <p:spPr>
                <a:xfrm rot="20119200">
                  <a:off x="8078400" y="3112920"/>
                  <a:ext cx="110520" cy="16452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87"/>
                <p:cNvSpPr/>
                <p:nvPr/>
              </p:nvSpPr>
              <p:spPr>
                <a:xfrm rot="20119200">
                  <a:off x="822024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88"/>
                <p:cNvSpPr/>
                <p:nvPr/>
              </p:nvSpPr>
              <p:spPr>
                <a:xfrm rot="20119200">
                  <a:off x="8186760" y="3063240"/>
                  <a:ext cx="109440" cy="16452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89"/>
                <p:cNvSpPr/>
                <p:nvPr/>
              </p:nvSpPr>
              <p:spPr>
                <a:xfrm rot="20119200">
                  <a:off x="7817040" y="2975400"/>
                  <a:ext cx="917640" cy="78264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21000"/>
                  </a:schemeClr>
                </a:solidFill>
                <a:ln w="9525">
                  <a:noFill/>
                </a:ln>
                <a:effectLst>
                  <a:glow rad="50760">
                    <a:srgbClr val="d8f2ab">
                      <a:alpha val="33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89"/>
                <p:cNvSpPr/>
                <p:nvPr/>
              </p:nvSpPr>
              <p:spPr>
                <a:xfrm rot="823200">
                  <a:off x="7924680" y="5250240"/>
                  <a:ext cx="1081440" cy="922320"/>
                </a:xfrm>
                <a:custGeom>
                  <a:avLst/>
                  <a:gdLst>
                    <a:gd name="textAreaLeft" fmla="*/ 0 w 1081440"/>
                    <a:gd name="textAreaRight" fmla="*/ 1081800 w 108144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Group 134"/>
              <p:cNvGrpSpPr/>
              <p:nvPr/>
            </p:nvGrpSpPr>
            <p:grpSpPr>
              <a:xfrm>
                <a:off x="6854760" y="5524920"/>
                <a:ext cx="1110600" cy="1303920"/>
                <a:chOff x="6854760" y="5524920"/>
                <a:chExt cx="1110600" cy="1303920"/>
              </a:xfrm>
            </p:grpSpPr>
            <p:sp>
              <p:nvSpPr>
                <p:cNvPr id="392" name="Freeform 80"/>
                <p:cNvSpPr/>
                <p:nvPr/>
              </p:nvSpPr>
              <p:spPr>
                <a:xfrm rot="1992600">
                  <a:off x="7715520" y="55249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82"/>
                <p:cNvSpPr/>
                <p:nvPr/>
              </p:nvSpPr>
              <p:spPr>
                <a:xfrm rot="592800">
                  <a:off x="6916680" y="5941080"/>
                  <a:ext cx="986400" cy="808920"/>
                </a:xfrm>
                <a:custGeom>
                  <a:avLst/>
                  <a:gdLst>
                    <a:gd name="textAreaLeft" fmla="*/ 0 w 986400"/>
                    <a:gd name="textAreaRight" fmla="*/ 986760 w 986400"/>
                    <a:gd name="textAreaTop" fmla="*/ 0 h 808920"/>
                    <a:gd name="textAreaBottom" fmla="*/ 809280 h 808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tx2">
                    <a:lumMod val="60000"/>
                    <a:lumOff val="40000"/>
                    <a:alpha val="10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abcb6a">
                      <a:alpha val="2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Group 154"/>
              <p:cNvGrpSpPr/>
              <p:nvPr/>
            </p:nvGrpSpPr>
            <p:grpSpPr>
              <a:xfrm>
                <a:off x="6317640" y="1055160"/>
                <a:ext cx="1839960" cy="1753200"/>
                <a:chOff x="6317640" y="1055160"/>
                <a:chExt cx="1839960" cy="1753200"/>
              </a:xfrm>
            </p:grpSpPr>
            <p:sp>
              <p:nvSpPr>
                <p:cNvPr id="395" name="Freeform 72"/>
                <p:cNvSpPr/>
                <p:nvPr/>
              </p:nvSpPr>
              <p:spPr>
                <a:xfrm rot="2047800">
                  <a:off x="7162920" y="1588320"/>
                  <a:ext cx="186840" cy="27828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73"/>
                <p:cNvSpPr/>
                <p:nvPr/>
              </p:nvSpPr>
              <p:spPr>
                <a:xfrm rot="2047800">
                  <a:off x="7252920" y="190188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74"/>
                <p:cNvSpPr/>
                <p:nvPr/>
              </p:nvSpPr>
              <p:spPr>
                <a:xfrm rot="2047800">
                  <a:off x="7329240" y="1701360"/>
                  <a:ext cx="188280" cy="2782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75"/>
                <p:cNvSpPr/>
                <p:nvPr/>
              </p:nvSpPr>
              <p:spPr>
                <a:xfrm rot="2047800">
                  <a:off x="6509160" y="1366200"/>
                  <a:ext cx="1456560" cy="1130760"/>
                </a:xfrm>
                <a:custGeom>
                  <a:avLst/>
                  <a:gdLst>
                    <a:gd name="textAreaLeft" fmla="*/ 0 w 1456560"/>
                    <a:gd name="textAreaRight" fmla="*/ 1456920 w 1456560"/>
                    <a:gd name="textAreaTop" fmla="*/ 0 h 1130760"/>
                    <a:gd name="textAreaBottom" fmla="*/ 1131120 h 11307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solidFill>
                    <a:srgbClr val="beea73">
                      <a:lumMod val="60000"/>
                      <a:lumOff val="40000"/>
                      <a:alpha val="19000"/>
                    </a:srgbClr>
                  </a:solidFill>
                  <a:round/>
                </a:ln>
                <a:effectLst>
                  <a:glow rad="63360">
                    <a:srgbClr val="d8f2ab">
                      <a:alpha val="1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Group 164"/>
              <p:cNvGrpSpPr/>
              <p:nvPr/>
            </p:nvGrpSpPr>
            <p:grpSpPr>
              <a:xfrm>
                <a:off x="8125920" y="3738240"/>
                <a:ext cx="1085400" cy="915840"/>
                <a:chOff x="8125920" y="3738240"/>
                <a:chExt cx="1085400" cy="915840"/>
              </a:xfrm>
            </p:grpSpPr>
            <p:sp>
              <p:nvSpPr>
                <p:cNvPr id="400" name="Freeform 72"/>
                <p:cNvSpPr/>
                <p:nvPr/>
              </p:nvSpPr>
              <p:spPr>
                <a:xfrm rot="20119800">
                  <a:off x="8497800" y="4024080"/>
                  <a:ext cx="123120" cy="1832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73"/>
                <p:cNvSpPr/>
                <p:nvPr/>
              </p:nvSpPr>
              <p:spPr>
                <a:xfrm rot="20119800">
                  <a:off x="8656920" y="417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74"/>
                <p:cNvSpPr/>
                <p:nvPr/>
              </p:nvSpPr>
              <p:spPr>
                <a:xfrm rot="20119800">
                  <a:off x="8618040" y="3968640"/>
                  <a:ext cx="123840" cy="183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75"/>
                <p:cNvSpPr/>
                <p:nvPr/>
              </p:nvSpPr>
              <p:spPr>
                <a:xfrm rot="20933400">
                  <a:off x="8188560" y="3823560"/>
                  <a:ext cx="959760" cy="74484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4840"/>
                    <a:gd name="textAreaBottom" fmla="*/ 745200 h 7448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405" name="Freeform 42"/>
                <p:cNvSpPr/>
                <p:nvPr/>
              </p:nvSpPr>
              <p:spPr>
                <a:xfrm>
                  <a:off x="388080" y="1443960"/>
                  <a:ext cx="356040" cy="192600"/>
                </a:xfrm>
                <a:custGeom>
                  <a:avLst/>
                  <a:gdLst>
                    <a:gd name="textAreaLeft" fmla="*/ 0 w 356040"/>
                    <a:gd name="textAreaRight" fmla="*/ 356400 w 3560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43"/>
                <p:cNvSpPr/>
                <p:nvPr/>
              </p:nvSpPr>
              <p:spPr>
                <a:xfrm>
                  <a:off x="751320" y="16412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760320" y="122580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53"/>
              <p:cNvGrpSpPr/>
              <p:nvPr/>
            </p:nvGrpSpPr>
            <p:grpSpPr>
              <a:xfrm>
                <a:off x="0" y="4273560"/>
                <a:ext cx="1192320" cy="1364760"/>
                <a:chOff x="0" y="4273560"/>
                <a:chExt cx="1192320" cy="1364760"/>
              </a:xfrm>
            </p:grpSpPr>
            <p:sp>
              <p:nvSpPr>
                <p:cNvPr id="410" name="Freeform 56"/>
                <p:cNvSpPr/>
                <p:nvPr/>
              </p:nvSpPr>
              <p:spPr>
                <a:xfrm>
                  <a:off x="399960" y="4638960"/>
                  <a:ext cx="13320" cy="36072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60720"/>
                    <a:gd name="textAreaBottom" fmla="*/ 361080 h 36072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57"/>
                <p:cNvSpPr/>
                <p:nvPr/>
              </p:nvSpPr>
              <p:spPr>
                <a:xfrm>
                  <a:off x="439200" y="4930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58"/>
                <p:cNvSpPr/>
                <p:nvPr/>
              </p:nvSpPr>
              <p:spPr>
                <a:xfrm>
                  <a:off x="416160" y="4871160"/>
                  <a:ext cx="335160" cy="1400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9"/>
                <p:cNvSpPr/>
                <p:nvPr/>
              </p:nvSpPr>
              <p:spPr>
                <a:xfrm>
                  <a:off x="0" y="4273560"/>
                  <a:ext cx="1192320" cy="136476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4760"/>
                    <a:gd name="textAreaBottom" fmla="*/ 1365120 h 136476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58"/>
              <p:cNvGrpSpPr/>
              <p:nvPr/>
            </p:nvGrpSpPr>
            <p:grpSpPr>
              <a:xfrm>
                <a:off x="7366320" y="0"/>
                <a:ext cx="1266120" cy="990360"/>
                <a:chOff x="7366320" y="0"/>
                <a:chExt cx="1266120" cy="990360"/>
              </a:xfrm>
            </p:grpSpPr>
            <p:sp>
              <p:nvSpPr>
                <p:cNvPr id="415" name="Freeform 63"/>
                <p:cNvSpPr/>
                <p:nvPr/>
              </p:nvSpPr>
              <p:spPr>
                <a:xfrm>
                  <a:off x="7698960" y="0"/>
                  <a:ext cx="185400" cy="18792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64"/>
                <p:cNvSpPr/>
                <p:nvPr/>
              </p:nvSpPr>
              <p:spPr>
                <a:xfrm>
                  <a:off x="7887240" y="1933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65"/>
                <p:cNvSpPr/>
                <p:nvPr/>
              </p:nvSpPr>
              <p:spPr>
                <a:xfrm>
                  <a:off x="7895160" y="0"/>
                  <a:ext cx="84600" cy="185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66"/>
                <p:cNvSpPr/>
                <p:nvPr/>
              </p:nvSpPr>
              <p:spPr>
                <a:xfrm>
                  <a:off x="7366320" y="0"/>
                  <a:ext cx="1266120" cy="990360"/>
                </a:xfrm>
                <a:custGeom>
                  <a:avLst/>
                  <a:gdLst>
                    <a:gd name="textAreaLeft" fmla="*/ 0 w 1266120"/>
                    <a:gd name="textAreaRight" fmla="*/ 1266480 w 126612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63"/>
              <p:cNvGrpSpPr/>
              <p:nvPr/>
            </p:nvGrpSpPr>
            <p:grpSpPr>
              <a:xfrm>
                <a:off x="8323920" y="990720"/>
                <a:ext cx="819360" cy="1066320"/>
                <a:chOff x="8323920" y="990720"/>
                <a:chExt cx="819360" cy="1066320"/>
              </a:xfrm>
            </p:grpSpPr>
            <p:sp>
              <p:nvSpPr>
                <p:cNvPr id="420" name="Freeform 70"/>
                <p:cNvSpPr/>
                <p:nvPr/>
              </p:nvSpPr>
              <p:spPr>
                <a:xfrm>
                  <a:off x="8709120" y="1287000"/>
                  <a:ext cx="187200" cy="123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71"/>
                <p:cNvSpPr/>
                <p:nvPr/>
              </p:nvSpPr>
              <p:spPr>
                <a:xfrm>
                  <a:off x="8899200" y="1415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72"/>
                <p:cNvSpPr/>
                <p:nvPr/>
              </p:nvSpPr>
              <p:spPr>
                <a:xfrm>
                  <a:off x="8906400" y="1185840"/>
                  <a:ext cx="41760" cy="221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73"/>
                <p:cNvSpPr/>
                <p:nvPr/>
              </p:nvSpPr>
              <p:spPr>
                <a:xfrm>
                  <a:off x="8323920" y="990720"/>
                  <a:ext cx="819360" cy="1066320"/>
                </a:xfrm>
                <a:custGeom>
                  <a:avLst/>
                  <a:gdLst>
                    <a:gd name="textAreaLeft" fmla="*/ 0 w 819360"/>
                    <a:gd name="textAreaRight" fmla="*/ 819720 w 81936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  <a:ea typeface="Trebuchet MS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7"/>
          </p:nvPr>
        </p:nvSpPr>
        <p:spPr>
          <a:xfrm>
            <a:off x="6437160" y="5951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8"/>
          </p:nvPr>
        </p:nvSpPr>
        <p:spPr>
          <a:xfrm>
            <a:off x="1181160" y="59515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9"/>
          </p:nvPr>
        </p:nvSpPr>
        <p:spPr>
          <a:xfrm>
            <a:off x="573120" y="5951520"/>
            <a:ext cx="60768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A185E47-9639-46BC-B24C-3B03707F69CE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2000">
              <a:srgbClr val="81ad3c"/>
            </a:gs>
            <a:gs pos="100000">
              <a:srgbClr val="beed6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134"/>
          <p:cNvGrpSpPr/>
          <p:nvPr/>
        </p:nvGrpSpPr>
        <p:grpSpPr>
          <a:xfrm>
            <a:off x="-140400" y="0"/>
            <a:ext cx="9426600" cy="6857640"/>
            <a:chOff x="-140400" y="0"/>
            <a:chExt cx="9426600" cy="6857640"/>
          </a:xfrm>
        </p:grpSpPr>
        <p:grpSp>
          <p:nvGrpSpPr>
            <p:cNvPr id="466" name="Group 638"/>
            <p:cNvGrpSpPr/>
            <p:nvPr/>
          </p:nvGrpSpPr>
          <p:grpSpPr>
            <a:xfrm>
              <a:off x="-140400" y="146520"/>
              <a:ext cx="9426600" cy="6439320"/>
              <a:chOff x="-140400" y="146520"/>
              <a:chExt cx="9426600" cy="6439320"/>
            </a:xfrm>
          </p:grpSpPr>
          <p:grpSp>
            <p:nvGrpSpPr>
              <p:cNvPr id="467" name="Group 121"/>
              <p:cNvGrpSpPr/>
              <p:nvPr/>
            </p:nvGrpSpPr>
            <p:grpSpPr>
              <a:xfrm>
                <a:off x="-140400" y="185760"/>
                <a:ext cx="1426320" cy="1398240"/>
                <a:chOff x="-140400" y="185760"/>
                <a:chExt cx="1426320" cy="1398240"/>
              </a:xfrm>
            </p:grpSpPr>
            <p:sp>
              <p:nvSpPr>
                <p:cNvPr id="468" name="Freeform 72"/>
                <p:cNvSpPr/>
                <p:nvPr/>
              </p:nvSpPr>
              <p:spPr>
                <a:xfrm rot="2429400">
                  <a:off x="783000" y="602280"/>
                  <a:ext cx="144720" cy="21564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73"/>
                <p:cNvSpPr/>
                <p:nvPr/>
              </p:nvSpPr>
              <p:spPr>
                <a:xfrm rot="2429400">
                  <a:off x="837720" y="844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4"/>
                <p:cNvSpPr/>
                <p:nvPr/>
              </p:nvSpPr>
              <p:spPr>
                <a:xfrm rot="2429400">
                  <a:off x="901080" y="703440"/>
                  <a:ext cx="145440" cy="21564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75"/>
                <p:cNvSpPr/>
                <p:nvPr/>
              </p:nvSpPr>
              <p:spPr>
                <a:xfrm rot="2429400">
                  <a:off x="8640" y="446760"/>
                  <a:ext cx="1127880" cy="875520"/>
                </a:xfrm>
                <a:custGeom>
                  <a:avLst/>
                  <a:gdLst>
                    <a:gd name="textAreaLeft" fmla="*/ 0 w 1127880"/>
                    <a:gd name="textAreaRight" fmla="*/ 1128240 w 1127880"/>
                    <a:gd name="textAreaTop" fmla="*/ 0 h 875520"/>
                    <a:gd name="textAreaBottom" fmla="*/ 875880 h 8755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Group 142"/>
              <p:cNvGrpSpPr/>
              <p:nvPr/>
            </p:nvGrpSpPr>
            <p:grpSpPr>
              <a:xfrm>
                <a:off x="210240" y="1460520"/>
                <a:ext cx="1279440" cy="1236240"/>
                <a:chOff x="210240" y="1460520"/>
                <a:chExt cx="1279440" cy="1236240"/>
              </a:xfrm>
            </p:grpSpPr>
            <p:sp>
              <p:nvSpPr>
                <p:cNvPr id="473" name="Freeform 79"/>
                <p:cNvSpPr/>
                <p:nvPr/>
              </p:nvSpPr>
              <p:spPr>
                <a:xfrm rot="19493400">
                  <a:off x="620280" y="18500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80"/>
                <p:cNvSpPr/>
                <p:nvPr/>
              </p:nvSpPr>
              <p:spPr>
                <a:xfrm rot="19493400">
                  <a:off x="771120" y="1969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81"/>
                <p:cNvSpPr/>
                <p:nvPr/>
              </p:nvSpPr>
              <p:spPr>
                <a:xfrm rot="19493400">
                  <a:off x="717120" y="17816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82"/>
                <p:cNvSpPr/>
                <p:nvPr/>
              </p:nvSpPr>
              <p:spPr>
                <a:xfrm rot="19493400">
                  <a:off x="353880" y="1671480"/>
                  <a:ext cx="992160" cy="813600"/>
                </a:xfrm>
                <a:custGeom>
                  <a:avLst/>
                  <a:gdLst>
                    <a:gd name="textAreaLeft" fmla="*/ 0 w 992160"/>
                    <a:gd name="textAreaRight" fmla="*/ 992520 w 992160"/>
                    <a:gd name="textAreaTop" fmla="*/ 0 h 813600"/>
                    <a:gd name="textAreaBottom" fmla="*/ 813960 h 8136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Group 147"/>
              <p:cNvGrpSpPr/>
              <p:nvPr/>
            </p:nvGrpSpPr>
            <p:grpSpPr>
              <a:xfrm>
                <a:off x="228600" y="4343400"/>
                <a:ext cx="1421280" cy="1367640"/>
                <a:chOff x="228600" y="4343400"/>
                <a:chExt cx="1421280" cy="1367640"/>
              </a:xfrm>
            </p:grpSpPr>
            <p:sp>
              <p:nvSpPr>
                <p:cNvPr id="478" name="Freeform 86"/>
                <p:cNvSpPr/>
                <p:nvPr/>
              </p:nvSpPr>
              <p:spPr>
                <a:xfrm rot="19711200">
                  <a:off x="680040" y="4746240"/>
                  <a:ext cx="131760" cy="1962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87"/>
                <p:cNvSpPr/>
                <p:nvPr/>
              </p:nvSpPr>
              <p:spPr>
                <a:xfrm rot="19711200">
                  <a:off x="856440" y="489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88"/>
                <p:cNvSpPr/>
                <p:nvPr/>
              </p:nvSpPr>
              <p:spPr>
                <a:xfrm rot="19711200">
                  <a:off x="801000" y="4672440"/>
                  <a:ext cx="130680" cy="1962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89"/>
                <p:cNvSpPr/>
                <p:nvPr/>
              </p:nvSpPr>
              <p:spPr>
                <a:xfrm rot="19711200">
                  <a:off x="391680" y="4560480"/>
                  <a:ext cx="1094760" cy="93348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172"/>
              <p:cNvGrpSpPr/>
              <p:nvPr/>
            </p:nvGrpSpPr>
            <p:grpSpPr>
              <a:xfrm>
                <a:off x="7499520" y="146520"/>
                <a:ext cx="1786680" cy="1719360"/>
                <a:chOff x="7499520" y="146520"/>
                <a:chExt cx="1786680" cy="1719360"/>
              </a:xfrm>
            </p:grpSpPr>
            <p:sp>
              <p:nvSpPr>
                <p:cNvPr id="483" name="Freeform 86"/>
                <p:cNvSpPr/>
                <p:nvPr/>
              </p:nvSpPr>
              <p:spPr>
                <a:xfrm rot="19711200">
                  <a:off x="8067600" y="652320"/>
                  <a:ext cx="165960" cy="2469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87"/>
                <p:cNvSpPr/>
                <p:nvPr/>
              </p:nvSpPr>
              <p:spPr>
                <a:xfrm rot="19711200">
                  <a:off x="8289000" y="8424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88"/>
                <p:cNvSpPr/>
                <p:nvPr/>
              </p:nvSpPr>
              <p:spPr>
                <a:xfrm rot="19711200">
                  <a:off x="8219520" y="559800"/>
                  <a:ext cx="164520" cy="24696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89"/>
                <p:cNvSpPr/>
                <p:nvPr/>
              </p:nvSpPr>
              <p:spPr>
                <a:xfrm rot="19711200">
                  <a:off x="7704360" y="419040"/>
                  <a:ext cx="1376280" cy="1173600"/>
                </a:xfrm>
                <a:custGeom>
                  <a:avLst/>
                  <a:gdLst>
                    <a:gd name="textAreaLeft" fmla="*/ 0 w 1376280"/>
                    <a:gd name="textAreaRight" fmla="*/ 1376640 w 1376280"/>
                    <a:gd name="textAreaTop" fmla="*/ 0 h 1173600"/>
                    <a:gd name="textAreaBottom" fmla="*/ 1173960 h 117360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177"/>
              <p:cNvGrpSpPr/>
              <p:nvPr/>
            </p:nvGrpSpPr>
            <p:grpSpPr>
              <a:xfrm>
                <a:off x="7129440" y="3505320"/>
                <a:ext cx="1861560" cy="1824840"/>
                <a:chOff x="7129440" y="3505320"/>
                <a:chExt cx="1861560" cy="1824840"/>
              </a:xfrm>
            </p:grpSpPr>
            <p:sp>
              <p:nvSpPr>
                <p:cNvPr id="488" name="Freeform 72"/>
                <p:cNvSpPr/>
                <p:nvPr/>
              </p:nvSpPr>
              <p:spPr>
                <a:xfrm rot="2429400">
                  <a:off x="8007480" y="4073400"/>
                  <a:ext cx="188640" cy="2811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73"/>
                <p:cNvSpPr/>
                <p:nvPr/>
              </p:nvSpPr>
              <p:spPr>
                <a:xfrm rot="2429400">
                  <a:off x="8078760" y="438876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74"/>
                <p:cNvSpPr/>
                <p:nvPr/>
              </p:nvSpPr>
              <p:spPr>
                <a:xfrm rot="2429400">
                  <a:off x="8161920" y="4205520"/>
                  <a:ext cx="190080" cy="2811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75"/>
                <p:cNvSpPr/>
                <p:nvPr/>
              </p:nvSpPr>
              <p:spPr>
                <a:xfrm rot="2429400">
                  <a:off x="7323840" y="3846240"/>
                  <a:ext cx="1472040" cy="11426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2640"/>
                    <a:gd name="textAreaBottom" fmla="*/ 1143000 h 1142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Group 182"/>
              <p:cNvGrpSpPr/>
              <p:nvPr/>
            </p:nvGrpSpPr>
            <p:grpSpPr>
              <a:xfrm>
                <a:off x="7610760" y="5105520"/>
                <a:ext cx="1532160" cy="1480320"/>
                <a:chOff x="7610760" y="5105520"/>
                <a:chExt cx="1532160" cy="1480320"/>
              </a:xfrm>
            </p:grpSpPr>
            <p:sp>
              <p:nvSpPr>
                <p:cNvPr id="493" name="Freeform 79"/>
                <p:cNvSpPr/>
                <p:nvPr/>
              </p:nvSpPr>
              <p:spPr>
                <a:xfrm rot="19493400">
                  <a:off x="8101800" y="557172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80"/>
                <p:cNvSpPr/>
                <p:nvPr/>
              </p:nvSpPr>
              <p:spPr>
                <a:xfrm rot="19493400">
                  <a:off x="8282520" y="5715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81"/>
                <p:cNvSpPr/>
                <p:nvPr/>
              </p:nvSpPr>
              <p:spPr>
                <a:xfrm rot="19493400">
                  <a:off x="821808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82"/>
                <p:cNvSpPr/>
                <p:nvPr/>
              </p:nvSpPr>
              <p:spPr>
                <a:xfrm rot="19493400">
                  <a:off x="7782480" y="5358240"/>
                  <a:ext cx="1188000" cy="97416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974160"/>
                    <a:gd name="textAreaBottom" fmla="*/ 974520 h 9741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7" name="Group 669"/>
            <p:cNvGrpSpPr/>
            <p:nvPr/>
          </p:nvGrpSpPr>
          <p:grpSpPr>
            <a:xfrm>
              <a:off x="0" y="57960"/>
              <a:ext cx="9183600" cy="6799680"/>
              <a:chOff x="0" y="57960"/>
              <a:chExt cx="9183600" cy="6799680"/>
            </a:xfrm>
          </p:grpSpPr>
          <p:grpSp>
            <p:nvGrpSpPr>
              <p:cNvPr id="498" name="Group 32"/>
              <p:cNvGrpSpPr/>
              <p:nvPr/>
            </p:nvGrpSpPr>
            <p:grpSpPr>
              <a:xfrm>
                <a:off x="72000" y="57960"/>
                <a:ext cx="1895040" cy="1689120"/>
                <a:chOff x="72000" y="57960"/>
                <a:chExt cx="1895040" cy="1689120"/>
              </a:xfrm>
            </p:grpSpPr>
            <p:sp>
              <p:nvSpPr>
                <p:cNvPr id="499" name="Freeform 79"/>
                <p:cNvSpPr/>
                <p:nvPr/>
              </p:nvSpPr>
              <p:spPr>
                <a:xfrm rot="20059800">
                  <a:off x="762120" y="59220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80"/>
                <p:cNvSpPr/>
                <p:nvPr/>
              </p:nvSpPr>
              <p:spPr>
                <a:xfrm rot="20059800">
                  <a:off x="1022040" y="837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81"/>
                <p:cNvSpPr/>
                <p:nvPr/>
              </p:nvSpPr>
              <p:spPr>
                <a:xfrm rot="20059800">
                  <a:off x="956160" y="49896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82"/>
                <p:cNvSpPr/>
                <p:nvPr/>
              </p:nvSpPr>
              <p:spPr>
                <a:xfrm rot="20710200">
                  <a:off x="214200" y="241920"/>
                  <a:ext cx="1610640" cy="1320840"/>
                </a:xfrm>
                <a:custGeom>
                  <a:avLst/>
                  <a:gdLst>
                    <a:gd name="textAreaLeft" fmla="*/ 0 w 1610640"/>
                    <a:gd name="textAreaRight" fmla="*/ 1611000 w 1610640"/>
                    <a:gd name="textAreaTop" fmla="*/ 0 h 1320840"/>
                    <a:gd name="textAreaBottom" fmla="*/ 1321200 h 13208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48"/>
              <p:cNvGrpSpPr/>
              <p:nvPr/>
            </p:nvGrpSpPr>
            <p:grpSpPr>
              <a:xfrm>
                <a:off x="7238880" y="457200"/>
                <a:ext cx="1316520" cy="1236960"/>
                <a:chOff x="7238880" y="457200"/>
                <a:chExt cx="1316520" cy="1236960"/>
              </a:xfrm>
            </p:grpSpPr>
            <p:sp>
              <p:nvSpPr>
                <p:cNvPr id="504" name="Freeform 86"/>
                <p:cNvSpPr/>
                <p:nvPr/>
              </p:nvSpPr>
              <p:spPr>
                <a:xfrm rot="1420200">
                  <a:off x="7872120" y="730800"/>
                  <a:ext cx="126000" cy="18756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87"/>
                <p:cNvSpPr/>
                <p:nvPr/>
              </p:nvSpPr>
              <p:spPr>
                <a:xfrm rot="1420200">
                  <a:off x="7953480" y="9399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88"/>
                <p:cNvSpPr/>
                <p:nvPr/>
              </p:nvSpPr>
              <p:spPr>
                <a:xfrm rot="1420200">
                  <a:off x="7996320" y="784800"/>
                  <a:ext cx="124920" cy="18756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89"/>
                <p:cNvSpPr/>
                <p:nvPr/>
              </p:nvSpPr>
              <p:spPr>
                <a:xfrm rot="1420200">
                  <a:off x="7373880" y="629640"/>
                  <a:ext cx="1046160" cy="89208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Freeform 73"/>
              <p:cNvSpPr/>
              <p:nvPr/>
            </p:nvSpPr>
            <p:spPr>
              <a:xfrm rot="1542600">
                <a:off x="7058160" y="3703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8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Group 63"/>
              <p:cNvGrpSpPr/>
              <p:nvPr/>
            </p:nvGrpSpPr>
            <p:grpSpPr>
              <a:xfrm>
                <a:off x="7832880" y="4216320"/>
                <a:ext cx="1350720" cy="1223640"/>
                <a:chOff x="7832880" y="4216320"/>
                <a:chExt cx="1350720" cy="1223640"/>
              </a:xfrm>
            </p:grpSpPr>
            <p:sp>
              <p:nvSpPr>
                <p:cNvPr id="510" name="Freeform 79"/>
                <p:cNvSpPr/>
                <p:nvPr/>
              </p:nvSpPr>
              <p:spPr>
                <a:xfrm rot="1645200">
                  <a:off x="8359920" y="488556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80"/>
                <p:cNvSpPr/>
                <p:nvPr/>
              </p:nvSpPr>
              <p:spPr>
                <a:xfrm rot="1645200">
                  <a:off x="8433000" y="5093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81"/>
                <p:cNvSpPr/>
                <p:nvPr/>
              </p:nvSpPr>
              <p:spPr>
                <a:xfrm rot="1645200">
                  <a:off x="8478720" y="494712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82"/>
                <p:cNvSpPr/>
                <p:nvPr/>
              </p:nvSpPr>
              <p:spPr>
                <a:xfrm rot="20491200">
                  <a:off x="7949160" y="4369680"/>
                  <a:ext cx="1117800" cy="916560"/>
                </a:xfrm>
                <a:custGeom>
                  <a:avLst/>
                  <a:gdLst>
                    <a:gd name="textAreaLeft" fmla="*/ 0 w 1117800"/>
                    <a:gd name="textAreaRight" fmla="*/ 1118160 w 1117800"/>
                    <a:gd name="textAreaTop" fmla="*/ 0 h 916560"/>
                    <a:gd name="textAreaBottom" fmla="*/ 916920 h 9165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Group 87"/>
              <p:cNvGrpSpPr/>
              <p:nvPr/>
            </p:nvGrpSpPr>
            <p:grpSpPr>
              <a:xfrm>
                <a:off x="0" y="5334120"/>
                <a:ext cx="1188000" cy="1523520"/>
                <a:chOff x="0" y="5334120"/>
                <a:chExt cx="1188000" cy="1523520"/>
              </a:xfrm>
            </p:grpSpPr>
            <p:sp>
              <p:nvSpPr>
                <p:cNvPr id="515" name="Freeform 21"/>
                <p:cNvSpPr/>
                <p:nvPr/>
              </p:nvSpPr>
              <p:spPr>
                <a:xfrm>
                  <a:off x="374040" y="5703840"/>
                  <a:ext cx="21600" cy="3052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5280"/>
                    <a:gd name="textAreaBottom" fmla="*/ 305640 h 30528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22"/>
                <p:cNvSpPr/>
                <p:nvPr/>
              </p:nvSpPr>
              <p:spPr>
                <a:xfrm>
                  <a:off x="392040" y="60156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23"/>
                <p:cNvSpPr/>
                <p:nvPr/>
              </p:nvSpPr>
              <p:spPr>
                <a:xfrm>
                  <a:off x="406080" y="5882760"/>
                  <a:ext cx="277200" cy="134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24"/>
                <p:cNvSpPr/>
                <p:nvPr/>
              </p:nvSpPr>
              <p:spPr>
                <a:xfrm>
                  <a:off x="0" y="5334120"/>
                  <a:ext cx="1188000" cy="152352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520"/>
                    <a:gd name="textAreaBottom" fmla="*/ 1523880 h 152352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Group 92"/>
              <p:cNvGrpSpPr/>
              <p:nvPr/>
            </p:nvGrpSpPr>
            <p:grpSpPr>
              <a:xfrm>
                <a:off x="0" y="2846520"/>
                <a:ext cx="930240" cy="1301400"/>
                <a:chOff x="0" y="2846520"/>
                <a:chExt cx="930240" cy="1301400"/>
              </a:xfrm>
            </p:grpSpPr>
            <p:sp>
              <p:nvSpPr>
                <p:cNvPr id="520" name="Freeform 49"/>
                <p:cNvSpPr/>
                <p:nvPr/>
              </p:nvSpPr>
              <p:spPr>
                <a:xfrm>
                  <a:off x="0" y="3446280"/>
                  <a:ext cx="84240" cy="13140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50"/>
                <p:cNvSpPr/>
                <p:nvPr/>
              </p:nvSpPr>
              <p:spPr>
                <a:xfrm>
                  <a:off x="87120" y="3585240"/>
                  <a:ext cx="360" cy="21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51"/>
                <p:cNvSpPr/>
                <p:nvPr/>
              </p:nvSpPr>
              <p:spPr>
                <a:xfrm>
                  <a:off x="101160" y="3256200"/>
                  <a:ext cx="215640" cy="32148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52"/>
                <p:cNvSpPr/>
                <p:nvPr/>
              </p:nvSpPr>
              <p:spPr>
                <a:xfrm>
                  <a:off x="0" y="2846520"/>
                  <a:ext cx="930240" cy="130140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400"/>
                    <a:gd name="textAreaBottom" fmla="*/ 1301760 h 13014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4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16000"/>
                    </a:srgbClr>
                  </a:solidFill>
                  <a:round/>
                </a:ln>
                <a:effectLst>
                  <a:glow rad="63360">
                    <a:srgbClr val="d8f2ab">
                      <a:alpha val="1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Group 97"/>
              <p:cNvGrpSpPr/>
              <p:nvPr/>
            </p:nvGrpSpPr>
            <p:grpSpPr>
              <a:xfrm>
                <a:off x="4876560" y="5704560"/>
                <a:ext cx="1752120" cy="1153080"/>
                <a:chOff x="4876560" y="5704560"/>
                <a:chExt cx="1752120" cy="1153080"/>
              </a:xfrm>
            </p:grpSpPr>
            <p:sp>
              <p:nvSpPr>
                <p:cNvPr id="525" name="Freeform 28"/>
                <p:cNvSpPr/>
                <p:nvPr/>
              </p:nvSpPr>
              <p:spPr>
                <a:xfrm>
                  <a:off x="5598720" y="6247800"/>
                  <a:ext cx="15120" cy="3841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29"/>
                <p:cNvSpPr/>
                <p:nvPr/>
              </p:nvSpPr>
              <p:spPr>
                <a:xfrm>
                  <a:off x="5609880" y="6641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0"/>
                <p:cNvSpPr/>
                <p:nvPr/>
              </p:nvSpPr>
              <p:spPr>
                <a:xfrm>
                  <a:off x="5627520" y="6482520"/>
                  <a:ext cx="352800" cy="160560"/>
                </a:xfrm>
                <a:custGeom>
                  <a:avLst/>
                  <a:gdLst>
                    <a:gd name="textAreaLeft" fmla="*/ 0 w 352800"/>
                    <a:gd name="textAreaRight" fmla="*/ 353160 w 352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31"/>
                <p:cNvSpPr/>
                <p:nvPr/>
              </p:nvSpPr>
              <p:spPr>
                <a:xfrm>
                  <a:off x="4876560" y="5704560"/>
                  <a:ext cx="1752120" cy="1153080"/>
                </a:xfrm>
                <a:custGeom>
                  <a:avLst/>
                  <a:gdLst>
                    <a:gd name="textAreaLeft" fmla="*/ 0 w 1752120"/>
                    <a:gd name="textAreaRight" fmla="*/ 1752480 w 1752120"/>
                    <a:gd name="textAreaTop" fmla="*/ 0 h 1153080"/>
                    <a:gd name="textAreaBottom" fmla="*/ 1153440 h 115308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9000"/>
                  </a:schemeClr>
                </a:solidFill>
                <a:ln w="9525">
                  <a:solidFill>
                    <a:srgbClr val="feffff">
                      <a:alpha val="12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102"/>
              <p:cNvGrpSpPr/>
              <p:nvPr/>
            </p:nvGrpSpPr>
            <p:grpSpPr>
              <a:xfrm>
                <a:off x="7848360" y="1523880"/>
                <a:ext cx="1294920" cy="1685160"/>
                <a:chOff x="7848360" y="1523880"/>
                <a:chExt cx="1294920" cy="1685160"/>
              </a:xfrm>
            </p:grpSpPr>
            <p:sp>
              <p:nvSpPr>
                <p:cNvPr id="530" name="Freeform 70"/>
                <p:cNvSpPr/>
                <p:nvPr/>
              </p:nvSpPr>
              <p:spPr>
                <a:xfrm>
                  <a:off x="8456760" y="1992240"/>
                  <a:ext cx="296280" cy="19476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71"/>
                <p:cNvSpPr/>
                <p:nvPr/>
              </p:nvSpPr>
              <p:spPr>
                <a:xfrm>
                  <a:off x="8757360" y="2195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72"/>
                <p:cNvSpPr/>
                <p:nvPr/>
              </p:nvSpPr>
              <p:spPr>
                <a:xfrm>
                  <a:off x="8768880" y="1832400"/>
                  <a:ext cx="65880" cy="35064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73"/>
                <p:cNvSpPr/>
                <p:nvPr/>
              </p:nvSpPr>
              <p:spPr>
                <a:xfrm>
                  <a:off x="7848360" y="1523880"/>
                  <a:ext cx="1294920" cy="1685160"/>
                </a:xfrm>
                <a:custGeom>
                  <a:avLst/>
                  <a:gdLst>
                    <a:gd name="textAreaLeft" fmla="*/ 0 w 1294920"/>
                    <a:gd name="textAreaRight" fmla="*/ 1295280 w 129492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Group 112"/>
              <p:cNvGrpSpPr/>
              <p:nvPr/>
            </p:nvGrpSpPr>
            <p:grpSpPr>
              <a:xfrm>
                <a:off x="7679160" y="5943600"/>
                <a:ext cx="1331280" cy="914040"/>
                <a:chOff x="7679160" y="5943600"/>
                <a:chExt cx="1331280" cy="914040"/>
              </a:xfrm>
            </p:grpSpPr>
            <p:sp>
              <p:nvSpPr>
                <p:cNvPr id="535" name="Freeform 35"/>
                <p:cNvSpPr/>
                <p:nvPr/>
              </p:nvSpPr>
              <p:spPr>
                <a:xfrm>
                  <a:off x="7679160" y="6346080"/>
                  <a:ext cx="201960" cy="9504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"/>
                <p:cNvSpPr/>
                <p:nvPr/>
              </p:nvSpPr>
              <p:spPr>
                <a:xfrm>
                  <a:off x="7884000" y="6446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7"/>
                <p:cNvSpPr/>
                <p:nvPr/>
              </p:nvSpPr>
              <p:spPr>
                <a:xfrm>
                  <a:off x="7888680" y="6215040"/>
                  <a:ext cx="14040" cy="221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8"/>
                <p:cNvSpPr/>
                <p:nvPr/>
              </p:nvSpPr>
              <p:spPr>
                <a:xfrm>
                  <a:off x="7920360" y="5943600"/>
                  <a:ext cx="1090080" cy="914040"/>
                </a:xfrm>
                <a:custGeom>
                  <a:avLst/>
                  <a:gdLst>
                    <a:gd name="textAreaLeft" fmla="*/ 0 w 1090080"/>
                    <a:gd name="textAreaRight" fmla="*/ 1090440 w 1090080"/>
                    <a:gd name="textAreaTop" fmla="*/ 0 h 914040"/>
                    <a:gd name="textAreaBottom" fmla="*/ 914400 h 9140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9" name="Group 715"/>
            <p:cNvGrpSpPr/>
            <p:nvPr/>
          </p:nvGrpSpPr>
          <p:grpSpPr>
            <a:xfrm>
              <a:off x="0" y="0"/>
              <a:ext cx="9211320" cy="6828840"/>
              <a:chOff x="0" y="0"/>
              <a:chExt cx="9211320" cy="6828840"/>
            </a:xfrm>
          </p:grpSpPr>
          <p:grpSp>
            <p:nvGrpSpPr>
              <p:cNvPr id="540" name="Group 129"/>
              <p:cNvGrpSpPr/>
              <p:nvPr/>
            </p:nvGrpSpPr>
            <p:grpSpPr>
              <a:xfrm>
                <a:off x="7695720" y="2819880"/>
                <a:ext cx="1404360" cy="3467880"/>
                <a:chOff x="7695720" y="2819880"/>
                <a:chExt cx="1404360" cy="3467880"/>
              </a:xfrm>
            </p:grpSpPr>
            <p:sp>
              <p:nvSpPr>
                <p:cNvPr id="541" name="Freeform 86"/>
                <p:cNvSpPr/>
                <p:nvPr/>
              </p:nvSpPr>
              <p:spPr>
                <a:xfrm rot="20119200">
                  <a:off x="8078400" y="3112920"/>
                  <a:ext cx="110520" cy="16452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87"/>
                <p:cNvSpPr/>
                <p:nvPr/>
              </p:nvSpPr>
              <p:spPr>
                <a:xfrm rot="20119200">
                  <a:off x="822024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88"/>
                <p:cNvSpPr/>
                <p:nvPr/>
              </p:nvSpPr>
              <p:spPr>
                <a:xfrm rot="20119200">
                  <a:off x="8186760" y="3063240"/>
                  <a:ext cx="109440" cy="16452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89"/>
                <p:cNvSpPr/>
                <p:nvPr/>
              </p:nvSpPr>
              <p:spPr>
                <a:xfrm rot="20119200">
                  <a:off x="7817040" y="2975400"/>
                  <a:ext cx="917640" cy="78264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21000"/>
                  </a:schemeClr>
                </a:solidFill>
                <a:ln w="9525">
                  <a:noFill/>
                </a:ln>
                <a:effectLst>
                  <a:glow rad="50760">
                    <a:srgbClr val="d8f2ab">
                      <a:alpha val="33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89"/>
                <p:cNvSpPr/>
                <p:nvPr/>
              </p:nvSpPr>
              <p:spPr>
                <a:xfrm rot="823200">
                  <a:off x="7924680" y="5250240"/>
                  <a:ext cx="1081440" cy="922320"/>
                </a:xfrm>
                <a:custGeom>
                  <a:avLst/>
                  <a:gdLst>
                    <a:gd name="textAreaLeft" fmla="*/ 0 w 1081440"/>
                    <a:gd name="textAreaRight" fmla="*/ 1081800 w 108144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Group 134"/>
              <p:cNvGrpSpPr/>
              <p:nvPr/>
            </p:nvGrpSpPr>
            <p:grpSpPr>
              <a:xfrm>
                <a:off x="6854760" y="5524920"/>
                <a:ext cx="1110600" cy="1303920"/>
                <a:chOff x="6854760" y="5524920"/>
                <a:chExt cx="1110600" cy="1303920"/>
              </a:xfrm>
            </p:grpSpPr>
            <p:sp>
              <p:nvSpPr>
                <p:cNvPr id="547" name="Freeform 80"/>
                <p:cNvSpPr/>
                <p:nvPr/>
              </p:nvSpPr>
              <p:spPr>
                <a:xfrm rot="1992600">
                  <a:off x="7715520" y="55249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82"/>
                <p:cNvSpPr/>
                <p:nvPr/>
              </p:nvSpPr>
              <p:spPr>
                <a:xfrm rot="592800">
                  <a:off x="6916680" y="5941080"/>
                  <a:ext cx="986400" cy="808920"/>
                </a:xfrm>
                <a:custGeom>
                  <a:avLst/>
                  <a:gdLst>
                    <a:gd name="textAreaLeft" fmla="*/ 0 w 986400"/>
                    <a:gd name="textAreaRight" fmla="*/ 986760 w 986400"/>
                    <a:gd name="textAreaTop" fmla="*/ 0 h 808920"/>
                    <a:gd name="textAreaBottom" fmla="*/ 809280 h 808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tx2">
                    <a:lumMod val="60000"/>
                    <a:lumOff val="40000"/>
                    <a:alpha val="10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abcb6a">
                      <a:alpha val="2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Group 154"/>
              <p:cNvGrpSpPr/>
              <p:nvPr/>
            </p:nvGrpSpPr>
            <p:grpSpPr>
              <a:xfrm>
                <a:off x="6317640" y="1055160"/>
                <a:ext cx="1839960" cy="1753200"/>
                <a:chOff x="6317640" y="1055160"/>
                <a:chExt cx="1839960" cy="1753200"/>
              </a:xfrm>
            </p:grpSpPr>
            <p:sp>
              <p:nvSpPr>
                <p:cNvPr id="550" name="Freeform 72"/>
                <p:cNvSpPr/>
                <p:nvPr/>
              </p:nvSpPr>
              <p:spPr>
                <a:xfrm rot="2047800">
                  <a:off x="7162920" y="1588320"/>
                  <a:ext cx="186840" cy="27828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73"/>
                <p:cNvSpPr/>
                <p:nvPr/>
              </p:nvSpPr>
              <p:spPr>
                <a:xfrm rot="2047800">
                  <a:off x="7252920" y="190188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4"/>
                <p:cNvSpPr/>
                <p:nvPr/>
              </p:nvSpPr>
              <p:spPr>
                <a:xfrm rot="2047800">
                  <a:off x="7329240" y="1701360"/>
                  <a:ext cx="188280" cy="2782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75"/>
                <p:cNvSpPr/>
                <p:nvPr/>
              </p:nvSpPr>
              <p:spPr>
                <a:xfrm rot="2047800">
                  <a:off x="6509160" y="1366200"/>
                  <a:ext cx="1456560" cy="1130760"/>
                </a:xfrm>
                <a:custGeom>
                  <a:avLst/>
                  <a:gdLst>
                    <a:gd name="textAreaLeft" fmla="*/ 0 w 1456560"/>
                    <a:gd name="textAreaRight" fmla="*/ 1456920 w 1456560"/>
                    <a:gd name="textAreaTop" fmla="*/ 0 h 1130760"/>
                    <a:gd name="textAreaBottom" fmla="*/ 1131120 h 11307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solidFill>
                    <a:srgbClr val="beea73">
                      <a:lumMod val="60000"/>
                      <a:lumOff val="40000"/>
                      <a:alpha val="19000"/>
                    </a:srgbClr>
                  </a:solidFill>
                  <a:round/>
                </a:ln>
                <a:effectLst>
                  <a:glow rad="63360">
                    <a:srgbClr val="d8f2ab">
                      <a:alpha val="1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164"/>
              <p:cNvGrpSpPr/>
              <p:nvPr/>
            </p:nvGrpSpPr>
            <p:grpSpPr>
              <a:xfrm>
                <a:off x="8125920" y="3738240"/>
                <a:ext cx="1085400" cy="915840"/>
                <a:chOff x="8125920" y="3738240"/>
                <a:chExt cx="1085400" cy="915840"/>
              </a:xfrm>
            </p:grpSpPr>
            <p:sp>
              <p:nvSpPr>
                <p:cNvPr id="555" name="Freeform 72"/>
                <p:cNvSpPr/>
                <p:nvPr/>
              </p:nvSpPr>
              <p:spPr>
                <a:xfrm rot="20119800">
                  <a:off x="8497800" y="4024080"/>
                  <a:ext cx="123120" cy="1832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73"/>
                <p:cNvSpPr/>
                <p:nvPr/>
              </p:nvSpPr>
              <p:spPr>
                <a:xfrm rot="20119800">
                  <a:off x="8656920" y="417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74"/>
                <p:cNvSpPr/>
                <p:nvPr/>
              </p:nvSpPr>
              <p:spPr>
                <a:xfrm rot="20119800">
                  <a:off x="8618040" y="3968640"/>
                  <a:ext cx="123840" cy="183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75"/>
                <p:cNvSpPr/>
                <p:nvPr/>
              </p:nvSpPr>
              <p:spPr>
                <a:xfrm rot="20933400">
                  <a:off x="8188560" y="3823560"/>
                  <a:ext cx="959760" cy="74484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4840"/>
                    <a:gd name="textAreaBottom" fmla="*/ 745200 h 7448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560" name="Freeform 42"/>
                <p:cNvSpPr/>
                <p:nvPr/>
              </p:nvSpPr>
              <p:spPr>
                <a:xfrm>
                  <a:off x="388080" y="1443960"/>
                  <a:ext cx="356040" cy="192600"/>
                </a:xfrm>
                <a:custGeom>
                  <a:avLst/>
                  <a:gdLst>
                    <a:gd name="textAreaLeft" fmla="*/ 0 w 356040"/>
                    <a:gd name="textAreaRight" fmla="*/ 356400 w 3560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43"/>
                <p:cNvSpPr/>
                <p:nvPr/>
              </p:nvSpPr>
              <p:spPr>
                <a:xfrm>
                  <a:off x="751320" y="16412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44"/>
                <p:cNvSpPr/>
                <p:nvPr/>
              </p:nvSpPr>
              <p:spPr>
                <a:xfrm>
                  <a:off x="760320" y="122580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Group 53"/>
              <p:cNvGrpSpPr/>
              <p:nvPr/>
            </p:nvGrpSpPr>
            <p:grpSpPr>
              <a:xfrm>
                <a:off x="0" y="4273560"/>
                <a:ext cx="1192320" cy="1364760"/>
                <a:chOff x="0" y="4273560"/>
                <a:chExt cx="1192320" cy="1364760"/>
              </a:xfrm>
            </p:grpSpPr>
            <p:sp>
              <p:nvSpPr>
                <p:cNvPr id="565" name="Freeform 56"/>
                <p:cNvSpPr/>
                <p:nvPr/>
              </p:nvSpPr>
              <p:spPr>
                <a:xfrm>
                  <a:off x="399960" y="4638960"/>
                  <a:ext cx="13320" cy="36072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60720"/>
                    <a:gd name="textAreaBottom" fmla="*/ 361080 h 36072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57"/>
                <p:cNvSpPr/>
                <p:nvPr/>
              </p:nvSpPr>
              <p:spPr>
                <a:xfrm>
                  <a:off x="439200" y="4930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58"/>
                <p:cNvSpPr/>
                <p:nvPr/>
              </p:nvSpPr>
              <p:spPr>
                <a:xfrm>
                  <a:off x="416160" y="4871160"/>
                  <a:ext cx="335160" cy="1400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59"/>
                <p:cNvSpPr/>
                <p:nvPr/>
              </p:nvSpPr>
              <p:spPr>
                <a:xfrm>
                  <a:off x="0" y="4273560"/>
                  <a:ext cx="1192320" cy="136476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4760"/>
                    <a:gd name="textAreaBottom" fmla="*/ 1365120 h 136476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Group 58"/>
              <p:cNvGrpSpPr/>
              <p:nvPr/>
            </p:nvGrpSpPr>
            <p:grpSpPr>
              <a:xfrm>
                <a:off x="7366320" y="0"/>
                <a:ext cx="1266120" cy="990360"/>
                <a:chOff x="7366320" y="0"/>
                <a:chExt cx="1266120" cy="990360"/>
              </a:xfrm>
            </p:grpSpPr>
            <p:sp>
              <p:nvSpPr>
                <p:cNvPr id="570" name="Freeform 63"/>
                <p:cNvSpPr/>
                <p:nvPr/>
              </p:nvSpPr>
              <p:spPr>
                <a:xfrm>
                  <a:off x="7698960" y="0"/>
                  <a:ext cx="185400" cy="18792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64"/>
                <p:cNvSpPr/>
                <p:nvPr/>
              </p:nvSpPr>
              <p:spPr>
                <a:xfrm>
                  <a:off x="7887240" y="1933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65"/>
                <p:cNvSpPr/>
                <p:nvPr/>
              </p:nvSpPr>
              <p:spPr>
                <a:xfrm>
                  <a:off x="7895160" y="0"/>
                  <a:ext cx="84600" cy="185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66"/>
                <p:cNvSpPr/>
                <p:nvPr/>
              </p:nvSpPr>
              <p:spPr>
                <a:xfrm>
                  <a:off x="7366320" y="0"/>
                  <a:ext cx="1266120" cy="990360"/>
                </a:xfrm>
                <a:custGeom>
                  <a:avLst/>
                  <a:gdLst>
                    <a:gd name="textAreaLeft" fmla="*/ 0 w 1266120"/>
                    <a:gd name="textAreaRight" fmla="*/ 1266480 w 126612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63"/>
              <p:cNvGrpSpPr/>
              <p:nvPr/>
            </p:nvGrpSpPr>
            <p:grpSpPr>
              <a:xfrm>
                <a:off x="8323920" y="990720"/>
                <a:ext cx="819360" cy="1066320"/>
                <a:chOff x="8323920" y="990720"/>
                <a:chExt cx="819360" cy="1066320"/>
              </a:xfrm>
            </p:grpSpPr>
            <p:sp>
              <p:nvSpPr>
                <p:cNvPr id="575" name="Freeform 70"/>
                <p:cNvSpPr/>
                <p:nvPr/>
              </p:nvSpPr>
              <p:spPr>
                <a:xfrm>
                  <a:off x="8709120" y="1287000"/>
                  <a:ext cx="187200" cy="123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71"/>
                <p:cNvSpPr/>
                <p:nvPr/>
              </p:nvSpPr>
              <p:spPr>
                <a:xfrm>
                  <a:off x="8899200" y="1415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72"/>
                <p:cNvSpPr/>
                <p:nvPr/>
              </p:nvSpPr>
              <p:spPr>
                <a:xfrm>
                  <a:off x="8906400" y="1185840"/>
                  <a:ext cx="41760" cy="221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73"/>
                <p:cNvSpPr/>
                <p:nvPr/>
              </p:nvSpPr>
              <p:spPr>
                <a:xfrm>
                  <a:off x="8323920" y="990720"/>
                  <a:ext cx="819360" cy="1066320"/>
                </a:xfrm>
                <a:custGeom>
                  <a:avLst/>
                  <a:gdLst>
                    <a:gd name="textAreaLeft" fmla="*/ 0 w 819360"/>
                    <a:gd name="textAreaRight" fmla="*/ 819720 w 81936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9" name="PlaceHolder 1"/>
          <p:cNvSpPr>
            <a:spLocks noGrp="1"/>
          </p:cNvSpPr>
          <p:nvPr>
            <p:ph type="dt" idx="10"/>
          </p:nvPr>
        </p:nvSpPr>
        <p:spPr>
          <a:xfrm>
            <a:off x="6437160" y="5951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ftr" idx="11"/>
          </p:nvPr>
        </p:nvSpPr>
        <p:spPr>
          <a:xfrm>
            <a:off x="1181160" y="59515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Num" idx="12"/>
          </p:nvPr>
        </p:nvSpPr>
        <p:spPr>
          <a:xfrm>
            <a:off x="573120" y="5951520"/>
            <a:ext cx="60768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24E4EF9-F6E0-40CA-93B3-95055161E47A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Рисунок 1" descr=""/>
          <p:cNvPicPr/>
          <p:nvPr/>
        </p:nvPicPr>
        <p:blipFill>
          <a:blip r:embed="rId1"/>
          <a:stretch/>
        </p:blipFill>
        <p:spPr>
          <a:xfrm>
            <a:off x="428760" y="3857760"/>
            <a:ext cx="2999880" cy="2707200"/>
          </a:xfrm>
          <a:prstGeom prst="rect">
            <a:avLst/>
          </a:prstGeom>
          <a:ln w="9525">
            <a:noFill/>
          </a:ln>
        </p:spPr>
      </p:pic>
      <p:sp>
        <p:nvSpPr>
          <p:cNvPr id="621" name="TextBox 7"/>
          <p:cNvSpPr/>
          <p:nvPr/>
        </p:nvSpPr>
        <p:spPr>
          <a:xfrm>
            <a:off x="1785960" y="785880"/>
            <a:ext cx="62146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дактическое пособи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ы-карточки, используемые на занятиях  по физической культуре по методу круговой тренировки со старши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"/>
          <p:cNvSpPr/>
          <p:nvPr/>
        </p:nvSpPr>
        <p:spPr>
          <a:xfrm>
            <a:off x="3714840" y="3857760"/>
            <a:ext cx="47145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СОШ пос. Лени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р. Красноармейский д.с. «Журав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варина серафим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Третья станция. Упражнения в прыжках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1357200" y="1643040"/>
            <a:ext cx="5714640" cy="46432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Четвертая станция.  Упражнения на гимнастической стенке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1143000" y="1643040"/>
            <a:ext cx="6214680" cy="46432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в лазанье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1"/>
          <a:stretch/>
        </p:blipFill>
        <p:spPr>
          <a:xfrm>
            <a:off x="785880" y="2357280"/>
            <a:ext cx="3268080" cy="4095360"/>
          </a:xfrm>
          <a:prstGeom prst="rect">
            <a:avLst/>
          </a:prstGeom>
          <a:ln w="9525">
            <a:noFill/>
          </a:ln>
        </p:spPr>
      </p:pic>
      <p:pic>
        <p:nvPicPr>
          <p:cNvPr id="645" name="Picture 3" descr=""/>
          <p:cNvPicPr/>
          <p:nvPr/>
        </p:nvPicPr>
        <p:blipFill>
          <a:blip r:embed="rId2"/>
          <a:stretch/>
        </p:blipFill>
        <p:spPr>
          <a:xfrm>
            <a:off x="4618080" y="2286000"/>
            <a:ext cx="3025440" cy="39286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09800" y="0"/>
            <a:ext cx="712440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с мячом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2214720" y="1071720"/>
            <a:ext cx="6500520" cy="5214600"/>
          </a:xfrm>
          <a:prstGeom prst="rect">
            <a:avLst/>
          </a:prstGeom>
          <a:ln w="9525">
            <a:noFill/>
          </a:ln>
        </p:spPr>
      </p:pic>
      <p:pic>
        <p:nvPicPr>
          <p:cNvPr id="648" name="Picture 2" descr=""/>
          <p:cNvPicPr/>
          <p:nvPr/>
        </p:nvPicPr>
        <p:blipFill>
          <a:blip r:embed="rId2"/>
          <a:stretch/>
        </p:blipFill>
        <p:spPr>
          <a:xfrm>
            <a:off x="0" y="1857240"/>
            <a:ext cx="1940400" cy="25714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в прыжках в длину с места, с разбега, в высоту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2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2571480" cy="3285720"/>
          </a:xfrm>
          <a:prstGeom prst="rect">
            <a:avLst/>
          </a:prstGeom>
          <a:ln w="9525">
            <a:noFill/>
          </a:ln>
        </p:spPr>
      </p:pic>
      <p:pic>
        <p:nvPicPr>
          <p:cNvPr id="651" name="Picture 3" descr=""/>
          <p:cNvPicPr/>
          <p:nvPr/>
        </p:nvPicPr>
        <p:blipFill>
          <a:blip r:embed="rId2"/>
          <a:stretch/>
        </p:blipFill>
        <p:spPr>
          <a:xfrm>
            <a:off x="5786280" y="1428840"/>
            <a:ext cx="2966040" cy="3722400"/>
          </a:xfrm>
          <a:prstGeom prst="rect">
            <a:avLst/>
          </a:prstGeom>
          <a:ln w="9525">
            <a:noFill/>
          </a:ln>
        </p:spPr>
      </p:pic>
      <p:pic>
        <p:nvPicPr>
          <p:cNvPr id="652" name="Picture 4" descr=""/>
          <p:cNvPicPr/>
          <p:nvPr/>
        </p:nvPicPr>
        <p:blipFill>
          <a:blip r:embed="rId3"/>
          <a:stretch/>
        </p:blipFill>
        <p:spPr>
          <a:xfrm>
            <a:off x="3000240" y="2571840"/>
            <a:ext cx="2714400" cy="364284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в метанье .</a:t>
            </a:r>
            <a:br>
              <a:rPr sz="32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3928680" cy="4221360"/>
          </a:xfrm>
          <a:prstGeom prst="rect">
            <a:avLst/>
          </a:prstGeom>
          <a:ln w="9525">
            <a:noFill/>
          </a:ln>
        </p:spPr>
      </p:pic>
      <p:pic>
        <p:nvPicPr>
          <p:cNvPr id="655" name="Picture 5" descr=""/>
          <p:cNvPicPr/>
          <p:nvPr/>
        </p:nvPicPr>
        <p:blipFill>
          <a:blip r:embed="rId2"/>
          <a:stretch/>
        </p:blipFill>
        <p:spPr>
          <a:xfrm>
            <a:off x="5000760" y="1928880"/>
            <a:ext cx="3428640" cy="407160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в равновесии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2143080" y="2000160"/>
            <a:ext cx="4142880" cy="400572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на снарядах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2775600" cy="3928680"/>
          </a:xfrm>
          <a:prstGeom prst="rect">
            <a:avLst/>
          </a:prstGeom>
          <a:ln w="9525">
            <a:noFill/>
          </a:ln>
        </p:spPr>
      </p:pic>
      <p:pic>
        <p:nvPicPr>
          <p:cNvPr id="660" name="Picture 3" descr=""/>
          <p:cNvPicPr/>
          <p:nvPr/>
        </p:nvPicPr>
        <p:blipFill>
          <a:blip r:embed="rId2"/>
          <a:stretch/>
        </p:blipFill>
        <p:spPr>
          <a:xfrm>
            <a:off x="3429000" y="1928880"/>
            <a:ext cx="2214360" cy="3714480"/>
          </a:xfrm>
          <a:prstGeom prst="rect">
            <a:avLst/>
          </a:prstGeom>
          <a:ln w="9525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3"/>
          <a:stretch/>
        </p:blipFill>
        <p:spPr>
          <a:xfrm>
            <a:off x="6143760" y="1928880"/>
            <a:ext cx="2499840" cy="364284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6"/>
          <p:cNvSpPr/>
          <p:nvPr/>
        </p:nvSpPr>
        <p:spPr>
          <a:xfrm>
            <a:off x="1870920" y="785880"/>
            <a:ext cx="3907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робатические упраж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6286680" y="2357280"/>
            <a:ext cx="2466360" cy="3785760"/>
          </a:xfrm>
          <a:prstGeom prst="rect">
            <a:avLst/>
          </a:prstGeom>
          <a:ln w="9525">
            <a:noFill/>
          </a:ln>
        </p:spPr>
      </p:pic>
      <p:pic>
        <p:nvPicPr>
          <p:cNvPr id="664" name="Picture 3" descr=""/>
          <p:cNvPicPr/>
          <p:nvPr/>
        </p:nvPicPr>
        <p:blipFill>
          <a:blip r:embed="rId2"/>
          <a:stretch/>
        </p:blipFill>
        <p:spPr>
          <a:xfrm>
            <a:off x="3500280" y="2286000"/>
            <a:ext cx="2499840" cy="3928680"/>
          </a:xfrm>
          <a:prstGeom prst="rect">
            <a:avLst/>
          </a:prstGeom>
          <a:ln w="9525">
            <a:noFill/>
          </a:ln>
        </p:spPr>
      </p:pic>
      <p:pic>
        <p:nvPicPr>
          <p:cNvPr id="665" name="Picture 4" descr=""/>
          <p:cNvPicPr/>
          <p:nvPr/>
        </p:nvPicPr>
        <p:blipFill>
          <a:blip r:embed="rId3"/>
          <a:stretch/>
        </p:blipFill>
        <p:spPr>
          <a:xfrm>
            <a:off x="285840" y="2286000"/>
            <a:ext cx="2714400" cy="39286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с обручем и скакалкой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57120" y="2500200"/>
            <a:ext cx="4266720" cy="3785760"/>
          </a:xfrm>
          <a:prstGeom prst="rect">
            <a:avLst/>
          </a:prstGeom>
          <a:ln w="9525">
            <a:noFill/>
          </a:ln>
        </p:spPr>
      </p:pic>
      <p:pic>
        <p:nvPicPr>
          <p:cNvPr id="668" name="Picture 3" descr=""/>
          <p:cNvPicPr/>
          <p:nvPr/>
        </p:nvPicPr>
        <p:blipFill>
          <a:blip r:embed="rId2"/>
          <a:stretch/>
        </p:blipFill>
        <p:spPr>
          <a:xfrm>
            <a:off x="4429080" y="2500200"/>
            <a:ext cx="4266720" cy="385740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6920" cy="172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rebuchet MS"/>
              </a:rPr>
              <a:t>Цель</a:t>
            </a:r>
            <a:br>
              <a:rPr sz="24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7632360" cy="2303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ать детей умению «считывать» задание-рисунок, схему, пользоваться карточками, ориентироваться по ним. </a:t>
            </a:r>
            <a:endParaRPr b="0" lang="ru-RU" sz="24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1071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Ожидаемые результаты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огащение двигательного опыта; 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витие сноровки, внимания, ловкости,  умения быть в коллективе;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вышение самооценки; 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ережное обращение с пособиями, применение  их творчески.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выки самостоятельной двигательной активности  при использовании схем-карточек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1428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Дальнейшие перспективы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09800" y="1052640"/>
            <a:ext cx="7124400" cy="489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должить работу по формированию двигательной активности детей с использованием схем-карточек на утренней гимнастике, с детьми младшего возраста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должить оснащать картотеку схемами для разного возраста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55640" y="676440"/>
            <a:ext cx="7776720" cy="3184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Спасибо за внимание!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Задачи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09800" y="1341360"/>
            <a:ext cx="7738560" cy="5016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ть у детей способность самостоятельно организовать и выполнять игровые движения, схематично обозначенные на специальных карточках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у детей способность к прогнозированию своих действий, к проявлению настойчивости, направленной на достижение своей цели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ь детей соблюдать правила, точно выполнять действия. Развивать у детей способность к быстроте и ловкости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инициативу у каждого ребёнка, желание как можно лучше выполнить задание. 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тивировать детей на двигательную активность, через использование нетрадиционного оборудования в самостоятельных видах деятельности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09800" y="115920"/>
            <a:ext cx="6802200" cy="649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rebuchet MS"/>
              </a:rPr>
              <a:t>Актуальност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378802682"/>
              </p:ext>
            </p:extLst>
          </p:nvPr>
        </p:nvGraphicFramePr>
        <p:xfrm>
          <a:off x="827640" y="1214280"/>
          <a:ext cx="7200360" cy="5166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advTm="1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09800" y="476280"/>
            <a:ext cx="71244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Применение схем-карточек в целях совершенствования физического развития детей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11280" y="1643040"/>
            <a:ext cx="7848360" cy="371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повышения эффективности физкультурных занятий я использую карточки, на которых схематично изображены общеразвивающие упражнения, основные виды движений, элементы хождения на лыжах, и других подвижных игр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с карточками позволяет детям использовать накопленный двигательный опыт в самостоятельной деятельности, учит организовывать соревнования со сверстниками, подчиняться правилам. Критерием подготовки детей к самостоятельной организации двигательного досуга является их умение выполнять игровые движения, схематично обозначенные на специальных карточках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0" algn="just">
              <a:lnSpc>
                <a:spcPct val="115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rebuchet MS"/>
              </a:rPr>
              <a:t>Эффективность и значимость  использования схем –карточек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85840" y="571320"/>
            <a:ext cx="8857800" cy="628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ие качества, как самостоятельность, умение ориентироваться в окружающей обстановке, оценивать свои физические качества развиваются при проведении физкультурных занятий по принципу круговой тренировки. Эффективность и значимость таких занятий определяется: моторной плотностью, формированием умений и навыков, развитием физических качеств, стимулированием индивидуальных особенностей, самостоятельности. 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проведении таких занятий используются карты-схемы. Они перед началом работы «читаются» всеми детьми. На карте схематично изображены спортивные снаряды, порядок выполнения, темп, количество выполнений. Дети изучают карту и по сигналу инструктора идут на первый этап. Выполняют упражнение и по сигналу делают переход к следующему снаряду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09800" y="500040"/>
            <a:ext cx="7124400" cy="535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ru-RU" sz="24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ru-RU" sz="24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очки-схемы применяются не только на занятиях по принципу круговой тренировки, но и как приём в сюжетных, игровых занятиях, занятиях - соревнованиях. Карточки очень помогают и при обучении основным видам движений. Если ребёнок плохо овладевает, например, прыжком в высоту способом перешагивания, то ему даётся карточка с изображением подводящего упражнения. Или же наоборот, сильный физически ребёнок получает индивидуальную карточку и работает самостоятельно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133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Первая станция. Упражнения с мячом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1"/>
          <a:stretch/>
        </p:blipFill>
        <p:spPr>
          <a:xfrm>
            <a:off x="857160" y="1500120"/>
            <a:ext cx="6571800" cy="478584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6"/>
          <p:cNvSpPr/>
          <p:nvPr/>
        </p:nvSpPr>
        <p:spPr>
          <a:xfrm>
            <a:off x="1428840" y="428760"/>
            <a:ext cx="5786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ая станция. Упражнения на лазан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1285920" y="1357200"/>
            <a:ext cx="5786280" cy="478584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theme/theme1.xml><?xml version="1.0" encoding="utf-8"?>
<a:theme xmlns:a="http://schemas.openxmlformats.org/drawingml/2006/main" name="Spring">
  <a:themeElements>
    <a:clrScheme name="Spring">
      <a:dk1>
        <a:srgbClr val="000000"/>
      </a:dk1>
      <a:lt1>
        <a:srgbClr val="ffffff"/>
      </a:lt1>
      <a:dk2>
        <a:srgbClr val="66822d"/>
      </a:dk2>
      <a:lt2>
        <a:srgbClr val="beea73"/>
      </a:lt2>
      <a:accent1>
        <a:srgbClr val="c1ec76"/>
      </a:accent1>
      <a:accent2>
        <a:srgbClr val="8fe28a"/>
      </a:accent2>
      <a:accent3>
        <a:srgbClr val="f3bf45"/>
      </a:accent3>
      <a:accent4>
        <a:srgbClr val="f47e5a"/>
      </a:accent4>
      <a:accent5>
        <a:srgbClr val="f489cf"/>
      </a:accent5>
      <a:accent6>
        <a:srgbClr val="b56ff4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pring">
  <a:themeElements>
    <a:clrScheme name="Spring">
      <a:dk1>
        <a:srgbClr val="000000"/>
      </a:dk1>
      <a:lt1>
        <a:srgbClr val="ffffff"/>
      </a:lt1>
      <a:dk2>
        <a:srgbClr val="66822d"/>
      </a:dk2>
      <a:lt2>
        <a:srgbClr val="beea73"/>
      </a:lt2>
      <a:accent1>
        <a:srgbClr val="c1ec76"/>
      </a:accent1>
      <a:accent2>
        <a:srgbClr val="8fe28a"/>
      </a:accent2>
      <a:accent3>
        <a:srgbClr val="f3bf45"/>
      </a:accent3>
      <a:accent4>
        <a:srgbClr val="f47e5a"/>
      </a:accent4>
      <a:accent5>
        <a:srgbClr val="f489cf"/>
      </a:accent5>
      <a:accent6>
        <a:srgbClr val="b56ff4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pring">
  <a:themeElements>
    <a:clrScheme name="Spring">
      <a:dk1>
        <a:srgbClr val="000000"/>
      </a:dk1>
      <a:lt1>
        <a:srgbClr val="ffffff"/>
      </a:lt1>
      <a:dk2>
        <a:srgbClr val="66822d"/>
      </a:dk2>
      <a:lt2>
        <a:srgbClr val="beea73"/>
      </a:lt2>
      <a:accent1>
        <a:srgbClr val="c1ec76"/>
      </a:accent1>
      <a:accent2>
        <a:srgbClr val="8fe28a"/>
      </a:accent2>
      <a:accent3>
        <a:srgbClr val="f3bf45"/>
      </a:accent3>
      <a:accent4>
        <a:srgbClr val="f47e5a"/>
      </a:accent4>
      <a:accent5>
        <a:srgbClr val="f489cf"/>
      </a:accent5>
      <a:accent6>
        <a:srgbClr val="b56ff4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pring">
  <a:themeElements>
    <a:clrScheme name="Spring">
      <a:dk1>
        <a:srgbClr val="000000"/>
      </a:dk1>
      <a:lt1>
        <a:srgbClr val="ffffff"/>
      </a:lt1>
      <a:dk2>
        <a:srgbClr val="66822d"/>
      </a:dk2>
      <a:lt2>
        <a:srgbClr val="beea73"/>
      </a:lt2>
      <a:accent1>
        <a:srgbClr val="c1ec76"/>
      </a:accent1>
      <a:accent2>
        <a:srgbClr val="8fe28a"/>
      </a:accent2>
      <a:accent3>
        <a:srgbClr val="f3bf45"/>
      </a:accent3>
      <a:accent4>
        <a:srgbClr val="f47e5a"/>
      </a:accent4>
      <a:accent5>
        <a:srgbClr val="f489cf"/>
      </a:accent5>
      <a:accent6>
        <a:srgbClr val="b56ff4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5028</TotalTime>
  <Application>LibreOffice/7.4.7.2$Linux_X86_64 LibreOffice_project/40$Build-2</Application>
  <AppVersion>15.0000</AppVersion>
  <Words>451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4:06:00Z</dcterms:created>
  <dc:creator>Елена</dc:creator>
  <dc:description/>
  <dc:language>en-US</dc:language>
  <cp:lastModifiedBy>Админ</cp:lastModifiedBy>
  <dcterms:modified xsi:type="dcterms:W3CDTF">2017-01-31T16:31:29Z</dcterms:modified>
  <cp:revision>504</cp:revision>
  <dc:subject/>
  <dc:title>Муниципальное бюджетное дошкольное образовательное учреждение  комбинированного вида детский сад №5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