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#1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D306E7A-67DD-4AC7-A932-AD29226F4D4D}" type="doc">
      <dgm:prSet loTypeId="urn:microsoft.com/office/officeart/2005/8/layout/radial1" loCatId="cycle" qsTypeId="urn:microsoft.com/office/officeart/2005/8/quickstyle/simple3" qsCatId="simple" csTypeId="urn:microsoft.com/office/officeart/2005/8/colors/accent1_2#1" csCatId="accent1" phldr="1"/>
      <dgm:spPr/>
      <dgm:t>
        <a:bodyPr/>
        <a:lstStyle/>
        <a:p>
          <a:endParaRPr lang="ru-RU"/>
        </a:p>
      </dgm:t>
    </dgm:pt>
    <dgm:pt modelId="{24D08626-CE15-434F-8F1B-DA2C158EAE61}">
      <dgm:prSet custT="1"/>
      <dgm:spPr/>
      <dgm:t>
        <a:bodyPr/>
        <a:lstStyle/>
        <a:p>
          <a:r>
            <a:rPr lang="ru-RU" sz="2000" dirty="0" smtClean="0">
              <a:solidFill>
                <a:schemeClr val="tx1"/>
              </a:solidFill>
            </a:rPr>
            <a:t>Практика показывает, что наиболее уязвимым местом в области физического воспитания дошкольников является развитие самостоятельности. Дети должны освоить и правильно выполнять разучиваемые в каждой возрастной группе движения. Педагогу необходимо формировать у детей способность самостоятельно оценивать качество выполнения движений товарищей и своих собственных. На таких занятиях надо не только проявить интерес и в свободной деятельности использовать полученный двигательный опыт, но и творчески развить его, внести своё</a:t>
          </a:r>
          <a:r>
            <a:rPr lang="ru-RU" sz="1900" dirty="0" smtClean="0"/>
            <a:t>. </a:t>
          </a:r>
          <a:endParaRPr lang="ru-RU" sz="1900" dirty="0"/>
        </a:p>
      </dgm:t>
    </dgm:pt>
    <dgm:pt modelId="{A945E9EE-0A70-488B-8DB7-2F5E9C411DDC}" type="parTrans" cxnId="{E8020D86-A0A8-4ED5-B0A2-5FAD1E5A3167}">
      <dgm:prSet/>
      <dgm:spPr/>
      <dgm:t>
        <a:bodyPr/>
        <a:lstStyle/>
        <a:p>
          <a:endParaRPr lang="ru-RU"/>
        </a:p>
      </dgm:t>
    </dgm:pt>
    <dgm:pt modelId="{7A844156-630C-4380-AE47-0494D6EA2062}" type="sibTrans" cxnId="{E8020D86-A0A8-4ED5-B0A2-5FAD1E5A3167}">
      <dgm:prSet/>
      <dgm:spPr/>
      <dgm:t>
        <a:bodyPr/>
        <a:lstStyle/>
        <a:p>
          <a:endParaRPr lang="ru-RU"/>
        </a:p>
      </dgm:t>
    </dgm:pt>
    <dgm:pt modelId="{CE349E3A-A1AD-428A-87ED-D36AA2058341}" type="pres">
      <dgm:prSet presAssocID="{3D306E7A-67DD-4AC7-A932-AD29226F4D4D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E770998-09C8-44C1-BE82-15C8AD7B9562}" type="pres">
      <dgm:prSet presAssocID="{24D08626-CE15-434F-8F1B-DA2C158EAE61}" presName="centerShape" presStyleLbl="node0" presStyleIdx="0" presStyleCnt="1" custScaleX="139510" custLinFactNeighborX="101" custLinFactNeighborY="-316"/>
      <dgm:spPr/>
      <dgm:t>
        <a:bodyPr/>
        <a:lstStyle/>
        <a:p>
          <a:endParaRPr lang="ru-RU"/>
        </a:p>
      </dgm:t>
    </dgm:pt>
  </dgm:ptLst>
  <dgm:cxnLst>
    <dgm:cxn modelId="{E8020D86-A0A8-4ED5-B0A2-5FAD1E5A3167}" srcId="{3D306E7A-67DD-4AC7-A932-AD29226F4D4D}" destId="{24D08626-CE15-434F-8F1B-DA2C158EAE61}" srcOrd="0" destOrd="0" parTransId="{A945E9EE-0A70-488B-8DB7-2F5E9C411DDC}" sibTransId="{7A844156-630C-4380-AE47-0494D6EA2062}"/>
    <dgm:cxn modelId="{26DCF7D9-646A-449A-A324-9E00FD7DB6E9}" type="presOf" srcId="{3D306E7A-67DD-4AC7-A932-AD29226F4D4D}" destId="{CE349E3A-A1AD-428A-87ED-D36AA2058341}" srcOrd="0" destOrd="0" presId="urn:microsoft.com/office/officeart/2005/8/layout/radial1"/>
    <dgm:cxn modelId="{F3904924-918D-4569-AC95-E5D0EE4E5D09}" type="presOf" srcId="{24D08626-CE15-434F-8F1B-DA2C158EAE61}" destId="{BE770998-09C8-44C1-BE82-15C8AD7B9562}" srcOrd="0" destOrd="0" presId="urn:microsoft.com/office/officeart/2005/8/layout/radial1"/>
    <dgm:cxn modelId="{A459E49B-A901-41CE-B147-0D8ACA5E032E}" type="presParOf" srcId="{CE349E3A-A1AD-428A-87ED-D36AA2058341}" destId="{BE770998-09C8-44C1-BE82-15C8AD7B9562}" srcOrd="0" destOrd="0" presId="urn:microsoft.com/office/officeart/2005/8/layout/radial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EF701FC-4288-41E9-A95A-7DAD48A6E4DB}">
      <dsp:nvSpPr>
        <dsp:cNvPr id="0" name=""/>
        <dsp:cNvSpPr/>
      </dsp:nvSpPr>
      <dsp:spPr>
        <a:xfrm>
          <a:off x="2408793" y="2207879"/>
          <a:ext cx="2245128" cy="2173973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Участники проекта</a:t>
          </a:r>
          <a:endParaRPr lang="ru-RU" sz="2000" b="1" i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2408793" y="2207879"/>
        <a:ext cx="2245128" cy="2173973"/>
      </dsp:txXfrm>
    </dsp:sp>
    <dsp:sp modelId="{8A3C9BE0-8F98-483D-96EA-AE9D7619A3FB}">
      <dsp:nvSpPr>
        <dsp:cNvPr id="0" name=""/>
        <dsp:cNvSpPr/>
      </dsp:nvSpPr>
      <dsp:spPr>
        <a:xfrm rot="16171609">
          <a:off x="3240321" y="1904280"/>
          <a:ext cx="559498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559498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16171609">
        <a:off x="3506083" y="1914186"/>
        <a:ext cx="27974" cy="27974"/>
      </dsp:txXfrm>
    </dsp:sp>
    <dsp:sp modelId="{DCEB8804-75B8-4F4E-BF95-44B4B9F15CCF}">
      <dsp:nvSpPr>
        <dsp:cNvPr id="0" name=""/>
        <dsp:cNvSpPr/>
      </dsp:nvSpPr>
      <dsp:spPr>
        <a:xfrm>
          <a:off x="2643560" y="-36168"/>
          <a:ext cx="1734487" cy="168462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Дети</a:t>
          </a: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643560" y="-36168"/>
        <a:ext cx="1734487" cy="1684629"/>
      </dsp:txXfrm>
    </dsp:sp>
    <dsp:sp modelId="{6C09E07B-CF58-42C9-ABB2-275146959513}">
      <dsp:nvSpPr>
        <dsp:cNvPr id="0" name=""/>
        <dsp:cNvSpPr/>
      </dsp:nvSpPr>
      <dsp:spPr>
        <a:xfrm rot="1793235">
          <a:off x="4487299" y="3860954"/>
          <a:ext cx="141195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141195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1793235">
        <a:off x="4554367" y="3881318"/>
        <a:ext cx="7059" cy="7059"/>
      </dsp:txXfrm>
    </dsp:sp>
    <dsp:sp modelId="{ABEC386C-5CF8-42C1-B034-70EE21B42B85}">
      <dsp:nvSpPr>
        <dsp:cNvPr id="0" name=""/>
        <dsp:cNvSpPr/>
      </dsp:nvSpPr>
      <dsp:spPr>
        <a:xfrm>
          <a:off x="4433107" y="3353651"/>
          <a:ext cx="2526744" cy="237114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Воспитатель</a:t>
          </a:r>
          <a:endParaRPr lang="ru-RU" sz="2000" b="1" i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4433107" y="3353651"/>
        <a:ext cx="2526744" cy="2371149"/>
      </dsp:txXfrm>
    </dsp:sp>
    <dsp:sp modelId="{4E629753-E9A1-4B3C-830C-2845945C77A7}">
      <dsp:nvSpPr>
        <dsp:cNvPr id="0" name=""/>
        <dsp:cNvSpPr/>
      </dsp:nvSpPr>
      <dsp:spPr>
        <a:xfrm rot="8996472">
          <a:off x="2254811" y="3912647"/>
          <a:ext cx="335525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335525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8996472">
        <a:off x="2414185" y="3928152"/>
        <a:ext cx="16776" cy="16776"/>
      </dsp:txXfrm>
    </dsp:sp>
    <dsp:sp modelId="{7FC289BD-9B63-4355-B3AA-4254CE012723}">
      <dsp:nvSpPr>
        <dsp:cNvPr id="0" name=""/>
        <dsp:cNvSpPr/>
      </dsp:nvSpPr>
      <dsp:spPr>
        <a:xfrm>
          <a:off x="198031" y="3531471"/>
          <a:ext cx="2250576" cy="208245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Родители</a:t>
          </a:r>
          <a:endParaRPr lang="ru-RU" sz="1400" b="1" i="1" kern="1200" dirty="0" smtClean="0">
            <a:latin typeface="Times New Roman" pitchFamily="18" charset="0"/>
            <a:cs typeface="Times New Roman" pitchFamily="18" charset="0"/>
          </a:endParaRPr>
        </a:p>
      </dsp:txBody>
      <dsp:txXfrm>
        <a:off x="198031" y="3531471"/>
        <a:ext cx="2250576" cy="20824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1">
  <dgm:title val=""/>
  <dgm:desc val=""/>
  <dgm:catLst>
    <dgm:cat type="relationship" pri="22000"/>
    <dgm:cat type="cycle" pri="1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4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5">
        <dgm:alg type="cycle">
          <dgm:param type="stAng" val="0"/>
          <dgm:param type="spanAng" val="-360"/>
          <dgm:param type="ctrShpMap" val="fNode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op="equ"/>
      <dgm:constr type="sp" refType="w" refFor="ch" refForName="node" fact="0.3"/>
      <dgm:constr type="sibSp" refType="w" refFor="ch" refForName="node" fact="0.3"/>
      <dgm:constr type="primFontSz" for="ch" forName="centerShape" val="65"/>
      <dgm:constr type="primFontSz" for="des" forName="node" op="equ" val="65"/>
      <dgm:constr type="primFontSz" for="des" forName="connTx" val="55"/>
      <dgm:constr type="primFontSz" for="des" forName="connTx" refType="primFontSz" refFor="ch" refForName="centerShape" op="lte" fact="0.8"/>
    </dgm:constrLst>
    <dgm:ruleLst/>
    <dgm:forEach name="Name6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</dgm:constrLst>
        <dgm:ruleLst>
          <dgm:rule type="primFontSz" val="5" fact="NaN" max="NaN"/>
        </dgm:ruleLst>
      </dgm:layoutNode>
      <dgm:forEach name="Name7" axis="ch">
        <dgm:forEach name="Name8" axis="self" ptType="parTrans">
          <dgm:layoutNode name="Name9">
            <dgm:alg type="conn">
              <dgm:param type="dim" val="1D"/>
              <dgm:param type="begPts" val="auto"/>
              <dgm:param type="endPts" val="auto"/>
              <dgm:param type="begSty" val="noArr"/>
              <dgm:param type="endSty" val="no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connDist"/>
              <dgm:constr type="userA" for="ch" refType="connDist"/>
              <dgm:constr type="w" val="1"/>
              <dgm:constr type="h" val="5"/>
              <dgm:constr type="begPad"/>
              <dgm:constr type="endPad"/>
            </dgm:constrLst>
            <dgm:ruleLst/>
            <dgm:layoutNode name="connTx">
              <dgm:alg type="tx">
                <dgm:param type="autoTxRot" val="grav"/>
              </dgm:alg>
              <dgm:shape xmlns:r="http://schemas.openxmlformats.org/officeDocument/2006/relationships" type="rect" r:blip="" hideGeom="1">
                <dgm:adjLst/>
              </dgm:shape>
              <dgm:presOf axis="self"/>
              <dgm:constrLst>
                <dgm:constr type="userA"/>
                <dgm:constr type="w" refType="userA" fact="0.05"/>
                <dgm:constr type="h" refType="userA" fact="0.05"/>
                <dgm:constr type="lMarg" val="1"/>
                <dgm:constr type="rMarg" val="1"/>
                <dgm:constr type="tMarg"/>
                <dgm:constr type="bMarg"/>
              </dgm:constrLst>
              <dgm:ruleLst>
                <dgm:rule type="w" val="NaN" fact="0.8" max="NaN"/>
                <dgm:rule type="h" val="NaN" fact="1" max="NaN"/>
                <dgm:rule type="primFontSz" val="5" fact="NaN" max="NaN"/>
              </dgm:ruleLst>
            </dgm:layoutNode>
          </dgm:layoutNode>
        </dgm:forEach>
        <dgm:forEach name="Name10" axis="self" ptType="node">
          <dgm:layoutNode name="node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h" refType="w"/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6D1-7FA2-44A9-A3EA-80D16DC8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564-8B5C-4BC0-A5F6-8E29E6D9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CCE-8AAE-44B2-89F1-CB641CCC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36F-862D-40BC-B315-F5ED9908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DBC7-6906-4783-90DA-1B6ACB92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7FC3-8745-4755-943E-0D399946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8798-A0D2-4517-A56E-C9450978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7D2F-AC53-465A-8BC6-DEC3577B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0C5E-F155-4A3D-8D15-EC0B936D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84CF-0057-468B-93BE-DE8C6C0F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7FF6-8A29-4864-891D-82ACAF72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DC7-E650-4E9B-9ECD-80508C8D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2CF8-6ADE-455E-B274-B1697FDD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88C2-EB18-4967-8459-E01C329D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71D4-30B9-4068-A10E-75AE1FA0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AE5F-9574-4406-AE68-53BA7318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ABE5-91E0-4000-B6F3-68DEAD97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59F7-A0C7-4018-B08E-175373C2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02A8D-B3DF-4BA8-BA7C-B5F67554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E80F-48C6-4844-B383-FC10C043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D3E2-FB68-44C4-A007-CC2C5EAE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FA63-F635-459D-A5B0-AC3711EB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A5B-CE78-4398-B6D7-70BAEF44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905D-66C6-4211-8799-A6B88137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13D6-D9B4-4641-9E06-46832253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F080F-8B30-40FF-88C4-D9462960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D8B3-B3F3-4B79-B63D-6C8B327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87F02-A90D-4096-976A-AECA46FC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B4147-3ECB-44F4-8AD7-EFED3969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AA62F-44FB-43E0-9E5C-A34A3579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899A-9EDC-4A2A-88EC-B8E675DF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A172-5200-485B-B07B-85F5B999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0F525-F67F-4C0A-B00C-E6A3740B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9DF-7CAE-4866-884C-E395127E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9C201-363D-4088-AAE5-55AC1378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B342-6DF8-490D-A70E-38D961C8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90F5-1B3E-4EDB-BAF9-43FD7CA7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50EFF-604D-4494-BB48-749EE0D9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F723F-D9B2-4855-B808-1A5C8D76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EEC3-9597-4D6B-AFAC-F8939AE6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CFD05-CC73-4A94-A920-4DA8FC91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1694-3816-4351-BEB5-4EC85081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34C7-C4BE-404E-B297-0A5CF0A4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336-FDAE-4BB2-AD51-8424032F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FB6-7FF1-4953-88F8-67F2B8EF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9B7-750C-4B9B-B45A-D3DE62E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E3E-A506-4479-80A4-CF9E4D2F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D8D-5143-461E-9561-5B9EA63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1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2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3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8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13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18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23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28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33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34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39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45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50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55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60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65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70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75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76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82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85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90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95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100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105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110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440" y="3307320"/>
            <a:ext cx="71168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1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3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02C5652-3C3B-49BC-BCBB-11546D234E86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156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157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158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163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168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173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178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183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188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189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194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200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205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210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215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220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225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230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231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237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240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245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250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255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260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265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4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6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2BC8D15-240D-494A-8F52-9DC4EB19811E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311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312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313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318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323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328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333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338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343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344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349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355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360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365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370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375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380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4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385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386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392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395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400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405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410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415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420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7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9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06452D3-B74D-44BA-9562-8197C91CEC3C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466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467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468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473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478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483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488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493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498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499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504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510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515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520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525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530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535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9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540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541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547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550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555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560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565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570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575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9" name="PlaceHolder 1"/>
          <p:cNvSpPr>
            <a:spLocks noGrp="1"/>
          </p:cNvSpPr>
          <p:nvPr>
            <p:ph type="dt" idx="10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12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069D384-0B2E-4BAA-907D-3EB61C9DFB9A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Рисунок 1" descr=""/>
          <p:cNvPicPr/>
          <p:nvPr/>
        </p:nvPicPr>
        <p:blipFill>
          <a:blip r:embed="rId1"/>
          <a:stretch/>
        </p:blipFill>
        <p:spPr>
          <a:xfrm>
            <a:off x="428760" y="3857760"/>
            <a:ext cx="2999880" cy="2707200"/>
          </a:xfrm>
          <a:prstGeom prst="rect">
            <a:avLst/>
          </a:prstGeom>
          <a:ln w="9525">
            <a:noFill/>
          </a:ln>
        </p:spPr>
      </p:pic>
      <p:sp>
        <p:nvSpPr>
          <p:cNvPr id="621" name="TextBox 7"/>
          <p:cNvSpPr/>
          <p:nvPr/>
        </p:nvSpPr>
        <p:spPr>
          <a:xfrm>
            <a:off x="1785960" y="785880"/>
            <a:ext cx="6214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дактическое пособи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-карточки, используемые на занятиях  по физической культуре по методу круговой тренировки со старши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"/>
          <p:cNvSpPr/>
          <p:nvPr/>
        </p:nvSpPr>
        <p:spPr>
          <a:xfrm>
            <a:off x="3714840" y="3857760"/>
            <a:ext cx="47145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пос. Лени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р. Красноармейский д.с. «Журав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варина серафим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Третья станция. Упражнения в прыжках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5714640" cy="46432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Четвертая станция.  Упражнения на гимнастической стенке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6214680" cy="46432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лазань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785880" y="2357280"/>
            <a:ext cx="3268080" cy="4095360"/>
          </a:xfrm>
          <a:prstGeom prst="rect">
            <a:avLst/>
          </a:prstGeom>
          <a:ln w="9525">
            <a:noFill/>
          </a:ln>
        </p:spPr>
      </p:pic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4618080" y="2286000"/>
            <a:ext cx="3025440" cy="39286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09800" y="0"/>
            <a:ext cx="712440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с мячом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2214720" y="1071720"/>
            <a:ext cx="6500520" cy="5214600"/>
          </a:xfrm>
          <a:prstGeom prst="rect">
            <a:avLst/>
          </a:prstGeom>
          <a:ln w="9525">
            <a:noFill/>
          </a:ln>
        </p:spPr>
      </p:pic>
      <p:pic>
        <p:nvPicPr>
          <p:cNvPr id="648" name="Picture 2" descr=""/>
          <p:cNvPicPr/>
          <p:nvPr/>
        </p:nvPicPr>
        <p:blipFill>
          <a:blip r:embed="rId2"/>
          <a:stretch/>
        </p:blipFill>
        <p:spPr>
          <a:xfrm>
            <a:off x="0" y="1857240"/>
            <a:ext cx="1940400" cy="25714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прыжках в длину с места, с разбега, в высоту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2571480" cy="3285720"/>
          </a:xfrm>
          <a:prstGeom prst="rect">
            <a:avLst/>
          </a:prstGeom>
          <a:ln w="9525">
            <a:noFill/>
          </a:ln>
        </p:spPr>
      </p:pic>
      <p:pic>
        <p:nvPicPr>
          <p:cNvPr id="651" name="Picture 3" descr=""/>
          <p:cNvPicPr/>
          <p:nvPr/>
        </p:nvPicPr>
        <p:blipFill>
          <a:blip r:embed="rId2"/>
          <a:stretch/>
        </p:blipFill>
        <p:spPr>
          <a:xfrm>
            <a:off x="5786280" y="1428840"/>
            <a:ext cx="2966040" cy="3722400"/>
          </a:xfrm>
          <a:prstGeom prst="rect">
            <a:avLst/>
          </a:prstGeom>
          <a:ln w="9525">
            <a:noFill/>
          </a:ln>
        </p:spPr>
      </p:pic>
      <p:pic>
        <p:nvPicPr>
          <p:cNvPr id="652" name="Picture 4" descr=""/>
          <p:cNvPicPr/>
          <p:nvPr/>
        </p:nvPicPr>
        <p:blipFill>
          <a:blip r:embed="rId3"/>
          <a:stretch/>
        </p:blipFill>
        <p:spPr>
          <a:xfrm>
            <a:off x="3000240" y="2571840"/>
            <a:ext cx="2714400" cy="3642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метанье .</a:t>
            </a:r>
            <a:br>
              <a:rPr sz="32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928680" cy="4221360"/>
          </a:xfrm>
          <a:prstGeom prst="rect">
            <a:avLst/>
          </a:prstGeom>
          <a:ln w="9525">
            <a:noFill/>
          </a:ln>
        </p:spPr>
      </p:pic>
      <p:pic>
        <p:nvPicPr>
          <p:cNvPr id="655" name="Picture 5" descr=""/>
          <p:cNvPicPr/>
          <p:nvPr/>
        </p:nvPicPr>
        <p:blipFill>
          <a:blip r:embed="rId2"/>
          <a:stretch/>
        </p:blipFill>
        <p:spPr>
          <a:xfrm>
            <a:off x="5000760" y="1928880"/>
            <a:ext cx="3428640" cy="407160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равновесии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2143080" y="2000160"/>
            <a:ext cx="4142880" cy="400572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на снарядах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2775600" cy="3928680"/>
          </a:xfrm>
          <a:prstGeom prst="rect">
            <a:avLst/>
          </a:prstGeom>
          <a:ln w="9525">
            <a:noFill/>
          </a:ln>
        </p:spPr>
      </p:pic>
      <p:pic>
        <p:nvPicPr>
          <p:cNvPr id="660" name="Picture 3" descr=""/>
          <p:cNvPicPr/>
          <p:nvPr/>
        </p:nvPicPr>
        <p:blipFill>
          <a:blip r:embed="rId2"/>
          <a:stretch/>
        </p:blipFill>
        <p:spPr>
          <a:xfrm>
            <a:off x="3429000" y="1928880"/>
            <a:ext cx="2214360" cy="3714480"/>
          </a:xfrm>
          <a:prstGeom prst="rect">
            <a:avLst/>
          </a:prstGeom>
          <a:ln w="9525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6143760" y="1928880"/>
            <a:ext cx="2499840" cy="3642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6"/>
          <p:cNvSpPr/>
          <p:nvPr/>
        </p:nvSpPr>
        <p:spPr>
          <a:xfrm>
            <a:off x="1870920" y="785880"/>
            <a:ext cx="3907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робатические упраж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6286680" y="2357280"/>
            <a:ext cx="2466360" cy="3785760"/>
          </a:xfrm>
          <a:prstGeom prst="rect">
            <a:avLst/>
          </a:prstGeom>
          <a:ln w="9525">
            <a:noFill/>
          </a:ln>
        </p:spPr>
      </p:pic>
      <p:pic>
        <p:nvPicPr>
          <p:cNvPr id="664" name="Picture 3" descr=""/>
          <p:cNvPicPr/>
          <p:nvPr/>
        </p:nvPicPr>
        <p:blipFill>
          <a:blip r:embed="rId2"/>
          <a:stretch/>
        </p:blipFill>
        <p:spPr>
          <a:xfrm>
            <a:off x="3500280" y="2286000"/>
            <a:ext cx="2499840" cy="3928680"/>
          </a:xfrm>
          <a:prstGeom prst="rect">
            <a:avLst/>
          </a:prstGeom>
          <a:ln w="9525">
            <a:noFill/>
          </a:ln>
        </p:spPr>
      </p:pic>
      <p:pic>
        <p:nvPicPr>
          <p:cNvPr id="665" name="Picture 4" descr=""/>
          <p:cNvPicPr/>
          <p:nvPr/>
        </p:nvPicPr>
        <p:blipFill>
          <a:blip r:embed="rId3"/>
          <a:stretch/>
        </p:blipFill>
        <p:spPr>
          <a:xfrm>
            <a:off x="285840" y="2286000"/>
            <a:ext cx="2714400" cy="39286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с обручем и скакалкой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266720" cy="3785760"/>
          </a:xfrm>
          <a:prstGeom prst="rect">
            <a:avLst/>
          </a:prstGeom>
          <a:ln w="9525">
            <a:noFill/>
          </a:ln>
        </p:spPr>
      </p:pic>
      <p:pic>
        <p:nvPicPr>
          <p:cNvPr id="668" name="Picture 3" descr=""/>
          <p:cNvPicPr/>
          <p:nvPr/>
        </p:nvPicPr>
        <p:blipFill>
          <a:blip r:embed="rId2"/>
          <a:stretch/>
        </p:blipFill>
        <p:spPr>
          <a:xfrm>
            <a:off x="4429080" y="2500200"/>
            <a:ext cx="4266720" cy="385740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6920" cy="172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rebuchet MS"/>
              </a:rPr>
              <a:t>Цель</a:t>
            </a:r>
            <a:br>
              <a:rPr sz="24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632360" cy="230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ать детей умению «считывать» задание-рисунок, схему, пользоваться карточками, ориентироваться по ним. </a:t>
            </a: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10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Ожидаемые результат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огащение двигательного опыта;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витие сноровки, внимания, ловкости,  умения быть в коллективе;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вышение самооценки;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ережное обращение с пособиями, применение  их творчески.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выки самостоятельной двигательной активности  при использовании схем-карточек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1428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Дальнейшие перспективы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09800" y="1052640"/>
            <a:ext cx="7124400" cy="48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должить работу по формированию двигательной активности детей с использованием схем-карточек на утренней гимнастике, с детьми младшего возраста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должить оснащать картотеку схемами для разного возраста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676440"/>
            <a:ext cx="7776720" cy="318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Задачи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09800" y="1341360"/>
            <a:ext cx="7738560" cy="5016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ть у детей способность самостоятельно организовать и выполнять игровые движения, схематично обозначенные на специальных карточках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у детей способность к прогнозированию своих действий, к проявлению настойчивости, направленной на достижение своей цели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ь детей соблюдать правила, точно выполнять действия. Развивать у детей способность к быстроте и ловкости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инициативу у каждого ребёнка, желание как можно лучше выполнить задание. 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ивировать детей на двигательную активность, через использование нетрадиционного оборудования в самостоятельных видах деятельности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09800" y="115920"/>
            <a:ext cx="6802200" cy="649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rebuchet MS"/>
              </a:rPr>
              <a:t>Актуальност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776942946"/>
              </p:ext>
            </p:extLst>
          </p:nvPr>
        </p:nvGraphicFramePr>
        <p:xfrm>
          <a:off x="827640" y="1214280"/>
          <a:ext cx="7200360" cy="5166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advTm="1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09800" y="476280"/>
            <a:ext cx="71244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Применение схем-карточек в целях совершенствования физического развития детей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11280" y="1643040"/>
            <a:ext cx="7848360" cy="371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овышения эффективности физкультурных занятий я использую карточки, на которых схематично изображены общеразвивающие упражнения, основные виды движений, элементы хождения на лыжах, и других подвижных игр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 карточками позволяет детям использовать накопленный двигательный опыт в самостоятельной деятельности, учит организовывать соревнования со сверстниками, подчиняться правилам. Критерием подготовки детей к самостоятельной организации двигательного досуга является их умение выполнять игровые движения, схематично обозначенные на специальных карточках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rebuchet MS"/>
              </a:rPr>
              <a:t>Эффективность и значимость  использования схем –карточе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85840" y="571320"/>
            <a:ext cx="8857800" cy="628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е качества, как самостоятельность, умение ориентироваться в окружающей обстановке, оценивать свои физические качества развиваются при проведении физкультурных занятий по принципу круговой тренировки. Эффективность и значимость таких занятий определяется: моторной плотностью, формированием умений и навыков, развитием физических качеств, стимулированием индивидуальных особенностей, самостоятельности. 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роведении таких занятий используются карты-схемы. Они перед началом работы «читаются» всеми детьми. На карте схематично изображены спортивные снаряды, порядок выполнения, темп, количество выполнений. Дети изучают карту и по сигналу инструктора идут на первый этап. Выполняют упражнение и по сигналу делают переход к следующему снаряду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09800" y="500040"/>
            <a:ext cx="7124400" cy="535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очки-схемы применяются не только на занятиях по принципу круговой тренировки, но и как приём в сюжетных, игровых занятиях, занятиях - соревнованиях. Карточки очень помогают и при обучении основным видам движений. Если ребёнок плохо овладевает, например, прыжком в высоту способом перешагивания, то ему даётся карточка с изображением подводящего упражнения. Или же наоборот, сильный физически ребёнок получает индивидуальную карточку и работает самостоятельно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133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Первая станция. Упражнения с мячом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6571800" cy="4785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6"/>
          <p:cNvSpPr/>
          <p:nvPr/>
        </p:nvSpPr>
        <p:spPr>
          <a:xfrm>
            <a:off x="1428840" y="428760"/>
            <a:ext cx="5786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ая станция. Упражнения на лазан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5786280" cy="4785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theme/theme1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5028</TotalTime>
  <Application>LibreOffice/7.4.7.2$Linux_X86_64 LibreOffice_project/40$Build-2</Application>
  <AppVersion>15.0000</AppVersion>
  <Words>451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4:06:00Z</dcterms:created>
  <dc:creator>Елена</dc:creator>
  <dc:description/>
  <dc:language>en-US</dc:language>
  <cp:lastModifiedBy>Админ</cp:lastModifiedBy>
  <dcterms:modified xsi:type="dcterms:W3CDTF">2017-01-31T16:31:29Z</dcterms:modified>
  <cp:revision>504</cp:revision>
  <dc:subject/>
  <dc:title>Муниципальное бюджетное дошкольное образовательное учреждение  комбинированного вида детский сад №5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