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3D34-732F-4135-AB5E-5A9589DA91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2FC6-6C5F-446A-B06A-DADB83F02D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головки всех слайдов здесь и далее появляются в автоматическом режиме, в последующих слайдах они исчезают, уступая экранное место блокам информации. Эти блоки сугубо лаконичны, требуют распространения педагогом, ведущим урок. Эффекты можно перенастроить исходя из личных особенностей учителя: скорость речи, объем информации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BF13-14F5-42D9-9F3F-66DA677307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рамка с названием религии – гиперссылка на соответствующий слайд, где более подробно можно эту религию рассмотреть с помощью соответствующих рисунков. Обратно, к списку религий, можно вернуться, кликнув по заголовку слайда. Т.е сначала на экране выводится весь список, затем нажимая на соответствующую гиперссылку, переходим к конкретной религии, объясняем ее, возвращаемся обратно к списку, повторяем то же со следующей религией и т.д. Подобный способ наиболее эффективен, т.к. список религий несколько раз появляется перед глазами ученика в процессе «гиперссылочных» переходов, что способствует более эффективному запоминанию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имание! Если щелкнете в пустом месте слайда – перенесетесь к следующей теме, пропустив восемь скрытых слайдо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3EFF-E00F-441D-A1C0-AEC385E04C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есь динамические элементы появляются автоматиче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D9AA-5C6E-4A85-B780-878228E6C0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слайде упор делается на визуальных эффектах подачи данных на основе географической карты. Мерцающие круги охватывают территорию страны и принадлежащих ей островов. Если нужна чистая карта без динамических элементов, нужно после их появления на экране, щелкнуть мышью – они исчезнут, а карта остан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255A-D8F8-447D-A5D6-9187D233C0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ее это деление представлено наглядно, карт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3B24-21E6-4ECD-948F-C1369AB1FE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едующем слайде схема появляется автоматически, последовательно, блок за блоком. Переход к следующему слайду - щелчком. Скорость появления блоков педагог настраивает самостоятельно, под свою реч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CC13-69D7-440F-B9FE-11697B0649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4BC4-0784-4400-9499-FFF79664F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812C-33B1-4EAF-8C4C-AD1E0279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9A28-435D-4880-9D71-46B9170F7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05E3-0273-4A15-A744-7FE9238F9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7129-5C4D-4DAE-88FA-99EA7898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70D6-BA23-4004-8D68-04026588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FD66-4FBF-4F42-8446-00AEEF40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BE06-AB1D-49C4-9D2A-3E581A52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A25F-A1D7-46AC-8683-47E38D47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7757-B366-4D1F-8913-B54E3712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C7FE-F74C-42EF-A0E2-E94914F7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5FAD-CF22-4628-8DCB-817A6A55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A8C8-D791-4587-A878-BEE843B2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2039-2FAD-4809-AF21-51483F34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4C03-3394-4EED-8CFC-64A37403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92AF-E995-4D1D-911F-0F96F5AD9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EA0A-D819-4614-BF1F-D0EF2D09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DF51C-7552-4EC2-9A4F-2842F839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1761D-889E-47E0-BA1A-D3955820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9365E-03CF-448D-9E0B-C6D65D72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F768F-D5F7-4077-83E0-940C16AA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96C58-B7F6-453C-8D2E-96C9C754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B078-16AE-4F68-BEB5-601AC3D7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29AF1-4683-4379-85F5-75B24511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8EF83-BFC3-4FC9-B751-40AB2F2B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3B8C1-10D6-4F6E-826C-77233510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FFC0C-6EA4-4DC1-AACF-3E42BBC2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120FC-CD92-4B71-8E44-45189B23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05302-2963-4757-9E08-A2E3AA24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3A1D7-1995-4570-BC2E-38AFDBB2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A64A8-3295-4016-A0CC-52D5CD77D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4AE2F-7336-4614-B8DF-9880925B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BEA07-7E72-40DD-95F1-4C2D81C7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1AA0-994B-4B54-BDE2-63F2B82F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E1762-72A4-4351-8675-2AC9C1B1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D3424-6E48-40F6-A22D-D2432EA5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0B196-8A56-41F6-884C-13CB0CD0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03B05-A94E-42D6-983D-F88EF591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94DED-797E-4034-A624-5DFF91A2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0E68F-CCC3-444F-8981-8B0A25C7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8E497-CB4D-4EF7-9EAC-4129DD68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E4CA9-889D-4DC5-9F2B-42DE55B2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C3B35-FD79-466E-B299-E202E10E5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8B11F-501A-4ABC-A30C-F0A40219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CD0E-2F14-444F-B9F8-86951524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BA380-83DD-4FEA-AD46-2AB6F611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32DBE-9456-4FC5-B4F8-A7B76690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B7AAC-5ACC-4AB7-BEB3-6B30FB00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43376-0FD6-4FCD-8369-DF5A4A27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BC12C-7A5E-4EB6-B2C8-B9ABECFF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40D12-AAC1-4DCF-B9CD-D7D6A5EF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07B56-7D4D-4EC4-8C7E-8D18804E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BF2D8-0BFA-493B-BB08-7049184A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6BDE8-6645-462A-82CF-5AD4DB2C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9D25B-D937-41CB-9252-80E824FD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859D-ECAC-4EF1-A0E7-46A04DC7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37D00-4DFB-4FA3-96F7-93CF6A62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B9A8-0193-4894-BAE2-1C4C7B36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A3A8-76C3-498A-84B5-8B37200A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1C80-637A-468B-AD9D-AB9E2696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D5E5-AB97-4FEF-BE14-78BA5504FC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35a6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4276-523B-4EC3-8638-4144DD3E797A}" type="slidenum">
              <a:rPr b="0" lang="ru-RU" sz="1200" spc="-1" strike="noStrike">
                <a:solidFill>
                  <a:srgbClr val="535a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19080" y="203040"/>
            <a:ext cx="9181440" cy="648000"/>
            <a:chOff x="-19080" y="203040"/>
            <a:chExt cx="9181440" cy="648000"/>
          </a:xfrm>
        </p:grpSpPr>
        <p:grpSp>
          <p:nvGrpSpPr>
            <p:cNvPr id="49" name="Полилиния 11"/>
            <p:cNvGrpSpPr/>
            <p:nvPr/>
          </p:nvGrpSpPr>
          <p:grpSpPr>
            <a:xfrm>
              <a:off x="-19080" y="203040"/>
              <a:ext cx="9162360" cy="648000"/>
              <a:chOff x="-19080" y="203040"/>
              <a:chExt cx="9162360" cy="648000"/>
            </a:xfrm>
          </p:grpSpPr>
          <p:pic>
            <p:nvPicPr>
              <p:cNvPr id="5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Text Box 11"/>
              <p:cNvSpPr/>
              <p:nvPr/>
            </p:nvSpPr>
            <p:spPr>
              <a:xfrm rot="21435600">
                <a:off x="-18720" y="477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Полилиния 12"/>
            <p:cNvGrpSpPr/>
            <p:nvPr/>
          </p:nvGrpSpPr>
          <p:grpSpPr>
            <a:xfrm>
              <a:off x="-18720" y="247320"/>
              <a:ext cx="9181080" cy="562680"/>
              <a:chOff x="-18720" y="247320"/>
              <a:chExt cx="9181080" cy="562680"/>
            </a:xfrm>
          </p:grpSpPr>
          <p:pic>
            <p:nvPicPr>
              <p:cNvPr id="5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7320"/>
                <a:ext cx="9165240" cy="56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36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Группа 15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e89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3e89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e896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A5D4-6C45-4E55-982E-C38FD590435B}" type="slidenum">
              <a:rPr b="0" lang="ru-RU" sz="1200" spc="-1" strike="noStrike">
                <a:solidFill>
                  <a:srgbClr val="f3e896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e89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3e89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e896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88FA-7500-4BD8-924D-35D8B06C0917}" type="slidenum">
              <a:rPr b="0" lang="ru-RU" sz="1200" spc="-1" strike="noStrike">
                <a:solidFill>
                  <a:srgbClr val="f3e896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35a6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4E4C-F72A-4C47-B384-583B8B52A5A5}" type="slidenum">
              <a:rPr b="0" lang="ru-RU" sz="1200" spc="-1" strike="noStrike">
                <a:solidFill>
                  <a:srgbClr val="535a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2843280" y="3503160"/>
            <a:ext cx="4067280" cy="11908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(БХАРАТА)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2087640" y="4291560"/>
            <a:ext cx="5076720" cy="198324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ДНО ИЗ КРУПНЕЙШИХ ГОСУДАРСТВ ПЛАНЕТЫ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1" descr="Безимени-1"/>
          <p:cNvPicPr/>
          <p:nvPr/>
        </p:nvPicPr>
        <p:blipFill>
          <a:blip r:embed="rId1"/>
          <a:stretch/>
        </p:blipFill>
        <p:spPr>
          <a:xfrm>
            <a:off x="870120" y="1557360"/>
            <a:ext cx="740232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3"/>
          <p:cNvSpPr/>
          <p:nvPr/>
        </p:nvSpPr>
        <p:spPr>
          <a:xfrm>
            <a:off x="3132000" y="836640"/>
            <a:ext cx="264168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ин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4"/>
          <p:cNvSpPr/>
          <p:nvPr/>
        </p:nvSpPr>
        <p:spPr>
          <a:xfrm>
            <a:off x="2773440" y="2997360"/>
            <a:ext cx="3595680" cy="118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циональные язы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5"/>
          <p:cNvSpPr/>
          <p:nvPr/>
        </p:nvSpPr>
        <p:spPr>
          <a:xfrm>
            <a:off x="6239520" y="5445000"/>
            <a:ext cx="265896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амиль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6"/>
          <p:cNvSpPr/>
          <p:nvPr/>
        </p:nvSpPr>
        <p:spPr>
          <a:xfrm>
            <a:off x="193320" y="5373720"/>
            <a:ext cx="257220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глий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7"/>
          <p:cNvSpPr/>
          <p:nvPr/>
        </p:nvSpPr>
        <p:spPr>
          <a:xfrm flipH="1">
            <a:off x="1692000" y="4221000"/>
            <a:ext cx="2158920" cy="1079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8"/>
          <p:cNvSpPr/>
          <p:nvPr/>
        </p:nvSpPr>
        <p:spPr>
          <a:xfrm flipV="1">
            <a:off x="4572000" y="1557000"/>
            <a:ext cx="0" cy="1366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9"/>
          <p:cNvSpPr/>
          <p:nvPr/>
        </p:nvSpPr>
        <p:spPr>
          <a:xfrm>
            <a:off x="5364000" y="4221000"/>
            <a:ext cx="1944720" cy="1152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AutoShape 22"/>
          <p:cNvSpPr/>
          <p:nvPr/>
        </p:nvSpPr>
        <p:spPr>
          <a:xfrm>
            <a:off x="576360" y="958680"/>
            <a:ext cx="799128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изм - 83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23"/>
          <p:cNvSpPr/>
          <p:nvPr/>
        </p:nvSpPr>
        <p:spPr>
          <a:xfrm>
            <a:off x="1547640" y="1679400"/>
            <a:ext cx="604872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лам - 1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24"/>
          <p:cNvSpPr/>
          <p:nvPr/>
        </p:nvSpPr>
        <p:spPr>
          <a:xfrm>
            <a:off x="1994040" y="2398680"/>
            <a:ext cx="515592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ристианство - 2,4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25"/>
          <p:cNvSpPr/>
          <p:nvPr/>
        </p:nvSpPr>
        <p:spPr>
          <a:xfrm>
            <a:off x="2760840" y="3119400"/>
            <a:ext cx="362088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кхизм – 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26"/>
          <p:cNvSpPr/>
          <p:nvPr/>
        </p:nvSpPr>
        <p:spPr>
          <a:xfrm>
            <a:off x="2760840" y="3838680"/>
            <a:ext cx="362088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уддизм – 0,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27"/>
          <p:cNvSpPr/>
          <p:nvPr/>
        </p:nvSpPr>
        <p:spPr>
          <a:xfrm>
            <a:off x="2486160" y="4559400"/>
            <a:ext cx="417024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айнизм – 0,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28"/>
          <p:cNvSpPr/>
          <p:nvPr/>
        </p:nvSpPr>
        <p:spPr>
          <a:xfrm>
            <a:off x="2760840" y="6022800"/>
            <a:ext cx="362088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уда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9"/>
          <p:cNvSpPr/>
          <p:nvPr/>
        </p:nvSpPr>
        <p:spPr>
          <a:xfrm>
            <a:off x="2760840" y="5300640"/>
            <a:ext cx="362088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ороастр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1" descr="Безимени-1"/>
          <p:cNvPicPr/>
          <p:nvPr/>
        </p:nvPicPr>
        <p:blipFill>
          <a:blip r:embed="rId1"/>
          <a:srcRect l="18962" t="6373" r="20773" b="55473"/>
          <a:stretch/>
        </p:blipFill>
        <p:spPr>
          <a:xfrm>
            <a:off x="2195640" y="260280"/>
            <a:ext cx="475272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0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6" descr="Безимени-1"/>
          <p:cNvPicPr/>
          <p:nvPr/>
        </p:nvPicPr>
        <p:blipFill>
          <a:blip r:embed="rId1"/>
          <a:stretch/>
        </p:blipFill>
        <p:spPr>
          <a:xfrm>
            <a:off x="628560" y="2421000"/>
            <a:ext cx="7886880" cy="2266920"/>
          </a:xfrm>
          <a:prstGeom prst="rect">
            <a:avLst/>
          </a:prstGeom>
          <a:ln w="0">
            <a:noFill/>
          </a:ln>
        </p:spPr>
      </p:pic>
      <p:sp>
        <p:nvSpPr>
          <p:cNvPr id="327" name="AutoShape 7"/>
          <p:cNvSpPr/>
          <p:nvPr/>
        </p:nvSpPr>
        <p:spPr>
          <a:xfrm>
            <a:off x="1120680" y="3191040"/>
            <a:ext cx="683604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мышленность - 13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8"/>
          <p:cNvSpPr/>
          <p:nvPr/>
        </p:nvSpPr>
        <p:spPr>
          <a:xfrm>
            <a:off x="1120680" y="2060640"/>
            <a:ext cx="683604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льское хозяйство - 70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9"/>
          <p:cNvSpPr/>
          <p:nvPr/>
        </p:nvSpPr>
        <p:spPr>
          <a:xfrm>
            <a:off x="1120680" y="4365720"/>
            <a:ext cx="683604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фера обслуживания - 17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4" descr="5"/>
          <p:cNvPicPr/>
          <p:nvPr/>
        </p:nvPicPr>
        <p:blipFill>
          <a:blip r:embed="rId1"/>
          <a:stretch/>
        </p:blipFill>
        <p:spPr>
          <a:xfrm>
            <a:off x="1332000" y="0"/>
            <a:ext cx="6454800" cy="685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31" name="Oval 5"/>
          <p:cNvSpPr/>
          <p:nvPr/>
        </p:nvSpPr>
        <p:spPr>
          <a:xfrm>
            <a:off x="3419640" y="2133720"/>
            <a:ext cx="288720" cy="2872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6"/>
          <p:cNvSpPr/>
          <p:nvPr/>
        </p:nvSpPr>
        <p:spPr>
          <a:xfrm>
            <a:off x="2556000" y="4076640"/>
            <a:ext cx="288720" cy="2872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7"/>
          <p:cNvSpPr/>
          <p:nvPr/>
        </p:nvSpPr>
        <p:spPr>
          <a:xfrm>
            <a:off x="5508720" y="3429000"/>
            <a:ext cx="288720" cy="2872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8"/>
          <p:cNvSpPr/>
          <p:nvPr/>
        </p:nvSpPr>
        <p:spPr>
          <a:xfrm>
            <a:off x="3995640" y="5300640"/>
            <a:ext cx="289080" cy="2872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9"/>
          <p:cNvSpPr/>
          <p:nvPr/>
        </p:nvSpPr>
        <p:spPr>
          <a:xfrm>
            <a:off x="2340000" y="1052640"/>
            <a:ext cx="256680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0"/>
          <p:cNvSpPr/>
          <p:nvPr/>
        </p:nvSpPr>
        <p:spPr>
          <a:xfrm>
            <a:off x="1547640" y="2824200"/>
            <a:ext cx="2619720" cy="118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омбей – 12 мл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1"/>
          <p:cNvSpPr/>
          <p:nvPr/>
        </p:nvSpPr>
        <p:spPr>
          <a:xfrm>
            <a:off x="3564000" y="4437000"/>
            <a:ext cx="256680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др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2"/>
          <p:cNvSpPr/>
          <p:nvPr/>
        </p:nvSpPr>
        <p:spPr>
          <a:xfrm>
            <a:off x="4859280" y="2492280"/>
            <a:ext cx="256716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лькут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96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14" nodeType="afterEffect" fill="hold" presetClass="entr" presetID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8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AutoShape 4"/>
          <p:cNvSpPr/>
          <p:nvPr/>
        </p:nvSpPr>
        <p:spPr>
          <a:xfrm>
            <a:off x="2268360" y="189000"/>
            <a:ext cx="504216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циклопедия сар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0" descr="e481d399bffe"/>
          <p:cNvPicPr/>
          <p:nvPr/>
        </p:nvPicPr>
        <p:blipFill>
          <a:blip r:embed="rId1"/>
          <a:stretch/>
        </p:blipFill>
        <p:spPr>
          <a:xfrm>
            <a:off x="108000" y="1341360"/>
            <a:ext cx="3238560" cy="4857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41" name="Picture 11" descr="202"/>
          <p:cNvPicPr/>
          <p:nvPr/>
        </p:nvPicPr>
        <p:blipFill>
          <a:blip r:embed="rId2"/>
          <a:stretch/>
        </p:blipFill>
        <p:spPr>
          <a:xfrm>
            <a:off x="6156360" y="1197000"/>
            <a:ext cx="2857320" cy="5324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42" name="AutoShape 13"/>
          <p:cNvSpPr/>
          <p:nvPr/>
        </p:nvSpPr>
        <p:spPr>
          <a:xfrm>
            <a:off x="3678120" y="1700280"/>
            <a:ext cx="208944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о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4"/>
          <p:cNvSpPr/>
          <p:nvPr/>
        </p:nvSpPr>
        <p:spPr>
          <a:xfrm>
            <a:off x="3492360" y="2759040"/>
            <a:ext cx="248292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ом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5"/>
          <p:cNvSpPr/>
          <p:nvPr/>
        </p:nvSpPr>
        <p:spPr>
          <a:xfrm>
            <a:off x="3492360" y="3860640"/>
            <a:ext cx="255456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вор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6"/>
          <p:cNvSpPr/>
          <p:nvPr/>
        </p:nvSpPr>
        <p:spPr>
          <a:xfrm>
            <a:off x="3713040" y="5029200"/>
            <a:ext cx="208944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клад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7"/>
          <p:cNvSpPr/>
          <p:nvPr/>
        </p:nvSpPr>
        <p:spPr>
          <a:xfrm flipH="1">
            <a:off x="1187280" y="2060640"/>
            <a:ext cx="2448000" cy="21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8"/>
          <p:cNvSpPr/>
          <p:nvPr/>
        </p:nvSpPr>
        <p:spPr>
          <a:xfrm flipH="1">
            <a:off x="1979640" y="4149720"/>
            <a:ext cx="1512720" cy="71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9"/>
          <p:cNvSpPr/>
          <p:nvPr/>
        </p:nvSpPr>
        <p:spPr>
          <a:xfrm flipH="1">
            <a:off x="1258920" y="3141720"/>
            <a:ext cx="2233440" cy="1150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0"/>
          <p:cNvSpPr/>
          <p:nvPr/>
        </p:nvSpPr>
        <p:spPr>
          <a:xfrm flipV="1">
            <a:off x="6012000" y="2420640"/>
            <a:ext cx="108108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1"/>
          <p:cNvSpPr/>
          <p:nvPr/>
        </p:nvSpPr>
        <p:spPr>
          <a:xfrm flipV="1">
            <a:off x="6012000" y="2781000"/>
            <a:ext cx="223200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2"/>
          <p:cNvSpPr/>
          <p:nvPr/>
        </p:nvSpPr>
        <p:spPr>
          <a:xfrm flipH="1">
            <a:off x="1692000" y="5373720"/>
            <a:ext cx="194292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0"/>
                      </p:stCondLst>
                      <p:childTnLst>
                        <p:par>
                          <p:cTn id="527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айте краткую характеристику населения Индии по плану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Тип воспроизводств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ирост численности населения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лотность населения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оля городского населения, крупные город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ловой состав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озрастной состав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асовый состав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елиги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Языковые семьи, крупнейшие народы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фициальный язык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Трудовые ресурсы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ровень образованност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1143000"/>
          </a:xfrm>
          <a:prstGeom prst="rect">
            <a:avLst/>
          </a:prstGeom>
          <a:solidFill>
            <a:srgbClr val="0000ff">
              <a:alpha val="39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  <a:ea typeface="Aharoni"/>
              </a:rPr>
              <a:t>Домашнее задание:</a:t>
            </a:r>
            <a:endParaRPr b="0" lang="en-US" sz="3600" spc="-1" strike="noStrike">
              <a:solidFill>
                <a:srgbClr val="575f6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575f6d"/>
                </a:solidFill>
                <a:latin typeface="Calibri"/>
              </a:rPr>
              <a:t>Проверь себя: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торой тип воспроизводств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инаника численности населения 0-1 % в год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лотность населения более 100 чел.на кв.к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ородское население менее 40%, крупные города: Дели,Бомбей(Мумбай), Калькутт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половом составе преобладание мужчин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редняя доля детей и людей пожилого возраст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Европиоидная,Смешанные и переходные тип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ндуизм, Священные места: Варанаси и Ганг(для индуистов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ндоевропейская семья: Пенджабцы -90млн.чел., Хиндустанцы -220млн.чел., Бихарцы – 90 млн.чел., Бенгальцы – 180 млн.че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нглийский язык, хинду и уруду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рудовые ресурсы 626 млн. чел.; более 50%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редний уровень образован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0" descr="5"/>
          <p:cNvPicPr/>
          <p:nvPr/>
        </p:nvPicPr>
        <p:blipFill>
          <a:blip r:embed="rId1"/>
          <a:stretch/>
        </p:blipFill>
        <p:spPr>
          <a:xfrm>
            <a:off x="1322280" y="0"/>
            <a:ext cx="6499440" cy="6907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47" name="Oval 26"/>
          <p:cNvSpPr/>
          <p:nvPr/>
        </p:nvSpPr>
        <p:spPr>
          <a:xfrm>
            <a:off x="1403280" y="297000"/>
            <a:ext cx="6335640" cy="6264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1"/>
          <p:cNvSpPr/>
          <p:nvPr/>
        </p:nvSpPr>
        <p:spPr>
          <a:xfrm>
            <a:off x="3564000" y="836640"/>
            <a:ext cx="0" cy="5688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3"/>
          <p:cNvSpPr/>
          <p:nvPr/>
        </p:nvSpPr>
        <p:spPr>
          <a:xfrm>
            <a:off x="2054160" y="2565360"/>
            <a:ext cx="53992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4"/>
          <p:cNvSpPr/>
          <p:nvPr/>
        </p:nvSpPr>
        <p:spPr>
          <a:xfrm>
            <a:off x="3282840" y="1486080"/>
            <a:ext cx="2575080" cy="71172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933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к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5"/>
          <p:cNvSpPr/>
          <p:nvPr/>
        </p:nvSpPr>
        <p:spPr>
          <a:xfrm>
            <a:off x="3710160" y="3430440"/>
            <a:ext cx="2574720" cy="71172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214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к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6"/>
          <p:cNvSpPr/>
          <p:nvPr/>
        </p:nvSpPr>
        <p:spPr>
          <a:xfrm>
            <a:off x="1440" y="2351160"/>
            <a:ext cx="4237200" cy="50940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ндаманские ост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7"/>
          <p:cNvSpPr/>
          <p:nvPr/>
        </p:nvSpPr>
        <p:spPr>
          <a:xfrm>
            <a:off x="1440" y="3430440"/>
            <a:ext cx="4237200" cy="50940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икобарские ост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8"/>
          <p:cNvSpPr/>
          <p:nvPr/>
        </p:nvSpPr>
        <p:spPr>
          <a:xfrm>
            <a:off x="1440" y="4438800"/>
            <a:ext cx="4237200" cy="50940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кшадвипские ост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9"/>
          <p:cNvSpPr/>
          <p:nvPr/>
        </p:nvSpPr>
        <p:spPr>
          <a:xfrm>
            <a:off x="1440" y="5302080"/>
            <a:ext cx="4237200" cy="50940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миндивские ост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20"/>
          <p:cNvSpPr/>
          <p:nvPr/>
        </p:nvSpPr>
        <p:spPr>
          <a:xfrm>
            <a:off x="1440" y="6286680"/>
            <a:ext cx="4237200" cy="50940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трова Мини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1"/>
          <p:cNvSpPr/>
          <p:nvPr/>
        </p:nvSpPr>
        <p:spPr>
          <a:xfrm>
            <a:off x="4284720" y="2852640"/>
            <a:ext cx="2303280" cy="252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2"/>
          <p:cNvSpPr/>
          <p:nvPr/>
        </p:nvSpPr>
        <p:spPr>
          <a:xfrm>
            <a:off x="4356000" y="3789360"/>
            <a:ext cx="2303640" cy="252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3"/>
          <p:cNvSpPr/>
          <p:nvPr/>
        </p:nvSpPr>
        <p:spPr>
          <a:xfrm>
            <a:off x="4356000" y="4724280"/>
            <a:ext cx="3095640" cy="122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4"/>
          <p:cNvSpPr/>
          <p:nvPr/>
        </p:nvSpPr>
        <p:spPr>
          <a:xfrm>
            <a:off x="4356000" y="5632560"/>
            <a:ext cx="309564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5"/>
          <p:cNvSpPr/>
          <p:nvPr/>
        </p:nvSpPr>
        <p:spPr>
          <a:xfrm flipV="1">
            <a:off x="4356000" y="6381720"/>
            <a:ext cx="3024360" cy="209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7"/>
          <p:cNvSpPr/>
          <p:nvPr/>
        </p:nvSpPr>
        <p:spPr>
          <a:xfrm>
            <a:off x="5867280" y="4940280"/>
            <a:ext cx="1946520" cy="1917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8" descr="Безимени-1"/>
          <p:cNvPicPr/>
          <p:nvPr/>
        </p:nvPicPr>
        <p:blipFill>
          <a:blip r:embed="rId2"/>
          <a:stretch/>
        </p:blipFill>
        <p:spPr>
          <a:xfrm>
            <a:off x="457200" y="1933560"/>
            <a:ext cx="82296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mph" presetID="24" repeatCount="5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3" nodeType="afterEffect" fill="hold" presetClass="emph" presetID="24" repeatCount="5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AutoShape 8"/>
          <p:cNvSpPr/>
          <p:nvPr/>
        </p:nvSpPr>
        <p:spPr>
          <a:xfrm>
            <a:off x="1239840" y="4018320"/>
            <a:ext cx="6664320" cy="57672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5 штатов и 7 союзных террито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9"/>
          <p:cNvSpPr/>
          <p:nvPr/>
        </p:nvSpPr>
        <p:spPr>
          <a:xfrm>
            <a:off x="2593800" y="2500920"/>
            <a:ext cx="3994200" cy="91440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Федер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0" descr="Безимени-1"/>
          <p:cNvPicPr/>
          <p:nvPr/>
        </p:nvPicPr>
        <p:blipFill>
          <a:blip r:embed="rId1"/>
          <a:stretch/>
        </p:blipFill>
        <p:spPr>
          <a:xfrm>
            <a:off x="285840" y="2023920"/>
            <a:ext cx="85723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19" descr=""/>
          <p:cNvPicPr/>
          <p:nvPr/>
        </p:nvPicPr>
        <p:blipFill>
          <a:blip r:embed="rId1"/>
          <a:stretch/>
        </p:blipFill>
        <p:spPr>
          <a:xfrm>
            <a:off x="1876320" y="0"/>
            <a:ext cx="5391360" cy="685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AutoShape 4"/>
          <p:cNvSpPr/>
          <p:nvPr/>
        </p:nvSpPr>
        <p:spPr>
          <a:xfrm>
            <a:off x="3495600" y="201960"/>
            <a:ext cx="2151000" cy="57672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зид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2627280" y="5818680"/>
            <a:ext cx="1297080" cy="57672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Шт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6"/>
          <p:cNvSpPr/>
          <p:nvPr/>
        </p:nvSpPr>
        <p:spPr>
          <a:xfrm>
            <a:off x="5364000" y="5603040"/>
            <a:ext cx="2664000" cy="104940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юзная терри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7"/>
          <p:cNvSpPr/>
          <p:nvPr/>
        </p:nvSpPr>
        <p:spPr>
          <a:xfrm>
            <a:off x="250920" y="4018680"/>
            <a:ext cx="3711600" cy="104940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одательн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5219640" y="2838960"/>
            <a:ext cx="3171960" cy="57672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тель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5219640" y="4018680"/>
            <a:ext cx="3711600" cy="104940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одательн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755640" y="2838960"/>
            <a:ext cx="3171960" cy="57672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тель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2"/>
          <p:cNvSpPr/>
          <p:nvPr/>
        </p:nvSpPr>
        <p:spPr>
          <a:xfrm>
            <a:off x="755640" y="1857960"/>
            <a:ext cx="3171960" cy="57672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нис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5219640" y="1857960"/>
            <a:ext cx="3171960" cy="57672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нис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 flipV="1">
            <a:off x="3276720" y="5157360"/>
            <a:ext cx="0" cy="576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 flipV="1">
            <a:off x="6084720" y="5084280"/>
            <a:ext cx="0" cy="505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 flipV="1">
            <a:off x="3276720" y="3428640"/>
            <a:ext cx="0" cy="576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7"/>
          <p:cNvSpPr/>
          <p:nvPr/>
        </p:nvSpPr>
        <p:spPr>
          <a:xfrm flipV="1">
            <a:off x="6084720" y="3428640"/>
            <a:ext cx="0" cy="576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8"/>
          <p:cNvSpPr/>
          <p:nvPr/>
        </p:nvSpPr>
        <p:spPr>
          <a:xfrm flipV="1">
            <a:off x="6084720" y="2491920"/>
            <a:ext cx="0" cy="28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9"/>
          <p:cNvSpPr/>
          <p:nvPr/>
        </p:nvSpPr>
        <p:spPr>
          <a:xfrm flipV="1">
            <a:off x="3276720" y="2491920"/>
            <a:ext cx="0" cy="28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0"/>
          <p:cNvSpPr/>
          <p:nvPr/>
        </p:nvSpPr>
        <p:spPr>
          <a:xfrm flipV="1">
            <a:off x="3276720" y="836640"/>
            <a:ext cx="647640" cy="936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1"/>
          <p:cNvSpPr/>
          <p:nvPr/>
        </p:nvSpPr>
        <p:spPr>
          <a:xfrm flipH="1" flipV="1">
            <a:off x="5364000" y="836640"/>
            <a:ext cx="720720" cy="936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10" descr="003"/>
          <p:cNvPicPr/>
          <p:nvPr/>
        </p:nvPicPr>
        <p:blipFill>
          <a:blip r:embed="rId1"/>
          <a:stretch/>
        </p:blipFill>
        <p:spPr>
          <a:xfrm>
            <a:off x="971640" y="658800"/>
            <a:ext cx="7199280" cy="5538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86" name="Picture 5" descr="Безимени-1"/>
          <p:cNvPicPr/>
          <p:nvPr/>
        </p:nvPicPr>
        <p:blipFill>
          <a:blip r:embed="rId2"/>
          <a:stretch/>
        </p:blipFill>
        <p:spPr>
          <a:xfrm>
            <a:off x="628560" y="2295360"/>
            <a:ext cx="7886880" cy="226728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6"/>
          <p:cNvSpPr/>
          <p:nvPr/>
        </p:nvSpPr>
        <p:spPr>
          <a:xfrm>
            <a:off x="2501640" y="333360"/>
            <a:ext cx="4066200" cy="158940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 090 100 00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7"/>
          <p:cNvSpPr/>
          <p:nvPr/>
        </p:nvSpPr>
        <p:spPr>
          <a:xfrm>
            <a:off x="14760" y="3068640"/>
            <a:ext cx="4588200" cy="172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оарийских груп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72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8"/>
          <p:cNvSpPr/>
          <p:nvPr/>
        </p:nvSpPr>
        <p:spPr>
          <a:xfrm>
            <a:off x="6126840" y="3041640"/>
            <a:ext cx="2855520" cy="172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равидс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рупп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2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9"/>
          <p:cNvSpPr/>
          <p:nvPr/>
        </p:nvSpPr>
        <p:spPr>
          <a:xfrm>
            <a:off x="3362400" y="5445000"/>
            <a:ext cx="2984400" cy="118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нголои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3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1"/>
          <p:cNvSpPr/>
          <p:nvPr/>
        </p:nvSpPr>
        <p:spPr>
          <a:xfrm flipV="1">
            <a:off x="2124000" y="2060640"/>
            <a:ext cx="1441440" cy="1008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2"/>
          <p:cNvSpPr/>
          <p:nvPr/>
        </p:nvSpPr>
        <p:spPr>
          <a:xfrm flipV="1">
            <a:off x="4859280" y="2060280"/>
            <a:ext cx="0" cy="3313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3"/>
          <p:cNvSpPr/>
          <p:nvPr/>
        </p:nvSpPr>
        <p:spPr>
          <a:xfrm flipH="1" flipV="1">
            <a:off x="5580000" y="1988640"/>
            <a:ext cx="1835280" cy="1008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2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2"/>
          <p:cNvSpPr/>
          <p:nvPr/>
        </p:nvSpPr>
        <p:spPr>
          <a:xfrm>
            <a:off x="1569960" y="4272120"/>
            <a:ext cx="600408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ний возраст: 24,66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6"/>
          <p:cNvSpPr/>
          <p:nvPr/>
        </p:nvSpPr>
        <p:spPr>
          <a:xfrm>
            <a:off x="2833200" y="1176480"/>
            <a:ext cx="347724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0-14 лет: 31,2 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7"/>
          <p:cNvSpPr/>
          <p:nvPr/>
        </p:nvSpPr>
        <p:spPr>
          <a:xfrm>
            <a:off x="2720520" y="1968480"/>
            <a:ext cx="370296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5-64 лет: 63,9 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8"/>
          <p:cNvSpPr/>
          <p:nvPr/>
        </p:nvSpPr>
        <p:spPr>
          <a:xfrm>
            <a:off x="2212200" y="2759040"/>
            <a:ext cx="471780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65 лет и старше: 4,9 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AutoShape 3"/>
          <p:cNvSpPr/>
          <p:nvPr/>
        </p:nvSpPr>
        <p:spPr>
          <a:xfrm>
            <a:off x="2308320" y="1197000"/>
            <a:ext cx="4527360" cy="172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няя продолжительность жизни: 64,35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4818960" y="4292640"/>
            <a:ext cx="431100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ужчины: 63,57 л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14760" y="4292640"/>
            <a:ext cx="436104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женщины: 65,16 л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6"/>
          <p:cNvSpPr/>
          <p:nvPr/>
        </p:nvSpPr>
        <p:spPr>
          <a:xfrm flipH="1">
            <a:off x="1979280" y="2997360"/>
            <a:ext cx="2305080" cy="1223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7"/>
          <p:cNvSpPr/>
          <p:nvPr/>
        </p:nvSpPr>
        <p:spPr>
          <a:xfrm>
            <a:off x="5003640" y="2997360"/>
            <a:ext cx="2089440" cy="1223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3"/>
          <p:cNvSpPr/>
          <p:nvPr/>
        </p:nvSpPr>
        <p:spPr>
          <a:xfrm>
            <a:off x="2308320" y="2133720"/>
            <a:ext cx="4527360" cy="172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9,5 % всего населения старше 15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4"/>
          <p:cNvSpPr/>
          <p:nvPr/>
        </p:nvSpPr>
        <p:spPr>
          <a:xfrm>
            <a:off x="1989720" y="692280"/>
            <a:ext cx="516420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меют читать и писа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5"/>
          <p:cNvSpPr/>
          <p:nvPr/>
        </p:nvSpPr>
        <p:spPr>
          <a:xfrm>
            <a:off x="5236560" y="5084640"/>
            <a:ext cx="389196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Женщины - 48,3 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7"/>
          <p:cNvSpPr/>
          <p:nvPr/>
        </p:nvSpPr>
        <p:spPr>
          <a:xfrm>
            <a:off x="15840" y="5084640"/>
            <a:ext cx="3799080" cy="644040"/>
          </a:xfrm>
          <a:prstGeom prst="roundRect">
            <a:avLst>
              <a:gd name="adj" fmla="val 16667"/>
            </a:avLst>
          </a:prstGeom>
          <a:solidFill>
            <a:srgbClr val="0000ff">
              <a:alpha val="4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жчины - 70,2 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8"/>
          <p:cNvSpPr/>
          <p:nvPr/>
        </p:nvSpPr>
        <p:spPr>
          <a:xfrm flipH="1">
            <a:off x="2411280" y="3933720"/>
            <a:ext cx="1441440" cy="1079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9"/>
          <p:cNvSpPr/>
          <p:nvPr/>
        </p:nvSpPr>
        <p:spPr>
          <a:xfrm>
            <a:off x="5219640" y="3933720"/>
            <a:ext cx="1224000" cy="1079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0"/>
          <p:cNvSpPr/>
          <p:nvPr/>
        </p:nvSpPr>
        <p:spPr>
          <a:xfrm>
            <a:off x="4572000" y="1413000"/>
            <a:ext cx="0" cy="720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14:04:45Z</dcterms:created>
  <dc:creator>FuckYouBill</dc:creator>
  <dc:description/>
  <dc:language>en-US</dc:language>
  <cp:lastModifiedBy>Светлана Фоминых</cp:lastModifiedBy>
  <dcterms:modified xsi:type="dcterms:W3CDTF">2017-05-21T15:11:46Z</dcterms:modified>
  <cp:revision>46</cp:revision>
  <dc:subject/>
  <dc:title>Слайд 1</dc:title>
</cp:coreProperties>
</file>