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060-14B6-416C-A00D-0B9049080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E2FF-43E5-414F-8A1D-111AE229D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оловки всех слайдов здесь и далее появляются в автоматическом режиме, в последующих слайдах они исчезают, уступая экранное место блокам информации. Эти блоки сугубо лаконичны, требуют распространения педагогом, ведущим урок. Эффекты можно перенастроить исходя из личных особенностей учителя: скорость речи, объем информации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ABB9-594A-445B-97B5-BFC6E0014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рамка с названием религии – гиперссылка на соответствующий слайд, где более подробно можно эту религию рассмотреть с помощью соответствующих рисунков. Обратно, к списку религий, можно вернуться, кликнув по заголовку слайда. Т.е сначала на экране выводится весь список, затем нажимая на соответствующую гиперссылку, переходим к конкретной религии, объясняем ее, возвращаемся обратно к списку, повторяем то же со следующей религией и т.д. Подобный способ наиболее эффективен, т.к. список религий несколько раз появляется перед глазами ученика в процессе «гиперссылочных» переходов, что способствует более эффективному запоминанию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имание! Если щелкнете в пустом месте слайда – перенесетесь к следующей теме, пропустив восемь скрытых слай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ECE8-A755-4104-9463-239917219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динамические элементы появляются автома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0E4-A561-4B6A-8EF0-FC51AFD46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слайде упор делается на визуальных эффектах подачи данных на основе географической карты. Мерцающие круги охватывают территорию страны и принадлежащих ей островов. Если нужна чистая карта без динамических элементов, нужно после их появления на экране, щелкнуть мышью – они исчезнут, а карта остан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FF12-D656-4358-99B1-FE1D21E22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это деление представлено наглядно, ка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3735-2E8A-4929-93DE-84F6351F7D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ующем слайде схема появляется автоматически, последовательно, блок за блоком. Переход к следующему слайду - щелчком. Скорость появления блоков педагог настраивает самостоятельно, под свою реч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93BE-BC76-4B47-AA4F-09EA27DC4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A46-BDF6-464D-8B6B-44878DF3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52C-7FBF-480C-8869-672C08D4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E8D-BE5D-45CD-A9E6-A8B94E37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273-CABF-4103-88E6-5FC3DDCA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7005-6F61-4E33-8E56-57280AE6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61B2-C473-4C7F-B5D3-DA6DB9CD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3A16-41EB-4A26-AC4D-24240411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1A32-6F0F-4104-9137-B7CBD6DB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B735-1E98-453D-9754-15CCAC00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381A-12E7-473C-B12C-035AA4AB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EF02-B50B-43D6-9C27-09F739F6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42C-0DF1-4C7B-94D1-DD96502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B1F7-F62A-4A17-94E6-B3D09786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45B7-1269-4E2F-BF0C-9A89CE0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819C-AB67-458C-9886-5A7229F7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986F-14C2-4479-942E-22818BB3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371E-76AA-4B7C-A178-858879D4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B36A-C6BC-4208-B7B7-C87D5278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57F1E-5EDE-4921-86C6-FBA34518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7E31-285E-463B-9A67-5BA41FE6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3026-41C6-4BC9-999D-9248B6EC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B65B-DD9F-4DD6-B224-A1A974D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815-98B9-4957-B0FD-7EF5F65E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EBA2-EDC6-425C-A797-0EFD05B9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7921-3162-4A6A-BEF1-DDD73F9A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B28F-517F-4C21-97CA-E609C84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04876-E22D-43C0-ABF7-D946A816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A9D1-2FD0-40B1-924E-AFF9AFE0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35FE-E4A3-4B59-8A1D-A6800105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ADD0-A184-4E17-8511-E6870EA9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32E3-5A4F-4EA9-BFF4-2F21D101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BFAB6-35FA-4D10-9D71-819F1CEA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DF80-9F1C-4DB7-9973-AFB206B9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DCD-772E-46FD-8C6D-3B425156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F34D-A1C8-44D4-9761-ACACE96B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A5F1-5D79-49C2-BFF5-582597F3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112F-73A9-427D-8C92-ACE99159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4FFA-52A3-4741-B84F-C76606EB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80AE-61C5-44F0-BE70-ECF1D219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86E4-E4EB-4E91-A841-AC3CBA7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A4E8B-F8A1-41F8-AAB5-EF00A3CC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C878A-7E06-402A-9884-DC0F1CEC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9AAA-326D-4672-9366-716D9944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9769F-9BFC-432E-B10E-EE567452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78C-134E-4AA3-80F5-32E559FE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75643-439B-4C7F-B9E1-B839690D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BC38-0389-477D-BBCA-9A0F973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044F4-FA9E-4154-B8AC-BF6FCA76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ECA5-357C-4EB4-B056-F29B601A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4497-F0B8-4CBF-AE5D-43FA3AE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A56B-7B74-45A0-B74D-8F8E7E54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720E-F3B7-4A8F-80D6-8717EDB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6EAE1-AE3D-4F37-8EF2-1C0D42C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8972-0E01-4B53-8CC4-8924A413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8AE1B-A0C1-4B53-9A86-2C93FBB8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043-7B4D-492C-B661-0FD0BB60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179B-7E14-457E-9F10-0B9AA483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874-759A-41E9-AB47-4066C3F1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3B4-CA66-48FA-A44B-8069DF41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829-2CC2-4FAA-B7B1-50E8C13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9F3C-0B4A-4F78-89B4-CCF407C6F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09B0-EEE5-4A9E-AF0A-1575713B9E09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96CB-A543-488C-AD49-2BBB30DA4C87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D950-DCC8-41C5-9C51-E8EED41C6BE9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EAF6-1FC5-4D31-9302-E1156BE8A531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2843280" y="3503160"/>
            <a:ext cx="4067280" cy="1190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БХАРАТА)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087640" y="4291560"/>
            <a:ext cx="5076720" cy="1983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 ИЗ КРУПНЕЙШИХ ГОСУДАРСТВ ПЛАНЕТ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Безимени-1"/>
          <p:cNvPicPr/>
          <p:nvPr/>
        </p:nvPicPr>
        <p:blipFill>
          <a:blip r:embed="rId1"/>
          <a:stretch/>
        </p:blipFill>
        <p:spPr>
          <a:xfrm>
            <a:off x="870120" y="1557360"/>
            <a:ext cx="74023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3"/>
          <p:cNvSpPr/>
          <p:nvPr/>
        </p:nvSpPr>
        <p:spPr>
          <a:xfrm>
            <a:off x="3132000" y="836640"/>
            <a:ext cx="26416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н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2773440" y="2997360"/>
            <a:ext cx="3595680" cy="118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циональные я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6239520" y="5445000"/>
            <a:ext cx="26589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ми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93320" y="5373720"/>
            <a:ext cx="25722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гли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 flipH="1">
            <a:off x="1692000" y="4221000"/>
            <a:ext cx="215892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 flipV="1">
            <a:off x="4572000" y="1557000"/>
            <a:ext cx="0" cy="1366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5364000" y="4221000"/>
            <a:ext cx="1944720" cy="1152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2"/>
          <p:cNvSpPr/>
          <p:nvPr/>
        </p:nvSpPr>
        <p:spPr>
          <a:xfrm>
            <a:off x="576360" y="958680"/>
            <a:ext cx="79912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изм - 8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3"/>
          <p:cNvSpPr/>
          <p:nvPr/>
        </p:nvSpPr>
        <p:spPr>
          <a:xfrm>
            <a:off x="1547640" y="1679400"/>
            <a:ext cx="604872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лам - 1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1994040" y="2398680"/>
            <a:ext cx="515592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ристианство - 2,4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2760840" y="3119400"/>
            <a:ext cx="36208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кхизм –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6"/>
          <p:cNvSpPr/>
          <p:nvPr/>
        </p:nvSpPr>
        <p:spPr>
          <a:xfrm>
            <a:off x="2760840" y="3838680"/>
            <a:ext cx="36208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дизм – 0,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7"/>
          <p:cNvSpPr/>
          <p:nvPr/>
        </p:nvSpPr>
        <p:spPr>
          <a:xfrm>
            <a:off x="2486160" y="4559400"/>
            <a:ext cx="41702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айнизм – 0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8"/>
          <p:cNvSpPr/>
          <p:nvPr/>
        </p:nvSpPr>
        <p:spPr>
          <a:xfrm>
            <a:off x="2760840" y="6022800"/>
            <a:ext cx="36208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уда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9"/>
          <p:cNvSpPr/>
          <p:nvPr/>
        </p:nvSpPr>
        <p:spPr>
          <a:xfrm>
            <a:off x="2760840" y="5300640"/>
            <a:ext cx="36208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ороаст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1" descr="Безимени-1"/>
          <p:cNvPicPr/>
          <p:nvPr/>
        </p:nvPicPr>
        <p:blipFill>
          <a:blip r:embed="rId1"/>
          <a:srcRect l="18962" t="6373" r="20773" b="55473"/>
          <a:stretch/>
        </p:blipFill>
        <p:spPr>
          <a:xfrm>
            <a:off x="2195640" y="260280"/>
            <a:ext cx="4752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Безимени-1"/>
          <p:cNvPicPr/>
          <p:nvPr/>
        </p:nvPicPr>
        <p:blipFill>
          <a:blip r:embed="rId1"/>
          <a:stretch/>
        </p:blipFill>
        <p:spPr>
          <a:xfrm>
            <a:off x="628560" y="2421000"/>
            <a:ext cx="7886880" cy="226692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7"/>
          <p:cNvSpPr/>
          <p:nvPr/>
        </p:nvSpPr>
        <p:spPr>
          <a:xfrm>
            <a:off x="1120680" y="3191040"/>
            <a:ext cx="68360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мышленность - 1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1120680" y="2060640"/>
            <a:ext cx="68360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льское хозяйство - 7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9"/>
          <p:cNvSpPr/>
          <p:nvPr/>
        </p:nvSpPr>
        <p:spPr>
          <a:xfrm>
            <a:off x="1120680" y="4365720"/>
            <a:ext cx="68360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фера обслуживания - 17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5"/>
          <p:cNvPicPr/>
          <p:nvPr/>
        </p:nvPicPr>
        <p:blipFill>
          <a:blip r:embed="rId1"/>
          <a:stretch/>
        </p:blipFill>
        <p:spPr>
          <a:xfrm>
            <a:off x="1332000" y="0"/>
            <a:ext cx="64548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31" name="Oval 5"/>
          <p:cNvSpPr/>
          <p:nvPr/>
        </p:nvSpPr>
        <p:spPr>
          <a:xfrm>
            <a:off x="3419640" y="2133720"/>
            <a:ext cx="288720" cy="287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556000" y="4076640"/>
            <a:ext cx="288720" cy="287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5508720" y="3429000"/>
            <a:ext cx="288720" cy="287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3995640" y="5300640"/>
            <a:ext cx="289080" cy="287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2340000" y="1052640"/>
            <a:ext cx="25668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1547640" y="2824200"/>
            <a:ext cx="2619720" cy="118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мбей – 12 м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3564000" y="4437000"/>
            <a:ext cx="25668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др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859280" y="2492280"/>
            <a:ext cx="25671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лькут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4" nodeType="after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4"/>
          <p:cNvSpPr/>
          <p:nvPr/>
        </p:nvSpPr>
        <p:spPr>
          <a:xfrm>
            <a:off x="2268360" y="189000"/>
            <a:ext cx="50421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циклопедия са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0" descr="e481d399bffe"/>
          <p:cNvPicPr/>
          <p:nvPr/>
        </p:nvPicPr>
        <p:blipFill>
          <a:blip r:embed="rId1"/>
          <a:stretch/>
        </p:blipFill>
        <p:spPr>
          <a:xfrm>
            <a:off x="108000" y="1341360"/>
            <a:ext cx="3238560" cy="4857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41" name="Picture 11" descr="202"/>
          <p:cNvPicPr/>
          <p:nvPr/>
        </p:nvPicPr>
        <p:blipFill>
          <a:blip r:embed="rId2"/>
          <a:stretch/>
        </p:blipFill>
        <p:spPr>
          <a:xfrm>
            <a:off x="6156360" y="1197000"/>
            <a:ext cx="2857320" cy="5324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2" name="AutoShape 13"/>
          <p:cNvSpPr/>
          <p:nvPr/>
        </p:nvSpPr>
        <p:spPr>
          <a:xfrm>
            <a:off x="3678120" y="1700280"/>
            <a:ext cx="20894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о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4"/>
          <p:cNvSpPr/>
          <p:nvPr/>
        </p:nvSpPr>
        <p:spPr>
          <a:xfrm>
            <a:off x="3492360" y="2759040"/>
            <a:ext cx="248292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м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3492360" y="3860640"/>
            <a:ext cx="25545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ор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6"/>
          <p:cNvSpPr/>
          <p:nvPr/>
        </p:nvSpPr>
        <p:spPr>
          <a:xfrm>
            <a:off x="3713040" y="5029200"/>
            <a:ext cx="20894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лад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H="1">
            <a:off x="1187280" y="2060640"/>
            <a:ext cx="244800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 flipH="1">
            <a:off x="1979640" y="4149720"/>
            <a:ext cx="1512720" cy="7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H="1">
            <a:off x="1258920" y="3141720"/>
            <a:ext cx="223344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V="1">
            <a:off x="6012000" y="2420640"/>
            <a:ext cx="108108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1"/>
          <p:cNvSpPr/>
          <p:nvPr/>
        </p:nvSpPr>
        <p:spPr>
          <a:xfrm flipV="1">
            <a:off x="6012000" y="2781000"/>
            <a:ext cx="223200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2"/>
          <p:cNvSpPr/>
          <p:nvPr/>
        </p:nvSpPr>
        <p:spPr>
          <a:xfrm flipH="1">
            <a:off x="1692000" y="5373720"/>
            <a:ext cx="194292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айте краткую характеристику населения Индии по плану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ип воспроизводст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рост численности насел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лотность насел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я городского населения, крупные горо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ловой соста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растной соста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овый соста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лиги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Языковые семьи, крупнейшие народ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фициальный язы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рудовые ресурс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вень образованност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solidFill>
            <a:srgbClr val="0000ff">
              <a:alpha val="39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haroni"/>
              </a:rPr>
              <a:t>Домашнее задание:</a:t>
            </a:r>
            <a:endParaRPr b="0" lang="en-US" sz="3600" spc="-1" strike="noStrike">
              <a:solidFill>
                <a:srgbClr val="575f6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575f6d"/>
                </a:solidFill>
                <a:latin typeface="Calibri"/>
              </a:rPr>
              <a:t>Проверь себя: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торой тип воспроизвод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наника численности населения 0-1 % в го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лотность населения более 100 чел.на кв.к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родское население менее 40%, крупные города: Дели,Бомбей(Мумбай), Калькут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оловом составе преобладание мужчи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редняя доля детей и людей пожилого возрас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вропиоидная,Смешанные и переходные ти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дуизм, Священные места: Варанаси и Ганг(для индуист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доевропейская семья: Пенджабцы -90млн.чел., Хиндустанцы -220млн.чел., Бихарцы – 90 млн.чел., Бенгальцы – 180 млн.че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нглийский язык, хинду и уруд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удовые ресурсы 626 млн. чел.; более 50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редний уровень образо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0" descr="5"/>
          <p:cNvPicPr/>
          <p:nvPr/>
        </p:nvPicPr>
        <p:blipFill>
          <a:blip r:embed="rId1"/>
          <a:stretch/>
        </p:blipFill>
        <p:spPr>
          <a:xfrm>
            <a:off x="1322280" y="0"/>
            <a:ext cx="6499440" cy="690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Oval 26"/>
          <p:cNvSpPr/>
          <p:nvPr/>
        </p:nvSpPr>
        <p:spPr>
          <a:xfrm>
            <a:off x="1403280" y="297000"/>
            <a:ext cx="6335640" cy="626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3564000" y="836640"/>
            <a:ext cx="0" cy="568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2054160" y="2565360"/>
            <a:ext cx="5399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3282840" y="1486080"/>
            <a:ext cx="2575080" cy="711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93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3710160" y="3430440"/>
            <a:ext cx="2574720" cy="711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21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1440" y="235116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даманс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1440" y="343044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кобарс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8"/>
          <p:cNvSpPr/>
          <p:nvPr/>
        </p:nvSpPr>
        <p:spPr>
          <a:xfrm>
            <a:off x="1440" y="443880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кшадвипс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1440" y="530208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миндивс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440" y="628668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трова Мин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4284720" y="2852640"/>
            <a:ext cx="2303280" cy="252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4356000" y="3789360"/>
            <a:ext cx="2303640" cy="252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4356000" y="4724280"/>
            <a:ext cx="3095640" cy="122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4356000" y="5632560"/>
            <a:ext cx="3095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 flipV="1">
            <a:off x="4356000" y="6381720"/>
            <a:ext cx="3024360" cy="20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7"/>
          <p:cNvSpPr/>
          <p:nvPr/>
        </p:nvSpPr>
        <p:spPr>
          <a:xfrm>
            <a:off x="5867280" y="4940280"/>
            <a:ext cx="1946520" cy="1917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8" descr="Безимени-1"/>
          <p:cNvPicPr/>
          <p:nvPr/>
        </p:nvPicPr>
        <p:blipFill>
          <a:blip r:embed="rId2"/>
          <a:stretch/>
        </p:blipFill>
        <p:spPr>
          <a:xfrm>
            <a:off x="457200" y="1933560"/>
            <a:ext cx="8229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mph" presetID="24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mph" presetID="24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8"/>
          <p:cNvSpPr/>
          <p:nvPr/>
        </p:nvSpPr>
        <p:spPr>
          <a:xfrm>
            <a:off x="1239840" y="4018320"/>
            <a:ext cx="666432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штатов и 7 союзных террит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2593800" y="2500920"/>
            <a:ext cx="3994200" cy="914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Федер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Безимени-1"/>
          <p:cNvPicPr/>
          <p:nvPr/>
        </p:nvPicPr>
        <p:blipFill>
          <a:blip r:embed="rId1"/>
          <a:stretch/>
        </p:blipFill>
        <p:spPr>
          <a:xfrm>
            <a:off x="285840" y="2023920"/>
            <a:ext cx="8572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9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3495600" y="201960"/>
            <a:ext cx="215100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зид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2627280" y="5818680"/>
            <a:ext cx="129708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5364000" y="5603040"/>
            <a:ext cx="2664000" cy="104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юзная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250920" y="4018680"/>
            <a:ext cx="3711600" cy="104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одательн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5219640" y="2838960"/>
            <a:ext cx="317196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5219640" y="4018680"/>
            <a:ext cx="3711600" cy="104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одательн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755640" y="2838960"/>
            <a:ext cx="317196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755640" y="1857960"/>
            <a:ext cx="317196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н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5219640" y="1857960"/>
            <a:ext cx="317196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н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3276720" y="515736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6084720" y="508428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V="1">
            <a:off x="3276720" y="3428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 flipV="1">
            <a:off x="6084720" y="3428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6084720" y="249192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 flipV="1">
            <a:off x="3276720" y="249192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 flipV="1">
            <a:off x="3276720" y="836640"/>
            <a:ext cx="64764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 flipH="1" flipV="1">
            <a:off x="5364000" y="836640"/>
            <a:ext cx="72072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" descr="003"/>
          <p:cNvPicPr/>
          <p:nvPr/>
        </p:nvPicPr>
        <p:blipFill>
          <a:blip r:embed="rId1"/>
          <a:stretch/>
        </p:blipFill>
        <p:spPr>
          <a:xfrm>
            <a:off x="971640" y="658800"/>
            <a:ext cx="7199280" cy="5538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86" name="Picture 5" descr="Безимени-1"/>
          <p:cNvPicPr/>
          <p:nvPr/>
        </p:nvPicPr>
        <p:blipFill>
          <a:blip r:embed="rId2"/>
          <a:stretch/>
        </p:blipFill>
        <p:spPr>
          <a:xfrm>
            <a:off x="628560" y="2295360"/>
            <a:ext cx="7886880" cy="226728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2501640" y="333360"/>
            <a:ext cx="4066200" cy="158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 090 100 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14760" y="3068640"/>
            <a:ext cx="4588200" cy="172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оарийских груп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72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6126840" y="3041640"/>
            <a:ext cx="2855520" cy="172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равид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2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3362400" y="5445000"/>
            <a:ext cx="2984400" cy="118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нголо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 flipV="1">
            <a:off x="2124000" y="2060640"/>
            <a:ext cx="1441440" cy="1008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 flipV="1">
            <a:off x="4859280" y="2060280"/>
            <a:ext cx="0" cy="3313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H="1" flipV="1">
            <a:off x="5580000" y="1988640"/>
            <a:ext cx="183528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2"/>
          <p:cNvSpPr/>
          <p:nvPr/>
        </p:nvSpPr>
        <p:spPr>
          <a:xfrm>
            <a:off x="1569960" y="4272120"/>
            <a:ext cx="60040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ий возраст: 24,6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6"/>
          <p:cNvSpPr/>
          <p:nvPr/>
        </p:nvSpPr>
        <p:spPr>
          <a:xfrm>
            <a:off x="2833200" y="1176480"/>
            <a:ext cx="34772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-14 лет: 31,2 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7"/>
          <p:cNvSpPr/>
          <p:nvPr/>
        </p:nvSpPr>
        <p:spPr>
          <a:xfrm>
            <a:off x="2720520" y="1968480"/>
            <a:ext cx="37029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5-64 лет: 63,9 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8"/>
          <p:cNvSpPr/>
          <p:nvPr/>
        </p:nvSpPr>
        <p:spPr>
          <a:xfrm>
            <a:off x="2212200" y="2759040"/>
            <a:ext cx="47178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5 лет и старше: 4,9 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3"/>
          <p:cNvSpPr/>
          <p:nvPr/>
        </p:nvSpPr>
        <p:spPr>
          <a:xfrm>
            <a:off x="2308320" y="1197000"/>
            <a:ext cx="4527360" cy="172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яя продолжительность жизни: 64,3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4818960" y="4292640"/>
            <a:ext cx="43110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жчины: 63,57 л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14760" y="4292640"/>
            <a:ext cx="43610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енщины: 65,16 л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 flipH="1">
            <a:off x="1979280" y="2997360"/>
            <a:ext cx="2305080" cy="122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5003640" y="2997360"/>
            <a:ext cx="2089440" cy="122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3"/>
          <p:cNvSpPr/>
          <p:nvPr/>
        </p:nvSpPr>
        <p:spPr>
          <a:xfrm>
            <a:off x="2308320" y="2133720"/>
            <a:ext cx="4527360" cy="172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9,5 % всего населения старше 1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1989720" y="692280"/>
            <a:ext cx="51642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ют читать и пис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5236560" y="5084640"/>
            <a:ext cx="38919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енщины - 48,3 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15840" y="5084640"/>
            <a:ext cx="37990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жчины - 70,2 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 flipH="1">
            <a:off x="2411280" y="3933720"/>
            <a:ext cx="144144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5219640" y="3933720"/>
            <a:ext cx="122400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4572000" y="1413000"/>
            <a:ext cx="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4:04:45Z</dcterms:created>
  <dc:creator>FuckYouBill</dc:creator>
  <dc:description/>
  <dc:language>en-US</dc:language>
  <cp:lastModifiedBy>Светлана Фоминых</cp:lastModifiedBy>
  <dcterms:modified xsi:type="dcterms:W3CDTF">2017-05-21T15:11:46Z</dcterms:modified>
  <cp:revision>46</cp:revision>
  <dc:subject/>
  <dc:title>Слайд 1</dc:title>
</cp:coreProperties>
</file>