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C46-C1AF-40D1-92D5-F84E5898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CECB-0FC7-4DD7-BCA4-0A07653A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B016-A486-40A3-BEB7-4756888C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B46-5748-4AB7-B132-E7DA03CC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C809-B88D-4EBD-A227-0AF047E6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0727-BA67-444E-97E3-05081648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186-2A1F-4F46-A181-A8F32143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87A6-93F9-4BF4-94E4-E14F4496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E03C-03EC-4F58-A276-A81D16F2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05C3-2017-4895-963D-C91A6B72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AA83-7FE3-4DD4-BAC1-25692031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E12-AEF8-4C47-93AE-407C8547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D2BD-79B1-4A2B-A0A5-233E135A2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436680" y="847800"/>
            <a:ext cx="5396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695760" y="304920"/>
            <a:ext cx="5396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36680" y="1390680"/>
            <a:ext cx="539640" cy="54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695760" y="847800"/>
            <a:ext cx="539640" cy="544320"/>
          </a:xfrm>
          <a:prstGeom prst="rect">
            <a:avLst/>
          </a:prstGeom>
          <a:solidFill>
            <a:srgbClr val="bbe0e3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36680" y="1932120"/>
            <a:ext cx="539640" cy="54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616120" y="1389240"/>
            <a:ext cx="5400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156120" y="1389240"/>
            <a:ext cx="539640" cy="54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695760" y="1389240"/>
            <a:ext cx="539640" cy="54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36680" y="247500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536840" y="247176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076480" y="247176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616120" y="2471760"/>
            <a:ext cx="54000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985680" y="2478240"/>
            <a:ext cx="54000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695760" y="193212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156120" y="247176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695760" y="247176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235400" y="247176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156120" y="3011400"/>
            <a:ext cx="539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235400" y="3011400"/>
            <a:ext cx="539640" cy="5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775040" y="3011400"/>
            <a:ext cx="540000" cy="5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5315040" y="3011400"/>
            <a:ext cx="539640" cy="5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5853240" y="3011400"/>
            <a:ext cx="539640" cy="5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392880" y="3014640"/>
            <a:ext cx="54936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695760" y="3554280"/>
            <a:ext cx="539640" cy="5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076480" y="409428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616120" y="4094280"/>
            <a:ext cx="54000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156120" y="409428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695760" y="409428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235400" y="409428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775040" y="4094280"/>
            <a:ext cx="54000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5315040" y="409428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1"/>
          <p:cNvSpPr/>
          <p:nvPr/>
        </p:nvSpPr>
        <p:spPr>
          <a:xfrm>
            <a:off x="3965400" y="57780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12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133880" y="719280"/>
            <a:ext cx="633240" cy="8175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3695760" y="3014640"/>
            <a:ext cx="53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125" descr=""/>
          <p:cNvPicPr/>
          <p:nvPr/>
        </p:nvPicPr>
        <p:blipFill>
          <a:blip r:embed="rId2"/>
          <a:stretch/>
        </p:blipFill>
        <p:spPr>
          <a:xfrm>
            <a:off x="2023920" y="4035600"/>
            <a:ext cx="640080" cy="81108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126" descr=""/>
          <p:cNvPicPr/>
          <p:nvPr/>
        </p:nvPicPr>
        <p:blipFill>
          <a:blip r:embed="rId3"/>
          <a:stretch/>
        </p:blipFill>
        <p:spPr>
          <a:xfrm>
            <a:off x="3108240" y="2968560"/>
            <a:ext cx="635040" cy="81144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127" descr=""/>
          <p:cNvPicPr/>
          <p:nvPr/>
        </p:nvPicPr>
        <p:blipFill>
          <a:blip r:embed="rId4"/>
          <a:stretch/>
        </p:blipFill>
        <p:spPr>
          <a:xfrm>
            <a:off x="2567160" y="1328760"/>
            <a:ext cx="633240" cy="81108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128" descr=""/>
          <p:cNvPicPr/>
          <p:nvPr/>
        </p:nvPicPr>
        <p:blipFill>
          <a:blip r:embed="rId5"/>
          <a:stretch/>
        </p:blipFill>
        <p:spPr>
          <a:xfrm>
            <a:off x="-122400" y="2401920"/>
            <a:ext cx="635040" cy="81108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129" descr=""/>
          <p:cNvPicPr/>
          <p:nvPr/>
        </p:nvPicPr>
        <p:blipFill>
          <a:blip r:embed="rId6"/>
          <a:stretch/>
        </p:blipFill>
        <p:spPr>
          <a:xfrm>
            <a:off x="384120" y="774720"/>
            <a:ext cx="639720" cy="8096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4235400" y="1392120"/>
            <a:ext cx="539640" cy="54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Татьяна\Desktop\животные\рисунки\5642238.png"/>
          <p:cNvPicPr/>
          <p:nvPr/>
        </p:nvPicPr>
        <p:blipFill>
          <a:blip r:embed="rId7"/>
          <a:stretch/>
        </p:blipFill>
        <p:spPr>
          <a:xfrm>
            <a:off x="1647720" y="947880"/>
            <a:ext cx="1200240" cy="11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Users\Татьяна\Desktop\животные\рисунки\67364_aa0a17f3b5fc.png"/>
          <p:cNvPicPr/>
          <p:nvPr/>
        </p:nvPicPr>
        <p:blipFill>
          <a:blip r:embed="rId8"/>
          <a:stretch/>
        </p:blipFill>
        <p:spPr>
          <a:xfrm>
            <a:off x="119160" y="0"/>
            <a:ext cx="1733400" cy="125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9"/>
          <a:stretch/>
        </p:blipFill>
        <p:spPr>
          <a:xfrm>
            <a:off x="5716440" y="1014480"/>
            <a:ext cx="1830600" cy="1766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10"/>
          <a:stretch/>
        </p:blipFill>
        <p:spPr>
          <a:xfrm>
            <a:off x="119160" y="3043080"/>
            <a:ext cx="1981080" cy="1051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11"/>
          <a:stretch/>
        </p:blipFill>
        <p:spPr>
          <a:xfrm>
            <a:off x="6946920" y="2925720"/>
            <a:ext cx="1905120" cy="1252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12"/>
          <a:stretch/>
        </p:blipFill>
        <p:spPr>
          <a:xfrm>
            <a:off x="635040" y="3921120"/>
            <a:ext cx="1492200" cy="23241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6326280" y="4952880"/>
            <a:ext cx="539640" cy="54000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006640" y="4952880"/>
            <a:ext cx="539640" cy="54000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546280" y="4952880"/>
            <a:ext cx="540000" cy="54000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086280" y="4952880"/>
            <a:ext cx="539640" cy="54000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625920" y="4952880"/>
            <a:ext cx="539640" cy="54000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165560" y="4952880"/>
            <a:ext cx="539640" cy="54000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73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705200" y="4952880"/>
            <a:ext cx="541440" cy="54000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246640" y="4952880"/>
            <a:ext cx="539640" cy="54000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786280" y="4952880"/>
            <a:ext cx="540000" cy="54000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056280" y="5492880"/>
            <a:ext cx="5396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276640" y="5492880"/>
            <a:ext cx="5396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0"/>
          <p:cNvSpPr/>
          <p:nvPr/>
        </p:nvSpPr>
        <p:spPr>
          <a:xfrm>
            <a:off x="2816280" y="5492880"/>
            <a:ext cx="5396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355920" y="5492880"/>
            <a:ext cx="5396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895560" y="5492880"/>
            <a:ext cx="54000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435560" y="5492880"/>
            <a:ext cx="5396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975200" y="5492880"/>
            <a:ext cx="5414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516640" y="5492880"/>
            <a:ext cx="5396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355920" y="6032520"/>
            <a:ext cx="5396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27"/>
          <p:cNvSpPr/>
          <p:nvPr/>
        </p:nvSpPr>
        <p:spPr>
          <a:xfrm>
            <a:off x="3895560" y="6032520"/>
            <a:ext cx="54000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435560" y="6032520"/>
            <a:ext cx="5396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975200" y="6032520"/>
            <a:ext cx="5414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5519880" y="6032520"/>
            <a:ext cx="5396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6059520" y="6032520"/>
            <a:ext cx="5414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865920" y="4952880"/>
            <a:ext cx="539640" cy="54000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595920" y="5492880"/>
            <a:ext cx="54000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816280" y="6032520"/>
            <a:ext cx="539640" cy="539640"/>
          </a:xfrm>
          <a:prstGeom prst="rect">
            <a:avLst/>
          </a:prstGeom>
          <a:solidFill>
            <a:srgbClr val="7030a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568600" y="493884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095640" y="493884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092400" y="4964040"/>
            <a:ext cx="539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092400" y="495792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092400" y="4971960"/>
            <a:ext cx="539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105000" y="494028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086280" y="495792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105000" y="493884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089160" y="493884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111480" y="494028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086280" y="4971960"/>
            <a:ext cx="539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86280" y="495792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711680" y="497196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721400" y="495792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94400" y="492300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686480" y="492300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94400" y="49402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721400" y="497196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711680" y="497196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711680" y="497196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4708440" y="49402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708440" y="497196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721400" y="49402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721400" y="495792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235480" y="496728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5262480" y="49719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5268960" y="496728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5235480" y="496728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227560" y="49719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5268960" y="4952880"/>
            <a:ext cx="539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268960" y="496728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253120" y="493560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5268960" y="493560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268960" y="493560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235480" y="49719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004840" y="495792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004840" y="49402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004840" y="495792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004840" y="497196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006640" y="495792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04840" y="495792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006640" y="494352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4840" y="495792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992240" y="497196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004840" y="497196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548080" y="495288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2532240" y="495288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532240" y="495288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548080" y="49388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2548080" y="497052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548080" y="495288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2530440" y="497052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548080" y="495288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563920" y="49388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530440" y="497196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360504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624120" y="49388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619440" y="49388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3635280" y="49388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63528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635280" y="49388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63528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605040" y="49388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3619440" y="49388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635280" y="492300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4160880" y="49402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15296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417996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54400" y="497196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15440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145040" y="49388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145040" y="497052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17996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160880" y="49402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4145040" y="49388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686592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686592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83560" y="495288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865920" y="497196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6883560" y="497196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686592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686592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686592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6854760" y="497052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6854760" y="497052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2814480" y="5504040"/>
            <a:ext cx="5432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814480" y="5504040"/>
            <a:ext cx="5432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814480" y="5504040"/>
            <a:ext cx="5432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833560" y="55040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814480" y="5505480"/>
            <a:ext cx="5432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2801880" y="54910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843280" y="54910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814480" y="5505480"/>
            <a:ext cx="5432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2814480" y="5505480"/>
            <a:ext cx="5432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83356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349800" y="55054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349800" y="55054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3362400" y="54910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3365640" y="55054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3336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338148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36564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3365640" y="55054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36564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3381480" y="55054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903840" y="55054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87360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03840" y="55054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3873600" y="55054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88476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387360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87360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903840" y="55054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91464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88476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390384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442260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44226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4437000" y="5489640"/>
            <a:ext cx="542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42260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44226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4437000" y="5505480"/>
            <a:ext cx="542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443880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422600" y="547200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42260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497520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49752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9752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497520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497520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495936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9752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9752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97520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549756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549756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552276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549756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551016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51016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552276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551016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60516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60516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60642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603900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06420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0516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606420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06420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59916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659916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658512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661176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659916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61176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659916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661176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2814480" y="6043680"/>
            <a:ext cx="5432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814480" y="6043680"/>
            <a:ext cx="5432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2814480" y="6029280"/>
            <a:ext cx="5432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2828880" y="60436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2828880" y="60436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2801880" y="60292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2828880" y="60436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814480" y="6058080"/>
            <a:ext cx="5432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3349800" y="60292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3370320" y="60436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3365640" y="602136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3349800" y="602136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3349800" y="60404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367080" y="60404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3335400" y="60404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3887640" y="60404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3903840" y="602136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3887640" y="60404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903840" y="602136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3871800" y="60580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3903840" y="602604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871800" y="60580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3903840" y="60404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871800" y="6026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3903840" y="60404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887640" y="6026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3887640" y="60580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438800" y="601200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4438800" y="600876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4422600" y="6026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4422600" y="6026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438800" y="60580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4422600" y="6026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4422600" y="6026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4429080" y="60580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975200" y="60580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975200" y="6026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4975200" y="60404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991040" y="602136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959360" y="60404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5002200" y="60580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4959360" y="60580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4975200" y="6026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5522760" y="6041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5526000" y="60404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5510160" y="60404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5526000" y="60404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5510160" y="60580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5510160" y="6026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5526000" y="6026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5538960" y="602604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6080040" y="60278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6075360" y="60404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6080040" y="604512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6080040" y="60580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578160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5794200" y="49388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578160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5794200" y="496872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5810400" y="496872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579600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578160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5810400" y="495288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5796000" y="496872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631332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6308640" y="4937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6313320" y="49388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6329520" y="493704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631332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6313320" y="493704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313320" y="4952880"/>
            <a:ext cx="54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2276640" y="5487840"/>
            <a:ext cx="54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2292480" y="548964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227808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227808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227952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2279520" y="550548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2292480" y="55054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226224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2292480" y="5505480"/>
            <a:ext cx="54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2260440" y="5489640"/>
            <a:ext cx="541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Rectangle 1" descr=""/>
          <p:cNvPicPr/>
          <p:nvPr/>
        </p:nvPicPr>
        <p:blipFill>
          <a:blip r:embed="rId13"/>
          <a:stretch/>
        </p:blipFill>
        <p:spPr>
          <a:xfrm>
            <a:off x="1852560" y="19080"/>
            <a:ext cx="5389560" cy="1077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18" descr="https://ochprosto.com/wp-content/uploads/2015/07/kak-bystro-ochishhat-korzinu-mac-os.png"/>
          <p:cNvPicPr/>
          <p:nvPr/>
        </p:nvPicPr>
        <p:blipFill>
          <a:blip r:embed="rId14"/>
          <a:stretch/>
        </p:blipFill>
        <p:spPr>
          <a:xfrm>
            <a:off x="7407360" y="5322960"/>
            <a:ext cx="1600200" cy="144144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5"/>
          <p:cNvSpPr/>
          <p:nvPr/>
        </p:nvSpPr>
        <p:spPr>
          <a:xfrm>
            <a:off x="7629480" y="5495760"/>
            <a:ext cx="539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169120" y="5506920"/>
            <a:ext cx="567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7629480" y="603252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8169120" y="6021360"/>
            <a:ext cx="567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4:44:02Z</dcterms:created>
  <dc:creator>Татьяна Альзинская</dc:creator>
  <dc:description/>
  <dc:language>en-US</dc:language>
  <cp:lastModifiedBy>Татьяна</cp:lastModifiedBy>
  <dcterms:modified xsi:type="dcterms:W3CDTF">2017-05-19T17:24:06Z</dcterms:modified>
  <cp:revision>2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