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4EF6-B867-4C9D-812A-12FAD0734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AA34-DB96-42E2-BDBE-A50B90D7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AFB5-E6E8-42FB-8FFA-1FAD7B246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DE46-7B88-4C04-A47A-789568B46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BF96-9DBC-4CE9-9783-98C3D6C2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969D-0FCB-4CEF-AD20-4E067FFF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5FEE-9554-466A-90E7-1B3A7491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EF59-2AE3-48F6-8A1D-FD1378A4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5975-D960-4F69-8CFE-0EAC751A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DE7A-8CDE-489D-95D4-9FA78B9F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5F3F-3D8D-40CA-992B-B500F997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AE72-A536-49C2-A1EE-72D9951F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136F-555E-4BD0-94DB-4E0498579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436680" y="847800"/>
            <a:ext cx="53964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695760" y="304920"/>
            <a:ext cx="53964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36680" y="1390680"/>
            <a:ext cx="539640" cy="54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695760" y="847800"/>
            <a:ext cx="539640" cy="544320"/>
          </a:xfrm>
          <a:prstGeom prst="rect">
            <a:avLst/>
          </a:prstGeom>
          <a:solidFill>
            <a:srgbClr val="bbe0e3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436680" y="1932120"/>
            <a:ext cx="539640" cy="54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616120" y="1389240"/>
            <a:ext cx="5400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3156120" y="1389240"/>
            <a:ext cx="539640" cy="54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695760" y="1389240"/>
            <a:ext cx="539640" cy="54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436680" y="2475000"/>
            <a:ext cx="539640" cy="5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536840" y="2471760"/>
            <a:ext cx="539640" cy="5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2076480" y="2471760"/>
            <a:ext cx="539640" cy="5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2616120" y="2471760"/>
            <a:ext cx="540000" cy="5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985680" y="2478240"/>
            <a:ext cx="54000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3695760" y="1932120"/>
            <a:ext cx="539640" cy="5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156120" y="2471760"/>
            <a:ext cx="539640" cy="5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3695760" y="2471760"/>
            <a:ext cx="539640" cy="5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4235400" y="2471760"/>
            <a:ext cx="539640" cy="5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3156120" y="3011400"/>
            <a:ext cx="5396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4235400" y="3011400"/>
            <a:ext cx="539640" cy="5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4775040" y="3011400"/>
            <a:ext cx="540000" cy="5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5315040" y="3011400"/>
            <a:ext cx="539640" cy="5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5853240" y="3011400"/>
            <a:ext cx="539640" cy="5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6392880" y="3014640"/>
            <a:ext cx="549360" cy="5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695760" y="3554280"/>
            <a:ext cx="539640" cy="5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2076480" y="4094280"/>
            <a:ext cx="539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2616120" y="4094280"/>
            <a:ext cx="540000" cy="5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3156120" y="4094280"/>
            <a:ext cx="539640" cy="5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695760" y="4094280"/>
            <a:ext cx="539640" cy="5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4235400" y="4094280"/>
            <a:ext cx="539640" cy="5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775040" y="4094280"/>
            <a:ext cx="540000" cy="5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5315040" y="4094280"/>
            <a:ext cx="539640" cy="5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21"/>
          <p:cNvSpPr/>
          <p:nvPr/>
        </p:nvSpPr>
        <p:spPr>
          <a:xfrm>
            <a:off x="3965400" y="577800"/>
            <a:ext cx="46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122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133880" y="719280"/>
            <a:ext cx="633240" cy="8175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3695760" y="3014640"/>
            <a:ext cx="539640" cy="5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Rectangle 125" descr=""/>
          <p:cNvPicPr/>
          <p:nvPr/>
        </p:nvPicPr>
        <p:blipFill>
          <a:blip r:embed="rId2"/>
          <a:stretch/>
        </p:blipFill>
        <p:spPr>
          <a:xfrm>
            <a:off x="2023920" y="4035600"/>
            <a:ext cx="640080" cy="811080"/>
          </a:xfrm>
          <a:prstGeom prst="rect">
            <a:avLst/>
          </a:prstGeom>
          <a:ln w="0">
            <a:noFill/>
          </a:ln>
        </p:spPr>
      </p:pic>
      <p:pic>
        <p:nvPicPr>
          <p:cNvPr id="76" name="Rectangle 126" descr=""/>
          <p:cNvPicPr/>
          <p:nvPr/>
        </p:nvPicPr>
        <p:blipFill>
          <a:blip r:embed="rId3"/>
          <a:stretch/>
        </p:blipFill>
        <p:spPr>
          <a:xfrm>
            <a:off x="3108240" y="2968560"/>
            <a:ext cx="635040" cy="811440"/>
          </a:xfrm>
          <a:prstGeom prst="rect">
            <a:avLst/>
          </a:prstGeom>
          <a:ln w="0">
            <a:noFill/>
          </a:ln>
        </p:spPr>
      </p:pic>
      <p:pic>
        <p:nvPicPr>
          <p:cNvPr id="77" name="Rectangle 127" descr=""/>
          <p:cNvPicPr/>
          <p:nvPr/>
        </p:nvPicPr>
        <p:blipFill>
          <a:blip r:embed="rId4"/>
          <a:stretch/>
        </p:blipFill>
        <p:spPr>
          <a:xfrm>
            <a:off x="2567160" y="1328760"/>
            <a:ext cx="633240" cy="811080"/>
          </a:xfrm>
          <a:prstGeom prst="rect">
            <a:avLst/>
          </a:prstGeom>
          <a:ln w="0">
            <a:noFill/>
          </a:ln>
        </p:spPr>
      </p:pic>
      <p:pic>
        <p:nvPicPr>
          <p:cNvPr id="78" name="Rectangle 128" descr=""/>
          <p:cNvPicPr/>
          <p:nvPr/>
        </p:nvPicPr>
        <p:blipFill>
          <a:blip r:embed="rId5"/>
          <a:stretch/>
        </p:blipFill>
        <p:spPr>
          <a:xfrm>
            <a:off x="-122400" y="2401920"/>
            <a:ext cx="635040" cy="81108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129" descr=""/>
          <p:cNvPicPr/>
          <p:nvPr/>
        </p:nvPicPr>
        <p:blipFill>
          <a:blip r:embed="rId6"/>
          <a:stretch/>
        </p:blipFill>
        <p:spPr>
          <a:xfrm>
            <a:off x="384120" y="774720"/>
            <a:ext cx="639720" cy="8096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4235400" y="1392120"/>
            <a:ext cx="539640" cy="54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C:\Users\Татьяна\Desktop\животные\рисунки\5642238.png"/>
          <p:cNvPicPr/>
          <p:nvPr/>
        </p:nvPicPr>
        <p:blipFill>
          <a:blip r:embed="rId7"/>
          <a:stretch/>
        </p:blipFill>
        <p:spPr>
          <a:xfrm>
            <a:off x="1647720" y="947880"/>
            <a:ext cx="1200240" cy="11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C:\Users\Татьяна\Desktop\животные\рисунки\67364_aa0a17f3b5fc.png"/>
          <p:cNvPicPr/>
          <p:nvPr/>
        </p:nvPicPr>
        <p:blipFill>
          <a:blip r:embed="rId8"/>
          <a:stretch/>
        </p:blipFill>
        <p:spPr>
          <a:xfrm>
            <a:off x="119160" y="0"/>
            <a:ext cx="1733400" cy="1251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9"/>
          <a:stretch/>
        </p:blipFill>
        <p:spPr>
          <a:xfrm>
            <a:off x="5716440" y="1014480"/>
            <a:ext cx="1830600" cy="1766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10"/>
          <a:stretch/>
        </p:blipFill>
        <p:spPr>
          <a:xfrm>
            <a:off x="119160" y="3043080"/>
            <a:ext cx="1981080" cy="1051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11"/>
          <a:stretch/>
        </p:blipFill>
        <p:spPr>
          <a:xfrm>
            <a:off x="6946920" y="2925720"/>
            <a:ext cx="1905120" cy="1252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12"/>
          <a:stretch/>
        </p:blipFill>
        <p:spPr>
          <a:xfrm>
            <a:off x="635040" y="3921120"/>
            <a:ext cx="1492200" cy="23241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6326280" y="4952880"/>
            <a:ext cx="539640" cy="540000"/>
          </a:xfrm>
          <a:prstGeom prst="rect">
            <a:avLst/>
          </a:prstGeom>
          <a:solidFill>
            <a:srgbClr val="7030a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2006640" y="4952880"/>
            <a:ext cx="539640" cy="540000"/>
          </a:xfrm>
          <a:prstGeom prst="rect">
            <a:avLst/>
          </a:prstGeom>
          <a:solidFill>
            <a:srgbClr val="7030a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2546280" y="4952880"/>
            <a:ext cx="540000" cy="540000"/>
          </a:xfrm>
          <a:prstGeom prst="rect">
            <a:avLst/>
          </a:prstGeom>
          <a:solidFill>
            <a:srgbClr val="7030a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3086280" y="4952880"/>
            <a:ext cx="539640" cy="540000"/>
          </a:xfrm>
          <a:prstGeom prst="rect">
            <a:avLst/>
          </a:prstGeom>
          <a:solidFill>
            <a:srgbClr val="7030a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3625920" y="4952880"/>
            <a:ext cx="539640" cy="540000"/>
          </a:xfrm>
          <a:prstGeom prst="rect">
            <a:avLst/>
          </a:prstGeom>
          <a:solidFill>
            <a:srgbClr val="7030a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4165560" y="4952880"/>
            <a:ext cx="539640" cy="540000"/>
          </a:xfrm>
          <a:prstGeom prst="rect">
            <a:avLst/>
          </a:prstGeom>
          <a:solidFill>
            <a:srgbClr val="7030a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73"/>
                </a:solidFill>
                <a:latin typeface="Arial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4705200" y="4952880"/>
            <a:ext cx="541440" cy="540000"/>
          </a:xfrm>
          <a:prstGeom prst="rect">
            <a:avLst/>
          </a:prstGeom>
          <a:solidFill>
            <a:srgbClr val="7030a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5246640" y="4952880"/>
            <a:ext cx="539640" cy="540000"/>
          </a:xfrm>
          <a:prstGeom prst="rect">
            <a:avLst/>
          </a:prstGeom>
          <a:solidFill>
            <a:srgbClr val="7030a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5786280" y="4952880"/>
            <a:ext cx="540000" cy="540000"/>
          </a:xfrm>
          <a:prstGeom prst="rect">
            <a:avLst/>
          </a:prstGeom>
          <a:solidFill>
            <a:srgbClr val="7030a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6056280" y="5492880"/>
            <a:ext cx="539640" cy="539640"/>
          </a:xfrm>
          <a:prstGeom prst="rect">
            <a:avLst/>
          </a:prstGeom>
          <a:solidFill>
            <a:srgbClr val="7030a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2276640" y="5492880"/>
            <a:ext cx="539640" cy="539640"/>
          </a:xfrm>
          <a:prstGeom prst="rect">
            <a:avLst/>
          </a:prstGeom>
          <a:solidFill>
            <a:srgbClr val="7030a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20"/>
          <p:cNvSpPr/>
          <p:nvPr/>
        </p:nvSpPr>
        <p:spPr>
          <a:xfrm>
            <a:off x="2816280" y="5492880"/>
            <a:ext cx="539640" cy="539640"/>
          </a:xfrm>
          <a:prstGeom prst="rect">
            <a:avLst/>
          </a:prstGeom>
          <a:solidFill>
            <a:srgbClr val="7030a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355920" y="5492880"/>
            <a:ext cx="539640" cy="539640"/>
          </a:xfrm>
          <a:prstGeom prst="rect">
            <a:avLst/>
          </a:prstGeom>
          <a:solidFill>
            <a:srgbClr val="7030a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3895560" y="5492880"/>
            <a:ext cx="540000" cy="539640"/>
          </a:xfrm>
          <a:prstGeom prst="rect">
            <a:avLst/>
          </a:prstGeom>
          <a:solidFill>
            <a:srgbClr val="7030a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4435560" y="5492880"/>
            <a:ext cx="539640" cy="539640"/>
          </a:xfrm>
          <a:prstGeom prst="rect">
            <a:avLst/>
          </a:prstGeom>
          <a:solidFill>
            <a:srgbClr val="7030a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4975200" y="5492880"/>
            <a:ext cx="541440" cy="539640"/>
          </a:xfrm>
          <a:prstGeom prst="rect">
            <a:avLst/>
          </a:prstGeom>
          <a:solidFill>
            <a:srgbClr val="7030a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5516640" y="5492880"/>
            <a:ext cx="539640" cy="539640"/>
          </a:xfrm>
          <a:prstGeom prst="rect">
            <a:avLst/>
          </a:prstGeom>
          <a:solidFill>
            <a:srgbClr val="7030a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3355920" y="6032520"/>
            <a:ext cx="539640" cy="539640"/>
          </a:xfrm>
          <a:prstGeom prst="rect">
            <a:avLst/>
          </a:prstGeom>
          <a:solidFill>
            <a:srgbClr val="7030a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27"/>
          <p:cNvSpPr/>
          <p:nvPr/>
        </p:nvSpPr>
        <p:spPr>
          <a:xfrm>
            <a:off x="3895560" y="6032520"/>
            <a:ext cx="540000" cy="539640"/>
          </a:xfrm>
          <a:prstGeom prst="rect">
            <a:avLst/>
          </a:prstGeom>
          <a:solidFill>
            <a:srgbClr val="7030a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4435560" y="6032520"/>
            <a:ext cx="539640" cy="539640"/>
          </a:xfrm>
          <a:prstGeom prst="rect">
            <a:avLst/>
          </a:prstGeom>
          <a:solidFill>
            <a:srgbClr val="7030a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4975200" y="6032520"/>
            <a:ext cx="541440" cy="539640"/>
          </a:xfrm>
          <a:prstGeom prst="rect">
            <a:avLst/>
          </a:prstGeom>
          <a:solidFill>
            <a:srgbClr val="7030a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5519880" y="6032520"/>
            <a:ext cx="539640" cy="539640"/>
          </a:xfrm>
          <a:prstGeom prst="rect">
            <a:avLst/>
          </a:prstGeom>
          <a:solidFill>
            <a:srgbClr val="7030a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6059520" y="6032520"/>
            <a:ext cx="541440" cy="539640"/>
          </a:xfrm>
          <a:prstGeom prst="rect">
            <a:avLst/>
          </a:prstGeom>
          <a:solidFill>
            <a:srgbClr val="7030a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6865920" y="4952880"/>
            <a:ext cx="539640" cy="540000"/>
          </a:xfrm>
          <a:prstGeom prst="rect">
            <a:avLst/>
          </a:prstGeom>
          <a:solidFill>
            <a:srgbClr val="7030a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595920" y="5492880"/>
            <a:ext cx="540000" cy="539640"/>
          </a:xfrm>
          <a:prstGeom prst="rect">
            <a:avLst/>
          </a:prstGeom>
          <a:solidFill>
            <a:srgbClr val="7030a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2816280" y="6032520"/>
            <a:ext cx="539640" cy="539640"/>
          </a:xfrm>
          <a:prstGeom prst="rect">
            <a:avLst/>
          </a:prstGeom>
          <a:solidFill>
            <a:srgbClr val="7030a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568600" y="4938840"/>
            <a:ext cx="539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095640" y="4938840"/>
            <a:ext cx="539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3092400" y="4964040"/>
            <a:ext cx="5396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3092400" y="4957920"/>
            <a:ext cx="539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3092400" y="4971960"/>
            <a:ext cx="5396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3105000" y="494028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3086280" y="4957920"/>
            <a:ext cx="539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3105000" y="493884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089160" y="493884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3111480" y="4940280"/>
            <a:ext cx="539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3086280" y="4971960"/>
            <a:ext cx="5396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3086280" y="4957920"/>
            <a:ext cx="539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4711680" y="497196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721400" y="495792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4694400" y="492300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4686480" y="492300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4694400" y="494028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4721400" y="4971960"/>
            <a:ext cx="541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4711680" y="497196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4711680" y="497196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4708440" y="49402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4708440" y="497196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4721400" y="494028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4721400" y="495792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5235480" y="496728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5262480" y="4971960"/>
            <a:ext cx="540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5268960" y="4967280"/>
            <a:ext cx="539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5235480" y="496728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5227560" y="4971960"/>
            <a:ext cx="540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5268960" y="4952880"/>
            <a:ext cx="5396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5268960" y="4967280"/>
            <a:ext cx="539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5253120" y="4935600"/>
            <a:ext cx="539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5268960" y="4935600"/>
            <a:ext cx="539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5268960" y="4935600"/>
            <a:ext cx="539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5235480" y="4971960"/>
            <a:ext cx="540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2004840" y="495792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2004840" y="49402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2004840" y="495792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2004840" y="497196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2006640" y="495792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004840" y="495792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2006640" y="494352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004840" y="495792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1992240" y="497196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2004840" y="497196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2548080" y="4952880"/>
            <a:ext cx="541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2532240" y="4952880"/>
            <a:ext cx="541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2532240" y="4952880"/>
            <a:ext cx="541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2548080" y="493884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2548080" y="497052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2548080" y="4952880"/>
            <a:ext cx="541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2530440" y="497052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2548080" y="4952880"/>
            <a:ext cx="541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563920" y="493884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2530440" y="497196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3605040" y="495288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3624120" y="49388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3619440" y="49388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3635280" y="49388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3635280" y="495288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3635280" y="49388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3635280" y="495288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3605040" y="49388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3619440" y="49388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3635280" y="492300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4160880" y="49402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4152960" y="495288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4179960" y="495288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154400" y="497196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4154400" y="495288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4145040" y="49388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4145040" y="497052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4179960" y="495288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4160880" y="49402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4145040" y="49388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6865920" y="495288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6865920" y="495288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6883560" y="4952880"/>
            <a:ext cx="541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6865920" y="497196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6883560" y="4971960"/>
            <a:ext cx="541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6865920" y="495288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6865920" y="495288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6865920" y="495288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6854760" y="497052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6854760" y="497052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2814480" y="5504040"/>
            <a:ext cx="5432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2814480" y="5504040"/>
            <a:ext cx="5432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814480" y="5504040"/>
            <a:ext cx="5432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2833560" y="55040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2814480" y="5505480"/>
            <a:ext cx="5432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2801880" y="549108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2843280" y="549108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2814480" y="5505480"/>
            <a:ext cx="5432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2814480" y="5505480"/>
            <a:ext cx="5432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2833560" y="55054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349800" y="550548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3349800" y="550548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3362400" y="549108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3365640" y="550548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3333600" y="54896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3381480" y="548964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3365640" y="548964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3365640" y="550548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3365640" y="548964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3381480" y="550548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3903840" y="550548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3873600" y="548964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903840" y="550548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3873600" y="550548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3884760" y="548964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3873600" y="548964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3873600" y="548964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3903840" y="550548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3914640" y="55054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3884760" y="548964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3903840" y="548964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4422600" y="55054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4422600" y="54896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4437000" y="5489640"/>
            <a:ext cx="5428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4422600" y="55054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4422600" y="54896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4437000" y="5505480"/>
            <a:ext cx="5428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4438800" y="548964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4422600" y="547200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4422600" y="55054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4975200" y="55054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4975200" y="54896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4975200" y="54896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4975200" y="55054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4975200" y="55054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4959360" y="54896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4975200" y="54896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4975200" y="54896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4975200" y="55054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5497560" y="54896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5497560" y="54896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5522760" y="54896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5497560" y="54896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5510160" y="55054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5510160" y="54896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5522760" y="55054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5510160" y="55054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6051600" y="54896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6051600" y="54896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6064200" y="54896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6039000" y="548964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6064200" y="55054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6051600" y="54896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6064200" y="55054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6064200" y="54896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6599160" y="54896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6599160" y="54896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6585120" y="548964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6611760" y="55054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6599160" y="54896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6611760" y="55054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6599160" y="54896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6611760" y="54896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2814480" y="6043680"/>
            <a:ext cx="5432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2814480" y="6043680"/>
            <a:ext cx="5432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2814480" y="6029280"/>
            <a:ext cx="5432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2828880" y="60436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2828880" y="60436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2801880" y="60292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2828880" y="60436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2814480" y="6058080"/>
            <a:ext cx="5432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3349800" y="602928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3370320" y="60436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3365640" y="602136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3349800" y="602136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3349800" y="604044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3367080" y="60404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3335400" y="60404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3887640" y="60404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3903840" y="602136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3887640" y="60404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3903840" y="602136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3871800" y="60580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3903840" y="6026040"/>
            <a:ext cx="541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3871800" y="60580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3903840" y="604044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3871800" y="602604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3903840" y="604044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3887640" y="602604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3887640" y="60580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4438800" y="601200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4438800" y="600876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4422600" y="602604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4422600" y="602604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4438800" y="605808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4422600" y="602604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4422600" y="602604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4429080" y="60580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4975200" y="60580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4975200" y="602604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4975200" y="60404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4991040" y="602136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4959360" y="60404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5002200" y="60580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4959360" y="60580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4975200" y="602604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5522760" y="604188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5526000" y="60404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5510160" y="60404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5526000" y="60404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5510160" y="60580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5510160" y="602604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5526000" y="602604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5538960" y="6026040"/>
            <a:ext cx="541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6080040" y="60278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6075360" y="60404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6080040" y="604512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6080040" y="60580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5781600" y="495288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5"/>
          <p:cNvSpPr/>
          <p:nvPr/>
        </p:nvSpPr>
        <p:spPr>
          <a:xfrm>
            <a:off x="5794200" y="49388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5781600" y="495288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5794200" y="496872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5810400" y="4968720"/>
            <a:ext cx="541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5796000" y="495288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5781600" y="495288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5810400" y="4952880"/>
            <a:ext cx="541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5796000" y="496872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6313320" y="495288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6308640" y="493704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6313320" y="49388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6329520" y="4937040"/>
            <a:ext cx="541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6313320" y="495288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6313320" y="493704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6313320" y="495288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2276640" y="5487840"/>
            <a:ext cx="541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2292480" y="548964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2278080" y="55054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2278080" y="54896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2279520" y="54896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2279520" y="55054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2292480" y="550548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2262240" y="54896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2292480" y="550548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5"/>
          <p:cNvSpPr/>
          <p:nvPr/>
        </p:nvSpPr>
        <p:spPr>
          <a:xfrm>
            <a:off x="2260440" y="54896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Rectangle 1" descr=""/>
          <p:cNvPicPr/>
          <p:nvPr/>
        </p:nvPicPr>
        <p:blipFill>
          <a:blip r:embed="rId13"/>
          <a:stretch/>
        </p:blipFill>
        <p:spPr>
          <a:xfrm>
            <a:off x="1852560" y="19080"/>
            <a:ext cx="5389560" cy="1077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18" descr="https://ochprosto.com/wp-content/uploads/2015/07/kak-bystro-ochishhat-korzinu-mac-os.png"/>
          <p:cNvPicPr/>
          <p:nvPr/>
        </p:nvPicPr>
        <p:blipFill>
          <a:blip r:embed="rId14"/>
          <a:stretch/>
        </p:blipFill>
        <p:spPr>
          <a:xfrm>
            <a:off x="7407360" y="5322960"/>
            <a:ext cx="1600200" cy="144144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5"/>
          <p:cNvSpPr/>
          <p:nvPr/>
        </p:nvSpPr>
        <p:spPr>
          <a:xfrm>
            <a:off x="7629480" y="5495760"/>
            <a:ext cx="5396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8169120" y="5506920"/>
            <a:ext cx="567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7629480" y="6032520"/>
            <a:ext cx="539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8169120" y="6021360"/>
            <a:ext cx="5670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1T14:44:02Z</dcterms:created>
  <dc:creator>Татьяна Альзинская</dc:creator>
  <dc:description/>
  <dc:language>en-US</dc:language>
  <cp:lastModifiedBy>Татьяна</cp:lastModifiedBy>
  <dcterms:modified xsi:type="dcterms:W3CDTF">2017-05-19T17:24:06Z</dcterms:modified>
  <cp:revision>2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