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8B3-3DFE-4FAF-B427-FAC7DD82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53C-4527-4024-A54D-A1688B6B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440-019C-4BFF-BA97-392B03B2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E7C-1355-4951-B4D3-3F2342D4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6C58-987A-4655-997B-0FCA7CFB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18AA-0BC6-402D-91DD-D0C781AA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B99-E02C-4ADB-8C46-0BB4B96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54C3-AD26-4F7A-817B-CEAEA3E8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474-4E44-432E-A4BE-EF90DE23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AF7B-6EA9-4A3E-9C76-2BB174F0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068A-690C-4559-8149-D33FC27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48A-BD00-470F-91D4-51DCF35F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DD96-7435-46A7-8B19-E1540EE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D0FF-47F9-4DF1-9CD7-6740C0E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B182-EB93-4074-9534-861C1CA3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226A-6E7F-4085-98C5-F8EA7A93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430-5CDE-49CF-9E49-A2F7C750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1C0E-99A7-41AE-9B69-06646735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546C-5C9C-42F7-8C0D-C5CD62D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2EAD-2B70-4D03-B353-FA700DC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1432-8B34-428C-B490-E748723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7573-773A-4248-8C54-8976D4C6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6D6-93B5-4F6E-A139-A3CBDB3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37D8-948F-421D-9BA2-5F3E858A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709C-033F-4918-B0E4-D679DE7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047A-10F6-40DD-BB0B-D07D5DC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76CB-90DC-4202-8569-A64A8C7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4BAA-5B78-4C11-86A4-2E1A82B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4053-89BF-43C6-B5C0-CCE9AEEC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FADF-6F65-46A5-8BDC-EEBD60C2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B2536-C7B4-42C2-AAD5-72DD143A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AED7-716B-4DC9-B476-62386BD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43B5-6671-4B93-BF10-29D22F12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F7D-E2D8-412F-A91E-39D68DF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DC24-1707-4BB1-A459-BE8E7D6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695E-3ECF-4A3F-B1BF-8990E48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091C-99D5-4443-859E-E867E83E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AA22-EF4A-4A2A-B7AB-EEA04DC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8A291-08E5-4D31-A141-C0FD1D2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22F5-8088-496D-BCD8-529369E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175D-AA3A-4907-9D7F-FA433308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B054-021F-49E3-87E8-6AC54F21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D60D-05D8-4903-A53B-782674D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246-1DE2-4708-8BAC-4F78FD8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AE2-21C5-4557-ADF4-121ABE4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57F-D5D8-46AE-8BF4-0DDA3F2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B1A-DAED-467F-8304-117F7BF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CA1-D673-433C-8785-782A20A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08E6-FE51-4DA5-A5A7-92284115E1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DC73-20EC-4B08-94F9-0A7891B8BD7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C3C-1E5F-4340-9555-BE7F52574D8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D54C-7F1B-40B8-9850-EF63B926446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6480" y="-365040"/>
            <a:ext cx="8906040" cy="112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4720" y="5444640"/>
            <a:ext cx="4643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Садыкова Ф.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ДОУ «Д/с №125»к.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Users\Николай\Desktop\Новая папка\DSCN8873.JPG"/>
          <p:cNvPicPr/>
          <p:nvPr/>
        </p:nvPicPr>
        <p:blipFill>
          <a:blip r:embed="rId2"/>
          <a:stretch/>
        </p:blipFill>
        <p:spPr>
          <a:xfrm>
            <a:off x="1042920" y="765000"/>
            <a:ext cx="7021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Николай\Desktop\Новая папка\DSCN8898.JPG"/>
          <p:cNvPicPr/>
          <p:nvPr/>
        </p:nvPicPr>
        <p:blipFill>
          <a:blip r:embed="rId2"/>
          <a:stretch/>
        </p:blipFill>
        <p:spPr>
          <a:xfrm>
            <a:off x="1187280" y="1916280"/>
            <a:ext cx="7223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Николай\Desktop\Новая папка\DSCN8899.JPG"/>
          <p:cNvPicPr/>
          <p:nvPr/>
        </p:nvPicPr>
        <p:blipFill>
          <a:blip r:embed="rId2"/>
          <a:stretch/>
        </p:blipFill>
        <p:spPr>
          <a:xfrm>
            <a:off x="1332000" y="2060640"/>
            <a:ext cx="691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865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731880" y="701640"/>
            <a:ext cx="8040600" cy="11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Николай\Desktop\Новая папка\DSCN8890.JPG"/>
          <p:cNvPicPr/>
          <p:nvPr/>
        </p:nvPicPr>
        <p:blipFill>
          <a:blip r:embed="rId2"/>
          <a:stretch/>
        </p:blipFill>
        <p:spPr>
          <a:xfrm>
            <a:off x="179280" y="1844640"/>
            <a:ext cx="8713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Николай\Desktop\Новая папка\DSCN8889.JPG"/>
          <p:cNvPicPr/>
          <p:nvPr/>
        </p:nvPicPr>
        <p:blipFill>
          <a:blip r:embed="rId1"/>
          <a:stretch/>
        </p:blipFill>
        <p:spPr>
          <a:xfrm>
            <a:off x="900000" y="907920"/>
            <a:ext cx="7371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Николай\Desktop\Новая папка\DSCN8877.JPG"/>
          <p:cNvPicPr/>
          <p:nvPr/>
        </p:nvPicPr>
        <p:blipFill>
          <a:blip r:embed="rId2"/>
          <a:stretch/>
        </p:blipFill>
        <p:spPr>
          <a:xfrm>
            <a:off x="826920" y="1989000"/>
            <a:ext cx="741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Николай\Desktop\Новая папка\DSCN8878.JPG"/>
          <p:cNvPicPr/>
          <p:nvPr/>
        </p:nvPicPr>
        <p:blipFill>
          <a:blip r:embed="rId2"/>
          <a:stretch/>
        </p:blipFill>
        <p:spPr>
          <a:xfrm>
            <a:off x="1258920" y="1844640"/>
            <a:ext cx="703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Николай\Desktop\Новая папка\DSCN8879.JPG"/>
          <p:cNvPicPr/>
          <p:nvPr/>
        </p:nvPicPr>
        <p:blipFill>
          <a:blip r:embed="rId2"/>
          <a:stretch/>
        </p:blipFill>
        <p:spPr>
          <a:xfrm>
            <a:off x="1116000" y="1916280"/>
            <a:ext cx="721692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Николай\Desktop\Новая папка\DSCN8881.JPG"/>
          <p:cNvPicPr/>
          <p:nvPr/>
        </p:nvPicPr>
        <p:blipFill>
          <a:blip r:embed="rId2"/>
          <a:stretch/>
        </p:blipFill>
        <p:spPr>
          <a:xfrm>
            <a:off x="900000" y="1773360"/>
            <a:ext cx="7392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Николай\Desktop\Новая папка\DSCN8882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612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Николай\Desktop\Новая папка\DSCN8883.JPG"/>
          <p:cNvPicPr/>
          <p:nvPr/>
        </p:nvPicPr>
        <p:blipFill>
          <a:blip r:embed="rId2"/>
          <a:stretch/>
        </p:blipFill>
        <p:spPr>
          <a:xfrm>
            <a:off x="1187280" y="1989000"/>
            <a:ext cx="6966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Николай\Desktop\Новая папка\DSCN8885.JPG"/>
          <p:cNvPicPr/>
          <p:nvPr/>
        </p:nvPicPr>
        <p:blipFill>
          <a:blip r:embed="rId2"/>
          <a:stretch/>
        </p:blipFill>
        <p:spPr>
          <a:xfrm>
            <a:off x="1116000" y="1989000"/>
            <a:ext cx="703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5:21:03Z</dcterms:created>
  <dc:creator>Леночка</dc:creator>
  <dc:description/>
  <dc:language>en-US</dc:language>
  <cp:lastModifiedBy>Николай</cp:lastModifiedBy>
  <dcterms:modified xsi:type="dcterms:W3CDTF">2017-05-22T13:49:31Z</dcterms:modified>
  <cp:revision>58</cp:revision>
  <dc:subject/>
  <dc:title>Утюги со старины до современности</dc:title>
</cp:coreProperties>
</file>