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4BF-8669-4734-8D68-9B031E96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0B-3AAC-45EC-A601-BC4B321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329-0F2E-40CD-B9AC-01FCF876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952-D76F-45D2-86B6-90C0B13C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679-B520-4E0E-AAA6-EBC14C0C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BD3E-1A5D-43A6-AA29-C9914E03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DEED-7B33-49A8-8EE5-449562E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089B-E7A2-4923-BCAB-51B1007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1FDC-33D8-414B-9540-1785CED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B5B-F4A5-4857-A9EE-D748BE4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C8E8-A3EF-4A0B-A64B-1938A5D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1B0-1376-4BDD-90DA-9B4BCD0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4590-F871-4A38-9FFC-FECB609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DB4F-F735-44E7-AEE0-ABBE762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9CE-23C4-43B7-8680-AAF7356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AACF-7D1A-422E-9AE3-0253EFA4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7EF2-95CD-4B58-8E67-9D53A3E0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83D9-641E-4621-B806-F91E172C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4CAF-8C3D-4DF5-94CB-AFA17A9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F548-AC0E-4B2A-A090-B9356BC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D429-61E3-4AC8-9321-1BC8837A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BA1C-63D6-4676-933E-B7F722C1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E1C-ABA9-4435-8745-CD07097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2A22-14C4-45BE-94F9-4E1E587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B66B-49DC-42B5-85E3-28E6CBB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B743-851A-422E-8B65-B1A6B28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EEED-0A78-4177-9071-73F15F4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FA85-8295-495B-B0B3-8E030ACB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CD43-521A-4430-8CAE-3A077BFD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DD01-194C-4874-BAE3-1330BB8E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A9C8-4927-463E-92AC-48D7E904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A61A-EDD0-4807-8C0D-7DDA625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92FF-0683-4359-AABB-955C7B6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002-D79E-4BF2-9381-54C12C16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E319-1901-4EE7-A748-AF9BFE7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2932-F5F0-4FFC-9A7D-4116499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5902-BCD8-48C6-8362-3D73BE4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F8A5-1CA4-4B11-B4B4-7DC868E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D32A-A0D7-4C99-BB4E-1DEB999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0331-29FA-4113-AA65-EC7DBDC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29AF-9C53-44A2-AF93-2F49149D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7F5B-59A6-4960-8215-301F286C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2A1C-BC4A-4F9E-806B-90684169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315-8059-472C-9590-8DA94D5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030-5B4D-40CA-AF0B-DEEC596B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558-18B9-462C-AA25-685E574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A04-8F13-4F5F-AFA8-D352EB6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D31-5A10-4B00-81AB-1A1AA47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4F69-1E94-404A-80E1-3262976369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A2A-B587-4897-A40D-3B889EB00DB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664-C23E-40A1-9EBE-23637F3997F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E5A-EBD6-4227-9D81-DDBD04B11C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6480" y="-365040"/>
            <a:ext cx="8906040" cy="112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284720" y="5444640"/>
            <a:ext cx="4643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Садыкова Ф.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ДОУ «Д/с №125»к.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иколай\Desktop\Новая папка\DSCN8873.JPG"/>
          <p:cNvPicPr/>
          <p:nvPr/>
        </p:nvPicPr>
        <p:blipFill>
          <a:blip r:embed="rId2"/>
          <a:stretch/>
        </p:blipFill>
        <p:spPr>
          <a:xfrm>
            <a:off x="1042920" y="765000"/>
            <a:ext cx="7021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Николай\Desktop\Новая папка\DSCN8898.JPG"/>
          <p:cNvPicPr/>
          <p:nvPr/>
        </p:nvPicPr>
        <p:blipFill>
          <a:blip r:embed="rId2"/>
          <a:stretch/>
        </p:blipFill>
        <p:spPr>
          <a:xfrm>
            <a:off x="1187280" y="1916280"/>
            <a:ext cx="7223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Николай\Desktop\Новая папка\DSCN8899.JPG"/>
          <p:cNvPicPr/>
          <p:nvPr/>
        </p:nvPicPr>
        <p:blipFill>
          <a:blip r:embed="rId2"/>
          <a:stretch/>
        </p:blipFill>
        <p:spPr>
          <a:xfrm>
            <a:off x="1332000" y="2060640"/>
            <a:ext cx="691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865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731880" y="701640"/>
            <a:ext cx="8040600" cy="11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Николай\Desktop\Новая папка\DSCN8890.JPG"/>
          <p:cNvPicPr/>
          <p:nvPr/>
        </p:nvPicPr>
        <p:blipFill>
          <a:blip r:embed="rId2"/>
          <a:stretch/>
        </p:blipFill>
        <p:spPr>
          <a:xfrm>
            <a:off x="179280" y="1844640"/>
            <a:ext cx="8713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Николай\Desktop\Новая папка\DSCN8889.JPG"/>
          <p:cNvPicPr/>
          <p:nvPr/>
        </p:nvPicPr>
        <p:blipFill>
          <a:blip r:embed="rId1"/>
          <a:stretch/>
        </p:blipFill>
        <p:spPr>
          <a:xfrm>
            <a:off x="900000" y="907920"/>
            <a:ext cx="7371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Николай\Desktop\Новая папка\DSCN8877.JPG"/>
          <p:cNvPicPr/>
          <p:nvPr/>
        </p:nvPicPr>
        <p:blipFill>
          <a:blip r:embed="rId2"/>
          <a:stretch/>
        </p:blipFill>
        <p:spPr>
          <a:xfrm>
            <a:off x="826920" y="1989000"/>
            <a:ext cx="741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Николай\Desktop\Новая папка\DSCN8878.JPG"/>
          <p:cNvPicPr/>
          <p:nvPr/>
        </p:nvPicPr>
        <p:blipFill>
          <a:blip r:embed="rId2"/>
          <a:stretch/>
        </p:blipFill>
        <p:spPr>
          <a:xfrm>
            <a:off x="1258920" y="1844640"/>
            <a:ext cx="703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Николай\Desktop\Новая папка\DSCN8879.JPG"/>
          <p:cNvPicPr/>
          <p:nvPr/>
        </p:nvPicPr>
        <p:blipFill>
          <a:blip r:embed="rId2"/>
          <a:stretch/>
        </p:blipFill>
        <p:spPr>
          <a:xfrm>
            <a:off x="1116000" y="1916280"/>
            <a:ext cx="721692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Николай\Desktop\Новая папка\DSCN8881.JPG"/>
          <p:cNvPicPr/>
          <p:nvPr/>
        </p:nvPicPr>
        <p:blipFill>
          <a:blip r:embed="rId2"/>
          <a:stretch/>
        </p:blipFill>
        <p:spPr>
          <a:xfrm>
            <a:off x="900000" y="1773360"/>
            <a:ext cx="7392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Николай\Desktop\Новая папка\DSCN8882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612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Николай\Desktop\Новая папка\DSCN8883.JPG"/>
          <p:cNvPicPr/>
          <p:nvPr/>
        </p:nvPicPr>
        <p:blipFill>
          <a:blip r:embed="rId2"/>
          <a:stretch/>
        </p:blipFill>
        <p:spPr>
          <a:xfrm>
            <a:off x="1187280" y="1989000"/>
            <a:ext cx="6966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Николай\Desktop\Новая папка\DSCN8885.JPG"/>
          <p:cNvPicPr/>
          <p:nvPr/>
        </p:nvPicPr>
        <p:blipFill>
          <a:blip r:embed="rId2"/>
          <a:stretch/>
        </p:blipFill>
        <p:spPr>
          <a:xfrm>
            <a:off x="1116000" y="1989000"/>
            <a:ext cx="703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5:21:03Z</dcterms:created>
  <dc:creator>Леночка</dc:creator>
  <dc:description/>
  <dc:language>en-US</dc:language>
  <cp:lastModifiedBy>Николай</cp:lastModifiedBy>
  <dcterms:modified xsi:type="dcterms:W3CDTF">2017-05-22T13:49:31Z</dcterms:modified>
  <cp:revision>58</cp:revision>
  <dc:subject/>
  <dc:title>Утюги со старины до современности</dc:title>
</cp:coreProperties>
</file>