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837-7D36-4CA3-AA3A-8B9E5A30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D4AD-E614-406A-B4D1-05AD9A6F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A846-1602-464F-AE30-BDF69031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F88-A202-495A-8992-421B22F7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D958-1CDF-4EFA-B128-8995F75A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002F-DEDF-4FAD-9A7E-E24684CA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F3EA-B407-4A15-979C-04C56FE0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8B27-2DF4-4F60-AD20-C901AB7B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EA6F-AB06-436E-ABFB-BF04136D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5584-FB65-49F4-B1A4-45269AB1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493B-7243-43AC-88EF-704F22B4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9271-1005-44D4-9861-64CF852C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6484-946D-489E-8D85-97A1D51C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AC06-4F3D-44BC-84B6-1C092817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D5B5-8EA8-4AE7-B775-65FA783B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0931-4FA6-4248-BBF7-3F308C9F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3DF8-6A85-4C9E-954A-315A1106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4AC9-1AAF-4D5A-AD4D-1D5ACC93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2BA5-27D3-46F4-B6C5-90923FC7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8FC2-E77A-4A34-A4D6-3CB0E457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283-9ED1-480E-A2D0-37A4865B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2B69-C18B-4017-AEED-3F5145E3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ED7B-91BC-40AE-8688-3277932C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3C8-6E9A-4174-915B-882D3D8C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F3F7-6BED-43D4-A460-35286CB7B651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76D9-D631-4E61-89E9-CAEFAA6A24F2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5732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едагогический совет </a:t>
            </a:r>
            <a:br>
              <a:rPr sz="36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«Роль личности педагога в формировании имиджа образовательного учреждения»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555480" y="228600"/>
            <a:ext cx="856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ниципальное бюджетное 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"Питлярская средняя общеобразовательная школ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"Образовательный центр"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91" name="Picture 4" descr="G:\Новый рисунок.png"/>
          <p:cNvPicPr/>
          <p:nvPr/>
        </p:nvPicPr>
        <p:blipFill>
          <a:blip r:embed="rId1"/>
          <a:stretch/>
        </p:blipFill>
        <p:spPr>
          <a:xfrm>
            <a:off x="3505320" y="1281240"/>
            <a:ext cx="2057400" cy="1314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102)"/>
                                      </p:to>
                                    </p:set>
                                    <p:set>
                                      <p:cBhvr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102)"/>
                                      </p:to>
                                    </p:se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609480" y="66600"/>
            <a:ext cx="7607520" cy="1579680"/>
          </a:xfrm>
          <a:prstGeom prst="rect">
            <a:avLst/>
          </a:prstGeom>
          <a:ln w="0">
            <a:noFill/>
          </a:ln>
        </p:spPr>
      </p:pic>
      <p:sp>
        <p:nvSpPr>
          <p:cNvPr id="110" name="Горизонтальный свиток 23"/>
          <p:cNvSpPr/>
          <p:nvPr/>
        </p:nvSpPr>
        <p:spPr>
          <a:xfrm>
            <a:off x="1143000" y="990720"/>
            <a:ext cx="6286680" cy="3143160"/>
          </a:xfrm>
          <a:prstGeom prst="horizontalScroll">
            <a:avLst>
              <a:gd name="adj" fmla="val 18625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316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ВОСПРИНИМАЕМЫЙ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1" name="Горизонтальный свиток 24"/>
          <p:cNvSpPr/>
          <p:nvPr/>
        </p:nvSpPr>
        <p:spPr>
          <a:xfrm>
            <a:off x="3000240" y="3143160"/>
            <a:ext cx="5786640" cy="3500640"/>
          </a:xfrm>
          <a:prstGeom prst="horizontalScroll">
            <a:avLst>
              <a:gd name="adj" fmla="val 19120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316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imes New Roman"/>
              </a:rPr>
              <a:t>ТРЕБУЕМЫЙ: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2000"/>
                </a:solidFill>
                <a:latin typeface="Times New Roman"/>
              </a:rPr>
              <a:t>личностный;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2000"/>
                </a:solidFill>
                <a:latin typeface="Times New Roman"/>
              </a:rPr>
              <a:t>профессиональный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993600" y="457200"/>
            <a:ext cx="7772400" cy="1146240"/>
          </a:xfrm>
          <a:prstGeom prst="rect">
            <a:avLst/>
          </a:prstGeom>
          <a:ln w="0">
            <a:noFill/>
          </a:ln>
        </p:spPr>
      </p:pic>
      <p:pic>
        <p:nvPicPr>
          <p:cNvPr id="113" name="Содержимое 3" descr=""/>
          <p:cNvPicPr/>
          <p:nvPr/>
        </p:nvPicPr>
        <p:blipFill>
          <a:blip r:embed="rId2"/>
          <a:stretch/>
        </p:blipFill>
        <p:spPr>
          <a:xfrm>
            <a:off x="457200" y="390600"/>
            <a:ext cx="8229600" cy="5649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642960" y="2500200"/>
            <a:ext cx="8143560" cy="1213920"/>
            <a:chOff x="642960" y="2500200"/>
            <a:chExt cx="8143560" cy="1213920"/>
          </a:xfrm>
        </p:grpSpPr>
        <p:sp>
          <p:nvSpPr>
            <p:cNvPr id="115" name="Freeform 3"/>
            <p:cNvSpPr/>
            <p:nvPr/>
          </p:nvSpPr>
          <p:spPr>
            <a:xfrm>
              <a:off x="909720" y="3199320"/>
              <a:ext cx="7609680" cy="514800"/>
            </a:xfrm>
            <a:custGeom>
              <a:avLst/>
              <a:gdLst>
                <a:gd name="textAreaLeft" fmla="*/ 0 w 7609680"/>
                <a:gd name="textAreaRight" fmla="*/ 7610040 w 7609680"/>
                <a:gd name="textAreaTop" fmla="*/ 0 h 514800"/>
                <a:gd name="textAreaBottom" fmla="*/ 515160 h 51480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642960" y="2500200"/>
              <a:ext cx="8143560" cy="10648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17" name="Text Box 5"/>
          <p:cNvSpPr/>
          <p:nvPr/>
        </p:nvSpPr>
        <p:spPr>
          <a:xfrm>
            <a:off x="0" y="271476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Arial"/>
              </a:rPr>
              <a:t>ПЕДАГОГИЧЕСКОЕ МЫШЛЕНИЕ</a:t>
            </a:r>
            <a:r>
              <a:rPr b="0" lang="ru-RU" sz="28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02000"/>
                </a:solidFill>
                <a:latin typeface="Arial"/>
              </a:rPr>
              <a:t>И ИНТУИЦИ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118" name="Group 6"/>
          <p:cNvGrpSpPr/>
          <p:nvPr/>
        </p:nvGrpSpPr>
        <p:grpSpPr>
          <a:xfrm>
            <a:off x="642960" y="1357200"/>
            <a:ext cx="8214840" cy="1071360"/>
            <a:chOff x="642960" y="1357200"/>
            <a:chExt cx="8214840" cy="1071360"/>
          </a:xfrm>
        </p:grpSpPr>
        <p:sp>
          <p:nvSpPr>
            <p:cNvPr id="119" name="Freeform 7"/>
            <p:cNvSpPr/>
            <p:nvPr/>
          </p:nvSpPr>
          <p:spPr>
            <a:xfrm>
              <a:off x="911880" y="1974240"/>
              <a:ext cx="7676280" cy="454320"/>
            </a:xfrm>
            <a:custGeom>
              <a:avLst/>
              <a:gdLst>
                <a:gd name="textAreaLeft" fmla="*/ 0 w 7676280"/>
                <a:gd name="textAreaRight" fmla="*/ 7676640 w 767628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>
              <a:off x="642960" y="1357200"/>
              <a:ext cx="8214840" cy="93960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21" name="Text Box 9"/>
          <p:cNvSpPr/>
          <p:nvPr/>
        </p:nvSpPr>
        <p:spPr>
          <a:xfrm>
            <a:off x="2571840" y="2357280"/>
            <a:ext cx="485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642960" y="214200"/>
            <a:ext cx="8143560" cy="5735520"/>
            <a:chOff x="642960" y="214200"/>
            <a:chExt cx="8143560" cy="5735520"/>
          </a:xfrm>
        </p:grpSpPr>
        <p:sp>
          <p:nvSpPr>
            <p:cNvPr id="123" name="Freeform 11"/>
            <p:cNvSpPr/>
            <p:nvPr/>
          </p:nvSpPr>
          <p:spPr>
            <a:xfrm>
              <a:off x="1140480" y="861480"/>
              <a:ext cx="7609680" cy="424080"/>
            </a:xfrm>
            <a:custGeom>
              <a:avLst/>
              <a:gdLst>
                <a:gd name="textAreaLeft" fmla="*/ 0 w 7609680"/>
                <a:gd name="textAreaRight" fmla="*/ 7610040 w 760968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24" name="Rectangle 12"/>
            <p:cNvSpPr/>
            <p:nvPr/>
          </p:nvSpPr>
          <p:spPr>
            <a:xfrm>
              <a:off x="642960" y="214200"/>
              <a:ext cx="8143560" cy="948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402000"/>
                  </a:solidFill>
                  <a:latin typeface="Arial"/>
                </a:rPr>
                <a:t>ПРОФЕССИОНАЛЬНАЯ КОМПЕТЕНТНОСТЬ</a:t>
              </a: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25" name="Rectangle 12"/>
            <p:cNvSpPr/>
            <p:nvPr/>
          </p:nvSpPr>
          <p:spPr>
            <a:xfrm>
              <a:off x="642960" y="5001120"/>
              <a:ext cx="8143560" cy="948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2000"/>
                  </a:solidFill>
                  <a:latin typeface="Arial"/>
                </a:rPr>
                <a:t>ПЕДАГОГИЧЕСКОЕ ОБЩЕНИЕ</a:t>
              </a: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26" name="Group 14"/>
          <p:cNvGrpSpPr/>
          <p:nvPr/>
        </p:nvGrpSpPr>
        <p:grpSpPr>
          <a:xfrm>
            <a:off x="714240" y="3714840"/>
            <a:ext cx="8000640" cy="1285200"/>
            <a:chOff x="714240" y="3714840"/>
            <a:chExt cx="8000640" cy="1285200"/>
          </a:xfrm>
        </p:grpSpPr>
        <p:sp>
          <p:nvSpPr>
            <p:cNvPr id="127" name="Freeform 15"/>
            <p:cNvSpPr/>
            <p:nvPr/>
          </p:nvSpPr>
          <p:spPr>
            <a:xfrm>
              <a:off x="976320" y="4455000"/>
              <a:ext cx="7476480" cy="545040"/>
            </a:xfrm>
            <a:custGeom>
              <a:avLst/>
              <a:gdLst>
                <a:gd name="textAreaLeft" fmla="*/ 0 w 7476480"/>
                <a:gd name="textAreaRight" fmla="*/ 7476840 w 7476480"/>
                <a:gd name="textAreaTop" fmla="*/ 0 h 545040"/>
                <a:gd name="textAreaBottom" fmla="*/ 545400 h 54504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714240" y="3714840"/>
              <a:ext cx="8000640" cy="112752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29" name="Прямоугольник 21"/>
          <p:cNvSpPr/>
          <p:nvPr/>
        </p:nvSpPr>
        <p:spPr>
          <a:xfrm>
            <a:off x="857160" y="15001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Arial"/>
              </a:rPr>
              <a:t>ПЕДАГОГИЧЕСКАЯ ЭРУДИЦИЯ</a:t>
            </a:r>
            <a:r>
              <a:rPr b="0" lang="ru-RU" sz="32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0" name="Прямоугольник 22"/>
          <p:cNvSpPr/>
          <p:nvPr/>
        </p:nvSpPr>
        <p:spPr>
          <a:xfrm>
            <a:off x="1714680" y="3929040"/>
            <a:ext cx="62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Arial"/>
              </a:rPr>
              <a:t>ПЕДАГОГИЧЕСКАЯ  РЕФЛЕКСИЯ</a:t>
            </a:r>
            <a:r>
              <a:rPr b="0" lang="ru-RU" sz="28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Педагог – профессия                                 особенная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914400" y="1828800"/>
            <a:ext cx="72388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ажную роль в этом играет высокий уровень </a:t>
            </a:r>
            <a:r>
              <a:rPr b="0" i="1" lang="ru-RU" sz="2400" spc="-1" strike="noStrike">
                <a:solidFill>
                  <a:srgbClr val="402000"/>
                </a:solidFill>
                <a:latin typeface="Times New Roman"/>
              </a:rPr>
              <a:t>профессиональной компетентности 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2000"/>
                </a:solidFill>
                <a:latin typeface="Times New Roman"/>
              </a:rPr>
              <a:t>педагогических кадров.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Механизмом реализации данной идеи выступают следующие меры: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- переход от позиции «педагог-транслятор знаний» к позиции «педагог-мыслитель, интегратор знаний», обеспечивающий целостное развитие учащихся»;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- обеспечение направленности на непрерывное самосовершенствование, самообразование, повышение своей конкурентоспособности, путем следования тезиса «Образование через всю жизнь»;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- обеспечение возможности включения педагогов в опытно-экспериментальную деятельность с успехом их личной ориентации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3" name="Picture 4" descr="50"/>
          <p:cNvPicPr/>
          <p:nvPr/>
        </p:nvPicPr>
        <p:blipFill>
          <a:blip r:embed="rId1"/>
          <a:stretch/>
        </p:blipFill>
        <p:spPr>
          <a:xfrm>
            <a:off x="6934320" y="152280"/>
            <a:ext cx="2000160" cy="2638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Личность педагога: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685800" y="1828800"/>
            <a:ext cx="8147160" cy="4608360"/>
          </a:xfrm>
          <a:prstGeom prst="rect">
            <a:avLst/>
          </a:prstGeom>
          <a:noFill/>
          <a:ln w="9360">
            <a:solidFill>
              <a:srgbClr val="4a3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уровень профессионализма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характер, внутренние качества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общая эрудиция, уровень общей культуры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внешний облик (стиль, одежда, прическа) 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манеры (мимика, жесты, речь) 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особая жизненная позиция</a:t>
            </a:r>
            <a:br>
              <a:rPr sz="3200"/>
            </a:b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429000" y="838080"/>
            <a:ext cx="2089080" cy="947880"/>
          </a:xfrm>
          <a:prstGeom prst="upArrow">
            <a:avLst>
              <a:gd name="adj1" fmla="val 50000"/>
              <a:gd name="adj2" fmla="val 51421"/>
            </a:avLst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7" name="Picture 5" descr="N:\это диск Ф\клипарт\0_b5d4e_79ea382_XL.png"/>
          <p:cNvPicPr/>
          <p:nvPr/>
        </p:nvPicPr>
        <p:blipFill>
          <a:blip r:embed="rId1"/>
          <a:stretch/>
        </p:blipFill>
        <p:spPr>
          <a:xfrm>
            <a:off x="6635880" y="4191120"/>
            <a:ext cx="2508120" cy="2476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Monotype Corsiva"/>
              </a:rPr>
              <a:t>Профессионализм </a:t>
            </a:r>
            <a:r>
              <a:rPr b="0" lang="ru-RU" sz="3600" spc="-1" strike="noStrike">
                <a:solidFill>
                  <a:srgbClr val="ff0066"/>
                </a:solidFill>
                <a:latin typeface="Monotype Corsiva"/>
              </a:rPr>
              <a:t>– такая степень овладения психологической структурой профессиональной деятельности, которая соответствует существующим в обществе стандартам и объективным требованиям</a:t>
            </a:r>
            <a:r>
              <a:rPr b="0" lang="ru-RU" sz="3600" spc="-1" strike="noStrike">
                <a:solidFill>
                  <a:srgbClr val="ff0066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924280"/>
            <a:ext cx="80010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Для приобретения профессионализма необходимы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Monotype Corsiva"/>
              </a:rPr>
              <a:t>способности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Monotype Corsiva"/>
              </a:rPr>
              <a:t>           </a:t>
            </a:r>
            <a:r>
              <a:rPr b="0" lang="ru-RU" sz="3200" spc="-1" strike="noStrike">
                <a:solidFill>
                  <a:srgbClr val="6600cc"/>
                </a:solidFill>
                <a:latin typeface="Monotype Corsiva"/>
              </a:rPr>
              <a:t>желание и характер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Monotype Corsiva"/>
              </a:rPr>
              <a:t>                    </a:t>
            </a:r>
            <a:r>
              <a:rPr b="0" lang="ru-RU" sz="3200" spc="-1" strike="noStrike">
                <a:solidFill>
                  <a:srgbClr val="6600cc"/>
                </a:solidFill>
                <a:latin typeface="Monotype Corsiva"/>
              </a:rPr>
              <a:t>готовность учиться 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Monotype Corsiva"/>
              </a:rPr>
              <a:t>                 </a:t>
            </a:r>
            <a:r>
              <a:rPr b="0" lang="ru-RU" sz="3200" spc="-1" strike="noStrike">
                <a:solidFill>
                  <a:srgbClr val="6600cc"/>
                </a:solidFill>
                <a:latin typeface="Monotype Corsiva"/>
              </a:rPr>
              <a:t>совершенствовать свое мастерств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0" name="Picture 4" descr="mo"/>
          <p:cNvPicPr/>
          <p:nvPr/>
        </p:nvPicPr>
        <p:blipFill>
          <a:blip r:embed="rId1"/>
          <a:stretch/>
        </p:blipFill>
        <p:spPr>
          <a:xfrm>
            <a:off x="6705720" y="3581280"/>
            <a:ext cx="1873080" cy="1873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05032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Критерии  профессионализма     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педагога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130c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1d130c"/>
                </a:solidFill>
                <a:latin typeface="Times New Roman"/>
              </a:rPr>
              <a:t>Объективные критерии</a:t>
            </a: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- определяют, насколько учитель соответствует требованиям избранной профессии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- высокая производительность труда,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- количество и качество, надежность продукта труда,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- достижение определенного статуса в профессии,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умение решать разнообразные задачи обучения и воспита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130c"/>
                </a:solidFill>
                <a:latin typeface="Times New Roman"/>
              </a:rPr>
              <a:t>Субъективные критерии</a:t>
            </a: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- насколько профессия педагога соответствует требованиям человека, его мотивам, склонностям,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- насколько человек удовлетворен трудом в этой профессии,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- устойчивая профессионально-педагогическая направленность,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- понимание ценностных оснований профессии,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1d130c"/>
                </a:solidFill>
                <a:latin typeface="Times New Roman"/>
              </a:rPr>
              <a:t>- совокупность необходимых профессионально-психологических качеств личности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7030a0"/>
                </a:solidFill>
                <a:latin typeface="Times New Roman"/>
              </a:rPr>
              <a:t>Стадии развития профессионализма: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696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а)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стадию допрофессионализма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, когда человек уже работает, но не обладает полным набором качеств настоящего профессионала, да и результативность его деятельности недостаточно высока;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б)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стадию собственно профессионализма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, когда человек становится профессионалом, демонстрирует стабильно высокие результаты; эта стадия включает в себя совокупность последовательно сменяемых фаз, каждая из которых характеризуется показателями, отвечающими требованиям определенных внутренних и внешних критериев;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в)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стадию суперпрофессионализма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, или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мастерства,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 соответствующую приближению к «акме» – вершине профессиональных достижений;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г)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стадию «послепрофессионализма» 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(человек может оказаться «профессионалом в прошлом», «экс-профессионалом», а может оказаться советчиком, учителем, наставником для других специалистов)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Содержимое 2" descr=""/>
          <p:cNvPicPr/>
          <p:nvPr/>
        </p:nvPicPr>
        <p:blipFill>
          <a:blip r:embed="rId1"/>
          <a:stretch/>
        </p:blipFill>
        <p:spPr>
          <a:xfrm>
            <a:off x="1450800" y="853920"/>
            <a:ext cx="6815160" cy="4943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N:\это диск Ф\клипарт\0_b5dab_a982e47d_XL.png"/>
          <p:cNvPicPr/>
          <p:nvPr/>
        </p:nvPicPr>
        <p:blipFill>
          <a:blip r:embed="rId1"/>
          <a:stretch/>
        </p:blipFill>
        <p:spPr>
          <a:xfrm>
            <a:off x="838080" y="228600"/>
            <a:ext cx="8001000" cy="6408720"/>
          </a:xfrm>
          <a:prstGeom prst="rect">
            <a:avLst/>
          </a:prstGeom>
          <a:ln w="0">
            <a:noFill/>
          </a:ln>
        </p:spPr>
      </p:pic>
      <p:pic>
        <p:nvPicPr>
          <p:cNvPr id="147" name="Таблица 3" descr=""/>
          <p:cNvPicPr/>
          <p:nvPr/>
        </p:nvPicPr>
        <p:blipFill>
          <a:blip r:embed="rId2"/>
          <a:stretch/>
        </p:blipFill>
        <p:spPr>
          <a:xfrm>
            <a:off x="1901880" y="1219320"/>
            <a:ext cx="5949720" cy="43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N:\это диск Ф\клипарт\0_ae8eb_5fa3ef26_S.png"/>
          <p:cNvPicPr/>
          <p:nvPr/>
        </p:nvPicPr>
        <p:blipFill>
          <a:blip r:embed="rId1"/>
          <a:stretch/>
        </p:blipFill>
        <p:spPr>
          <a:xfrm rot="8047800">
            <a:off x="4857480" y="4375080"/>
            <a:ext cx="3962160" cy="1733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Повестка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90360" y="1218960"/>
            <a:ext cx="7848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1. Выступление Гевкан Е. И. по теме «Роль личности педагога в формировании имиджа образовательного учреждения»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2. Выступление зам. директора по: Качество образовательного процесса: результаты ЕГЭ и ГИА, качественная успеваемость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3. Выступление зам. директора по НМР Гевкан Е. И.: «Аттестация и курсовая переподготовка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4. Выступление зам. директора по ВР: «Результаты анкетирования учащихся, педагогов, родителей «Каким должен быть хороший учитель»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5. Выступление руководителей МО: участие педагогов в конкурсах профессионального мастерства, обмене опытом, публикаций в СМИ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6. Выступление МО классных руководителей/МО воспитателей : «Участие образовательного учреждения и учащихся/воспитанников в конкурсах»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7. Выступление: «Спортивные достижения ОУ и обучающихся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8. Выступление МО ИКТ: «Создание и поддержка сайта ОУ»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9. Предложения по введение в школе должности «учитель-наставник», «учитель-исследователь»,  «учитель-методист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10. Принятие решения педагогического совета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286000" y="304920"/>
            <a:ext cx="5943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Структура 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имиджа профессионала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3657600" y="3048120"/>
            <a:ext cx="2057400" cy="703440"/>
          </a:xfrm>
          <a:prstGeom prst="rect">
            <a:avLst/>
          </a:prstGeom>
          <a:solidFill>
            <a:srgbClr val="cd3333"/>
          </a:solidFill>
          <a:ln w="31680">
            <a:solidFill>
              <a:srgbClr val="fbfae2"/>
            </a:solidFill>
            <a:miter/>
          </a:ln>
          <a:effectLst>
            <a:outerShdw dist="24840" dir="5400000" blurRad="0" rotWithShape="0">
              <a:srgbClr val="8e0202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d130c"/>
                </a:solidFill>
                <a:latin typeface="Times New Roman"/>
              </a:rPr>
              <a:t>Педагог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5867280" y="1828800"/>
            <a:ext cx="2667240" cy="916920"/>
          </a:xfrm>
          <a:prstGeom prst="rect">
            <a:avLst/>
          </a:prstGeom>
          <a:solidFill>
            <a:srgbClr val="92d050"/>
          </a:solidFill>
          <a:ln w="399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130c"/>
                </a:solidFill>
                <a:latin typeface="Times New Roman"/>
              </a:rPr>
              <a:t>Участие в профессиональных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130c"/>
                </a:solidFill>
                <a:latin typeface="Times New Roman"/>
              </a:rPr>
              <a:t>конкурса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990720" y="1676520"/>
            <a:ext cx="2666880" cy="1191240"/>
          </a:xfrm>
          <a:prstGeom prst="rect">
            <a:avLst/>
          </a:prstGeom>
          <a:solidFill>
            <a:srgbClr val="92d050"/>
          </a:solidFill>
          <a:ln w="399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130c"/>
                </a:solidFill>
                <a:latin typeface="Times New Roman"/>
              </a:rPr>
              <a:t>Обобщение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130c"/>
                </a:solidFill>
                <a:latin typeface="Times New Roman"/>
              </a:rPr>
              <a:t>опыта работы, публикации в СМИ, в  сети Интерне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1066680" y="3962520"/>
            <a:ext cx="2667240" cy="642600"/>
          </a:xfrm>
          <a:prstGeom prst="rect">
            <a:avLst/>
          </a:prstGeom>
          <a:solidFill>
            <a:srgbClr val="92d050"/>
          </a:solidFill>
          <a:ln w="399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130c"/>
                </a:solidFill>
                <a:latin typeface="Times New Roman"/>
              </a:rPr>
              <a:t>Высокие показатели знаний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5715000" y="3886200"/>
            <a:ext cx="2895480" cy="916920"/>
          </a:xfrm>
          <a:prstGeom prst="rect">
            <a:avLst/>
          </a:prstGeom>
          <a:solidFill>
            <a:srgbClr val="92d050"/>
          </a:solidFill>
          <a:ln w="399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130c"/>
                </a:solidFill>
                <a:latin typeface="Times New Roman"/>
              </a:rPr>
              <a:t>Компетентностыные предметные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130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1d130c"/>
                </a:solidFill>
                <a:latin typeface="Times New Roman"/>
              </a:rPr>
              <a:t>олимпиады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3809880" y="2057400"/>
            <a:ext cx="1752840" cy="642600"/>
          </a:xfrm>
          <a:prstGeom prst="rect">
            <a:avLst/>
          </a:prstGeom>
          <a:solidFill>
            <a:srgbClr val="92d050"/>
          </a:solidFill>
          <a:ln w="399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130c"/>
                </a:solidFill>
                <a:latin typeface="Times New Roman"/>
              </a:rPr>
              <a:t>конкурсы обучающихся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5" name="Прямоугольник 13"/>
          <p:cNvSpPr/>
          <p:nvPr/>
        </p:nvSpPr>
        <p:spPr>
          <a:xfrm>
            <a:off x="3048120" y="4952880"/>
            <a:ext cx="3124080" cy="642600"/>
          </a:xfrm>
          <a:prstGeom prst="rect">
            <a:avLst/>
          </a:prstGeom>
          <a:solidFill>
            <a:srgbClr val="92d050"/>
          </a:solidFill>
          <a:ln w="399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130c"/>
                </a:solidFill>
                <a:latin typeface="Times New Roman"/>
              </a:rPr>
              <a:t>мнение обучающихся, родителей, общественности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56" name="Picture 3" descr="N:\это диск Ф\клипарт\0_b4d9c_c2b5d73d_XL.png"/>
          <p:cNvPicPr/>
          <p:nvPr/>
        </p:nvPicPr>
        <p:blipFill>
          <a:blip r:embed="rId1"/>
          <a:stretch/>
        </p:blipFill>
        <p:spPr>
          <a:xfrm>
            <a:off x="685800" y="457200"/>
            <a:ext cx="1722600" cy="104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Важн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воря об имидже, необходимо иметь ввиду, что у него всегда есть две стороны - одну определяет отношение к нему внешних аудиторий, которым собственно адресован данный имидж, и другая - данный имидж в представлении самого носителя имиджа, а именно учебного заведения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Первый вывод, если мнения сторон совпадают - эффект (общественный и коммерческий) получается положительным, если существует диссонанс между мнениями желаемый результат не достигается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ывод второй, профессиональный подход к формированию желаемого имиджа учебным заведением должен строится на полномасштабном и всестороннем изучении аудитории, которой данный имидж адресован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Цели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3716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формирование основных направлений деятельности педагогического коллектива по формированию позитивного имиджа школы как учреждения образовательного типа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мотивация педагогов к самосовершенствованию, раскрытию творческого потенциала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ознакомить педагогический коллектив и принять муниципальное Положение о рейтинге образовательных учреждений муниципального образования Шурышкарский район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риказом по школе утвердить положение о рейтинге школы и назначить ответственных за каждый пункт по предоставлению информации в срок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7" name="Picture 7" descr="MCj04404240000[1]"/>
          <p:cNvPicPr/>
          <p:nvPr/>
        </p:nvPicPr>
        <p:blipFill>
          <a:blip r:embed="rId1"/>
          <a:stretch/>
        </p:blipFill>
        <p:spPr>
          <a:xfrm>
            <a:off x="914400" y="228600"/>
            <a:ext cx="1432080" cy="1219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Имидж</a:t>
            </a:r>
            <a:r>
              <a:rPr b="0" lang="ru-RU" sz="2800" spc="-1" strike="noStrike">
                <a:solidFill>
                  <a:srgbClr val="996633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Bookman Old Style"/>
              </a:rPr>
              <a:t>(от лат. imago - «изображение, образ») - целенаправленно формируемый образ (какого-либо лица, предмета), призванный оказать эмоционально-психологическое воздействие на кого-либо в целях популяризации, рекламы и т.п.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Имидж педагога</a:t>
            </a:r>
            <a:r>
              <a:rPr b="0" lang="ru-RU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- эмоционально окрашенный стереотип восприятия образа учителя в сознании воспитанников, коллег, социального окружения, в массовом сознании. При формировании имиджа учителя реальные качества тесно переплетаются с теми, которые приписываются ему окружающими. 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N:\это диск Ф\клипарт\0_b4d93_35ce92f4_XL.png"/>
          <p:cNvPicPr/>
          <p:nvPr/>
        </p:nvPicPr>
        <p:blipFill>
          <a:blip r:embed="rId1"/>
          <a:stretch/>
        </p:blipFill>
        <p:spPr>
          <a:xfrm>
            <a:off x="914400" y="838080"/>
            <a:ext cx="4044960" cy="5562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"/>
          <p:cNvSpPr/>
          <p:nvPr/>
        </p:nvSpPr>
        <p:spPr>
          <a:xfrm>
            <a:off x="2590920" y="990720"/>
            <a:ext cx="5914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Bookman Old Style"/>
              </a:rPr>
              <a:t>Устойчивый позитивный имидж школы сегодня можно рассматривать как важный современный компонент методического продукта школы и как дополнительный ресурс управления, ресурс развития образовательного учреждения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1066680" y="228600"/>
            <a:ext cx="790128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Причины формирования имиджа школы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130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Bookman Old Style"/>
              </a:rPr>
              <a:t>Сложная демографическая ситуация усиливает конкуренцию среди образовательных учреждений одной территории в борьбе за набор учащихся и сохранение контингента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130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Bookman Old Style"/>
              </a:rPr>
              <a:t>Положительный имидж способствует доступу образовательного учреждения к лучшим финансовым, информационным, человеческим  ресурсам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130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Bookman Old Style"/>
              </a:rPr>
              <a:t>Имея сформированный позитивный имидж привлекателен для педагогов, так как предстает способным в большей степени обеспечить стабильность и социальную защиту, удовлетворенность трудом и профессиональное развитие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130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130c"/>
                </a:solidFill>
                <a:latin typeface="Bookman Old Style"/>
              </a:rPr>
              <a:t>Устойчивый позитивный имидж дает эффект приобретения образовательным учреждением определенной силы, в том смысле, что создает запас доверия ко всему происходящему в стенах учреждения, в том числе к инновационным процессам</a:t>
            </a:r>
            <a:r>
              <a:rPr b="0" lang="ru-RU" sz="1800" spc="-1" strike="noStrike">
                <a:solidFill>
                  <a:srgbClr val="1d130c"/>
                </a:solidFill>
                <a:latin typeface="Bookman Old Style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990720" y="1143000"/>
            <a:ext cx="7358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Целью</a:t>
            </a:r>
            <a:r>
              <a:rPr b="0" lang="ru-RU" sz="3200" spc="-1" strike="noStrike">
                <a:solidFill>
                  <a:srgbClr val="402000"/>
                </a:solidFill>
                <a:latin typeface="Bookman Old Style"/>
              </a:rPr>
              <a:t> формирования имиджа, является повышение конкурентоспособности образовательного учреждения.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3" name="Picture 3" descr="N:\это диск Ф\клипарт\0_91ee3_9fa703ef_S.png"/>
          <p:cNvPicPr/>
          <p:nvPr/>
        </p:nvPicPr>
        <p:blipFill>
          <a:blip r:embed="rId1"/>
          <a:stretch/>
        </p:blipFill>
        <p:spPr>
          <a:xfrm>
            <a:off x="2743200" y="3048120"/>
            <a:ext cx="3112920" cy="3408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то создает имидж образовательного учреждения?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294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Во-первых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ученики, который придумывает, какой гранью повернуться к окружающим, какие сведения о себе представить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Во-вторых,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родители  учеников и воспитанников, занимающиеся созданием имиджа для известных лиц: политиков, государственных деятелей, артистов и т. п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В-третьих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, руководитель, педагоги, работающий персонал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В-четвертых,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большую роль в создании имиджа играют средства массовой информации – печать, телевидение, Интернет-сайт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486400" y="5334120"/>
            <a:ext cx="3054240" cy="1143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143000" y="304920"/>
            <a:ext cx="73105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Bookman Old Style"/>
              </a:rPr>
              <a:t>Мотивация членов школьного сообщества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Bookman Old Style"/>
              </a:rPr>
              <a:t>  </a:t>
            </a:r>
            <a:r>
              <a:rPr b="0" lang="ru-RU" sz="2400" spc="-1" strike="noStrike">
                <a:solidFill>
                  <a:srgbClr val="402000"/>
                </a:solidFill>
                <a:latin typeface="Bookman Old Style"/>
              </a:rPr>
              <a:t>Методическая поддержка педагогов и учащихся школы.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Bookman Old Style"/>
              </a:rPr>
              <a:t>  </a:t>
            </a:r>
            <a:r>
              <a:rPr b="0" lang="ru-RU" sz="2400" spc="-1" strike="noStrike">
                <a:solidFill>
                  <a:srgbClr val="402000"/>
                </a:solidFill>
                <a:latin typeface="Bookman Old Style"/>
              </a:rPr>
              <a:t>Популяризация достижений успешных педагогов и учащихся школы  через публикации в СМИ, на Интернет-сайтах, методических сборниках и т.д.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609480" y="4191120"/>
            <a:ext cx="8072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Bookman Old Style"/>
              </a:rPr>
              <a:t>Деятельность членов школьного сообщества по созданию имиджа может стать корректировкой школьной атмосферы (позитивные изменения во взаимоотношениях между учителями, учениками и их родителями)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</dc:creator>
  <dc:description/>
  <dc:language>en-US</dc:language>
  <cp:lastModifiedBy>Александр</cp:lastModifiedBy>
  <dcterms:modified xsi:type="dcterms:W3CDTF">2017-05-21T18:24:53Z</dcterms:modified>
  <cp:revision>1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