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61F-43A4-4812-BD37-6B86699DA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C21-3708-466E-AB8B-8DE4DE5FB2A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9EB-341D-47B8-92EF-0DAB179B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92F-DE51-42AA-9D15-B6C075E8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BB6-1AA1-4AA8-8B15-090EDEA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97D-117F-4B86-8C64-BFEFF76D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55D-083A-4450-9C03-E2520558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77A-B39B-48B7-86B4-49A289D6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9F0B-9275-410C-A83A-850CC88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51F-36AB-4ACE-9341-D6AA2F5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306-7C8E-49C0-BE2B-1966689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F91-18E9-45B4-A0AE-56877EFF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5A19-192D-4CD0-A698-8517B05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775-1BE9-4B2D-B2AE-84B819C7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502-41C9-419D-A08E-370ED92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6BCB-F41E-40DF-83C6-6D6E4F2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4EB-7F28-4CF4-BDEF-1F736BD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276-CF1C-46F4-A446-D4BA777D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3FA4-A7A2-4933-8C2E-9BF1CD85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AF6-D4BC-4396-90A8-6CBE986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010-2DA8-413F-9DB2-989C9F5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A71-714F-49B9-A571-4D56437C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B34-0E67-4B43-B074-E3F5598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FC5-6442-49DE-AE15-AE41AB2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4CA-8521-487F-BAFE-A8B2A0DD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518-9DEB-4EE2-A694-1940AC6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4D4-32FD-49A3-99A1-B77166522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A578-D4E0-46E7-BA76-E7EB59C5C0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.not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06200" y="2170080"/>
            <a:ext cx="9037800" cy="3240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5e2f0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5920" y="2421000"/>
            <a:ext cx="9028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ные и краткие 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агательные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16"/>
                </a:solidFill>
                <a:latin typeface="Arial Black"/>
              </a:rPr>
              <a:t>Тема урока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547640" y="476280"/>
            <a:ext cx="7294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равните прилагательные</a:t>
            </a:r>
            <a:endParaRPr b="1" i="1" lang="en-US" sz="1800" spc="1" strike="noStrike">
              <a:ln w="284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5" descr="chel5"/>
          <p:cNvPicPr/>
          <p:nvPr/>
        </p:nvPicPr>
        <p:blipFill>
          <a:blip r:embed="rId1"/>
          <a:stretch/>
        </p:blipFill>
        <p:spPr>
          <a:xfrm>
            <a:off x="55440" y="0"/>
            <a:ext cx="1432080" cy="18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24000" y="1773360"/>
          <a:ext cx="8510400" cy="4157640"/>
        </p:xfrm>
        <a:graphic>
          <a:graphicData uri="http://schemas.openxmlformats.org/drawingml/2006/table">
            <a:tbl>
              <a:tblPr/>
              <a:tblGrid>
                <a:gridCol w="2836800"/>
                <a:gridCol w="2836800"/>
                <a:gridCol w="2836800"/>
              </a:tblGrid>
              <a:tr h="899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66"/>
                          </a:solidFill>
                          <a:latin typeface="Bell MT"/>
                        </a:rPr>
                        <a:t>Пол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66"/>
                          </a:solidFill>
                          <a:latin typeface="Bell MT"/>
                        </a:rPr>
                        <a:t>Крат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ист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й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возду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е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я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по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е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лу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оздух чист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 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е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Как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года 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я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Лучи 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е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оздух 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ч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 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года 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Лучи 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44"/>
          <p:cNvSpPr/>
          <p:nvPr/>
        </p:nvSpPr>
        <p:spPr>
          <a:xfrm>
            <a:off x="8388360" y="2781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4920" y="33300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Алгоритм ответ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вечают на вопросы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предложении являются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меняются по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el35"/>
          <p:cNvPicPr/>
          <p:nvPr/>
        </p:nvPicPr>
        <p:blipFill>
          <a:blip r:embed="rId1"/>
          <a:stretch/>
        </p:blipFill>
        <p:spPr>
          <a:xfrm>
            <a:off x="7380360" y="189000"/>
            <a:ext cx="1398600" cy="13874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468360" y="260280"/>
            <a:ext cx="698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делаем вывод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916280"/>
          <a:ext cx="8569080" cy="4392360"/>
        </p:xfrm>
        <a:graphic>
          <a:graphicData uri="http://schemas.openxmlformats.org/drawingml/2006/table">
            <a:tbl>
              <a:tblPr/>
              <a:tblGrid>
                <a:gridCol w="2668320"/>
                <a:gridCol w="2670480"/>
                <a:gridCol w="32302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чают на вопро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? Какая? Какое? Каки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? Какова? Каково? Каковы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ложении явля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я, сказуе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уем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я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одам, числам, падеж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одам и числ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WordArt 36"/>
          <p:cNvSpPr txBox="1"/>
          <p:nvPr/>
        </p:nvSpPr>
        <p:spPr>
          <a:xfrm>
            <a:off x="611280" y="1989000"/>
            <a:ext cx="191772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38"/>
          <p:cNvSpPr txBox="1"/>
          <p:nvPr/>
        </p:nvSpPr>
        <p:spPr>
          <a:xfrm>
            <a:off x="2987640" y="1989000"/>
            <a:ext cx="2521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ные прилагательные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42"/>
          <p:cNvSpPr txBox="1"/>
          <p:nvPr/>
        </p:nvSpPr>
        <p:spPr>
          <a:xfrm>
            <a:off x="5724360" y="1989000"/>
            <a:ext cx="29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ие прилагательные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«От каких прилагательных можно образовать краткую форму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755640" y="1773360"/>
            <a:ext cx="410364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еклянная в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евые цв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ликолепное произвед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мная но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елодичные зву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ложное реш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онкий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003640" y="177336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олодые поэ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сной жител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оший малыш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очной г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огий трене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ладший бра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ойная фиг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одведение итог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. Что нового узнали сегодня на уроке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. Чему научились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. В чём различие между полными и краткими прилагательными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84360" y="2550960"/>
            <a:ext cx="81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05, прави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р. 590 или выписать 6 предложений  из «Сказки о мертвой царевне  и о семи богатырях» А.С. Пушкина с краткими прилагательн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2:28:52Z</dcterms:created>
  <dc:creator>203</dc:creator>
  <dc:description/>
  <dc:language>en-US</dc:language>
  <cp:lastModifiedBy>учитель</cp:lastModifiedBy>
  <dcterms:modified xsi:type="dcterms:W3CDTF">2015-03-16T11:51:54Z</dcterms:modified>
  <cp:revision>36</cp:revision>
  <dc:subject/>
  <dc:title>Слайд 1</dc:title>
</cp:coreProperties>
</file>