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A77-888F-444D-832C-8B9217DAE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3D2F-DFF5-44C4-84EA-26C6F54E0986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E80-E931-42FA-B50D-2F01001B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F3E-1706-4274-B0C3-9F7E83E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E91-0B0C-44DD-B91B-79B5784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BBE-192F-48AF-B482-7BE594A2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B17-4D5A-462B-A833-41EA43E8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EC5-3620-4980-8E82-9442A54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CEF2-720C-4E3E-81DA-6AE9D22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173-59EC-472C-87A1-EAD64E8C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63AF-2A5E-4A09-985E-0600B9DF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0A6-36CA-48CD-875A-0E5B53A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730-16C3-4F21-8161-C98D9FEF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3F6-C026-4252-ABF1-1F2B1D8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DF7-7830-4891-8C4C-FA53AE4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EB93-031B-445E-AD46-E6B8BE6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05E2-3F3F-4B4C-BE55-213AD0A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9705-CE23-4C1D-AFD2-10041DFE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253-618E-447B-BBDA-BBA6AEC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2B0-1DAD-4824-A762-DF94070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CD9-BF5A-4A41-9E3A-6B0BEE7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A69-F3C0-4209-98EA-FCC1F6A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15D-9D63-49D5-9B2F-82CDB7E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D20-2E44-4366-ADDC-05F536C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8DA-7AF9-4A96-9A86-E0143C7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5D4-7120-4469-9D94-F5C20911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B42-6E6C-4E9C-8258-4DC23B0CF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C2D-7C87-4C1A-B855-544553889A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.not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06200" y="2170080"/>
            <a:ext cx="9037800" cy="3240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5e2f0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5920" y="2421000"/>
            <a:ext cx="9028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ные и краткие 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агательные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1616"/>
                </a:solidFill>
                <a:latin typeface="Arial Black"/>
              </a:rPr>
              <a:t>Тема урока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547640" y="476280"/>
            <a:ext cx="7294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равните прилагательные</a:t>
            </a:r>
            <a:endParaRPr b="1" i="1" lang="en-US" sz="1800" spc="1" strike="noStrike">
              <a:ln w="284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5" descr="chel5"/>
          <p:cNvPicPr/>
          <p:nvPr/>
        </p:nvPicPr>
        <p:blipFill>
          <a:blip r:embed="rId1"/>
          <a:stretch/>
        </p:blipFill>
        <p:spPr>
          <a:xfrm>
            <a:off x="55440" y="0"/>
            <a:ext cx="1432080" cy="18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24000" y="1773360"/>
          <a:ext cx="8510400" cy="4157640"/>
        </p:xfrm>
        <a:graphic>
          <a:graphicData uri="http://schemas.openxmlformats.org/drawingml/2006/table">
            <a:tbl>
              <a:tblPr/>
              <a:tblGrid>
                <a:gridCol w="2836800"/>
                <a:gridCol w="2836800"/>
                <a:gridCol w="2836800"/>
              </a:tblGrid>
              <a:tr h="899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66"/>
                          </a:solidFill>
                          <a:latin typeface="Bell MT"/>
                        </a:rPr>
                        <a:t>Пол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66"/>
                          </a:solidFill>
                          <a:latin typeface="Bell MT"/>
                        </a:rPr>
                        <a:t>Крат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ист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й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возду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е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я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по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е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лу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оздух чист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 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е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Как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года 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я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Лучи 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е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оздух </a:t>
                      </a: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ч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бо яс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года удивительн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Лучи ярк</a:t>
                      </a: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ков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44"/>
          <p:cNvSpPr/>
          <p:nvPr/>
        </p:nvSpPr>
        <p:spPr>
          <a:xfrm>
            <a:off x="8388360" y="2781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4920" y="33300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Алгоритм ответ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вечают на вопросы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предложении являются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меняются по 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el35"/>
          <p:cNvPicPr/>
          <p:nvPr/>
        </p:nvPicPr>
        <p:blipFill>
          <a:blip r:embed="rId1"/>
          <a:stretch/>
        </p:blipFill>
        <p:spPr>
          <a:xfrm>
            <a:off x="7380360" y="189000"/>
            <a:ext cx="1398600" cy="13874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468360" y="260280"/>
            <a:ext cx="698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делаем вывод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916280"/>
          <a:ext cx="8569080" cy="4392360"/>
        </p:xfrm>
        <a:graphic>
          <a:graphicData uri="http://schemas.openxmlformats.org/drawingml/2006/table">
            <a:tbl>
              <a:tblPr/>
              <a:tblGrid>
                <a:gridCol w="2668320"/>
                <a:gridCol w="2670480"/>
                <a:gridCol w="32302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чают на вопро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? Какая? Какое? Каки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? Какова? Каково? Каковы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ложении явля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я, сказуе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уем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яю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одам, числам, падеж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одам и числ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WordArt 36"/>
          <p:cNvSpPr txBox="1"/>
          <p:nvPr/>
        </p:nvSpPr>
        <p:spPr>
          <a:xfrm>
            <a:off x="611280" y="1989000"/>
            <a:ext cx="1917720" cy="3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38"/>
          <p:cNvSpPr txBox="1"/>
          <p:nvPr/>
        </p:nvSpPr>
        <p:spPr>
          <a:xfrm>
            <a:off x="2987640" y="1989000"/>
            <a:ext cx="2521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ные прилагательные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42"/>
          <p:cNvSpPr txBox="1"/>
          <p:nvPr/>
        </p:nvSpPr>
        <p:spPr>
          <a:xfrm>
            <a:off x="5724360" y="1989000"/>
            <a:ext cx="29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ие прилагательные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«От каких прилагательных можно образовать краткую форму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755640" y="1773360"/>
            <a:ext cx="410364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еклянная в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евые цв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ликолепное произвед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мная но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елодичные зву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ложное реш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онкий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003640" y="177336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олодые поэ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сной жител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оший малыш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очной г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огий трене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ладший бра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ройная фиг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одведение итог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. Что нового узнали сегодня на уроке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. Чему научились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. В чём различие между полными и краткими прилагательными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84360" y="2550960"/>
            <a:ext cx="81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05, прави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р. 590 или выписать 6 предложений  из «Сказки о мертвой царевне  и о семи богатырях» А.С. Пушкина с краткими прилагательн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2:28:52Z</dcterms:created>
  <dc:creator>203</dc:creator>
  <dc:description/>
  <dc:language>en-US</dc:language>
  <cp:lastModifiedBy>учитель</cp:lastModifiedBy>
  <dcterms:modified xsi:type="dcterms:W3CDTF">2015-03-16T11:51:54Z</dcterms:modified>
  <cp:revision>36</cp:revision>
  <dc:subject/>
  <dc:title>Слайд 1</dc:title>
</cp:coreProperties>
</file>