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913-B694-4C63-8D75-FE3EF193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A62-BE70-4BCE-BFC4-1AF8EA44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14A-81E1-4882-AA5A-E70E692D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D82-D080-4BF2-B83E-CE5CCB5A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996-9F47-4D5B-B4D7-2EB3DFCF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6FB-689C-4262-BCEA-BEE1DA35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C72-6CED-4687-ADD0-ECB7CD73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A8C-9D41-43F7-B2B5-CF48E52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24D-EC6A-41DD-87CF-293410FB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ECD-9BCF-482E-8E6E-9840DC1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5AE-3FD6-43A2-A1EE-76EAF61B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CA5-1685-4A0C-BF6D-BEC25EFD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B48D-0EEF-452C-BA35-5F6E0125A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2:40:03Z</dcterms:created>
  <dc:creator>Еленга Берюхова</dc:creator>
  <dc:description/>
  <dc:language>en-US</dc:language>
  <cp:lastModifiedBy>Еленга Берюхова</cp:lastModifiedBy>
  <dcterms:modified xsi:type="dcterms:W3CDTF">2013-09-01T12:42:51Z</dcterms:modified>
  <cp:revision>1</cp:revision>
  <dc:subject/>
  <dc:title>Слайд 1</dc:title>
</cp:coreProperties>
</file>