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5DD-356A-4029-A07E-F3B55D7A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0A3-8D47-401C-B0CA-7C8AA4F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EEA-B5F6-4939-AFF9-C945DADF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465-E12C-4B37-A3D1-BDB74DAA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1C4-F45E-41D6-9E3D-40A9CF1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981-E950-4FF7-B9FF-5AB713E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E5B-1DEB-4A67-A871-75288AB7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1B9-C3C6-445A-8BD2-0E3E51FA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B5D-4E1A-4D87-8FCA-BE93AEAE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F9E-ABEC-4B12-9797-EE26CAD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6F0-9D78-4198-9B45-B4B5475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73A-01B4-4E28-87E4-0EB15A1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E3EB-1E62-4255-8973-7D178E693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2:40:03Z</dcterms:created>
  <dc:creator>Еленга Берюхова</dc:creator>
  <dc:description/>
  <dc:language>en-US</dc:language>
  <cp:lastModifiedBy>Еленга Берюхова</cp:lastModifiedBy>
  <dcterms:modified xsi:type="dcterms:W3CDTF">2013-09-01T12:42:51Z</dcterms:modified>
  <cp:revision>1</cp:revision>
  <dc:subject/>
  <dc:title>Слайд 1</dc:title>
</cp:coreProperties>
</file>